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.jpeg" ContentType="image/jpeg"/>
  <Override PartName="/ppt/media/image3.gif" ContentType="image/gif"/>
  <Override PartName="/ppt/media/image12.png" ContentType="image/png"/>
  <Override PartName="/ppt/media/image2.png" ContentType="image/png"/>
  <Override PartName="/ppt/media/image4.jpeg" ContentType="image/jpeg"/>
  <Override PartName="/ppt/media/image9.png" ContentType="image/png"/>
  <Override PartName="/ppt/media/image14.png" ContentType="image/png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396-CE44-42FE-8C34-F222E371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9DD-77AE-40AB-BA81-82502C8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28C-CFC6-46BB-BE6D-06BD267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30D-9AA0-462B-96E1-D21C9584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C1E-764F-48EE-87AE-9EAA796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0D5-6CA4-4BBC-8D2C-A44FEFD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B22-50D6-437F-958E-8AAA8D0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744-89C8-4EF2-8E68-D2E82C3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A43-DDD2-490C-B50B-3DACFD5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097-389A-4082-AAD2-DA83D60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4B0-04DE-47D0-BBD1-14C0A09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CD5-FF43-4849-8CCD-A74ADE9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912-5374-4BC5-91D0-9CD4475B5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98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19320" y="533520"/>
            <a:ext cx="729144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反思过去，着眼现在，营造和谐七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177012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72400" y="205740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1066680"/>
            <a:ext cx="46213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5120" y="5791320"/>
            <a:ext cx="51944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让别人因为你的存在而感到幸福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257800" cy="3276720"/>
          </a:xfrm>
          <a:prstGeom prst="wedgeEllipseCallout">
            <a:avLst>
              <a:gd name="adj1" fmla="val 46620"/>
              <a:gd name="adj2" fmla="val 55425"/>
            </a:avLst>
          </a:prstGeom>
          <a:solidFill>
            <a:srgbClr val="ffff99"/>
          </a:soli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的学期，新的学习，新的征程，首先从爱我们的集体开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28600" y="28954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楷体_GB2312"/>
              </a:rPr>
              <a:t>用一只眼睛看自己</a:t>
            </a:r>
            <a:endParaRPr b="1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楷体_GB2312"/>
              <a:ea typeface="楷体_GB2312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57400" y="990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反思去年自己的学习生活，想一想：我尽力了吗？什么是我做的好的，什么地方我需要改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483840" cy="701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304920"/>
            <a:ext cx="791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认真做好值日工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无论在宿舍还是在教室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最后走会关热水器、门、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出黑板报；搬书；做好两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提教学和班集体的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为班活动付出实际行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配合班干部的工作，做好本职工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管理好宿舍的纪律和卫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配合老师上课；遵守好课堂纪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上有纸或粉笔就帮忙捡起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升旗不迟到不讲话；自习晚修不讲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持早读；带操；在运动会时为班级服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积极参与各种课外活动和奥赛选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尽心尽力收交作业；管理纪律。。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474040" y="5867280"/>
            <a:ext cx="669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4572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力所能及的事，积极完成；力所不能及尽自己努力完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认真学习，不拉低班平均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组织元旦节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校运会积极参加或做后勤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学习上能帮助同学的尽量帮助，多为班出谋献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好发挥带头作用，敢为人先，带动班集体积极向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互相帮助，共同进步，形成团结友爱的班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4290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295280" y="10666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班上有哪些好的地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有哪些需要改进的地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152388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04200" y="380880"/>
            <a:ext cx="551484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需要改进的地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课堂气氛不够活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主动起身回答问题的只有少数几个同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同学们表达意见和建议时积极性不高，应该增强自信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自修和晚修时间纪律不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打扫卫生不够自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两操、升旗、集会不认真，有人讲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班干部应该大胆管理班级，批评违纪的同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要形成一种正确的集体舆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别同学经常找别的同学开玩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取笑别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还没有形成良好的学习及休息环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有相互影响休息的现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上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我做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范行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720" y="980640"/>
            <a:ext cx="869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坚强意志行为：坚持跑步，大声口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严格执行规定行为：（学校、年级、班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校服、佩戴校牌、做好晨操、吃好早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852640"/>
            <a:ext cx="7632720" cy="1544760"/>
          </a:xfrm>
          <a:custGeom>
            <a:avLst/>
            <a:gdLst>
              <a:gd name="textAreaLeft" fmla="*/ 0 w 7632720"/>
              <a:gd name="textAreaRight" fmla="*/ 7633080 w 7632720"/>
              <a:gd name="textAreaTop" fmla="*/ 200160 h 1544760"/>
              <a:gd name="textAreaBottom" fmla="*/ 1344600 h 154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一年之计在于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一天之计在于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4419720"/>
            <a:ext cx="3657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真值日行为：为班级体、为他人、也是为自己做好自已的本职工作。（擦、扫、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遵守纪律行为：不迟到、早退 、缺席；做一个守纪、守信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真作业行为：搞好错题订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决定你每一次目标能否实现的一个重要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真听课行为：耳听、眼看、手写、脑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决定你每一次目标能否实现的主要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我做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范行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807160"/>
            <a:ext cx="70866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5-05-05T03:17:33Z</dcterms:modified>
  <cp:revision>39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