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38B0-9ECC-4E98-996C-F5A505B3F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B0A7-0721-4390-BB2B-83352B0CC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E602-A024-4FE4-B3FD-304CE9FE4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37E4-AE58-47FA-8384-B4B6DFF4C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0659-9D6A-4A73-8947-CD33D9586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1143-5C48-4E80-9CE3-6A6A1C77C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0B5A-FD38-4124-924C-D23D445FC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F217-1745-48BB-8730-832C8349E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F493-837D-4BAD-B12E-DE1FE2ED9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0C14-6D21-45D8-A112-785C70A93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7775-B463-4D4D-B34D-FA152A8F7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D79F-E1FF-4646-BBD1-FAFF2E22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86EB0-4AD3-4CE2-995F-0F4880F16E6A}" type="slidenum">
              <a:rPr b="0" lang="zh-CN" sz="1200" spc="-1" strike="noStrike">
                <a:solidFill>
                  <a:srgbClr val="898989"/>
                </a:solidFill>
                <a:latin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11.pn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4" descr="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grpSp>
        <p:nvGrpSpPr>
          <p:cNvPr id="81" name="组合 10"/>
          <p:cNvGrpSpPr/>
          <p:nvPr/>
        </p:nvGrpSpPr>
        <p:grpSpPr>
          <a:xfrm>
            <a:off x="595440" y="3760920"/>
            <a:ext cx="3516120" cy="1020240"/>
            <a:chOff x="595440" y="3760920"/>
            <a:chExt cx="3516120" cy="1020240"/>
          </a:xfrm>
        </p:grpSpPr>
        <p:sp>
          <p:nvSpPr>
            <p:cNvPr id="82" name="TextBox 6"/>
            <p:cNvSpPr/>
            <p:nvPr/>
          </p:nvSpPr>
          <p:spPr>
            <a:xfrm>
              <a:off x="595440" y="3760920"/>
              <a:ext cx="35161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7"/>
            <p:cNvSpPr/>
            <p:nvPr/>
          </p:nvSpPr>
          <p:spPr>
            <a:xfrm>
              <a:off x="595440" y="4504680"/>
              <a:ext cx="2141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适用于抽象及各类演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C:\Documents and Settings\Administrator\My Documents\My Pictures\2009219211523391_2.jpg"/>
          <p:cNvPicPr/>
          <p:nvPr/>
        </p:nvPicPr>
        <p:blipFill>
          <a:blip r:embed="rId1"/>
          <a:stretch/>
        </p:blipFill>
        <p:spPr>
          <a:xfrm>
            <a:off x="347760" y="1249200"/>
            <a:ext cx="5430600" cy="4061160"/>
          </a:xfrm>
          <a:prstGeom prst="rect">
            <a:avLst/>
          </a:prstGeom>
          <a:ln w="0">
            <a:noFill/>
          </a:ln>
        </p:spPr>
      </p:pic>
      <p:grpSp>
        <p:nvGrpSpPr>
          <p:cNvPr id="85" name="组合 3"/>
          <p:cNvGrpSpPr/>
          <p:nvPr/>
        </p:nvGrpSpPr>
        <p:grpSpPr>
          <a:xfrm>
            <a:off x="5892840" y="1536840"/>
            <a:ext cx="2413080" cy="2997000"/>
            <a:chOff x="5892840" y="1536840"/>
            <a:chExt cx="2413080" cy="2997000"/>
          </a:xfrm>
        </p:grpSpPr>
        <p:grpSp>
          <p:nvGrpSpPr>
            <p:cNvPr id="86" name="AutoShape 3"/>
            <p:cNvGrpSpPr/>
            <p:nvPr/>
          </p:nvGrpSpPr>
          <p:grpSpPr>
            <a:xfrm>
              <a:off x="5892840" y="1536840"/>
              <a:ext cx="2413080" cy="2997000"/>
              <a:chOff x="5892840" y="1536840"/>
              <a:chExt cx="2413080" cy="2997000"/>
            </a:xfrm>
          </p:grpSpPr>
          <p:pic>
            <p:nvPicPr>
              <p:cNvPr id="87" name="AutoShap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5892840" y="1536840"/>
                <a:ext cx="2413080" cy="299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" name=""/>
              <p:cNvSpPr/>
              <p:nvPr/>
            </p:nvSpPr>
            <p:spPr>
              <a:xfrm>
                <a:off x="5970960" y="1594440"/>
                <a:ext cx="2257920" cy="283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" name="AutoShape 3"/>
            <p:cNvGrpSpPr/>
            <p:nvPr/>
          </p:nvGrpSpPr>
          <p:grpSpPr>
            <a:xfrm>
              <a:off x="5892840" y="1600920"/>
              <a:ext cx="2407320" cy="2863080"/>
              <a:chOff x="5892840" y="1600920"/>
              <a:chExt cx="2407320" cy="2863080"/>
            </a:xfrm>
          </p:grpSpPr>
          <p:pic>
            <p:nvPicPr>
              <p:cNvPr id="90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5892840" y="1600920"/>
                <a:ext cx="2407320" cy="28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" name=""/>
              <p:cNvSpPr/>
              <p:nvPr/>
            </p:nvSpPr>
            <p:spPr>
              <a:xfrm>
                <a:off x="5973480" y="1657080"/>
                <a:ext cx="2252520" cy="269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2" name="TextBox 4"/>
          <p:cNvSpPr/>
          <p:nvPr/>
        </p:nvSpPr>
        <p:spPr>
          <a:xfrm>
            <a:off x="6369120" y="28440"/>
            <a:ext cx="26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Calibri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4" descr="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94" name="TextBox 6"/>
          <p:cNvSpPr/>
          <p:nvPr/>
        </p:nvSpPr>
        <p:spPr>
          <a:xfrm>
            <a:off x="595440" y="3875040"/>
            <a:ext cx="351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Calibri"/>
              </a:rPr>
              <a:t>谢谢观赏 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THANK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1T06:30:29Z</dcterms:created>
  <dc:creator/>
  <dc:description/>
  <cp:keywords/>
  <dc:language>en-US</dc:language>
  <cp:lastModifiedBy>GZB</cp:lastModifiedBy>
  <dcterms:modified xsi:type="dcterms:W3CDTF">2011-09-22T08:14:41Z</dcterms:modified>
  <cp:revision>51</cp:revision>
  <dc:subject/>
  <dc:title>www.glzy8.com提供海量PPT模板免费下载！</dc:title>
</cp:coreProperties>
</file>