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AD4-65E4-41C7-8D9B-FC2E419E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15D-4B72-4330-B880-93299B4A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C40-B331-481B-A4FA-C63254AF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4FB-15D2-436D-8190-FFFD0F25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D7C-B836-437C-8BA6-896274D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C41-CAF1-4A62-875D-0FE7502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B9B-A2C4-4ACD-A8A0-3656450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996-A34B-4108-A49F-9A7DD1D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DAA-7DAF-40FD-B7E2-3479B913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42B-9A2D-425A-910F-883E8CA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B4A-AF11-40BB-BD38-378D1F4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4F2-11A5-40DF-8DE6-864DED1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1900-F841-44CC-9E77-D20D9064E5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86240" y="51436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357880" y="5643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147600" y="2143080"/>
            <a:ext cx="8782200" cy="3057480"/>
          </a:xfrm>
          <a:prstGeom prst="rect">
            <a:avLst/>
          </a:pr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19"/>
          <p:cNvSpPr/>
          <p:nvPr/>
        </p:nvSpPr>
        <p:spPr>
          <a:xfrm>
            <a:off x="357120" y="2355840"/>
            <a:ext cx="2597040" cy="1987560"/>
          </a:xfrm>
          <a:prstGeom prst="roundRect">
            <a:avLst>
              <a:gd name="adj" fmla="val 0"/>
            </a:avLst>
          </a:pr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9"/>
          <p:cNvSpPr/>
          <p:nvPr/>
        </p:nvSpPr>
        <p:spPr>
          <a:xfrm>
            <a:off x="3189240" y="2370240"/>
            <a:ext cx="2597040" cy="1987560"/>
          </a:xfrm>
          <a:prstGeom prst="roundRect">
            <a:avLst>
              <a:gd name="adj" fmla="val 0"/>
            </a:avLst>
          </a:pr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9"/>
          <p:cNvSpPr/>
          <p:nvPr/>
        </p:nvSpPr>
        <p:spPr>
          <a:xfrm>
            <a:off x="6046920" y="2354400"/>
            <a:ext cx="2597040" cy="1987560"/>
          </a:xfrm>
          <a:prstGeom prst="roundRect">
            <a:avLst>
              <a:gd name="adj" fmla="val 0"/>
            </a:avLst>
          </a:pr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106884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"/>
          <p:cNvSpPr/>
          <p:nvPr/>
        </p:nvSpPr>
        <p:spPr>
          <a:xfrm>
            <a:off x="3926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528372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5283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5283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圆角矩形 9" descr=""/>
          <p:cNvPicPr/>
          <p:nvPr/>
        </p:nvPicPr>
        <p:blipFill>
          <a:blip r:embed="rId2"/>
          <a:stretch/>
        </p:blipFill>
        <p:spPr>
          <a:xfrm>
            <a:off x="4029120" y="1579680"/>
            <a:ext cx="896760" cy="583920"/>
          </a:xfrm>
          <a:prstGeom prst="rect">
            <a:avLst/>
          </a:prstGeom>
          <a:ln w="0">
            <a:noFill/>
          </a:ln>
        </p:spPr>
      </p:pic>
      <p:grpSp>
        <p:nvGrpSpPr>
          <p:cNvPr id="53" name="任意多边形 10"/>
          <p:cNvGrpSpPr/>
          <p:nvPr/>
        </p:nvGrpSpPr>
        <p:grpSpPr>
          <a:xfrm>
            <a:off x="3852720" y="1311120"/>
            <a:ext cx="658800" cy="841680"/>
            <a:chOff x="3852720" y="1311120"/>
            <a:chExt cx="658800" cy="841680"/>
          </a:xfrm>
        </p:grpSpPr>
        <p:pic>
          <p:nvPicPr>
            <p:cNvPr id="54" name="任意多边形 10" descr=""/>
            <p:cNvPicPr/>
            <p:nvPr/>
          </p:nvPicPr>
          <p:blipFill>
            <a:blip r:embed="rId3"/>
            <a:stretch/>
          </p:blipFill>
          <p:spPr>
            <a:xfrm>
              <a:off x="3852720" y="1311120"/>
              <a:ext cx="6588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59200" y="1314360"/>
              <a:ext cx="6494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任意多边形 11"/>
          <p:cNvGrpSpPr/>
          <p:nvPr/>
        </p:nvGrpSpPr>
        <p:grpSpPr>
          <a:xfrm>
            <a:off x="3139920" y="1590840"/>
            <a:ext cx="1108080" cy="566640"/>
            <a:chOff x="3139920" y="1590840"/>
            <a:chExt cx="1108080" cy="566640"/>
          </a:xfrm>
        </p:grpSpPr>
        <p:pic>
          <p:nvPicPr>
            <p:cNvPr id="57" name="任意多边形 11" descr=""/>
            <p:cNvPicPr/>
            <p:nvPr/>
          </p:nvPicPr>
          <p:blipFill>
            <a:blip r:embed="rId4"/>
            <a:stretch/>
          </p:blipFill>
          <p:spPr>
            <a:xfrm>
              <a:off x="3139920" y="1590840"/>
              <a:ext cx="11080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144960" y="1596960"/>
              <a:ext cx="10951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圆角矩形 9" descr=""/>
          <p:cNvPicPr/>
          <p:nvPr/>
        </p:nvPicPr>
        <p:blipFill>
          <a:blip r:embed="rId5"/>
          <a:stretch/>
        </p:blipFill>
        <p:spPr>
          <a:xfrm>
            <a:off x="4029120" y="2530440"/>
            <a:ext cx="896760" cy="584280"/>
          </a:xfrm>
          <a:prstGeom prst="rect">
            <a:avLst/>
          </a:prstGeom>
          <a:ln w="0">
            <a:noFill/>
          </a:ln>
        </p:spPr>
      </p:pic>
      <p:grpSp>
        <p:nvGrpSpPr>
          <p:cNvPr id="60" name="任意多边形 13"/>
          <p:cNvGrpSpPr/>
          <p:nvPr/>
        </p:nvGrpSpPr>
        <p:grpSpPr>
          <a:xfrm>
            <a:off x="3852720" y="2262240"/>
            <a:ext cx="658800" cy="841320"/>
            <a:chOff x="3852720" y="2262240"/>
            <a:chExt cx="658800" cy="841320"/>
          </a:xfrm>
        </p:grpSpPr>
        <p:pic>
          <p:nvPicPr>
            <p:cNvPr id="61" name="任意多边形 13" descr=""/>
            <p:cNvPicPr/>
            <p:nvPr/>
          </p:nvPicPr>
          <p:blipFill>
            <a:blip r:embed="rId6"/>
            <a:stretch/>
          </p:blipFill>
          <p:spPr>
            <a:xfrm>
              <a:off x="3852720" y="2262240"/>
              <a:ext cx="658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57760" y="2265480"/>
              <a:ext cx="6490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任意多边形 14"/>
          <p:cNvGrpSpPr/>
          <p:nvPr/>
        </p:nvGrpSpPr>
        <p:grpSpPr>
          <a:xfrm>
            <a:off x="3139920" y="2541600"/>
            <a:ext cx="1103400" cy="566640"/>
            <a:chOff x="3139920" y="2541600"/>
            <a:chExt cx="1103400" cy="566640"/>
          </a:xfrm>
        </p:grpSpPr>
        <p:pic>
          <p:nvPicPr>
            <p:cNvPr id="64" name="任意多边形 14" descr=""/>
            <p:cNvPicPr/>
            <p:nvPr/>
          </p:nvPicPr>
          <p:blipFill>
            <a:blip r:embed="rId7"/>
            <a:stretch/>
          </p:blipFill>
          <p:spPr>
            <a:xfrm>
              <a:off x="3139920" y="2541600"/>
              <a:ext cx="11034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43160" y="2549520"/>
              <a:ext cx="10954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圆角矩形 9" descr=""/>
          <p:cNvPicPr/>
          <p:nvPr/>
        </p:nvPicPr>
        <p:blipFill>
          <a:blip r:embed="rId8"/>
          <a:stretch/>
        </p:blipFill>
        <p:spPr>
          <a:xfrm>
            <a:off x="4029120" y="3481560"/>
            <a:ext cx="896760" cy="583920"/>
          </a:xfrm>
          <a:prstGeom prst="rect">
            <a:avLst/>
          </a:prstGeom>
          <a:ln w="0">
            <a:noFill/>
          </a:ln>
        </p:spPr>
      </p:pic>
      <p:grpSp>
        <p:nvGrpSpPr>
          <p:cNvPr id="67" name="任意多边形 16"/>
          <p:cNvGrpSpPr/>
          <p:nvPr/>
        </p:nvGrpSpPr>
        <p:grpSpPr>
          <a:xfrm>
            <a:off x="3852720" y="3213000"/>
            <a:ext cx="658800" cy="841320"/>
            <a:chOff x="3852720" y="3213000"/>
            <a:chExt cx="658800" cy="841320"/>
          </a:xfrm>
        </p:grpSpPr>
        <p:pic>
          <p:nvPicPr>
            <p:cNvPr id="68" name="任意多边形 16" descr=""/>
            <p:cNvPicPr/>
            <p:nvPr/>
          </p:nvPicPr>
          <p:blipFill>
            <a:blip r:embed="rId9"/>
            <a:stretch/>
          </p:blipFill>
          <p:spPr>
            <a:xfrm>
              <a:off x="3852720" y="3213000"/>
              <a:ext cx="658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57760" y="3218040"/>
              <a:ext cx="6490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任意多边形 17"/>
          <p:cNvGrpSpPr/>
          <p:nvPr/>
        </p:nvGrpSpPr>
        <p:grpSpPr>
          <a:xfrm>
            <a:off x="3139920" y="3492360"/>
            <a:ext cx="1103400" cy="567000"/>
            <a:chOff x="3139920" y="3492360"/>
            <a:chExt cx="1103400" cy="567000"/>
          </a:xfrm>
        </p:grpSpPr>
        <p:pic>
          <p:nvPicPr>
            <p:cNvPr id="71" name="任意多边形 17" descr=""/>
            <p:cNvPicPr/>
            <p:nvPr/>
          </p:nvPicPr>
          <p:blipFill>
            <a:blip r:embed="rId10"/>
            <a:stretch/>
          </p:blipFill>
          <p:spPr>
            <a:xfrm>
              <a:off x="3139920" y="3492360"/>
              <a:ext cx="11034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143160" y="3500280"/>
              <a:ext cx="10954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圆角矩形 9" descr=""/>
          <p:cNvPicPr/>
          <p:nvPr/>
        </p:nvPicPr>
        <p:blipFill>
          <a:blip r:embed="rId11"/>
          <a:stretch/>
        </p:blipFill>
        <p:spPr>
          <a:xfrm>
            <a:off x="4029120" y="4352760"/>
            <a:ext cx="896760" cy="590760"/>
          </a:xfrm>
          <a:prstGeom prst="rect">
            <a:avLst/>
          </a:prstGeom>
          <a:ln w="0">
            <a:noFill/>
          </a:ln>
        </p:spPr>
      </p:pic>
      <p:grpSp>
        <p:nvGrpSpPr>
          <p:cNvPr id="74" name="任意多边形 20"/>
          <p:cNvGrpSpPr/>
          <p:nvPr/>
        </p:nvGrpSpPr>
        <p:grpSpPr>
          <a:xfrm>
            <a:off x="3852720" y="4084560"/>
            <a:ext cx="658800" cy="847800"/>
            <a:chOff x="3852720" y="4084560"/>
            <a:chExt cx="658800" cy="847800"/>
          </a:xfrm>
        </p:grpSpPr>
        <p:pic>
          <p:nvPicPr>
            <p:cNvPr id="75" name="任意多边形 20" descr=""/>
            <p:cNvPicPr/>
            <p:nvPr/>
          </p:nvPicPr>
          <p:blipFill>
            <a:blip r:embed="rId12"/>
            <a:stretch/>
          </p:blipFill>
          <p:spPr>
            <a:xfrm>
              <a:off x="3852720" y="4084560"/>
              <a:ext cx="658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857760" y="4092480"/>
              <a:ext cx="6490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任意多边形 21"/>
          <p:cNvGrpSpPr/>
          <p:nvPr/>
        </p:nvGrpSpPr>
        <p:grpSpPr>
          <a:xfrm>
            <a:off x="3139920" y="4370400"/>
            <a:ext cx="1103400" cy="566640"/>
            <a:chOff x="3139920" y="4370400"/>
            <a:chExt cx="1103400" cy="566640"/>
          </a:xfrm>
        </p:grpSpPr>
        <p:pic>
          <p:nvPicPr>
            <p:cNvPr id="78" name="任意多边形 21" descr=""/>
            <p:cNvPicPr/>
            <p:nvPr/>
          </p:nvPicPr>
          <p:blipFill>
            <a:blip r:embed="rId13"/>
            <a:stretch/>
          </p:blipFill>
          <p:spPr>
            <a:xfrm>
              <a:off x="3139920" y="4370400"/>
              <a:ext cx="11034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143160" y="4375080"/>
              <a:ext cx="10954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21"/>
          <p:cNvSpPr/>
          <p:nvPr/>
        </p:nvSpPr>
        <p:spPr>
          <a:xfrm>
            <a:off x="535500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0"/>
          <p:cNvSpPr/>
          <p:nvPr/>
        </p:nvSpPr>
        <p:spPr>
          <a:xfrm>
            <a:off x="785880" y="3643200"/>
            <a:ext cx="7786800" cy="316080"/>
          </a:xfrm>
          <a:prstGeom prst="roundRect">
            <a:avLst>
              <a:gd name="adj" fmla="val 50000"/>
            </a:avLst>
          </a:prstGeom>
          <a:solidFill>
            <a:srgbClr val="efc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1"/>
          <p:cNvSpPr/>
          <p:nvPr/>
        </p:nvSpPr>
        <p:spPr>
          <a:xfrm>
            <a:off x="1641600" y="3701880"/>
            <a:ext cx="134640" cy="136800"/>
          </a:xfrm>
          <a:prstGeom prst="ellipse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684600" y="3701880"/>
            <a:ext cx="136440" cy="136800"/>
          </a:xfrm>
          <a:prstGeom prst="ellipse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3"/>
          <p:cNvSpPr/>
          <p:nvPr/>
        </p:nvSpPr>
        <p:spPr>
          <a:xfrm>
            <a:off x="5729400" y="3701880"/>
            <a:ext cx="135000" cy="136800"/>
          </a:xfrm>
          <a:prstGeom prst="ellipse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4"/>
          <p:cNvSpPr/>
          <p:nvPr/>
        </p:nvSpPr>
        <p:spPr>
          <a:xfrm>
            <a:off x="1044720" y="2073240"/>
            <a:ext cx="1328760" cy="169704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e94b4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4"/>
          <p:cNvSpPr/>
          <p:nvPr/>
        </p:nvSpPr>
        <p:spPr>
          <a:xfrm>
            <a:off x="3089160" y="2073240"/>
            <a:ext cx="1327320" cy="169704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ef7f5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4"/>
          <p:cNvSpPr/>
          <p:nvPr/>
        </p:nvSpPr>
        <p:spPr>
          <a:xfrm>
            <a:off x="5132520" y="2073240"/>
            <a:ext cx="1328760" cy="169704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a4bb5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251360" y="265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33376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3292200" y="265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1"/>
          <p:cNvSpPr/>
          <p:nvPr/>
        </p:nvSpPr>
        <p:spPr>
          <a:xfrm>
            <a:off x="7453440" y="3701880"/>
            <a:ext cx="136440" cy="135000"/>
          </a:xfrm>
          <a:prstGeom prst="ellipse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4"/>
          <p:cNvSpPr/>
          <p:nvPr/>
        </p:nvSpPr>
        <p:spPr>
          <a:xfrm>
            <a:off x="6858000" y="2071800"/>
            <a:ext cx="1327320" cy="169848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4d906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70178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852480" y="4834080"/>
            <a:ext cx="7792920" cy="9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7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115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752400" y="2571840"/>
            <a:ext cx="1521000" cy="108108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7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8" y="196"/>
                  <a:pt x="0" y="187"/>
                  <a:pt x="0" y="177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9"/>
                  <a:pt x="8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19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581040" y="3722760"/>
            <a:ext cx="1889280" cy="19980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6"/>
                  <a:pt x="47" y="26"/>
                  <a:pt x="47" y="26"/>
                </a:cubicBezTo>
                <a:cubicBezTo>
                  <a:pt x="98" y="26"/>
                  <a:pt x="98" y="26"/>
                  <a:pt x="98" y="26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2" y="22"/>
                  <a:pt x="272" y="17"/>
                </a:cubicBezTo>
                <a:cubicBezTo>
                  <a:pt x="272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1"/>
                  <a:pt x="288" y="26"/>
                  <a:pt x="294" y="26"/>
                </a:cubicBezTo>
                <a:cubicBezTo>
                  <a:pt x="299" y="26"/>
                  <a:pt x="304" y="21"/>
                  <a:pt x="304" y="17"/>
                </a:cubicBezTo>
                <a:cubicBezTo>
                  <a:pt x="304" y="12"/>
                  <a:pt x="299" y="8"/>
                  <a:pt x="294" y="8"/>
                </a:cubicBezTo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2824200" y="2571840"/>
            <a:ext cx="1520640" cy="1081080"/>
          </a:xfrm>
          <a:custGeom>
            <a:avLst/>
            <a:gdLst>
              <a:gd name="textAreaLeft" fmla="*/ 0 w 1520640"/>
              <a:gd name="textAreaRight" fmla="*/ 1521000 w 1520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8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9" y="196"/>
                  <a:pt x="0" y="188"/>
                  <a:pt x="0" y="177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20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2652840" y="3724200"/>
            <a:ext cx="1890720" cy="19836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7"/>
                  <a:pt x="47" y="27"/>
                  <a:pt x="47" y="27"/>
                </a:cubicBezTo>
                <a:cubicBezTo>
                  <a:pt x="98" y="27"/>
                  <a:pt x="98" y="27"/>
                  <a:pt x="98" y="27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3" y="22"/>
                  <a:pt x="273" y="17"/>
                </a:cubicBezTo>
                <a:cubicBezTo>
                  <a:pt x="273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2"/>
                  <a:pt x="288" y="26"/>
                  <a:pt x="294" y="26"/>
                </a:cubicBezTo>
                <a:cubicBezTo>
                  <a:pt x="300" y="26"/>
                  <a:pt x="304" y="22"/>
                  <a:pt x="304" y="17"/>
                </a:cubicBezTo>
                <a:cubicBezTo>
                  <a:pt x="304" y="12"/>
                  <a:pt x="300" y="8"/>
                  <a:pt x="294" y="8"/>
                </a:cubicBezTo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4853160" y="2571840"/>
            <a:ext cx="1519200" cy="108108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7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8" y="196"/>
                  <a:pt x="0" y="187"/>
                  <a:pt x="0" y="177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9"/>
                  <a:pt x="8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19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4681440" y="3722760"/>
            <a:ext cx="1889280" cy="19980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6"/>
                  <a:pt x="47" y="26"/>
                  <a:pt x="47" y="26"/>
                </a:cubicBezTo>
                <a:cubicBezTo>
                  <a:pt x="98" y="26"/>
                  <a:pt x="98" y="26"/>
                  <a:pt x="98" y="26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2" y="22"/>
                  <a:pt x="272" y="17"/>
                </a:cubicBezTo>
                <a:cubicBezTo>
                  <a:pt x="272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1"/>
                  <a:pt x="288" y="26"/>
                  <a:pt x="294" y="26"/>
                </a:cubicBezTo>
                <a:cubicBezTo>
                  <a:pt x="299" y="26"/>
                  <a:pt x="304" y="21"/>
                  <a:pt x="304" y="17"/>
                </a:cubicBezTo>
                <a:cubicBezTo>
                  <a:pt x="304" y="12"/>
                  <a:pt x="299" y="8"/>
                  <a:pt x="294" y="8"/>
                </a:cubicBezTo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6924600" y="2571840"/>
            <a:ext cx="1519200" cy="108108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8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9" y="196"/>
                  <a:pt x="0" y="188"/>
                  <a:pt x="0" y="177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20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6753240" y="3724200"/>
            <a:ext cx="1890720" cy="19836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7"/>
                  <a:pt x="47" y="27"/>
                  <a:pt x="47" y="27"/>
                </a:cubicBezTo>
                <a:cubicBezTo>
                  <a:pt x="98" y="27"/>
                  <a:pt x="98" y="27"/>
                  <a:pt x="98" y="27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3" y="22"/>
                  <a:pt x="273" y="17"/>
                </a:cubicBezTo>
                <a:cubicBezTo>
                  <a:pt x="273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2"/>
                  <a:pt x="288" y="26"/>
                  <a:pt x="294" y="26"/>
                </a:cubicBezTo>
                <a:cubicBezTo>
                  <a:pt x="300" y="26"/>
                  <a:pt x="304" y="22"/>
                  <a:pt x="304" y="17"/>
                </a:cubicBezTo>
                <a:cubicBezTo>
                  <a:pt x="304" y="12"/>
                  <a:pt x="300" y="8"/>
                  <a:pt x="294" y="8"/>
                </a:cubicBezTo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059840" y="292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3118680" y="292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5190480" y="292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7249680" y="292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五边形 6"/>
          <p:cNvSpPr/>
          <p:nvPr/>
        </p:nvSpPr>
        <p:spPr>
          <a:xfrm>
            <a:off x="1592280" y="1714680"/>
            <a:ext cx="1440000" cy="24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9" y="0"/>
                </a:lnTo>
                <a:lnTo>
                  <a:pt x="21600" y="10800"/>
                </a:lnTo>
                <a:lnTo>
                  <a:pt x="16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五边形 7"/>
          <p:cNvSpPr/>
          <p:nvPr/>
        </p:nvSpPr>
        <p:spPr>
          <a:xfrm>
            <a:off x="3247920" y="1714680"/>
            <a:ext cx="1440000" cy="24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9" y="0"/>
                </a:lnTo>
                <a:lnTo>
                  <a:pt x="21600" y="10800"/>
                </a:lnTo>
                <a:lnTo>
                  <a:pt x="16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五边形 8"/>
          <p:cNvSpPr/>
          <p:nvPr/>
        </p:nvSpPr>
        <p:spPr>
          <a:xfrm>
            <a:off x="4905360" y="1714680"/>
            <a:ext cx="1440000" cy="24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9" y="0"/>
                </a:lnTo>
                <a:lnTo>
                  <a:pt x="21600" y="10800"/>
                </a:lnTo>
                <a:lnTo>
                  <a:pt x="16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五边形 9"/>
          <p:cNvSpPr/>
          <p:nvPr/>
        </p:nvSpPr>
        <p:spPr>
          <a:xfrm>
            <a:off x="6561000" y="1714680"/>
            <a:ext cx="1440000" cy="2447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9" y="0"/>
                </a:lnTo>
                <a:lnTo>
                  <a:pt x="21600" y="10800"/>
                </a:lnTo>
                <a:lnTo>
                  <a:pt x="16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左大括号 10"/>
          <p:cNvSpPr/>
          <p:nvPr/>
        </p:nvSpPr>
        <p:spPr>
          <a:xfrm rot="16200000">
            <a:off x="2813040" y="3320640"/>
            <a:ext cx="345960" cy="2685960"/>
          </a:xfrm>
          <a:custGeom>
            <a:avLst/>
            <a:gdLst>
              <a:gd name="textAreaLeft" fmla="*/ 221040 w 345960"/>
              <a:gd name="textAreaRight" fmla="*/ 346320 w 345960"/>
              <a:gd name="textAreaTop" fmla="*/ 40680 h 2685960"/>
              <a:gd name="textAreaBottom" fmla="*/ 2645280 h 26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000"/>
                </a:lnTo>
                <a:cubicBezTo>
                  <a:pt x="10800" y="9526"/>
                  <a:pt x="5400" y="10052"/>
                  <a:pt x="0" y="10052"/>
                </a:cubicBezTo>
                <a:cubicBezTo>
                  <a:pt x="5400" y="10052"/>
                  <a:pt x="10800" y="10578"/>
                  <a:pt x="10800" y="11104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94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大括号 11"/>
          <p:cNvSpPr/>
          <p:nvPr/>
        </p:nvSpPr>
        <p:spPr>
          <a:xfrm rot="16200000">
            <a:off x="5343480" y="4106160"/>
            <a:ext cx="307800" cy="1152720"/>
          </a:xfrm>
          <a:custGeom>
            <a:avLst/>
            <a:gdLst>
              <a:gd name="textAreaLeft" fmla="*/ 196560 w 307800"/>
              <a:gd name="textAreaRight" fmla="*/ 308160 w 307800"/>
              <a:gd name="textAreaTop" fmla="*/ 36360 h 1152720"/>
              <a:gd name="textAreaBottom" fmla="*/ 111636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1"/>
                  <a:pt x="10800" y="2182"/>
                </a:cubicBezTo>
                <a:lnTo>
                  <a:pt x="10800" y="7870"/>
                </a:lnTo>
                <a:cubicBezTo>
                  <a:pt x="10800" y="8961"/>
                  <a:pt x="5400" y="10052"/>
                  <a:pt x="0" y="10052"/>
                </a:cubicBezTo>
                <a:cubicBezTo>
                  <a:pt x="5400" y="10052"/>
                  <a:pt x="10800" y="11143"/>
                  <a:pt x="10800" y="12234"/>
                </a:cubicBezTo>
                <a:lnTo>
                  <a:pt x="10800" y="19418"/>
                </a:lnTo>
                <a:cubicBezTo>
                  <a:pt x="10800" y="205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4b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大括号 12"/>
          <p:cNvSpPr/>
          <p:nvPr/>
        </p:nvSpPr>
        <p:spPr>
          <a:xfrm rot="16200000">
            <a:off x="7027200" y="4088160"/>
            <a:ext cx="345960" cy="1150920"/>
          </a:xfrm>
          <a:custGeom>
            <a:avLst/>
            <a:gdLst>
              <a:gd name="textAreaLeft" fmla="*/ 221040 w 345960"/>
              <a:gd name="textAreaRight" fmla="*/ 346320 w 34596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7597"/>
                </a:lnTo>
                <a:cubicBezTo>
                  <a:pt x="10800" y="8825"/>
                  <a:pt x="5400" y="10052"/>
                  <a:pt x="0" y="10052"/>
                </a:cubicBezTo>
                <a:cubicBezTo>
                  <a:pt x="5400" y="10052"/>
                  <a:pt x="10800" y="11280"/>
                  <a:pt x="10800" y="12507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d90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783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78384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999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3354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04720" y="3135240"/>
            <a:ext cx="457200" cy="1567080"/>
          </a:xfrm>
          <a:prstGeom prst="rect">
            <a:avLst/>
          </a:pr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1417680" y="3135240"/>
            <a:ext cx="457200" cy="1576440"/>
          </a:xfrm>
          <a:prstGeom prst="rect">
            <a:avLst/>
          </a:pr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7164360" y="3929040"/>
            <a:ext cx="457200" cy="773280"/>
          </a:xfrm>
          <a:prstGeom prst="rect">
            <a:avLst/>
          </a:pr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8075520" y="1539720"/>
            <a:ext cx="457200" cy="3162600"/>
          </a:xfrm>
          <a:prstGeom prst="rect">
            <a:avLst/>
          </a:pr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大括号 10"/>
          <p:cNvSpPr/>
          <p:nvPr/>
        </p:nvSpPr>
        <p:spPr>
          <a:xfrm>
            <a:off x="1922400" y="3147840"/>
            <a:ext cx="292320" cy="156708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1567080"/>
              <a:gd name="textAreaBottom" fmla="*/ 1559520 h 15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ef7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1"/>
          <p:cNvSpPr/>
          <p:nvPr/>
        </p:nvSpPr>
        <p:spPr>
          <a:xfrm>
            <a:off x="2046240" y="3932280"/>
            <a:ext cx="5432400" cy="0"/>
          </a:xfrm>
          <a:prstGeom prst="line">
            <a:avLst/>
          </a:prstGeom>
          <a:ln w="15840">
            <a:solidFill>
              <a:srgbClr val="a4bb5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大括号 12"/>
          <p:cNvSpPr/>
          <p:nvPr/>
        </p:nvSpPr>
        <p:spPr>
          <a:xfrm flipH="1">
            <a:off x="7580160" y="1565280"/>
            <a:ext cx="330480" cy="3137040"/>
          </a:xfrm>
          <a:custGeom>
            <a:avLst/>
            <a:gdLst>
              <a:gd name="textAreaLeft" fmla="*/ 360 w 330480"/>
              <a:gd name="textAreaRight" fmla="*/ 119520 w 330480"/>
              <a:gd name="textAreaTop" fmla="*/ 8280 h 3137040"/>
              <a:gd name="textAreaBottom" fmla="*/ 3128760 h 313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4d90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"/>
          <p:cNvSpPr/>
          <p:nvPr/>
        </p:nvSpPr>
        <p:spPr>
          <a:xfrm>
            <a:off x="361800" y="3135240"/>
            <a:ext cx="7116840" cy="0"/>
          </a:xfrm>
          <a:prstGeom prst="line">
            <a:avLst/>
          </a:prstGeom>
          <a:ln w="15840">
            <a:solidFill>
              <a:srgbClr val="ef7f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5212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 flipH="1">
            <a:off x="8143920" y="1785960"/>
            <a:ext cx="7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2783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7"/>
          <p:cNvSpPr/>
          <p:nvPr/>
        </p:nvSpPr>
        <p:spPr>
          <a:xfrm>
            <a:off x="0" y="4786200"/>
            <a:ext cx="9063000" cy="0"/>
          </a:xfrm>
          <a:prstGeom prst="line">
            <a:avLst/>
          </a:prstGeom>
          <a:ln w="15840">
            <a:solidFill>
              <a:srgbClr val="e94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 flipH="1">
            <a:off x="1499400" y="3187800"/>
            <a:ext cx="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3"/>
          <p:cNvSpPr/>
          <p:nvPr/>
        </p:nvSpPr>
        <p:spPr>
          <a:xfrm flipH="1">
            <a:off x="642960" y="3187800"/>
            <a:ext cx="7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"/>
          <p:cNvSpPr/>
          <p:nvPr/>
        </p:nvSpPr>
        <p:spPr>
          <a:xfrm>
            <a:off x="1590840" y="2900520"/>
            <a:ext cx="91908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2"/>
          <p:cNvSpPr/>
          <p:nvPr/>
        </p:nvSpPr>
        <p:spPr>
          <a:xfrm>
            <a:off x="2013120" y="2479680"/>
            <a:ext cx="1019160" cy="91764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2"/>
          <p:cNvSpPr/>
          <p:nvPr/>
        </p:nvSpPr>
        <p:spPr>
          <a:xfrm rot="5400000">
            <a:off x="3084120" y="24289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2"/>
          <p:cNvSpPr/>
          <p:nvPr/>
        </p:nvSpPr>
        <p:spPr>
          <a:xfrm flipV="1">
            <a:off x="3556080" y="2901240"/>
            <a:ext cx="1017360" cy="91908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"/>
          <p:cNvSpPr/>
          <p:nvPr/>
        </p:nvSpPr>
        <p:spPr>
          <a:xfrm flipV="1" rot="16200000">
            <a:off x="4625640" y="2851920"/>
            <a:ext cx="919080" cy="101772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"/>
          <p:cNvSpPr/>
          <p:nvPr/>
        </p:nvSpPr>
        <p:spPr>
          <a:xfrm>
            <a:off x="5097600" y="2479680"/>
            <a:ext cx="1019160" cy="917640"/>
          </a:xfrm>
          <a:custGeom>
            <a:avLst/>
            <a:gdLst/>
            <a:ahLst/>
            <a:rect l="l" t="t" r="r" b="b"/>
            <a:pathLst>
              <a:path w="1018507" h="918258">
                <a:moveTo>
                  <a:pt x="1018347" y="0"/>
                </a:moveTo>
                <a:lnTo>
                  <a:pt x="1018507" y="8"/>
                </a:lnTo>
                <a:lnTo>
                  <a:pt x="1018507" y="702086"/>
                </a:lnTo>
                <a:cubicBezTo>
                  <a:pt x="1018454" y="702078"/>
                  <a:pt x="1018401" y="702078"/>
                  <a:pt x="1018347" y="702078"/>
                </a:cubicBezTo>
                <a:cubicBezTo>
                  <a:pt x="814532" y="702078"/>
                  <a:pt x="630011" y="784691"/>
                  <a:pt x="496445" y="918258"/>
                </a:cubicBezTo>
                <a:lnTo>
                  <a:pt x="0" y="421813"/>
                </a:lnTo>
                <a:cubicBezTo>
                  <a:pt x="260618" y="161196"/>
                  <a:pt x="620658" y="0"/>
                  <a:pt x="1018347" y="0"/>
                </a:cubicBezTo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"/>
          <p:cNvSpPr/>
          <p:nvPr/>
        </p:nvSpPr>
        <p:spPr>
          <a:xfrm rot="5400000">
            <a:off x="6168600" y="24289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"/>
          <p:cNvSpPr/>
          <p:nvPr/>
        </p:nvSpPr>
        <p:spPr>
          <a:xfrm flipH="1">
            <a:off x="6639840" y="2900520"/>
            <a:ext cx="917640" cy="1019160"/>
          </a:xfrm>
          <a:custGeom>
            <a:avLst/>
            <a:gdLst/>
            <a:ahLst/>
            <a:rect l="l" t="t" r="r" b="b"/>
            <a:pathLst>
              <a:path w="918258" h="1018507">
                <a:moveTo>
                  <a:pt x="421813" y="0"/>
                </a:moveTo>
                <a:lnTo>
                  <a:pt x="918258" y="496445"/>
                </a:lnTo>
                <a:cubicBezTo>
                  <a:pt x="784691" y="630011"/>
                  <a:pt x="702078" y="814532"/>
                  <a:pt x="702078" y="1018347"/>
                </a:cubicBezTo>
                <a:lnTo>
                  <a:pt x="702086" y="1018507"/>
                </a:lnTo>
                <a:lnTo>
                  <a:pt x="8" y="1018507"/>
                </a:lnTo>
                <a:cubicBezTo>
                  <a:pt x="0" y="1018454"/>
                  <a:pt x="0" y="1018400"/>
                  <a:pt x="0" y="1018347"/>
                </a:cubicBezTo>
                <a:cubicBezTo>
                  <a:pt x="0" y="620658"/>
                  <a:pt x="161196" y="260618"/>
                  <a:pt x="421813" y="0"/>
                </a:cubicBezTo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7204" t="0" r="2774" b="57823"/>
          <a:stretch/>
        </p:blipFill>
        <p:spPr>
          <a:xfrm>
            <a:off x="826920" y="3844800"/>
            <a:ext cx="2446560" cy="84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7204" t="0" r="2774" b="57823"/>
          <a:stretch/>
        </p:blipFill>
        <p:spPr>
          <a:xfrm>
            <a:off x="5875200" y="3835440"/>
            <a:ext cx="2446560" cy="84240"/>
          </a:xfrm>
          <a:prstGeom prst="rect">
            <a:avLst/>
          </a:prstGeom>
          <a:ln w="0">
            <a:noFill/>
          </a:ln>
        </p:spPr>
      </p:pic>
      <p:sp>
        <p:nvSpPr>
          <p:cNvPr id="186" name="矩形 12"/>
          <p:cNvSpPr/>
          <p:nvPr/>
        </p:nvSpPr>
        <p:spPr>
          <a:xfrm>
            <a:off x="7212600" y="334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464076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1568880" y="2482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925920" y="334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6"/>
          <p:cNvSpPr/>
          <p:nvPr/>
        </p:nvSpPr>
        <p:spPr>
          <a:xfrm>
            <a:off x="428760" y="2771640"/>
            <a:ext cx="1804680" cy="2003400"/>
          </a:xfrm>
          <a:custGeom>
            <a:avLst/>
            <a:gdLst>
              <a:gd name="textAreaLeft" fmla="*/ 25560 w 1804680"/>
              <a:gd name="textAreaRight" fmla="*/ 1779120 w 1804680"/>
              <a:gd name="textAreaTop" fmla="*/ 25560 h 2003400"/>
              <a:gd name="textAreaBottom" fmla="*/ 1977840 h 2003400"/>
            </a:gdLst>
            <a:ahLst/>
            <a:rect l="textAreaLeft" t="textAreaTop" r="textAreaRight" b="textAreaBottom"/>
            <a:pathLst>
              <a:path w="21600" h="23978">
                <a:moveTo>
                  <a:pt x="1048" y="0"/>
                </a:moveTo>
                <a:arcTo wR="1048" hR="1048" stAng="16200000" swAng="-5400000"/>
                <a:lnTo>
                  <a:pt x="0" y="22930"/>
                </a:lnTo>
                <a:arcTo wR="1048" hR="1048" stAng="10800000" swAng="-5400000"/>
                <a:lnTo>
                  <a:pt x="20552" y="23978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e94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7"/>
          <p:cNvSpPr/>
          <p:nvPr/>
        </p:nvSpPr>
        <p:spPr>
          <a:xfrm>
            <a:off x="696960" y="2000160"/>
            <a:ext cx="1268280" cy="1270080"/>
          </a:xfrm>
          <a:prstGeom prst="ellipse">
            <a:avLst/>
          </a:prstGeom>
          <a:solidFill>
            <a:srgbClr val="e94b4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8"/>
          <p:cNvSpPr/>
          <p:nvPr/>
        </p:nvSpPr>
        <p:spPr>
          <a:xfrm>
            <a:off x="2579760" y="2771640"/>
            <a:ext cx="1806480" cy="2003400"/>
          </a:xfrm>
          <a:custGeom>
            <a:avLst/>
            <a:gdLst>
              <a:gd name="textAreaLeft" fmla="*/ 25560 w 1806480"/>
              <a:gd name="textAreaRight" fmla="*/ 1780920 w 1806480"/>
              <a:gd name="textAreaTop" fmla="*/ 25560 h 2003400"/>
              <a:gd name="textAreaBottom" fmla="*/ 1977840 h 2003400"/>
            </a:gdLst>
            <a:ahLst/>
            <a:rect l="textAreaLeft" t="textAreaTop" r="textAreaRight" b="textAreaBottom"/>
            <a:pathLst>
              <a:path w="21600" h="23954">
                <a:moveTo>
                  <a:pt x="1048" y="0"/>
                </a:moveTo>
                <a:arcTo wR="1048" hR="1048" stAng="16200000" swAng="-5400000"/>
                <a:lnTo>
                  <a:pt x="0" y="22906"/>
                </a:lnTo>
                <a:arcTo wR="1048" hR="1048" stAng="10800000" swAng="-5400000"/>
                <a:lnTo>
                  <a:pt x="20552" y="23954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ef7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9"/>
          <p:cNvSpPr/>
          <p:nvPr/>
        </p:nvSpPr>
        <p:spPr>
          <a:xfrm>
            <a:off x="2847960" y="2000160"/>
            <a:ext cx="1270080" cy="1270080"/>
          </a:xfrm>
          <a:prstGeom prst="ellipse">
            <a:avLst/>
          </a:prstGeom>
          <a:solidFill>
            <a:srgbClr val="ef7f5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10"/>
          <p:cNvSpPr/>
          <p:nvPr/>
        </p:nvSpPr>
        <p:spPr>
          <a:xfrm>
            <a:off x="4732200" y="2771640"/>
            <a:ext cx="1805040" cy="2003400"/>
          </a:xfrm>
          <a:custGeom>
            <a:avLst/>
            <a:gdLst>
              <a:gd name="textAreaLeft" fmla="*/ 25560 w 1805040"/>
              <a:gd name="textAreaRight" fmla="*/ 1779480 w 1805040"/>
              <a:gd name="textAreaTop" fmla="*/ 25560 h 2003400"/>
              <a:gd name="textAreaBottom" fmla="*/ 1977840 h 2003400"/>
            </a:gdLst>
            <a:ahLst/>
            <a:rect l="textAreaLeft" t="textAreaTop" r="textAreaRight" b="textAreaBottom"/>
            <a:pathLst>
              <a:path w="21600" h="23973">
                <a:moveTo>
                  <a:pt x="1048" y="0"/>
                </a:moveTo>
                <a:arcTo wR="1048" hR="1048" stAng="16200000" swAng="-5400000"/>
                <a:lnTo>
                  <a:pt x="0" y="22925"/>
                </a:lnTo>
                <a:arcTo wR="1048" hR="1048" stAng="10800000" swAng="-5400000"/>
                <a:lnTo>
                  <a:pt x="20552" y="23973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a4b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1"/>
          <p:cNvSpPr/>
          <p:nvPr/>
        </p:nvSpPr>
        <p:spPr>
          <a:xfrm>
            <a:off x="5000760" y="2000160"/>
            <a:ext cx="1268280" cy="1270080"/>
          </a:xfrm>
          <a:prstGeom prst="ellipse">
            <a:avLst/>
          </a:prstGeom>
          <a:solidFill>
            <a:srgbClr val="a4bb5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12"/>
          <p:cNvSpPr/>
          <p:nvPr/>
        </p:nvSpPr>
        <p:spPr>
          <a:xfrm>
            <a:off x="6883560" y="2771640"/>
            <a:ext cx="1806480" cy="2003400"/>
          </a:xfrm>
          <a:custGeom>
            <a:avLst/>
            <a:gdLst>
              <a:gd name="textAreaLeft" fmla="*/ 25560 w 1806480"/>
              <a:gd name="textAreaRight" fmla="*/ 1780920 w 1806480"/>
              <a:gd name="textAreaTop" fmla="*/ 25560 h 2003400"/>
              <a:gd name="textAreaBottom" fmla="*/ 1977840 h 2003400"/>
            </a:gdLst>
            <a:ahLst/>
            <a:rect l="textAreaLeft" t="textAreaTop" r="textAreaRight" b="textAreaBottom"/>
            <a:pathLst>
              <a:path w="21600" h="23954">
                <a:moveTo>
                  <a:pt x="1048" y="0"/>
                </a:moveTo>
                <a:arcTo wR="1048" hR="1048" stAng="16200000" swAng="-5400000"/>
                <a:lnTo>
                  <a:pt x="0" y="22906"/>
                </a:lnTo>
                <a:arcTo wR="1048" hR="1048" stAng="10800000" swAng="-5400000"/>
                <a:lnTo>
                  <a:pt x="20552" y="23954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4d9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3"/>
          <p:cNvSpPr/>
          <p:nvPr/>
        </p:nvSpPr>
        <p:spPr>
          <a:xfrm>
            <a:off x="7151760" y="2000160"/>
            <a:ext cx="1270080" cy="1270080"/>
          </a:xfrm>
          <a:prstGeom prst="ellipse">
            <a:avLst/>
          </a:prstGeom>
          <a:solidFill>
            <a:srgbClr val="4d906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2"/>
          <p:cNvSpPr/>
          <p:nvPr/>
        </p:nvSpPr>
        <p:spPr>
          <a:xfrm>
            <a:off x="2997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"/>
          <p:cNvSpPr/>
          <p:nvPr/>
        </p:nvSpPr>
        <p:spPr>
          <a:xfrm>
            <a:off x="51422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7356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78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2:38:38Z</dcterms:modified>
  <cp:revision>290</cp:revision>
  <dc:subject/>
  <dc:title>幻灯片 1</dc:title>
</cp:coreProperties>
</file>