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B81-5718-4185-9D5A-8E8CB8F5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CA1-76D9-452E-8100-7C470527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DC6-A1DC-4922-B034-BC9CF2F3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539-EBF7-4221-AA20-722B2A68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6E-18F7-4EB7-8590-3C188D4A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580-9CAC-45EA-9877-B35B112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32B-EA40-4C60-9B0B-70C7AA52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BA0-874B-48C2-8CA1-FFD4B0BA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02E-3F7D-4DC4-AEE2-466590C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382-8F40-4890-AB68-EDF6B36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480-ECB1-4104-ACF3-0AC4851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CB3-FC52-4643-82DF-38DE19D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D01-C7F7-448D-B820-0822207E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908000" y="1440"/>
            <a:ext cx="4924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0:33:58Z</dcterms:created>
  <dc:creator>新教育</dc:creator>
  <dc:description/>
  <dc:language>en-US</dc:language>
  <cp:lastModifiedBy>Sky123.Org</cp:lastModifiedBy>
  <dcterms:modified xsi:type="dcterms:W3CDTF">2015-08-03T02:38:29Z</dcterms:modified>
  <cp:revision>6</cp:revision>
  <dc:subject/>
  <dc:title>幻灯片 1</dc:title>
</cp:coreProperties>
</file>