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7A8-ACE8-4907-985F-52568CD6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7F2-9FE4-413F-AE9F-D37173E8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04C-3728-4BBB-B7B8-7D2D12DF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FE4-E190-45D1-8E13-60D94C96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501-6392-46FA-AE56-37B62A2B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EB3-F5EA-43D5-AA8D-E2E2AAE8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544-A72C-46AF-837D-D9A32818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EB1-B4F7-4038-B5C4-B8D68D77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CC7-FBF9-472F-88CD-2DE97DAE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A03-6108-4A39-8D51-8DEE2612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297-4F8E-47C5-BB5A-6E2E8DD5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284-A59F-47E7-A7D0-7D59E5E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6635-F136-4E8A-89D4-A697ED72FD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AED0-5732-4870-B32B-F205E7B325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0" y="549360"/>
            <a:ext cx="9147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724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724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xiang</cp:lastModifiedBy>
  <dcterms:modified xsi:type="dcterms:W3CDTF">2015-08-31T06:40:3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