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89.png" ContentType="image/png"/>
  <Override PartName="/ppt/media/image92.wmf" ContentType="image/x-wmf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5F9-8EE9-4B2D-B0A0-F7A8C55D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98D-E40B-4919-BAA4-B345A75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14B-25F2-4D06-9E0A-7AF6D5AF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742-C24D-4055-93A8-810FBC2E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902-9463-4180-AD5B-50E2E4DA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DAC-74EA-4371-BF73-A92FFA1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CB3-B87C-4ED0-876F-71F18E21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E14-FFCD-4DB8-9E94-619B1E2C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46E-4E63-4DC8-9F13-F3B02AF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328-E2B8-4EB0-BA32-54081DC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AC0-5804-40B2-A63F-651288E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6C6-9AA0-4D8A-9DFE-568D8D0B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578-3D34-42D5-AB2F-59B107A31E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7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39.png"/><Relationship Id="rId43" Type="http://schemas.openxmlformats.org/officeDocument/2006/relationships/image" Target="../media/image40.png"/><Relationship Id="rId44" Type="http://schemas.openxmlformats.org/officeDocument/2006/relationships/image" Target="../media/image41.png"/><Relationship Id="rId45" Type="http://schemas.openxmlformats.org/officeDocument/2006/relationships/image" Target="../media/image42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5.png"/><Relationship Id="rId49" Type="http://schemas.openxmlformats.org/officeDocument/2006/relationships/image" Target="../media/image46.png"/><Relationship Id="rId50" Type="http://schemas.openxmlformats.org/officeDocument/2006/relationships/image" Target="../media/image47.png"/><Relationship Id="rId51" Type="http://schemas.openxmlformats.org/officeDocument/2006/relationships/image" Target="../media/image48.png"/><Relationship Id="rId52" Type="http://schemas.openxmlformats.org/officeDocument/2006/relationships/image" Target="../media/image49.png"/><Relationship Id="rId53" Type="http://schemas.openxmlformats.org/officeDocument/2006/relationships/image" Target="../media/image50.png"/><Relationship Id="rId54" Type="http://schemas.openxmlformats.org/officeDocument/2006/relationships/image" Target="../media/image51.png"/><Relationship Id="rId55" Type="http://schemas.openxmlformats.org/officeDocument/2006/relationships/image" Target="../media/image52.png"/><Relationship Id="rId56" Type="http://schemas.openxmlformats.org/officeDocument/2006/relationships/image" Target="../media/image53.png"/><Relationship Id="rId57" Type="http://schemas.openxmlformats.org/officeDocument/2006/relationships/image" Target="../media/image54.png"/><Relationship Id="rId58" Type="http://schemas.openxmlformats.org/officeDocument/2006/relationships/image" Target="../media/image55.png"/><Relationship Id="rId59" Type="http://schemas.openxmlformats.org/officeDocument/2006/relationships/image" Target="../media/image56.png"/><Relationship Id="rId60" Type="http://schemas.openxmlformats.org/officeDocument/2006/relationships/image" Target="../media/image57.png"/><Relationship Id="rId61" Type="http://schemas.openxmlformats.org/officeDocument/2006/relationships/image" Target="../media/image58.png"/><Relationship Id="rId62" Type="http://schemas.openxmlformats.org/officeDocument/2006/relationships/image" Target="../media/image59.png"/><Relationship Id="rId63" Type="http://schemas.openxmlformats.org/officeDocument/2006/relationships/image" Target="../media/image60.png"/><Relationship Id="rId64" Type="http://schemas.openxmlformats.org/officeDocument/2006/relationships/image" Target="../media/image61.png"/><Relationship Id="rId65" Type="http://schemas.openxmlformats.org/officeDocument/2006/relationships/image" Target="../media/image62.png"/><Relationship Id="rId66" Type="http://schemas.openxmlformats.org/officeDocument/2006/relationships/image" Target="../media/image63.png"/><Relationship Id="rId67" Type="http://schemas.openxmlformats.org/officeDocument/2006/relationships/image" Target="../media/image64.png"/><Relationship Id="rId68" Type="http://schemas.openxmlformats.org/officeDocument/2006/relationships/image" Target="../media/image65.png"/><Relationship Id="rId69" Type="http://schemas.openxmlformats.org/officeDocument/2006/relationships/image" Target="../media/image66.png"/><Relationship Id="rId70" Type="http://schemas.openxmlformats.org/officeDocument/2006/relationships/image" Target="../media/image67.png"/><Relationship Id="rId71" Type="http://schemas.openxmlformats.org/officeDocument/2006/relationships/image" Target="../media/image68.png"/><Relationship Id="rId72" Type="http://schemas.openxmlformats.org/officeDocument/2006/relationships/image" Target="../media/image69.png"/><Relationship Id="rId73" Type="http://schemas.openxmlformats.org/officeDocument/2006/relationships/image" Target="../media/image70.png"/><Relationship Id="rId74" Type="http://schemas.openxmlformats.org/officeDocument/2006/relationships/image" Target="../media/image71.png"/><Relationship Id="rId75" Type="http://schemas.openxmlformats.org/officeDocument/2006/relationships/image" Target="../media/image72.png"/><Relationship Id="rId76" Type="http://schemas.openxmlformats.org/officeDocument/2006/relationships/image" Target="../media/image73.png"/><Relationship Id="rId77" Type="http://schemas.openxmlformats.org/officeDocument/2006/relationships/image" Target="../media/image74.png"/><Relationship Id="rId78" Type="http://schemas.openxmlformats.org/officeDocument/2006/relationships/image" Target="../media/image75.png"/><Relationship Id="rId79" Type="http://schemas.openxmlformats.org/officeDocument/2006/relationships/image" Target="../media/image76.png"/><Relationship Id="rId80" Type="http://schemas.openxmlformats.org/officeDocument/2006/relationships/image" Target="../media/image77.png"/><Relationship Id="rId81" Type="http://schemas.openxmlformats.org/officeDocument/2006/relationships/image" Target="../media/image78.png"/><Relationship Id="rId82" Type="http://schemas.openxmlformats.org/officeDocument/2006/relationships/image" Target="../media/image79.png"/><Relationship Id="rId83" Type="http://schemas.openxmlformats.org/officeDocument/2006/relationships/image" Target="../media/image80.png"/><Relationship Id="rId84" Type="http://schemas.openxmlformats.org/officeDocument/2006/relationships/image" Target="../media/image81.png"/><Relationship Id="rId85" Type="http://schemas.openxmlformats.org/officeDocument/2006/relationships/image" Target="../media/image82.png"/><Relationship Id="rId86" Type="http://schemas.openxmlformats.org/officeDocument/2006/relationships/image" Target="../media/image83.png"/><Relationship Id="rId87" Type="http://schemas.openxmlformats.org/officeDocument/2006/relationships/image" Target="../media/image84.png"/><Relationship Id="rId88" Type="http://schemas.openxmlformats.org/officeDocument/2006/relationships/image" Target="../media/image85.png"/><Relationship Id="rId89" Type="http://schemas.openxmlformats.org/officeDocument/2006/relationships/image" Target="../media/image86.png"/><Relationship Id="rId90" Type="http://schemas.openxmlformats.org/officeDocument/2006/relationships/image" Target="../media/image87.png"/><Relationship Id="rId91" Type="http://schemas.openxmlformats.org/officeDocument/2006/relationships/image" Target="../media/image88.png"/><Relationship Id="rId92" Type="http://schemas.openxmlformats.org/officeDocument/2006/relationships/image" Target="../media/image89.png"/><Relationship Id="rId93" Type="http://schemas.openxmlformats.org/officeDocument/2006/relationships/image" Target="../media/image90.png"/><Relationship Id="rId94" Type="http://schemas.openxmlformats.org/officeDocument/2006/relationships/image" Target="../media/image91.png"/><Relationship Id="rId9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92.wm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8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4" descr="FD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816120" y="4896000"/>
            <a:ext cx="7094520" cy="1968480"/>
            <a:chOff x="-816120" y="4896000"/>
            <a:chExt cx="7094520" cy="1968480"/>
          </a:xfrm>
        </p:grpSpPr>
        <p:pic>
          <p:nvPicPr>
            <p:cNvPr id="44" name="Oval 318" descr=""/>
            <p:cNvPicPr/>
            <p:nvPr/>
          </p:nvPicPr>
          <p:blipFill>
            <a:blip r:embed="rId3"/>
            <a:stretch/>
          </p:blipFill>
          <p:spPr>
            <a:xfrm>
              <a:off x="-816120" y="4896000"/>
              <a:ext cx="70945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9680" y="5186520"/>
              <a:ext cx="500904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42880" y="5267160"/>
            <a:ext cx="4383000" cy="1219320"/>
            <a:chOff x="542880" y="5267160"/>
            <a:chExt cx="4383000" cy="1219320"/>
          </a:xfrm>
        </p:grpSpPr>
        <p:pic>
          <p:nvPicPr>
            <p:cNvPr id="47" name="Oval 319" descr=""/>
            <p:cNvPicPr/>
            <p:nvPr/>
          </p:nvPicPr>
          <p:blipFill>
            <a:blip r:embed="rId4"/>
            <a:stretch/>
          </p:blipFill>
          <p:spPr>
            <a:xfrm>
              <a:off x="542880" y="5267160"/>
              <a:ext cx="4383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89080" y="5451480"/>
              <a:ext cx="3087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68280" y="5467320"/>
            <a:ext cx="2932200" cy="817560"/>
            <a:chOff x="1268280" y="5467320"/>
            <a:chExt cx="2932200" cy="817560"/>
          </a:xfrm>
        </p:grpSpPr>
        <p:pic>
          <p:nvPicPr>
            <p:cNvPr id="50" name="Oval 320" descr=""/>
            <p:cNvPicPr/>
            <p:nvPr/>
          </p:nvPicPr>
          <p:blipFill>
            <a:blip r:embed="rId5"/>
            <a:stretch/>
          </p:blipFill>
          <p:spPr>
            <a:xfrm>
              <a:off x="1268280" y="5467320"/>
              <a:ext cx="29322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701720" y="5594400"/>
              <a:ext cx="20635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994040" y="5668920"/>
            <a:ext cx="1481040" cy="420840"/>
            <a:chOff x="1994040" y="5668920"/>
            <a:chExt cx="1481040" cy="420840"/>
          </a:xfrm>
        </p:grpSpPr>
        <p:pic>
          <p:nvPicPr>
            <p:cNvPr id="53" name="Oval 321" descr=""/>
            <p:cNvPicPr/>
            <p:nvPr/>
          </p:nvPicPr>
          <p:blipFill>
            <a:blip r:embed="rId6"/>
            <a:stretch/>
          </p:blipFill>
          <p:spPr>
            <a:xfrm>
              <a:off x="1994040" y="5668920"/>
              <a:ext cx="14810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14720" y="5735520"/>
              <a:ext cx="1036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127320" y="5132520"/>
            <a:ext cx="5261040" cy="1463400"/>
            <a:chOff x="3127320" y="5132520"/>
            <a:chExt cx="5261040" cy="1463400"/>
          </a:xfrm>
        </p:grpSpPr>
        <p:pic>
          <p:nvPicPr>
            <p:cNvPr id="56" name="Oval 318" descr=""/>
            <p:cNvPicPr/>
            <p:nvPr/>
          </p:nvPicPr>
          <p:blipFill>
            <a:blip r:embed="rId7"/>
            <a:stretch/>
          </p:blipFill>
          <p:spPr>
            <a:xfrm>
              <a:off x="3127320" y="5132520"/>
              <a:ext cx="526104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902040" y="5351400"/>
              <a:ext cx="3711600" cy="10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133880" y="5413320"/>
            <a:ext cx="3247920" cy="907920"/>
            <a:chOff x="4133880" y="5413320"/>
            <a:chExt cx="3247920" cy="907920"/>
          </a:xfrm>
        </p:grpSpPr>
        <p:pic>
          <p:nvPicPr>
            <p:cNvPr id="59" name="Oval 319" descr=""/>
            <p:cNvPicPr/>
            <p:nvPr/>
          </p:nvPicPr>
          <p:blipFill>
            <a:blip r:embed="rId8"/>
            <a:stretch/>
          </p:blipFill>
          <p:spPr>
            <a:xfrm>
              <a:off x="4133880" y="5413320"/>
              <a:ext cx="32479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14840" y="5548320"/>
              <a:ext cx="228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68840" y="5559480"/>
            <a:ext cx="2176560" cy="609480"/>
            <a:chOff x="4668840" y="5559480"/>
            <a:chExt cx="2176560" cy="609480"/>
          </a:xfrm>
        </p:grpSpPr>
        <p:pic>
          <p:nvPicPr>
            <p:cNvPr id="62" name="Oval 320" descr=""/>
            <p:cNvPicPr/>
            <p:nvPr/>
          </p:nvPicPr>
          <p:blipFill>
            <a:blip r:embed="rId9"/>
            <a:stretch/>
          </p:blipFill>
          <p:spPr>
            <a:xfrm>
              <a:off x="4668840" y="5559480"/>
              <a:ext cx="2176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94280" y="5654880"/>
              <a:ext cx="15289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05240" y="5711760"/>
            <a:ext cx="1103400" cy="311040"/>
            <a:chOff x="5205240" y="5711760"/>
            <a:chExt cx="1103400" cy="311040"/>
          </a:xfrm>
        </p:grpSpPr>
        <p:pic>
          <p:nvPicPr>
            <p:cNvPr id="65" name="Oval 321" descr=""/>
            <p:cNvPicPr/>
            <p:nvPr/>
          </p:nvPicPr>
          <p:blipFill>
            <a:blip r:embed="rId10"/>
            <a:stretch/>
          </p:blipFill>
          <p:spPr>
            <a:xfrm>
              <a:off x="5205240" y="5711760"/>
              <a:ext cx="11034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373360" y="5759280"/>
              <a:ext cx="768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00520" y="4273560"/>
            <a:ext cx="5261040" cy="1468440"/>
            <a:chOff x="4700520" y="4273560"/>
            <a:chExt cx="5261040" cy="1468440"/>
          </a:xfrm>
        </p:grpSpPr>
        <p:pic>
          <p:nvPicPr>
            <p:cNvPr id="68" name="Oval 318" descr=""/>
            <p:cNvPicPr/>
            <p:nvPr/>
          </p:nvPicPr>
          <p:blipFill>
            <a:blip r:embed="rId11"/>
            <a:stretch/>
          </p:blipFill>
          <p:spPr>
            <a:xfrm>
              <a:off x="4700520" y="4273560"/>
              <a:ext cx="52610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473800" y="4494240"/>
              <a:ext cx="371124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05640" y="4552920"/>
            <a:ext cx="3249360" cy="909720"/>
            <a:chOff x="5705640" y="4552920"/>
            <a:chExt cx="3249360" cy="909720"/>
          </a:xfrm>
        </p:grpSpPr>
        <p:pic>
          <p:nvPicPr>
            <p:cNvPr id="71" name="Oval 319" descr=""/>
            <p:cNvPicPr/>
            <p:nvPr/>
          </p:nvPicPr>
          <p:blipFill>
            <a:blip r:embed="rId12"/>
            <a:stretch/>
          </p:blipFill>
          <p:spPr>
            <a:xfrm>
              <a:off x="5705640" y="4552920"/>
              <a:ext cx="32493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186240" y="4691160"/>
              <a:ext cx="22874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42040" y="4705200"/>
            <a:ext cx="2176560" cy="604800"/>
            <a:chOff x="6242040" y="4705200"/>
            <a:chExt cx="2176560" cy="604800"/>
          </a:xfrm>
        </p:grpSpPr>
        <p:pic>
          <p:nvPicPr>
            <p:cNvPr id="74" name="Oval 320" descr=""/>
            <p:cNvPicPr/>
            <p:nvPr/>
          </p:nvPicPr>
          <p:blipFill>
            <a:blip r:embed="rId13"/>
            <a:stretch/>
          </p:blipFill>
          <p:spPr>
            <a:xfrm>
              <a:off x="6242040" y="4705200"/>
              <a:ext cx="217656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566040" y="4797360"/>
              <a:ext cx="15285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778800" y="4853160"/>
            <a:ext cx="1096920" cy="309240"/>
            <a:chOff x="6778800" y="4853160"/>
            <a:chExt cx="1096920" cy="309240"/>
          </a:xfrm>
        </p:grpSpPr>
        <p:pic>
          <p:nvPicPr>
            <p:cNvPr id="77" name="Oval 321" descr=""/>
            <p:cNvPicPr/>
            <p:nvPr/>
          </p:nvPicPr>
          <p:blipFill>
            <a:blip r:embed="rId14"/>
            <a:stretch/>
          </p:blipFill>
          <p:spPr>
            <a:xfrm>
              <a:off x="6778800" y="4853160"/>
              <a:ext cx="1096920" cy="30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945480" y="4902120"/>
              <a:ext cx="768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649920" y="5784840"/>
            <a:ext cx="2500200" cy="695160"/>
            <a:chOff x="6649920" y="5784840"/>
            <a:chExt cx="2500200" cy="695160"/>
          </a:xfrm>
        </p:grpSpPr>
        <p:pic>
          <p:nvPicPr>
            <p:cNvPr id="80" name="Oval 318" descr=""/>
            <p:cNvPicPr/>
            <p:nvPr/>
          </p:nvPicPr>
          <p:blipFill>
            <a:blip r:embed="rId15"/>
            <a:stretch/>
          </p:blipFill>
          <p:spPr>
            <a:xfrm>
              <a:off x="6649920" y="5784840"/>
              <a:ext cx="25002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022880" y="5889600"/>
              <a:ext cx="1757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126200" y="5913360"/>
            <a:ext cx="1547640" cy="438120"/>
            <a:chOff x="7126200" y="5913360"/>
            <a:chExt cx="1547640" cy="438120"/>
          </a:xfrm>
        </p:grpSpPr>
        <p:pic>
          <p:nvPicPr>
            <p:cNvPr id="83" name="Oval 319" descr=""/>
            <p:cNvPicPr/>
            <p:nvPr/>
          </p:nvPicPr>
          <p:blipFill>
            <a:blip r:embed="rId16"/>
            <a:stretch/>
          </p:blipFill>
          <p:spPr>
            <a:xfrm>
              <a:off x="7126200" y="5913360"/>
              <a:ext cx="15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359480" y="5981760"/>
              <a:ext cx="1082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381800" y="5986440"/>
            <a:ext cx="1036800" cy="291960"/>
            <a:chOff x="7381800" y="5986440"/>
            <a:chExt cx="1036800" cy="291960"/>
          </a:xfrm>
        </p:grpSpPr>
        <p:pic>
          <p:nvPicPr>
            <p:cNvPr id="86" name="Oval 320" descr=""/>
            <p:cNvPicPr/>
            <p:nvPr/>
          </p:nvPicPr>
          <p:blipFill>
            <a:blip r:embed="rId17"/>
            <a:stretch/>
          </p:blipFill>
          <p:spPr>
            <a:xfrm>
              <a:off x="7381800" y="5986440"/>
              <a:ext cx="103680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39120" y="6032520"/>
              <a:ext cx="723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639200" y="6053040"/>
            <a:ext cx="523800" cy="158760"/>
            <a:chOff x="7639200" y="6053040"/>
            <a:chExt cx="523800" cy="158760"/>
          </a:xfrm>
        </p:grpSpPr>
        <p:pic>
          <p:nvPicPr>
            <p:cNvPr id="89" name="Oval 321" descr=""/>
            <p:cNvPicPr/>
            <p:nvPr/>
          </p:nvPicPr>
          <p:blipFill>
            <a:blip r:embed="rId18"/>
            <a:stretch/>
          </p:blipFill>
          <p:spPr>
            <a:xfrm>
              <a:off x="7639200" y="6053040"/>
              <a:ext cx="5238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720200" y="6081480"/>
              <a:ext cx="3636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74680" y="5973840"/>
            <a:ext cx="3193920" cy="890640"/>
            <a:chOff x="274680" y="5973840"/>
            <a:chExt cx="3193920" cy="890640"/>
          </a:xfrm>
        </p:grpSpPr>
        <p:pic>
          <p:nvPicPr>
            <p:cNvPr id="92" name="Oval 318" descr=""/>
            <p:cNvPicPr/>
            <p:nvPr/>
          </p:nvPicPr>
          <p:blipFill>
            <a:blip r:embed="rId19"/>
            <a:stretch/>
          </p:blipFill>
          <p:spPr>
            <a:xfrm>
              <a:off x="274680" y="5973840"/>
              <a:ext cx="3193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44480" y="6107040"/>
              <a:ext cx="22496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884160" y="6138720"/>
            <a:ext cx="1968480" cy="554040"/>
            <a:chOff x="884160" y="6138720"/>
            <a:chExt cx="1968480" cy="554040"/>
          </a:xfrm>
        </p:grpSpPr>
        <p:pic>
          <p:nvPicPr>
            <p:cNvPr id="95" name="Oval 319" descr=""/>
            <p:cNvPicPr/>
            <p:nvPr/>
          </p:nvPicPr>
          <p:blipFill>
            <a:blip r:embed="rId20"/>
            <a:stretch/>
          </p:blipFill>
          <p:spPr>
            <a:xfrm>
              <a:off x="884160" y="6138720"/>
              <a:ext cx="19684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76120" y="6226200"/>
              <a:ext cx="13860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206360" y="6229440"/>
            <a:ext cx="1324080" cy="372960"/>
            <a:chOff x="1206360" y="6229440"/>
            <a:chExt cx="1324080" cy="372960"/>
          </a:xfrm>
        </p:grpSpPr>
        <p:pic>
          <p:nvPicPr>
            <p:cNvPr id="98" name="Oval 320" descr=""/>
            <p:cNvPicPr/>
            <p:nvPr/>
          </p:nvPicPr>
          <p:blipFill>
            <a:blip r:embed="rId21"/>
            <a:stretch/>
          </p:blipFill>
          <p:spPr>
            <a:xfrm>
              <a:off x="1206360" y="6229440"/>
              <a:ext cx="13240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406520" y="6291360"/>
              <a:ext cx="925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36840" y="6321600"/>
            <a:ext cx="669960" cy="195120"/>
            <a:chOff x="1536840" y="6321600"/>
            <a:chExt cx="669960" cy="195120"/>
          </a:xfrm>
        </p:grpSpPr>
        <p:pic>
          <p:nvPicPr>
            <p:cNvPr id="101" name="Oval 321" descr=""/>
            <p:cNvPicPr/>
            <p:nvPr/>
          </p:nvPicPr>
          <p:blipFill>
            <a:blip r:embed="rId22"/>
            <a:stretch/>
          </p:blipFill>
          <p:spPr>
            <a:xfrm>
              <a:off x="1536840" y="6321600"/>
              <a:ext cx="66996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636920" y="6353280"/>
              <a:ext cx="465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57440" y="5230800"/>
            <a:ext cx="3616200" cy="1011240"/>
            <a:chOff x="1657440" y="5230800"/>
            <a:chExt cx="3616200" cy="1011240"/>
          </a:xfrm>
        </p:grpSpPr>
        <p:pic>
          <p:nvPicPr>
            <p:cNvPr id="104" name="Oval 318" descr=""/>
            <p:cNvPicPr/>
            <p:nvPr/>
          </p:nvPicPr>
          <p:blipFill>
            <a:blip r:embed="rId23"/>
            <a:stretch/>
          </p:blipFill>
          <p:spPr>
            <a:xfrm>
              <a:off x="1657440" y="5230800"/>
              <a:ext cx="3616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3840" y="5384880"/>
              <a:ext cx="2548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52600" y="5425920"/>
            <a:ext cx="2232000" cy="620640"/>
            <a:chOff x="2352600" y="5425920"/>
            <a:chExt cx="2232000" cy="620640"/>
          </a:xfrm>
        </p:grpSpPr>
        <p:pic>
          <p:nvPicPr>
            <p:cNvPr id="107" name="Oval 319" descr=""/>
            <p:cNvPicPr/>
            <p:nvPr/>
          </p:nvPicPr>
          <p:blipFill>
            <a:blip r:embed="rId24"/>
            <a:stretch/>
          </p:blipFill>
          <p:spPr>
            <a:xfrm>
              <a:off x="2352600" y="5425920"/>
              <a:ext cx="2232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682720" y="5519520"/>
              <a:ext cx="15699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719440" y="5522760"/>
            <a:ext cx="1498680" cy="426960"/>
            <a:chOff x="2719440" y="5522760"/>
            <a:chExt cx="1498680" cy="426960"/>
          </a:xfrm>
        </p:grpSpPr>
        <p:pic>
          <p:nvPicPr>
            <p:cNvPr id="110" name="Oval 320" descr=""/>
            <p:cNvPicPr/>
            <p:nvPr/>
          </p:nvPicPr>
          <p:blipFill>
            <a:blip r:embed="rId25"/>
            <a:stretch/>
          </p:blipFill>
          <p:spPr>
            <a:xfrm>
              <a:off x="2719440" y="5522760"/>
              <a:ext cx="14986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43360" y="559116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90960" y="5626080"/>
            <a:ext cx="755640" cy="220680"/>
            <a:chOff x="3090960" y="5626080"/>
            <a:chExt cx="755640" cy="220680"/>
          </a:xfrm>
        </p:grpSpPr>
        <p:pic>
          <p:nvPicPr>
            <p:cNvPr id="113" name="Oval 321" descr=""/>
            <p:cNvPicPr/>
            <p:nvPr/>
          </p:nvPicPr>
          <p:blipFill>
            <a:blip r:embed="rId26"/>
            <a:stretch/>
          </p:blipFill>
          <p:spPr>
            <a:xfrm>
              <a:off x="3090960" y="5626080"/>
              <a:ext cx="7556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03640" y="5664240"/>
              <a:ext cx="5288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-436680" y="4645080"/>
            <a:ext cx="5257800" cy="1463760"/>
            <a:chOff x="-436680" y="4645080"/>
            <a:chExt cx="5257800" cy="1463760"/>
          </a:xfrm>
        </p:grpSpPr>
        <p:pic>
          <p:nvPicPr>
            <p:cNvPr id="116" name="Oval 318" descr=""/>
            <p:cNvPicPr/>
            <p:nvPr/>
          </p:nvPicPr>
          <p:blipFill>
            <a:blip r:embed="rId27"/>
            <a:stretch/>
          </p:blipFill>
          <p:spPr>
            <a:xfrm>
              <a:off x="-436680" y="4645080"/>
              <a:ext cx="525780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34440" y="4864320"/>
              <a:ext cx="371052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6640" y="4925880"/>
            <a:ext cx="3243240" cy="901800"/>
            <a:chOff x="566640" y="4925880"/>
            <a:chExt cx="3243240" cy="901800"/>
          </a:xfrm>
        </p:grpSpPr>
        <p:pic>
          <p:nvPicPr>
            <p:cNvPr id="119" name="Oval 319" descr=""/>
            <p:cNvPicPr/>
            <p:nvPr/>
          </p:nvPicPr>
          <p:blipFill>
            <a:blip r:embed="rId28"/>
            <a:stretch/>
          </p:blipFill>
          <p:spPr>
            <a:xfrm>
              <a:off x="566640" y="4925880"/>
              <a:ext cx="3243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44360" y="5060880"/>
              <a:ext cx="22878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03400" y="5072040"/>
            <a:ext cx="2170080" cy="609480"/>
            <a:chOff x="1103400" y="5072040"/>
            <a:chExt cx="2170080" cy="609480"/>
          </a:xfrm>
        </p:grpSpPr>
        <p:pic>
          <p:nvPicPr>
            <p:cNvPr id="122" name="Oval 320" descr=""/>
            <p:cNvPicPr/>
            <p:nvPr/>
          </p:nvPicPr>
          <p:blipFill>
            <a:blip r:embed="rId29"/>
            <a:stretch/>
          </p:blipFill>
          <p:spPr>
            <a:xfrm>
              <a:off x="1103400" y="5072040"/>
              <a:ext cx="2170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24160" y="5165640"/>
              <a:ext cx="15285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39800" y="5218200"/>
            <a:ext cx="1096920" cy="317520"/>
            <a:chOff x="1639800" y="5218200"/>
            <a:chExt cx="1096920" cy="317520"/>
          </a:xfrm>
        </p:grpSpPr>
        <p:pic>
          <p:nvPicPr>
            <p:cNvPr id="125" name="Oval 321" descr=""/>
            <p:cNvPicPr/>
            <p:nvPr/>
          </p:nvPicPr>
          <p:blipFill>
            <a:blip r:embed="rId30"/>
            <a:stretch/>
          </p:blipFill>
          <p:spPr>
            <a:xfrm>
              <a:off x="1639800" y="5218200"/>
              <a:ext cx="10969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805040" y="5270760"/>
              <a:ext cx="768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332"/>
          <p:cNvSpPr/>
          <p:nvPr/>
        </p:nvSpPr>
        <p:spPr>
          <a:xfrm>
            <a:off x="3684600" y="5240160"/>
            <a:ext cx="703080" cy="6289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33"/>
          <p:cNvSpPr/>
          <p:nvPr/>
        </p:nvSpPr>
        <p:spPr>
          <a:xfrm>
            <a:off x="1503360" y="5877000"/>
            <a:ext cx="1533600" cy="52056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34"/>
          <p:cNvSpPr/>
          <p:nvPr/>
        </p:nvSpPr>
        <p:spPr>
          <a:xfrm>
            <a:off x="2965320" y="5018040"/>
            <a:ext cx="142920" cy="7542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35"/>
          <p:cNvSpPr/>
          <p:nvPr/>
        </p:nvSpPr>
        <p:spPr>
          <a:xfrm>
            <a:off x="103320" y="4071960"/>
            <a:ext cx="3747960" cy="23032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36"/>
          <p:cNvSpPr/>
          <p:nvPr/>
        </p:nvSpPr>
        <p:spPr>
          <a:xfrm>
            <a:off x="2959200" y="4371840"/>
            <a:ext cx="162000" cy="7732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37"/>
          <p:cNvSpPr/>
          <p:nvPr/>
        </p:nvSpPr>
        <p:spPr>
          <a:xfrm>
            <a:off x="633240" y="5253120"/>
            <a:ext cx="1060560" cy="10843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38"/>
          <p:cNvSpPr/>
          <p:nvPr/>
        </p:nvSpPr>
        <p:spPr>
          <a:xfrm>
            <a:off x="1546200" y="5211720"/>
            <a:ext cx="1287360" cy="11764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39"/>
          <p:cNvSpPr/>
          <p:nvPr/>
        </p:nvSpPr>
        <p:spPr>
          <a:xfrm>
            <a:off x="465120" y="5348160"/>
            <a:ext cx="249120" cy="4255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40"/>
          <p:cNvSpPr/>
          <p:nvPr/>
        </p:nvSpPr>
        <p:spPr>
          <a:xfrm>
            <a:off x="2098800" y="4757760"/>
            <a:ext cx="2498760" cy="24796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41"/>
          <p:cNvSpPr/>
          <p:nvPr/>
        </p:nvSpPr>
        <p:spPr>
          <a:xfrm>
            <a:off x="1305000" y="5803920"/>
            <a:ext cx="846000" cy="5778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42"/>
          <p:cNvSpPr/>
          <p:nvPr/>
        </p:nvSpPr>
        <p:spPr>
          <a:xfrm>
            <a:off x="2786040" y="5056200"/>
            <a:ext cx="1614600" cy="16066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43"/>
          <p:cNvSpPr/>
          <p:nvPr/>
        </p:nvSpPr>
        <p:spPr>
          <a:xfrm>
            <a:off x="3639960" y="5962680"/>
            <a:ext cx="578160" cy="6238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44"/>
          <p:cNvSpPr/>
          <p:nvPr/>
        </p:nvSpPr>
        <p:spPr>
          <a:xfrm>
            <a:off x="1760400" y="6340320"/>
            <a:ext cx="444600" cy="4762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5"/>
          <p:cNvSpPr/>
          <p:nvPr/>
        </p:nvSpPr>
        <p:spPr>
          <a:xfrm>
            <a:off x="3206880" y="4094280"/>
            <a:ext cx="566640" cy="66024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6"/>
          <p:cNvSpPr/>
          <p:nvPr/>
        </p:nvSpPr>
        <p:spPr>
          <a:xfrm>
            <a:off x="1295280" y="5745240"/>
            <a:ext cx="141480" cy="16488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47"/>
          <p:cNvSpPr/>
          <p:nvPr/>
        </p:nvSpPr>
        <p:spPr>
          <a:xfrm>
            <a:off x="3286080" y="5359320"/>
            <a:ext cx="339840" cy="30024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48"/>
          <p:cNvSpPr/>
          <p:nvPr/>
        </p:nvSpPr>
        <p:spPr>
          <a:xfrm>
            <a:off x="4017960" y="5592600"/>
            <a:ext cx="423720" cy="8766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49"/>
          <p:cNvSpPr/>
          <p:nvPr/>
        </p:nvSpPr>
        <p:spPr>
          <a:xfrm>
            <a:off x="2840040" y="4130640"/>
            <a:ext cx="189000" cy="65736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50"/>
          <p:cNvSpPr/>
          <p:nvPr/>
        </p:nvSpPr>
        <p:spPr>
          <a:xfrm>
            <a:off x="2424240" y="4048200"/>
            <a:ext cx="471240" cy="36036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51"/>
          <p:cNvSpPr/>
          <p:nvPr/>
        </p:nvSpPr>
        <p:spPr>
          <a:xfrm>
            <a:off x="2921040" y="6102360"/>
            <a:ext cx="361800" cy="4507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52"/>
          <p:cNvSpPr/>
          <p:nvPr/>
        </p:nvSpPr>
        <p:spPr>
          <a:xfrm>
            <a:off x="3895560" y="6002280"/>
            <a:ext cx="193680" cy="19224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53"/>
          <p:cNvSpPr/>
          <p:nvPr/>
        </p:nvSpPr>
        <p:spPr>
          <a:xfrm>
            <a:off x="357120" y="5761080"/>
            <a:ext cx="385920" cy="30636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54"/>
          <p:cNvSpPr/>
          <p:nvPr/>
        </p:nvSpPr>
        <p:spPr>
          <a:xfrm>
            <a:off x="2332080" y="5129280"/>
            <a:ext cx="33120" cy="331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55"/>
          <p:cNvSpPr/>
          <p:nvPr/>
        </p:nvSpPr>
        <p:spPr>
          <a:xfrm>
            <a:off x="1293840" y="5599080"/>
            <a:ext cx="54000" cy="52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56"/>
          <p:cNvSpPr/>
          <p:nvPr/>
        </p:nvSpPr>
        <p:spPr>
          <a:xfrm>
            <a:off x="2362320" y="4089240"/>
            <a:ext cx="52200" cy="54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57"/>
          <p:cNvSpPr/>
          <p:nvPr/>
        </p:nvSpPr>
        <p:spPr>
          <a:xfrm>
            <a:off x="3732120" y="5904000"/>
            <a:ext cx="50760" cy="522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58"/>
          <p:cNvSpPr/>
          <p:nvPr/>
        </p:nvSpPr>
        <p:spPr>
          <a:xfrm>
            <a:off x="3344760" y="6435720"/>
            <a:ext cx="52560" cy="52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9"/>
          <p:cNvSpPr/>
          <p:nvPr/>
        </p:nvSpPr>
        <p:spPr>
          <a:xfrm>
            <a:off x="1797120" y="6181560"/>
            <a:ext cx="69840" cy="698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60"/>
          <p:cNvSpPr/>
          <p:nvPr/>
        </p:nvSpPr>
        <p:spPr>
          <a:xfrm>
            <a:off x="2597040" y="5956200"/>
            <a:ext cx="69840" cy="698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61"/>
          <p:cNvSpPr/>
          <p:nvPr/>
        </p:nvSpPr>
        <p:spPr>
          <a:xfrm>
            <a:off x="1996920" y="6072120"/>
            <a:ext cx="39960" cy="396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62"/>
          <p:cNvSpPr/>
          <p:nvPr/>
        </p:nvSpPr>
        <p:spPr>
          <a:xfrm>
            <a:off x="2690640" y="4983120"/>
            <a:ext cx="344520" cy="10620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63"/>
          <p:cNvSpPr/>
          <p:nvPr/>
        </p:nvSpPr>
        <p:spPr>
          <a:xfrm>
            <a:off x="-20520" y="5843520"/>
            <a:ext cx="460080" cy="4050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4"/>
          <p:cNvSpPr/>
          <p:nvPr/>
        </p:nvSpPr>
        <p:spPr>
          <a:xfrm>
            <a:off x="84240" y="5742000"/>
            <a:ext cx="263520" cy="14616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5"/>
          <p:cNvSpPr/>
          <p:nvPr/>
        </p:nvSpPr>
        <p:spPr>
          <a:xfrm>
            <a:off x="1506600" y="5288040"/>
            <a:ext cx="504720" cy="5461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66"/>
          <p:cNvSpPr/>
          <p:nvPr/>
        </p:nvSpPr>
        <p:spPr>
          <a:xfrm>
            <a:off x="531720" y="6183360"/>
            <a:ext cx="465120" cy="1746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67"/>
          <p:cNvSpPr/>
          <p:nvPr/>
        </p:nvSpPr>
        <p:spPr>
          <a:xfrm>
            <a:off x="1879560" y="6473880"/>
            <a:ext cx="282600" cy="2538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8"/>
          <p:cNvSpPr/>
          <p:nvPr/>
        </p:nvSpPr>
        <p:spPr>
          <a:xfrm>
            <a:off x="1114560" y="6294600"/>
            <a:ext cx="277560" cy="3301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69"/>
          <p:cNvSpPr/>
          <p:nvPr/>
        </p:nvSpPr>
        <p:spPr>
          <a:xfrm>
            <a:off x="2305080" y="6323040"/>
            <a:ext cx="531720" cy="61740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70"/>
          <p:cNvSpPr/>
          <p:nvPr/>
        </p:nvSpPr>
        <p:spPr>
          <a:xfrm>
            <a:off x="2379600" y="6562800"/>
            <a:ext cx="297000" cy="250920"/>
          </a:xfrm>
          <a:prstGeom prst="pie">
            <a:avLst/>
          </a:prstGeom>
          <a:gradFill rotWithShape="0">
            <a:gsLst>
              <a:gs pos="0">
                <a:srgbClr val="00ff00"/>
              </a:gs>
              <a:gs pos="100000">
                <a:srgbClr val="3185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40" descr="YL.png"/>
          <p:cNvPicPr/>
          <p:nvPr/>
        </p:nvPicPr>
        <p:blipFill>
          <a:blip r:embed="rId31"/>
          <a:stretch/>
        </p:blipFill>
        <p:spPr>
          <a:xfrm>
            <a:off x="1214280" y="1714680"/>
            <a:ext cx="2340000" cy="23396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8016840" y="3571920"/>
            <a:ext cx="195120" cy="1724040"/>
            <a:chOff x="8016840" y="3571920"/>
            <a:chExt cx="195120" cy="1724040"/>
          </a:xfrm>
        </p:grpSpPr>
        <p:sp>
          <p:nvSpPr>
            <p:cNvPr id="168" name="Freeform 423"/>
            <p:cNvSpPr/>
            <p:nvPr/>
          </p:nvSpPr>
          <p:spPr>
            <a:xfrm>
              <a:off x="8022960" y="3571920"/>
              <a:ext cx="177840" cy="2127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24"/>
            <p:cNvSpPr/>
            <p:nvPr/>
          </p:nvSpPr>
          <p:spPr>
            <a:xfrm>
              <a:off x="8035560" y="3824280"/>
              <a:ext cx="152280" cy="2142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5"/>
            <p:cNvSpPr/>
            <p:nvPr/>
          </p:nvSpPr>
          <p:spPr>
            <a:xfrm>
              <a:off x="8027640" y="4081320"/>
              <a:ext cx="157320" cy="1998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26"/>
            <p:cNvSpPr/>
            <p:nvPr/>
          </p:nvSpPr>
          <p:spPr>
            <a:xfrm>
              <a:off x="8024760" y="4336920"/>
              <a:ext cx="155520" cy="2156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7"/>
            <p:cNvSpPr/>
            <p:nvPr/>
          </p:nvSpPr>
          <p:spPr>
            <a:xfrm>
              <a:off x="8024760" y="4592880"/>
              <a:ext cx="163440" cy="1965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8"/>
            <p:cNvSpPr/>
            <p:nvPr/>
          </p:nvSpPr>
          <p:spPr>
            <a:xfrm>
              <a:off x="8016840" y="4865760"/>
              <a:ext cx="195120" cy="1648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9"/>
            <p:cNvSpPr/>
            <p:nvPr/>
          </p:nvSpPr>
          <p:spPr>
            <a:xfrm>
              <a:off x="8030880" y="5100840"/>
              <a:ext cx="166680" cy="1951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715160" y="3957480"/>
            <a:ext cx="177840" cy="959040"/>
            <a:chOff x="7715160" y="3957480"/>
            <a:chExt cx="177840" cy="959040"/>
          </a:xfrm>
        </p:grpSpPr>
        <p:sp>
          <p:nvSpPr>
            <p:cNvPr id="176" name="Freeform 430"/>
            <p:cNvSpPr/>
            <p:nvPr/>
          </p:nvSpPr>
          <p:spPr>
            <a:xfrm>
              <a:off x="7719840" y="3957480"/>
              <a:ext cx="162000" cy="1951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1"/>
            <p:cNvSpPr/>
            <p:nvPr/>
          </p:nvSpPr>
          <p:spPr>
            <a:xfrm>
              <a:off x="7716600" y="4214520"/>
              <a:ext cx="173160" cy="1890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2"/>
            <p:cNvSpPr/>
            <p:nvPr/>
          </p:nvSpPr>
          <p:spPr>
            <a:xfrm>
              <a:off x="7723080" y="4456080"/>
              <a:ext cx="147960" cy="2206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33"/>
            <p:cNvSpPr/>
            <p:nvPr/>
          </p:nvSpPr>
          <p:spPr>
            <a:xfrm>
              <a:off x="7715160" y="4719600"/>
              <a:ext cx="177840" cy="1969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397640" y="3068640"/>
            <a:ext cx="192240" cy="2741760"/>
            <a:chOff x="7397640" y="3068640"/>
            <a:chExt cx="192240" cy="2741760"/>
          </a:xfrm>
        </p:grpSpPr>
        <p:sp>
          <p:nvSpPr>
            <p:cNvPr id="181" name="Freeform 434"/>
            <p:cNvSpPr/>
            <p:nvPr/>
          </p:nvSpPr>
          <p:spPr>
            <a:xfrm>
              <a:off x="7397640" y="3068640"/>
              <a:ext cx="181440" cy="2044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35"/>
            <p:cNvSpPr/>
            <p:nvPr/>
          </p:nvSpPr>
          <p:spPr>
            <a:xfrm>
              <a:off x="7397640" y="3367080"/>
              <a:ext cx="184320" cy="1220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36"/>
            <p:cNvSpPr/>
            <p:nvPr/>
          </p:nvSpPr>
          <p:spPr>
            <a:xfrm>
              <a:off x="7448400" y="3568680"/>
              <a:ext cx="125640" cy="2156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37"/>
            <p:cNvSpPr/>
            <p:nvPr/>
          </p:nvSpPr>
          <p:spPr>
            <a:xfrm>
              <a:off x="7411680" y="3828960"/>
              <a:ext cx="178200" cy="1965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38"/>
            <p:cNvSpPr/>
            <p:nvPr/>
          </p:nvSpPr>
          <p:spPr>
            <a:xfrm>
              <a:off x="7413480" y="4076640"/>
              <a:ext cx="173160" cy="2174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39"/>
            <p:cNvSpPr/>
            <p:nvPr/>
          </p:nvSpPr>
          <p:spPr>
            <a:xfrm>
              <a:off x="7435800" y="4345200"/>
              <a:ext cx="119160" cy="1839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40"/>
            <p:cNvSpPr/>
            <p:nvPr/>
          </p:nvSpPr>
          <p:spPr>
            <a:xfrm>
              <a:off x="7429320" y="4589640"/>
              <a:ext cx="149400" cy="2044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41"/>
            <p:cNvSpPr/>
            <p:nvPr/>
          </p:nvSpPr>
          <p:spPr>
            <a:xfrm>
              <a:off x="7435800" y="4837320"/>
              <a:ext cx="127080" cy="2142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2"/>
            <p:cNvSpPr/>
            <p:nvPr/>
          </p:nvSpPr>
          <p:spPr>
            <a:xfrm>
              <a:off x="7416720" y="5089680"/>
              <a:ext cx="151200" cy="2206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43"/>
            <p:cNvSpPr/>
            <p:nvPr/>
          </p:nvSpPr>
          <p:spPr>
            <a:xfrm>
              <a:off x="7445160" y="5376960"/>
              <a:ext cx="109800" cy="1396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44"/>
            <p:cNvSpPr/>
            <p:nvPr/>
          </p:nvSpPr>
          <p:spPr>
            <a:xfrm>
              <a:off x="7419600" y="5607360"/>
              <a:ext cx="154080" cy="2030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097760" y="3603600"/>
            <a:ext cx="208080" cy="1692360"/>
            <a:chOff x="7097760" y="3603600"/>
            <a:chExt cx="208080" cy="1692360"/>
          </a:xfrm>
        </p:grpSpPr>
        <p:sp>
          <p:nvSpPr>
            <p:cNvPr id="193" name="Freeform 445"/>
            <p:cNvSpPr/>
            <p:nvPr/>
          </p:nvSpPr>
          <p:spPr>
            <a:xfrm>
              <a:off x="7118280" y="3603600"/>
              <a:ext cx="155880" cy="1569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6"/>
            <p:cNvSpPr/>
            <p:nvPr/>
          </p:nvSpPr>
          <p:spPr>
            <a:xfrm>
              <a:off x="7121520" y="3836880"/>
              <a:ext cx="138240" cy="1857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47"/>
            <p:cNvSpPr/>
            <p:nvPr/>
          </p:nvSpPr>
          <p:spPr>
            <a:xfrm>
              <a:off x="7129440" y="4103640"/>
              <a:ext cx="136800" cy="1476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8"/>
            <p:cNvSpPr/>
            <p:nvPr/>
          </p:nvSpPr>
          <p:spPr>
            <a:xfrm>
              <a:off x="7097760" y="4316400"/>
              <a:ext cx="208080" cy="2458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49"/>
            <p:cNvSpPr/>
            <p:nvPr/>
          </p:nvSpPr>
          <p:spPr>
            <a:xfrm>
              <a:off x="7102440" y="4578480"/>
              <a:ext cx="184320" cy="21888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50"/>
            <p:cNvSpPr/>
            <p:nvPr/>
          </p:nvSpPr>
          <p:spPr>
            <a:xfrm>
              <a:off x="7110360" y="4838760"/>
              <a:ext cx="163800" cy="2077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51"/>
            <p:cNvSpPr/>
            <p:nvPr/>
          </p:nvSpPr>
          <p:spPr>
            <a:xfrm>
              <a:off x="7113600" y="5105520"/>
              <a:ext cx="160560" cy="1904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792840" y="3449520"/>
            <a:ext cx="185760" cy="1943280"/>
            <a:chOff x="6792840" y="3449520"/>
            <a:chExt cx="185760" cy="1943280"/>
          </a:xfrm>
        </p:grpSpPr>
        <p:sp>
          <p:nvSpPr>
            <p:cNvPr id="201" name="Freeform 452"/>
            <p:cNvSpPr/>
            <p:nvPr/>
          </p:nvSpPr>
          <p:spPr>
            <a:xfrm>
              <a:off x="6810120" y="3449520"/>
              <a:ext cx="162000" cy="1965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3"/>
            <p:cNvSpPr/>
            <p:nvPr/>
          </p:nvSpPr>
          <p:spPr>
            <a:xfrm>
              <a:off x="6805440" y="3706560"/>
              <a:ext cx="173160" cy="1886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54"/>
            <p:cNvSpPr/>
            <p:nvPr/>
          </p:nvSpPr>
          <p:spPr>
            <a:xfrm>
              <a:off x="6810120" y="3957480"/>
              <a:ext cx="162000" cy="1951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55"/>
            <p:cNvSpPr/>
            <p:nvPr/>
          </p:nvSpPr>
          <p:spPr>
            <a:xfrm>
              <a:off x="6794280" y="4206960"/>
              <a:ext cx="181080" cy="2235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56"/>
            <p:cNvSpPr/>
            <p:nvPr/>
          </p:nvSpPr>
          <p:spPr>
            <a:xfrm>
              <a:off x="6825960" y="4471920"/>
              <a:ext cx="122400" cy="1839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7"/>
            <p:cNvSpPr/>
            <p:nvPr/>
          </p:nvSpPr>
          <p:spPr>
            <a:xfrm>
              <a:off x="6825960" y="4727520"/>
              <a:ext cx="122400" cy="1807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58"/>
            <p:cNvSpPr/>
            <p:nvPr/>
          </p:nvSpPr>
          <p:spPr>
            <a:xfrm>
              <a:off x="6792840" y="5018400"/>
              <a:ext cx="182880" cy="1220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9"/>
            <p:cNvSpPr/>
            <p:nvPr/>
          </p:nvSpPr>
          <p:spPr>
            <a:xfrm>
              <a:off x="6792840" y="5270760"/>
              <a:ext cx="182880" cy="1220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97640" y="3603600"/>
            <a:ext cx="182520" cy="1700280"/>
            <a:chOff x="6497640" y="3603600"/>
            <a:chExt cx="182520" cy="1700280"/>
          </a:xfrm>
        </p:grpSpPr>
        <p:sp>
          <p:nvSpPr>
            <p:cNvPr id="210" name="Freeform 460"/>
            <p:cNvSpPr/>
            <p:nvPr/>
          </p:nvSpPr>
          <p:spPr>
            <a:xfrm>
              <a:off x="6510240" y="3603600"/>
              <a:ext cx="154080" cy="1569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61"/>
            <p:cNvSpPr/>
            <p:nvPr/>
          </p:nvSpPr>
          <p:spPr>
            <a:xfrm>
              <a:off x="6514920" y="3836880"/>
              <a:ext cx="136440" cy="18576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62"/>
            <p:cNvSpPr/>
            <p:nvPr/>
          </p:nvSpPr>
          <p:spPr>
            <a:xfrm>
              <a:off x="6521400" y="4103640"/>
              <a:ext cx="138240" cy="1476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3"/>
            <p:cNvSpPr/>
            <p:nvPr/>
          </p:nvSpPr>
          <p:spPr>
            <a:xfrm>
              <a:off x="6497640" y="4357800"/>
              <a:ext cx="182520" cy="14760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4"/>
            <p:cNvSpPr/>
            <p:nvPr/>
          </p:nvSpPr>
          <p:spPr>
            <a:xfrm>
              <a:off x="6505560" y="4576680"/>
              <a:ext cx="173160" cy="23004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65"/>
            <p:cNvSpPr/>
            <p:nvPr/>
          </p:nvSpPr>
          <p:spPr>
            <a:xfrm>
              <a:off x="6505560" y="4838760"/>
              <a:ext cx="162000" cy="2077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66"/>
            <p:cNvSpPr/>
            <p:nvPr/>
          </p:nvSpPr>
          <p:spPr>
            <a:xfrm>
              <a:off x="6505560" y="5094360"/>
              <a:ext cx="158760" cy="209520"/>
            </a:xfrm>
            <a:prstGeom prst="pie">
              <a:avLst/>
            </a:pr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472"/>
          <p:cNvSpPr/>
          <p:nvPr/>
        </p:nvSpPr>
        <p:spPr>
          <a:xfrm>
            <a:off x="5694480" y="3327480"/>
            <a:ext cx="144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92" descr="图片2.png"/>
          <p:cNvPicPr/>
          <p:nvPr/>
        </p:nvPicPr>
        <p:blipFill>
          <a:blip r:embed="rId32"/>
          <a:stretch/>
        </p:blipFill>
        <p:spPr>
          <a:xfrm>
            <a:off x="4772160" y="2444760"/>
            <a:ext cx="1800000" cy="86508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193" descr=""/>
          <p:cNvPicPr/>
          <p:nvPr/>
        </p:nvPicPr>
        <p:blipFill>
          <a:blip r:embed="rId33"/>
          <a:stretch/>
        </p:blipFill>
        <p:spPr>
          <a:xfrm>
            <a:off x="4370400" y="1311120"/>
            <a:ext cx="4413240" cy="16336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99" descr="HH.png"/>
          <p:cNvPicPr/>
          <p:nvPr/>
        </p:nvPicPr>
        <p:blipFill>
          <a:blip r:embed="rId34"/>
          <a:stretch/>
        </p:blipFill>
        <p:spPr>
          <a:xfrm>
            <a:off x="0" y="2106720"/>
            <a:ext cx="2268360" cy="47512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6" descr="LOGO白副本.png"/>
          <p:cNvPicPr/>
          <p:nvPr/>
        </p:nvPicPr>
        <p:blipFill>
          <a:blip r:embed="rId35"/>
          <a:stretch/>
        </p:blipFill>
        <p:spPr>
          <a:xfrm>
            <a:off x="500040" y="500040"/>
            <a:ext cx="1420920" cy="658800"/>
          </a:xfrm>
          <a:prstGeom prst="rect">
            <a:avLst/>
          </a:prstGeom>
          <a:ln w="0">
            <a:noFill/>
          </a:ln>
        </p:spPr>
      </p:pic>
      <p:sp>
        <p:nvSpPr>
          <p:cNvPr id="222" name="矩形 19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80068"/>
              </a:gs>
              <a:gs pos="100000">
                <a:srgbClr val="920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697040" y="2813040"/>
            <a:ext cx="5556240" cy="1184400"/>
            <a:chOff x="1697040" y="2813040"/>
            <a:chExt cx="5556240" cy="1184400"/>
          </a:xfrm>
        </p:grpSpPr>
        <p:sp>
          <p:nvSpPr>
            <p:cNvPr id="224" name="Freeform 7"/>
            <p:cNvSpPr/>
            <p:nvPr/>
          </p:nvSpPr>
          <p:spPr>
            <a:xfrm>
              <a:off x="3867120" y="3019320"/>
              <a:ext cx="944280" cy="85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4991040" y="2813040"/>
              <a:ext cx="690480" cy="118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5786640" y="2928960"/>
              <a:ext cx="779400" cy="101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626520" y="2970000"/>
              <a:ext cx="626760" cy="9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图片 16" descr="LOGO白副本.png"/>
            <p:cNvPicPr/>
            <p:nvPr/>
          </p:nvPicPr>
          <p:blipFill>
            <a:blip r:embed="rId36"/>
            <a:stretch/>
          </p:blipFill>
          <p:spPr>
            <a:xfrm>
              <a:off x="1697040" y="3184560"/>
              <a:ext cx="14205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矩形 205"/>
            <p:cNvSpPr/>
            <p:nvPr/>
          </p:nvSpPr>
          <p:spPr>
            <a:xfrm>
              <a:off x="3257640" y="3475080"/>
              <a:ext cx="35856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016760" y="-657360"/>
            <a:ext cx="542520" cy="687600"/>
            <a:chOff x="7016760" y="-657360"/>
            <a:chExt cx="542520" cy="687600"/>
          </a:xfrm>
        </p:grpSpPr>
        <p:pic>
          <p:nvPicPr>
            <p:cNvPr id="231" name="Freeform 327" descr=""/>
            <p:cNvPicPr/>
            <p:nvPr/>
          </p:nvPicPr>
          <p:blipFill>
            <a:blip r:embed="rId37"/>
            <a:stretch/>
          </p:blipFill>
          <p:spPr>
            <a:xfrm>
              <a:off x="7016760" y="-657360"/>
              <a:ext cx="5302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350120" y="-6415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656400" y="-657360"/>
            <a:ext cx="549000" cy="687600"/>
            <a:chOff x="6656400" y="-657360"/>
            <a:chExt cx="549000" cy="687600"/>
          </a:xfrm>
        </p:grpSpPr>
        <p:pic>
          <p:nvPicPr>
            <p:cNvPr id="234" name="Freeform 327" descr=""/>
            <p:cNvPicPr/>
            <p:nvPr/>
          </p:nvPicPr>
          <p:blipFill>
            <a:blip r:embed="rId38"/>
            <a:stretch/>
          </p:blipFill>
          <p:spPr>
            <a:xfrm>
              <a:off x="6656400" y="-657360"/>
              <a:ext cx="54000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994800" y="-6415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29440" y="-657360"/>
            <a:ext cx="542520" cy="687600"/>
            <a:chOff x="6229440" y="-657360"/>
            <a:chExt cx="542520" cy="687600"/>
          </a:xfrm>
        </p:grpSpPr>
        <p:pic>
          <p:nvPicPr>
            <p:cNvPr id="237" name="Freeform 327" descr=""/>
            <p:cNvPicPr/>
            <p:nvPr/>
          </p:nvPicPr>
          <p:blipFill>
            <a:blip r:embed="rId39"/>
            <a:stretch/>
          </p:blipFill>
          <p:spPr>
            <a:xfrm>
              <a:off x="6229440" y="-657360"/>
              <a:ext cx="52884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563520" y="-64152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877000" y="-657360"/>
            <a:ext cx="542520" cy="687600"/>
            <a:chOff x="5877000" y="-657360"/>
            <a:chExt cx="542520" cy="687600"/>
          </a:xfrm>
        </p:grpSpPr>
        <p:pic>
          <p:nvPicPr>
            <p:cNvPr id="240" name="Freeform 327" descr=""/>
            <p:cNvPicPr/>
            <p:nvPr/>
          </p:nvPicPr>
          <p:blipFill>
            <a:blip r:embed="rId40"/>
            <a:stretch/>
          </p:blipFill>
          <p:spPr>
            <a:xfrm>
              <a:off x="5877000" y="-657360"/>
              <a:ext cx="53316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208920" y="-6415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157640" y="-681120"/>
            <a:ext cx="547200" cy="693720"/>
            <a:chOff x="4157640" y="-681120"/>
            <a:chExt cx="547200" cy="693720"/>
          </a:xfrm>
        </p:grpSpPr>
        <p:pic>
          <p:nvPicPr>
            <p:cNvPr id="243" name="Freeform 327" descr=""/>
            <p:cNvPicPr/>
            <p:nvPr/>
          </p:nvPicPr>
          <p:blipFill>
            <a:blip r:embed="rId41"/>
            <a:stretch/>
          </p:blipFill>
          <p:spPr>
            <a:xfrm>
              <a:off x="4157640" y="-681120"/>
              <a:ext cx="5378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94600" y="-660600"/>
              <a:ext cx="21024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3760" y="-681120"/>
            <a:ext cx="542520" cy="693720"/>
            <a:chOff x="3803760" y="-681120"/>
            <a:chExt cx="542520" cy="693720"/>
          </a:xfrm>
        </p:grpSpPr>
        <p:pic>
          <p:nvPicPr>
            <p:cNvPr id="246" name="Freeform 327" descr=""/>
            <p:cNvPicPr/>
            <p:nvPr/>
          </p:nvPicPr>
          <p:blipFill>
            <a:blip r:embed="rId42"/>
            <a:stretch/>
          </p:blipFill>
          <p:spPr>
            <a:xfrm>
              <a:off x="3803760" y="-681120"/>
              <a:ext cx="531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136400" y="-660600"/>
              <a:ext cx="2098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71760" y="-681120"/>
            <a:ext cx="547920" cy="693720"/>
            <a:chOff x="3371760" y="-681120"/>
            <a:chExt cx="547920" cy="693720"/>
          </a:xfrm>
        </p:grpSpPr>
        <p:pic>
          <p:nvPicPr>
            <p:cNvPr id="249" name="Freeform 327" descr=""/>
            <p:cNvPicPr/>
            <p:nvPr/>
          </p:nvPicPr>
          <p:blipFill>
            <a:blip r:embed="rId43"/>
            <a:stretch/>
          </p:blipFill>
          <p:spPr>
            <a:xfrm>
              <a:off x="3371760" y="-681120"/>
              <a:ext cx="538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709080" y="-660600"/>
              <a:ext cx="21060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017880" y="-681120"/>
            <a:ext cx="542520" cy="693720"/>
            <a:chOff x="3017880" y="-681120"/>
            <a:chExt cx="542520" cy="693720"/>
          </a:xfrm>
        </p:grpSpPr>
        <p:pic>
          <p:nvPicPr>
            <p:cNvPr id="252" name="Freeform 327" descr=""/>
            <p:cNvPicPr/>
            <p:nvPr/>
          </p:nvPicPr>
          <p:blipFill>
            <a:blip r:embed="rId44"/>
            <a:stretch/>
          </p:blipFill>
          <p:spPr>
            <a:xfrm>
              <a:off x="3017880" y="-681120"/>
              <a:ext cx="531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350520" y="-660600"/>
              <a:ext cx="20988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57760" y="-657360"/>
            <a:ext cx="547920" cy="687600"/>
            <a:chOff x="5657760" y="-657360"/>
            <a:chExt cx="547920" cy="687600"/>
          </a:xfrm>
        </p:grpSpPr>
        <p:pic>
          <p:nvPicPr>
            <p:cNvPr id="255" name="Freeform 327" descr=""/>
            <p:cNvPicPr/>
            <p:nvPr/>
          </p:nvPicPr>
          <p:blipFill>
            <a:blip r:embed="rId45"/>
            <a:stretch/>
          </p:blipFill>
          <p:spPr>
            <a:xfrm>
              <a:off x="5657760" y="-657360"/>
              <a:ext cx="53820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95080" y="-6415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3880" y="-657360"/>
            <a:ext cx="542520" cy="687600"/>
            <a:chOff x="5303880" y="-657360"/>
            <a:chExt cx="542520" cy="687600"/>
          </a:xfrm>
        </p:grpSpPr>
        <p:pic>
          <p:nvPicPr>
            <p:cNvPr id="258" name="Freeform 327" descr=""/>
            <p:cNvPicPr/>
            <p:nvPr/>
          </p:nvPicPr>
          <p:blipFill>
            <a:blip r:embed="rId46"/>
            <a:stretch/>
          </p:blipFill>
          <p:spPr>
            <a:xfrm>
              <a:off x="5303880" y="-657360"/>
              <a:ext cx="53172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636520" y="-6415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70440" y="-657360"/>
            <a:ext cx="549000" cy="687600"/>
            <a:chOff x="4870440" y="-657360"/>
            <a:chExt cx="549000" cy="687600"/>
          </a:xfrm>
        </p:grpSpPr>
        <p:pic>
          <p:nvPicPr>
            <p:cNvPr id="261" name="Freeform 327" descr=""/>
            <p:cNvPicPr/>
            <p:nvPr/>
          </p:nvPicPr>
          <p:blipFill>
            <a:blip r:embed="rId47"/>
            <a:stretch/>
          </p:blipFill>
          <p:spPr>
            <a:xfrm>
              <a:off x="4870440" y="-657360"/>
              <a:ext cx="54000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208840" y="-6415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516560" y="-681120"/>
            <a:ext cx="542520" cy="693720"/>
            <a:chOff x="4516560" y="-681120"/>
            <a:chExt cx="542520" cy="693720"/>
          </a:xfrm>
        </p:grpSpPr>
        <p:pic>
          <p:nvPicPr>
            <p:cNvPr id="264" name="Freeform 327" descr=""/>
            <p:cNvPicPr/>
            <p:nvPr/>
          </p:nvPicPr>
          <p:blipFill>
            <a:blip r:embed="rId48"/>
            <a:stretch/>
          </p:blipFill>
          <p:spPr>
            <a:xfrm>
              <a:off x="4516560" y="-68112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849920" y="-660600"/>
              <a:ext cx="2091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943440" y="-608040"/>
            <a:ext cx="542520" cy="693720"/>
            <a:chOff x="3943440" y="-608040"/>
            <a:chExt cx="542520" cy="693720"/>
          </a:xfrm>
        </p:grpSpPr>
        <p:pic>
          <p:nvPicPr>
            <p:cNvPr id="267" name="Freeform 327" descr=""/>
            <p:cNvPicPr/>
            <p:nvPr/>
          </p:nvPicPr>
          <p:blipFill>
            <a:blip r:embed="rId49"/>
            <a:stretch/>
          </p:blipFill>
          <p:spPr>
            <a:xfrm>
              <a:off x="3943440" y="-608040"/>
              <a:ext cx="5288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277520" y="-58896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591000" y="-608040"/>
            <a:ext cx="542520" cy="693720"/>
            <a:chOff x="3591000" y="-608040"/>
            <a:chExt cx="542520" cy="693720"/>
          </a:xfrm>
        </p:grpSpPr>
        <p:pic>
          <p:nvPicPr>
            <p:cNvPr id="270" name="Freeform 327" descr=""/>
            <p:cNvPicPr/>
            <p:nvPr/>
          </p:nvPicPr>
          <p:blipFill>
            <a:blip r:embed="rId50"/>
            <a:stretch/>
          </p:blipFill>
          <p:spPr>
            <a:xfrm>
              <a:off x="3591000" y="-608040"/>
              <a:ext cx="53316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922920" y="-58896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157560" y="-608040"/>
            <a:ext cx="549000" cy="693720"/>
            <a:chOff x="3157560" y="-608040"/>
            <a:chExt cx="549000" cy="693720"/>
          </a:xfrm>
        </p:grpSpPr>
        <p:pic>
          <p:nvPicPr>
            <p:cNvPr id="273" name="Freeform 327" descr=""/>
            <p:cNvPicPr/>
            <p:nvPr/>
          </p:nvPicPr>
          <p:blipFill>
            <a:blip r:embed="rId51"/>
            <a:stretch/>
          </p:blipFill>
          <p:spPr>
            <a:xfrm>
              <a:off x="3157560" y="-608040"/>
              <a:ext cx="5414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495600" y="-588960"/>
              <a:ext cx="2109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03680" y="-608040"/>
            <a:ext cx="542520" cy="693720"/>
            <a:chOff x="2803680" y="-608040"/>
            <a:chExt cx="542520" cy="693720"/>
          </a:xfrm>
        </p:grpSpPr>
        <p:pic>
          <p:nvPicPr>
            <p:cNvPr id="276" name="Freeform 327" descr=""/>
            <p:cNvPicPr/>
            <p:nvPr/>
          </p:nvPicPr>
          <p:blipFill>
            <a:blip r:embed="rId52"/>
            <a:stretch/>
          </p:blipFill>
          <p:spPr>
            <a:xfrm>
              <a:off x="2803680" y="-608040"/>
              <a:ext cx="531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136320" y="-58896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85760" y="-608040"/>
            <a:ext cx="547920" cy="693720"/>
            <a:chOff x="1085760" y="-608040"/>
            <a:chExt cx="547920" cy="693720"/>
          </a:xfrm>
        </p:grpSpPr>
        <p:pic>
          <p:nvPicPr>
            <p:cNvPr id="279" name="Freeform 327" descr=""/>
            <p:cNvPicPr/>
            <p:nvPr/>
          </p:nvPicPr>
          <p:blipFill>
            <a:blip r:embed="rId53"/>
            <a:stretch/>
          </p:blipFill>
          <p:spPr>
            <a:xfrm>
              <a:off x="1085760" y="-608040"/>
              <a:ext cx="5382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423080" y="-58896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1880" y="-608040"/>
            <a:ext cx="542520" cy="693720"/>
            <a:chOff x="731880" y="-608040"/>
            <a:chExt cx="542520" cy="693720"/>
          </a:xfrm>
        </p:grpSpPr>
        <p:pic>
          <p:nvPicPr>
            <p:cNvPr id="282" name="Freeform 327" descr=""/>
            <p:cNvPicPr/>
            <p:nvPr/>
          </p:nvPicPr>
          <p:blipFill>
            <a:blip r:embed="rId54"/>
            <a:stretch/>
          </p:blipFill>
          <p:spPr>
            <a:xfrm>
              <a:off x="731880" y="-608040"/>
              <a:ext cx="531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64520" y="-58896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98440" y="-608040"/>
            <a:ext cx="549000" cy="693720"/>
            <a:chOff x="298440" y="-608040"/>
            <a:chExt cx="549000" cy="693720"/>
          </a:xfrm>
        </p:grpSpPr>
        <p:pic>
          <p:nvPicPr>
            <p:cNvPr id="285" name="Freeform 327" descr=""/>
            <p:cNvPicPr/>
            <p:nvPr/>
          </p:nvPicPr>
          <p:blipFill>
            <a:blip r:embed="rId55"/>
            <a:stretch/>
          </p:blipFill>
          <p:spPr>
            <a:xfrm>
              <a:off x="298440" y="-608040"/>
              <a:ext cx="540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36840" y="-58896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-54000" y="-608040"/>
            <a:ext cx="541080" cy="693720"/>
            <a:chOff x="-54000" y="-608040"/>
            <a:chExt cx="541080" cy="693720"/>
          </a:xfrm>
        </p:grpSpPr>
        <p:pic>
          <p:nvPicPr>
            <p:cNvPr id="288" name="Freeform 327" descr=""/>
            <p:cNvPicPr/>
            <p:nvPr/>
          </p:nvPicPr>
          <p:blipFill>
            <a:blip r:embed="rId56"/>
            <a:stretch/>
          </p:blipFill>
          <p:spPr>
            <a:xfrm>
              <a:off x="-54000" y="-608040"/>
              <a:ext cx="5288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78640" y="-58896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584440" y="-608040"/>
            <a:ext cx="549000" cy="693720"/>
            <a:chOff x="2584440" y="-608040"/>
            <a:chExt cx="549000" cy="693720"/>
          </a:xfrm>
        </p:grpSpPr>
        <p:pic>
          <p:nvPicPr>
            <p:cNvPr id="291" name="Freeform 327" descr=""/>
            <p:cNvPicPr/>
            <p:nvPr/>
          </p:nvPicPr>
          <p:blipFill>
            <a:blip r:embed="rId57"/>
            <a:stretch/>
          </p:blipFill>
          <p:spPr>
            <a:xfrm>
              <a:off x="2584440" y="-608040"/>
              <a:ext cx="540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922840" y="-58896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230560" y="-608040"/>
            <a:ext cx="542520" cy="693720"/>
            <a:chOff x="2230560" y="-608040"/>
            <a:chExt cx="542520" cy="693720"/>
          </a:xfrm>
        </p:grpSpPr>
        <p:pic>
          <p:nvPicPr>
            <p:cNvPr id="294" name="Freeform 327" descr=""/>
            <p:cNvPicPr/>
            <p:nvPr/>
          </p:nvPicPr>
          <p:blipFill>
            <a:blip r:embed="rId58"/>
            <a:stretch/>
          </p:blipFill>
          <p:spPr>
            <a:xfrm>
              <a:off x="2230560" y="-60804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563920" y="-58896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805040" y="-608040"/>
            <a:ext cx="541080" cy="693720"/>
            <a:chOff x="1805040" y="-608040"/>
            <a:chExt cx="541080" cy="693720"/>
          </a:xfrm>
        </p:grpSpPr>
        <p:pic>
          <p:nvPicPr>
            <p:cNvPr id="297" name="Freeform 327" descr=""/>
            <p:cNvPicPr/>
            <p:nvPr/>
          </p:nvPicPr>
          <p:blipFill>
            <a:blip r:embed="rId59"/>
            <a:stretch/>
          </p:blipFill>
          <p:spPr>
            <a:xfrm>
              <a:off x="1805040" y="-60804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136240" y="-58896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444680" y="-608040"/>
            <a:ext cx="542520" cy="693720"/>
            <a:chOff x="1444680" y="-608040"/>
            <a:chExt cx="542520" cy="693720"/>
          </a:xfrm>
        </p:grpSpPr>
        <p:pic>
          <p:nvPicPr>
            <p:cNvPr id="300" name="Freeform 327" descr=""/>
            <p:cNvPicPr/>
            <p:nvPr/>
          </p:nvPicPr>
          <p:blipFill>
            <a:blip r:embed="rId60"/>
            <a:stretch/>
          </p:blipFill>
          <p:spPr>
            <a:xfrm>
              <a:off x="1444680" y="-60804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778040" y="-58896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663040" y="-657360"/>
            <a:ext cx="541080" cy="687600"/>
            <a:chOff x="8663040" y="-657360"/>
            <a:chExt cx="541080" cy="687600"/>
          </a:xfrm>
        </p:grpSpPr>
        <p:pic>
          <p:nvPicPr>
            <p:cNvPr id="303" name="Freeform 327" descr=""/>
            <p:cNvPicPr/>
            <p:nvPr/>
          </p:nvPicPr>
          <p:blipFill>
            <a:blip r:embed="rId61"/>
            <a:stretch/>
          </p:blipFill>
          <p:spPr>
            <a:xfrm>
              <a:off x="8663040" y="-657360"/>
              <a:ext cx="5302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994240" y="-6415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8302680" y="-657360"/>
            <a:ext cx="542520" cy="687600"/>
            <a:chOff x="8302680" y="-657360"/>
            <a:chExt cx="542520" cy="687600"/>
          </a:xfrm>
        </p:grpSpPr>
        <p:pic>
          <p:nvPicPr>
            <p:cNvPr id="306" name="Freeform 327" descr=""/>
            <p:cNvPicPr/>
            <p:nvPr/>
          </p:nvPicPr>
          <p:blipFill>
            <a:blip r:embed="rId62"/>
            <a:stretch/>
          </p:blipFill>
          <p:spPr>
            <a:xfrm>
              <a:off x="8302680" y="-657360"/>
              <a:ext cx="5302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636040" y="-6415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875720" y="-657360"/>
            <a:ext cx="542520" cy="687600"/>
            <a:chOff x="7875720" y="-657360"/>
            <a:chExt cx="542520" cy="687600"/>
          </a:xfrm>
        </p:grpSpPr>
        <p:pic>
          <p:nvPicPr>
            <p:cNvPr id="309" name="Freeform 327" descr=""/>
            <p:cNvPicPr/>
            <p:nvPr/>
          </p:nvPicPr>
          <p:blipFill>
            <a:blip r:embed="rId63"/>
            <a:stretch/>
          </p:blipFill>
          <p:spPr>
            <a:xfrm>
              <a:off x="7875720" y="-657360"/>
              <a:ext cx="53172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208360" y="-6415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516800" y="-657360"/>
            <a:ext cx="541080" cy="687600"/>
            <a:chOff x="7516800" y="-657360"/>
            <a:chExt cx="541080" cy="687600"/>
          </a:xfrm>
        </p:grpSpPr>
        <p:pic>
          <p:nvPicPr>
            <p:cNvPr id="312" name="Freeform 327" descr=""/>
            <p:cNvPicPr/>
            <p:nvPr/>
          </p:nvPicPr>
          <p:blipFill>
            <a:blip r:embed="rId64"/>
            <a:stretch/>
          </p:blipFill>
          <p:spPr>
            <a:xfrm>
              <a:off x="7516800" y="-657360"/>
              <a:ext cx="52776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849440" y="-64152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302600" y="-657360"/>
            <a:ext cx="542520" cy="687600"/>
            <a:chOff x="7302600" y="-657360"/>
            <a:chExt cx="542520" cy="687600"/>
          </a:xfrm>
        </p:grpSpPr>
        <p:pic>
          <p:nvPicPr>
            <p:cNvPr id="315" name="Freeform 327" descr=""/>
            <p:cNvPicPr/>
            <p:nvPr/>
          </p:nvPicPr>
          <p:blipFill>
            <a:blip r:embed="rId65"/>
            <a:stretch/>
          </p:blipFill>
          <p:spPr>
            <a:xfrm>
              <a:off x="7302600" y="-657360"/>
              <a:ext cx="5302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635960" y="-6415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943680" y="-588960"/>
            <a:ext cx="547200" cy="692280"/>
            <a:chOff x="6943680" y="-588960"/>
            <a:chExt cx="547200" cy="692280"/>
          </a:xfrm>
        </p:grpSpPr>
        <p:pic>
          <p:nvPicPr>
            <p:cNvPr id="318" name="Freeform 327" descr=""/>
            <p:cNvPicPr/>
            <p:nvPr/>
          </p:nvPicPr>
          <p:blipFill>
            <a:blip r:embed="rId66"/>
            <a:stretch/>
          </p:blipFill>
          <p:spPr>
            <a:xfrm>
              <a:off x="6943680" y="-588960"/>
              <a:ext cx="537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280640" y="-569880"/>
              <a:ext cx="2102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589800" y="-588960"/>
            <a:ext cx="542520" cy="692280"/>
            <a:chOff x="6589800" y="-588960"/>
            <a:chExt cx="542520" cy="692280"/>
          </a:xfrm>
        </p:grpSpPr>
        <p:pic>
          <p:nvPicPr>
            <p:cNvPr id="321" name="Freeform 327" descr=""/>
            <p:cNvPicPr/>
            <p:nvPr/>
          </p:nvPicPr>
          <p:blipFill>
            <a:blip r:embed="rId67"/>
            <a:stretch/>
          </p:blipFill>
          <p:spPr>
            <a:xfrm>
              <a:off x="6589800" y="-588960"/>
              <a:ext cx="53172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922440" y="-56988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56360" y="-588960"/>
            <a:ext cx="549000" cy="692280"/>
            <a:chOff x="6156360" y="-588960"/>
            <a:chExt cx="549000" cy="692280"/>
          </a:xfrm>
        </p:grpSpPr>
        <p:pic>
          <p:nvPicPr>
            <p:cNvPr id="324" name="Freeform 327" descr=""/>
            <p:cNvPicPr/>
            <p:nvPr/>
          </p:nvPicPr>
          <p:blipFill>
            <a:blip r:embed="rId68"/>
            <a:stretch/>
          </p:blipFill>
          <p:spPr>
            <a:xfrm>
              <a:off x="6156360" y="-588960"/>
              <a:ext cx="5400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494760" y="-56988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803920" y="-588960"/>
            <a:ext cx="541080" cy="692280"/>
            <a:chOff x="5803920" y="-588960"/>
            <a:chExt cx="541080" cy="692280"/>
          </a:xfrm>
        </p:grpSpPr>
        <p:pic>
          <p:nvPicPr>
            <p:cNvPr id="327" name="Freeform 327" descr=""/>
            <p:cNvPicPr/>
            <p:nvPr/>
          </p:nvPicPr>
          <p:blipFill>
            <a:blip r:embed="rId69"/>
            <a:stretch/>
          </p:blipFill>
          <p:spPr>
            <a:xfrm>
              <a:off x="5803920" y="-588960"/>
              <a:ext cx="528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135840" y="-56988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091040" y="-608040"/>
            <a:ext cx="541080" cy="693720"/>
            <a:chOff x="4091040" y="-608040"/>
            <a:chExt cx="541080" cy="693720"/>
          </a:xfrm>
        </p:grpSpPr>
        <p:pic>
          <p:nvPicPr>
            <p:cNvPr id="330" name="Freeform 327" descr=""/>
            <p:cNvPicPr/>
            <p:nvPr/>
          </p:nvPicPr>
          <p:blipFill>
            <a:blip r:embed="rId70"/>
            <a:stretch/>
          </p:blipFill>
          <p:spPr>
            <a:xfrm>
              <a:off x="4091040" y="-60804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422240" y="-58896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30680" y="-608040"/>
            <a:ext cx="542520" cy="693720"/>
            <a:chOff x="3730680" y="-608040"/>
            <a:chExt cx="542520" cy="693720"/>
          </a:xfrm>
        </p:grpSpPr>
        <p:pic>
          <p:nvPicPr>
            <p:cNvPr id="333" name="Freeform 327" descr=""/>
            <p:cNvPicPr/>
            <p:nvPr/>
          </p:nvPicPr>
          <p:blipFill>
            <a:blip r:embed="rId71"/>
            <a:stretch/>
          </p:blipFill>
          <p:spPr>
            <a:xfrm>
              <a:off x="3730680" y="-60804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064040" y="-58896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303720" y="-608040"/>
            <a:ext cx="542520" cy="693720"/>
            <a:chOff x="3303720" y="-608040"/>
            <a:chExt cx="542520" cy="693720"/>
          </a:xfrm>
        </p:grpSpPr>
        <p:pic>
          <p:nvPicPr>
            <p:cNvPr id="336" name="Freeform 327" descr=""/>
            <p:cNvPicPr/>
            <p:nvPr/>
          </p:nvPicPr>
          <p:blipFill>
            <a:blip r:embed="rId72"/>
            <a:stretch/>
          </p:blipFill>
          <p:spPr>
            <a:xfrm>
              <a:off x="3303720" y="-608040"/>
              <a:ext cx="531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636360" y="-58896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944800" y="-608040"/>
            <a:ext cx="541080" cy="693720"/>
            <a:chOff x="2944800" y="-608040"/>
            <a:chExt cx="541080" cy="693720"/>
          </a:xfrm>
        </p:grpSpPr>
        <p:pic>
          <p:nvPicPr>
            <p:cNvPr id="339" name="Freeform 327" descr=""/>
            <p:cNvPicPr/>
            <p:nvPr/>
          </p:nvPicPr>
          <p:blipFill>
            <a:blip r:embed="rId73"/>
            <a:stretch/>
          </p:blipFill>
          <p:spPr>
            <a:xfrm>
              <a:off x="2944800" y="-608040"/>
              <a:ext cx="52776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277440" y="-58896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89720" y="-588960"/>
            <a:ext cx="542520" cy="692280"/>
            <a:chOff x="5589720" y="-588960"/>
            <a:chExt cx="542520" cy="692280"/>
          </a:xfrm>
        </p:grpSpPr>
        <p:pic>
          <p:nvPicPr>
            <p:cNvPr id="342" name="Freeform 327" descr=""/>
            <p:cNvPicPr/>
            <p:nvPr/>
          </p:nvPicPr>
          <p:blipFill>
            <a:blip r:embed="rId74"/>
            <a:stretch/>
          </p:blipFill>
          <p:spPr>
            <a:xfrm>
              <a:off x="5589720" y="-588960"/>
              <a:ext cx="53172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922360" y="-56988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30800" y="-588960"/>
            <a:ext cx="541080" cy="692280"/>
            <a:chOff x="5230800" y="-588960"/>
            <a:chExt cx="541080" cy="692280"/>
          </a:xfrm>
        </p:grpSpPr>
        <p:pic>
          <p:nvPicPr>
            <p:cNvPr id="345" name="Freeform 327" descr=""/>
            <p:cNvPicPr/>
            <p:nvPr/>
          </p:nvPicPr>
          <p:blipFill>
            <a:blip r:embed="rId75"/>
            <a:stretch/>
          </p:blipFill>
          <p:spPr>
            <a:xfrm>
              <a:off x="5230800" y="-588960"/>
              <a:ext cx="52776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563440" y="-56988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803840" y="-588960"/>
            <a:ext cx="542520" cy="692280"/>
            <a:chOff x="4803840" y="-588960"/>
            <a:chExt cx="542520" cy="692280"/>
          </a:xfrm>
        </p:grpSpPr>
        <p:pic>
          <p:nvPicPr>
            <p:cNvPr id="348" name="Freeform 327" descr=""/>
            <p:cNvPicPr/>
            <p:nvPr/>
          </p:nvPicPr>
          <p:blipFill>
            <a:blip r:embed="rId76"/>
            <a:stretch/>
          </p:blipFill>
          <p:spPr>
            <a:xfrm>
              <a:off x="4803840" y="-588960"/>
              <a:ext cx="53172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136480" y="-56988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43480" y="-608040"/>
            <a:ext cx="542520" cy="693720"/>
            <a:chOff x="4443480" y="-608040"/>
            <a:chExt cx="542520" cy="693720"/>
          </a:xfrm>
        </p:grpSpPr>
        <p:pic>
          <p:nvPicPr>
            <p:cNvPr id="351" name="Freeform 327" descr=""/>
            <p:cNvPicPr/>
            <p:nvPr/>
          </p:nvPicPr>
          <p:blipFill>
            <a:blip r:embed="rId77"/>
            <a:stretch/>
          </p:blipFill>
          <p:spPr>
            <a:xfrm>
              <a:off x="4443480" y="-608040"/>
              <a:ext cx="5288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777560" y="-58896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870360" y="-534960"/>
            <a:ext cx="549000" cy="687240"/>
            <a:chOff x="3870360" y="-534960"/>
            <a:chExt cx="549000" cy="687240"/>
          </a:xfrm>
        </p:grpSpPr>
        <p:pic>
          <p:nvPicPr>
            <p:cNvPr id="354" name="Freeform 327" descr=""/>
            <p:cNvPicPr/>
            <p:nvPr/>
          </p:nvPicPr>
          <p:blipFill>
            <a:blip r:embed="rId78"/>
            <a:stretch/>
          </p:blipFill>
          <p:spPr>
            <a:xfrm>
              <a:off x="3870360" y="-534960"/>
              <a:ext cx="54000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208760" y="-5173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517920" y="-534960"/>
            <a:ext cx="541080" cy="687240"/>
            <a:chOff x="3517920" y="-534960"/>
            <a:chExt cx="541080" cy="687240"/>
          </a:xfrm>
        </p:grpSpPr>
        <p:pic>
          <p:nvPicPr>
            <p:cNvPr id="357" name="Freeform 327" descr=""/>
            <p:cNvPicPr/>
            <p:nvPr/>
          </p:nvPicPr>
          <p:blipFill>
            <a:blip r:embed="rId79"/>
            <a:stretch/>
          </p:blipFill>
          <p:spPr>
            <a:xfrm>
              <a:off x="3517920" y="-534960"/>
              <a:ext cx="528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849840" y="-5173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90960" y="-534960"/>
            <a:ext cx="542520" cy="687240"/>
            <a:chOff x="3090960" y="-534960"/>
            <a:chExt cx="542520" cy="687240"/>
          </a:xfrm>
        </p:grpSpPr>
        <p:pic>
          <p:nvPicPr>
            <p:cNvPr id="360" name="Freeform 327" descr=""/>
            <p:cNvPicPr/>
            <p:nvPr/>
          </p:nvPicPr>
          <p:blipFill>
            <a:blip r:embed="rId80"/>
            <a:stretch/>
          </p:blipFill>
          <p:spPr>
            <a:xfrm>
              <a:off x="3090960" y="-534960"/>
              <a:ext cx="5331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422880" y="-51732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730600" y="-534960"/>
            <a:ext cx="542520" cy="687240"/>
            <a:chOff x="2730600" y="-534960"/>
            <a:chExt cx="542520" cy="687240"/>
          </a:xfrm>
        </p:grpSpPr>
        <p:pic>
          <p:nvPicPr>
            <p:cNvPr id="363" name="Freeform 327" descr=""/>
            <p:cNvPicPr/>
            <p:nvPr/>
          </p:nvPicPr>
          <p:blipFill>
            <a:blip r:embed="rId81"/>
            <a:stretch/>
          </p:blipFill>
          <p:spPr>
            <a:xfrm>
              <a:off x="2730600" y="-534960"/>
              <a:ext cx="53028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063960" y="-5173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017720" y="-534960"/>
            <a:ext cx="542520" cy="687240"/>
            <a:chOff x="1017720" y="-534960"/>
            <a:chExt cx="542520" cy="687240"/>
          </a:xfrm>
        </p:grpSpPr>
        <p:pic>
          <p:nvPicPr>
            <p:cNvPr id="366" name="Freeform 327" descr=""/>
            <p:cNvPicPr/>
            <p:nvPr/>
          </p:nvPicPr>
          <p:blipFill>
            <a:blip r:embed="rId82"/>
            <a:stretch/>
          </p:blipFill>
          <p:spPr>
            <a:xfrm>
              <a:off x="1017720" y="-534960"/>
              <a:ext cx="53172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0360" y="-5173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58800" y="-534960"/>
            <a:ext cx="541080" cy="687240"/>
            <a:chOff x="658800" y="-534960"/>
            <a:chExt cx="541080" cy="687240"/>
          </a:xfrm>
        </p:grpSpPr>
        <p:pic>
          <p:nvPicPr>
            <p:cNvPr id="369" name="Freeform 327" descr=""/>
            <p:cNvPicPr/>
            <p:nvPr/>
          </p:nvPicPr>
          <p:blipFill>
            <a:blip r:embed="rId83"/>
            <a:stretch/>
          </p:blipFill>
          <p:spPr>
            <a:xfrm>
              <a:off x="658800" y="-534960"/>
              <a:ext cx="5277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991440" y="-51732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31840" y="-534960"/>
            <a:ext cx="542520" cy="687240"/>
            <a:chOff x="231840" y="-534960"/>
            <a:chExt cx="542520" cy="687240"/>
          </a:xfrm>
        </p:grpSpPr>
        <p:pic>
          <p:nvPicPr>
            <p:cNvPr id="372" name="Freeform 327" descr=""/>
            <p:cNvPicPr/>
            <p:nvPr/>
          </p:nvPicPr>
          <p:blipFill>
            <a:blip r:embed="rId84"/>
            <a:stretch/>
          </p:blipFill>
          <p:spPr>
            <a:xfrm>
              <a:off x="231840" y="-534960"/>
              <a:ext cx="53172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4480" y="-5173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-127080" y="-534960"/>
            <a:ext cx="541080" cy="687240"/>
            <a:chOff x="-127080" y="-534960"/>
            <a:chExt cx="541080" cy="687240"/>
          </a:xfrm>
        </p:grpSpPr>
        <p:pic>
          <p:nvPicPr>
            <p:cNvPr id="375" name="Freeform 327" descr=""/>
            <p:cNvPicPr/>
            <p:nvPr/>
          </p:nvPicPr>
          <p:blipFill>
            <a:blip r:embed="rId85"/>
            <a:stretch/>
          </p:blipFill>
          <p:spPr>
            <a:xfrm>
              <a:off x="-127080" y="-534960"/>
              <a:ext cx="52740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05920" y="-517320"/>
              <a:ext cx="2080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517840" y="-534960"/>
            <a:ext cx="542520" cy="687240"/>
            <a:chOff x="2517840" y="-534960"/>
            <a:chExt cx="542520" cy="687240"/>
          </a:xfrm>
        </p:grpSpPr>
        <p:pic>
          <p:nvPicPr>
            <p:cNvPr id="378" name="Freeform 327" descr=""/>
            <p:cNvPicPr/>
            <p:nvPr/>
          </p:nvPicPr>
          <p:blipFill>
            <a:blip r:embed="rId86"/>
            <a:stretch/>
          </p:blipFill>
          <p:spPr>
            <a:xfrm>
              <a:off x="2517840" y="-534960"/>
              <a:ext cx="53172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850480" y="-517320"/>
              <a:ext cx="20988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157480" y="-534960"/>
            <a:ext cx="542520" cy="687240"/>
            <a:chOff x="2157480" y="-534960"/>
            <a:chExt cx="542520" cy="687240"/>
          </a:xfrm>
        </p:grpSpPr>
        <p:pic>
          <p:nvPicPr>
            <p:cNvPr id="381" name="Freeform 327" descr=""/>
            <p:cNvPicPr/>
            <p:nvPr/>
          </p:nvPicPr>
          <p:blipFill>
            <a:blip r:embed="rId87"/>
            <a:stretch/>
          </p:blipFill>
          <p:spPr>
            <a:xfrm>
              <a:off x="2157480" y="-534960"/>
              <a:ext cx="528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491560" y="-51732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731960" y="-534960"/>
            <a:ext cx="541080" cy="687240"/>
            <a:chOff x="1731960" y="-534960"/>
            <a:chExt cx="541080" cy="687240"/>
          </a:xfrm>
        </p:grpSpPr>
        <p:pic>
          <p:nvPicPr>
            <p:cNvPr id="384" name="Freeform 327" descr=""/>
            <p:cNvPicPr/>
            <p:nvPr/>
          </p:nvPicPr>
          <p:blipFill>
            <a:blip r:embed="rId88"/>
            <a:stretch/>
          </p:blipFill>
          <p:spPr>
            <a:xfrm>
              <a:off x="1731960" y="-534960"/>
              <a:ext cx="5288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063880" y="-51732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371600" y="-534960"/>
            <a:ext cx="549000" cy="687240"/>
            <a:chOff x="1371600" y="-534960"/>
            <a:chExt cx="549000" cy="687240"/>
          </a:xfrm>
        </p:grpSpPr>
        <p:pic>
          <p:nvPicPr>
            <p:cNvPr id="387" name="Freeform 327" descr=""/>
            <p:cNvPicPr/>
            <p:nvPr/>
          </p:nvPicPr>
          <p:blipFill>
            <a:blip r:embed="rId89"/>
            <a:stretch/>
          </p:blipFill>
          <p:spPr>
            <a:xfrm>
              <a:off x="1371600" y="-534960"/>
              <a:ext cx="5414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709640" y="-517320"/>
              <a:ext cx="2109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589960" y="-588960"/>
            <a:ext cx="541080" cy="692280"/>
            <a:chOff x="8589960" y="-588960"/>
            <a:chExt cx="541080" cy="692280"/>
          </a:xfrm>
        </p:grpSpPr>
        <p:pic>
          <p:nvPicPr>
            <p:cNvPr id="390" name="Freeform 327" descr=""/>
            <p:cNvPicPr/>
            <p:nvPr/>
          </p:nvPicPr>
          <p:blipFill>
            <a:blip r:embed="rId90"/>
            <a:stretch/>
          </p:blipFill>
          <p:spPr>
            <a:xfrm>
              <a:off x="8589960" y="-588960"/>
              <a:ext cx="528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921880" y="-56988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229600" y="-588960"/>
            <a:ext cx="549000" cy="692280"/>
            <a:chOff x="8229600" y="-588960"/>
            <a:chExt cx="549000" cy="692280"/>
          </a:xfrm>
        </p:grpSpPr>
        <p:pic>
          <p:nvPicPr>
            <p:cNvPr id="393" name="Freeform 327" descr=""/>
            <p:cNvPicPr/>
            <p:nvPr/>
          </p:nvPicPr>
          <p:blipFill>
            <a:blip r:embed="rId91"/>
            <a:stretch/>
          </p:blipFill>
          <p:spPr>
            <a:xfrm>
              <a:off x="8229600" y="-588960"/>
              <a:ext cx="5414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567640" y="-569880"/>
              <a:ext cx="2109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802640" y="-588960"/>
            <a:ext cx="542520" cy="692280"/>
            <a:chOff x="7802640" y="-588960"/>
            <a:chExt cx="542520" cy="692280"/>
          </a:xfrm>
        </p:grpSpPr>
        <p:pic>
          <p:nvPicPr>
            <p:cNvPr id="396" name="Freeform 327" descr=""/>
            <p:cNvPicPr/>
            <p:nvPr/>
          </p:nvPicPr>
          <p:blipFill>
            <a:blip r:embed="rId92"/>
            <a:stretch/>
          </p:blipFill>
          <p:spPr>
            <a:xfrm>
              <a:off x="7802640" y="-588960"/>
              <a:ext cx="5302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8136000" y="-569880"/>
              <a:ext cx="2091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43720" y="-588960"/>
            <a:ext cx="547920" cy="692280"/>
            <a:chOff x="7443720" y="-588960"/>
            <a:chExt cx="547920" cy="692280"/>
          </a:xfrm>
        </p:grpSpPr>
        <p:pic>
          <p:nvPicPr>
            <p:cNvPr id="399" name="Freeform 327" descr=""/>
            <p:cNvPicPr/>
            <p:nvPr/>
          </p:nvPicPr>
          <p:blipFill>
            <a:blip r:embed="rId93"/>
            <a:stretch/>
          </p:blipFill>
          <p:spPr>
            <a:xfrm>
              <a:off x="7443720" y="-588960"/>
              <a:ext cx="53820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81040" y="-569880"/>
              <a:ext cx="210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29520" y="-588960"/>
            <a:ext cx="542520" cy="692280"/>
            <a:chOff x="7229520" y="-588960"/>
            <a:chExt cx="542520" cy="692280"/>
          </a:xfrm>
        </p:grpSpPr>
        <p:pic>
          <p:nvPicPr>
            <p:cNvPr id="402" name="Freeform 327" descr=""/>
            <p:cNvPicPr/>
            <p:nvPr/>
          </p:nvPicPr>
          <p:blipFill>
            <a:blip r:embed="rId94"/>
            <a:stretch/>
          </p:blipFill>
          <p:spPr>
            <a:xfrm>
              <a:off x="7229520" y="-588960"/>
              <a:ext cx="52884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7563600" y="-569880"/>
              <a:ext cx="2084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9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3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9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4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9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3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4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9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9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3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9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3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9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3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41" dur="15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46" dur="1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51" dur="1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56" dur="1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61" dur="1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66" dur="1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71" dur="1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76" dur="1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281" dur="1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86" dur="1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91" dur="1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96" dur="1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7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01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06" dur="1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11" dur="1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16" dur="1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21" dur="1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26" dur="15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31" dur="1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36" dur="1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341" dur="1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46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51" dur="15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56" dur="1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61" dur="1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66" dur="1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71" dur="1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76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381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86" dur="1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91" dur="1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96" dur="1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01" dur="1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06" dur="1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11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16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21" dur="1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42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426" dur="1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31" dur="1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42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36" dur="1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41" dur="1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7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46" dur="1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51" dur="1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56" dur="1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61" dur="1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66" dur="1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71" dur="1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76" dur="1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81" dur="1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486" dur="1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91" dur="1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96" dur="1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01" dur="1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42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06" dur="1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11" dur="1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16" dur="1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21" dur="1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4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526" dur="1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4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131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1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2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2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91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8.33333E-007 -1.15607E-007 C 0.05035 -0.07076 0.10087 -0.14151 0.18264 -0.18174 C 0.26441 -0.22197 0.37657 -0.24902 0.49063 -0.24093 C 0.60469 -0.23284 0.73559 -0.18313 0.86667 -0.13318 E">
                                      <p:cBhvr>
                                        <p:cTn id="668" dur="1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24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2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673" dur="12400" fill="hold"/>
                                        <p:tgtEl>
                                          <p:spTgt spid="1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autoRev="1" nodeType="withEffect" fill="hold" presetClass="path" presetID="64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3.33333E-006 4.19056E-006 L 3.33333E-006 -0.02105 E">
                                      <p:cBhvr>
                                        <p:cTn id="68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3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6" descr="LOGO白副本.png"/>
          <p:cNvPicPr/>
          <p:nvPr/>
        </p:nvPicPr>
        <p:blipFill>
          <a:blip r:embed="rId2"/>
          <a:stretch/>
        </p:blipFill>
        <p:spPr>
          <a:xfrm>
            <a:off x="285840" y="285840"/>
            <a:ext cx="1420560" cy="658800"/>
          </a:xfrm>
          <a:prstGeom prst="rect">
            <a:avLst/>
          </a:prstGeom>
          <a:ln w="0">
            <a:noFill/>
          </a:ln>
        </p:spPr>
      </p:pic>
      <p:sp>
        <p:nvSpPr>
          <p:cNvPr id="406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71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2786040" cy="444348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334800" y="3727440"/>
            <a:ext cx="4619880" cy="3189240"/>
            <a:chOff x="334800" y="3727440"/>
            <a:chExt cx="4619880" cy="3189240"/>
          </a:xfrm>
        </p:grpSpPr>
        <p:sp>
          <p:nvSpPr>
            <p:cNvPr id="409" name="Freeform 332"/>
            <p:cNvSpPr/>
            <p:nvPr/>
          </p:nvSpPr>
          <p:spPr>
            <a:xfrm>
              <a:off x="4042080" y="4919760"/>
              <a:ext cx="703080" cy="628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3"/>
            <p:cNvSpPr/>
            <p:nvPr/>
          </p:nvSpPr>
          <p:spPr>
            <a:xfrm>
              <a:off x="1860480" y="5556240"/>
              <a:ext cx="1533600" cy="52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>
              <a:off x="3322800" y="4697280"/>
              <a:ext cx="142560" cy="7538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5"/>
            <p:cNvSpPr/>
            <p:nvPr/>
          </p:nvSpPr>
          <p:spPr>
            <a:xfrm>
              <a:off x="460080" y="3751200"/>
              <a:ext cx="3748320" cy="2303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6"/>
            <p:cNvSpPr/>
            <p:nvPr/>
          </p:nvSpPr>
          <p:spPr>
            <a:xfrm>
              <a:off x="3316320" y="4051080"/>
              <a:ext cx="161640" cy="7729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7"/>
            <p:cNvSpPr/>
            <p:nvPr/>
          </p:nvSpPr>
          <p:spPr>
            <a:xfrm>
              <a:off x="990360" y="4932360"/>
              <a:ext cx="1060560" cy="10843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>
              <a:off x="1903320" y="4890960"/>
              <a:ext cx="1287360" cy="117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9"/>
            <p:cNvSpPr/>
            <p:nvPr/>
          </p:nvSpPr>
          <p:spPr>
            <a:xfrm>
              <a:off x="821880" y="5027400"/>
              <a:ext cx="249120" cy="4251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0"/>
            <p:cNvSpPr/>
            <p:nvPr/>
          </p:nvSpPr>
          <p:spPr>
            <a:xfrm>
              <a:off x="2455920" y="4437000"/>
              <a:ext cx="2498760" cy="2479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>
              <a:off x="1662120" y="5483160"/>
              <a:ext cx="846000" cy="577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2"/>
            <p:cNvSpPr/>
            <p:nvPr/>
          </p:nvSpPr>
          <p:spPr>
            <a:xfrm>
              <a:off x="3143160" y="4735440"/>
              <a:ext cx="1614600" cy="1606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43"/>
            <p:cNvSpPr/>
            <p:nvPr/>
          </p:nvSpPr>
          <p:spPr>
            <a:xfrm>
              <a:off x="3997440" y="5641920"/>
              <a:ext cx="577800" cy="623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44"/>
            <p:cNvSpPr/>
            <p:nvPr/>
          </p:nvSpPr>
          <p:spPr>
            <a:xfrm>
              <a:off x="2117520" y="6019920"/>
              <a:ext cx="444240" cy="4762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>
              <a:off x="3564000" y="3773160"/>
              <a:ext cx="566640" cy="660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46"/>
            <p:cNvSpPr/>
            <p:nvPr/>
          </p:nvSpPr>
          <p:spPr>
            <a:xfrm>
              <a:off x="1652400" y="5424480"/>
              <a:ext cx="141120" cy="164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7"/>
            <p:cNvSpPr/>
            <p:nvPr/>
          </p:nvSpPr>
          <p:spPr>
            <a:xfrm>
              <a:off x="3643560" y="5038560"/>
              <a:ext cx="339480" cy="299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48"/>
            <p:cNvSpPr/>
            <p:nvPr/>
          </p:nvSpPr>
          <p:spPr>
            <a:xfrm>
              <a:off x="4375440" y="5272200"/>
              <a:ext cx="423720" cy="876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>
              <a:off x="3197160" y="3809880"/>
              <a:ext cx="188640" cy="657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>
              <a:off x="2781360" y="3727440"/>
              <a:ext cx="471240" cy="360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51"/>
            <p:cNvSpPr/>
            <p:nvPr/>
          </p:nvSpPr>
          <p:spPr>
            <a:xfrm>
              <a:off x="3278160" y="5781600"/>
              <a:ext cx="361800" cy="4507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>
              <a:off x="4253040" y="5681520"/>
              <a:ext cx="193680" cy="191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53"/>
            <p:cNvSpPr/>
            <p:nvPr/>
          </p:nvSpPr>
          <p:spPr>
            <a:xfrm>
              <a:off x="714240" y="5440320"/>
              <a:ext cx="385560" cy="306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354"/>
            <p:cNvSpPr/>
            <p:nvPr/>
          </p:nvSpPr>
          <p:spPr>
            <a:xfrm>
              <a:off x="2689200" y="480852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55"/>
            <p:cNvSpPr/>
            <p:nvPr/>
          </p:nvSpPr>
          <p:spPr>
            <a:xfrm>
              <a:off x="1650960" y="527832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356"/>
            <p:cNvSpPr/>
            <p:nvPr/>
          </p:nvSpPr>
          <p:spPr>
            <a:xfrm>
              <a:off x="2719440" y="376848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57"/>
            <p:cNvSpPr/>
            <p:nvPr/>
          </p:nvSpPr>
          <p:spPr>
            <a:xfrm>
              <a:off x="4089600" y="558324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58"/>
            <p:cNvSpPr/>
            <p:nvPr/>
          </p:nvSpPr>
          <p:spPr>
            <a:xfrm>
              <a:off x="3702240" y="611496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59"/>
            <p:cNvSpPr/>
            <p:nvPr/>
          </p:nvSpPr>
          <p:spPr>
            <a:xfrm>
              <a:off x="2154240" y="58611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60"/>
            <p:cNvSpPr/>
            <p:nvPr/>
          </p:nvSpPr>
          <p:spPr>
            <a:xfrm>
              <a:off x="2954520" y="563580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61"/>
            <p:cNvSpPr/>
            <p:nvPr/>
          </p:nvSpPr>
          <p:spPr>
            <a:xfrm>
              <a:off x="2354040" y="575136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>
              <a:off x="3048120" y="4662360"/>
              <a:ext cx="344520" cy="1062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>
              <a:off x="334800" y="5522760"/>
              <a:ext cx="461880" cy="404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64"/>
            <p:cNvSpPr/>
            <p:nvPr/>
          </p:nvSpPr>
          <p:spPr>
            <a:xfrm>
              <a:off x="441000" y="5421240"/>
              <a:ext cx="263520" cy="145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>
              <a:off x="1863720" y="4967280"/>
              <a:ext cx="504720" cy="54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66"/>
            <p:cNvSpPr/>
            <p:nvPr/>
          </p:nvSpPr>
          <p:spPr>
            <a:xfrm>
              <a:off x="888840" y="5862600"/>
              <a:ext cx="465120" cy="1746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>
              <a:off x="2236680" y="6153120"/>
              <a:ext cx="282600" cy="253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>
              <a:off x="1471320" y="5973840"/>
              <a:ext cx="277560" cy="330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69"/>
            <p:cNvSpPr/>
            <p:nvPr/>
          </p:nvSpPr>
          <p:spPr>
            <a:xfrm>
              <a:off x="2662200" y="6002280"/>
              <a:ext cx="531720" cy="6174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>
              <a:off x="2736720" y="6242040"/>
              <a:ext cx="296640" cy="25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图片 49" descr="HH.png"/>
          <p:cNvPicPr/>
          <p:nvPr/>
        </p:nvPicPr>
        <p:blipFill>
          <a:blip r:embed="rId4"/>
          <a:stretch/>
        </p:blipFill>
        <p:spPr>
          <a:xfrm>
            <a:off x="357120" y="1785960"/>
            <a:ext cx="226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图片 3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4" descr="YL.png"/>
          <p:cNvPicPr/>
          <p:nvPr/>
        </p:nvPicPr>
        <p:blipFill>
          <a:blip r:embed="rId2"/>
          <a:stretch/>
        </p:blipFill>
        <p:spPr>
          <a:xfrm>
            <a:off x="1214280" y="1714680"/>
            <a:ext cx="2340000" cy="233964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-20520" y="4048200"/>
            <a:ext cx="4618080" cy="3189240"/>
            <a:chOff x="-20520" y="4048200"/>
            <a:chExt cx="4618080" cy="3189240"/>
          </a:xfrm>
        </p:grpSpPr>
        <p:sp>
          <p:nvSpPr>
            <p:cNvPr id="454" name="Freeform 332"/>
            <p:cNvSpPr/>
            <p:nvPr/>
          </p:nvSpPr>
          <p:spPr>
            <a:xfrm>
              <a:off x="3685320" y="5240520"/>
              <a:ext cx="703080" cy="628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3"/>
            <p:cNvSpPr/>
            <p:nvPr/>
          </p:nvSpPr>
          <p:spPr>
            <a:xfrm>
              <a:off x="1504440" y="5877000"/>
              <a:ext cx="1532880" cy="52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4"/>
            <p:cNvSpPr/>
            <p:nvPr/>
          </p:nvSpPr>
          <p:spPr>
            <a:xfrm>
              <a:off x="2966040" y="5018040"/>
              <a:ext cx="142560" cy="7538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5"/>
            <p:cNvSpPr/>
            <p:nvPr/>
          </p:nvSpPr>
          <p:spPr>
            <a:xfrm>
              <a:off x="104760" y="4071960"/>
              <a:ext cx="3746880" cy="2303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6"/>
            <p:cNvSpPr/>
            <p:nvPr/>
          </p:nvSpPr>
          <p:spPr>
            <a:xfrm>
              <a:off x="2959920" y="4371840"/>
              <a:ext cx="161640" cy="7729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37"/>
            <p:cNvSpPr/>
            <p:nvPr/>
          </p:nvSpPr>
          <p:spPr>
            <a:xfrm>
              <a:off x="634680" y="5253120"/>
              <a:ext cx="1059840" cy="10843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38"/>
            <p:cNvSpPr/>
            <p:nvPr/>
          </p:nvSpPr>
          <p:spPr>
            <a:xfrm>
              <a:off x="1547280" y="5211720"/>
              <a:ext cx="1287000" cy="117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9"/>
            <p:cNvSpPr/>
            <p:nvPr/>
          </p:nvSpPr>
          <p:spPr>
            <a:xfrm>
              <a:off x="466560" y="5348160"/>
              <a:ext cx="249120" cy="4251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0"/>
            <p:cNvSpPr/>
            <p:nvPr/>
          </p:nvSpPr>
          <p:spPr>
            <a:xfrm>
              <a:off x="2099520" y="4757760"/>
              <a:ext cx="2498040" cy="2479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1"/>
            <p:cNvSpPr/>
            <p:nvPr/>
          </p:nvSpPr>
          <p:spPr>
            <a:xfrm>
              <a:off x="1306080" y="5803920"/>
              <a:ext cx="845640" cy="577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2"/>
            <p:cNvSpPr/>
            <p:nvPr/>
          </p:nvSpPr>
          <p:spPr>
            <a:xfrm>
              <a:off x="2786760" y="5056200"/>
              <a:ext cx="1613880" cy="16066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3"/>
            <p:cNvSpPr/>
            <p:nvPr/>
          </p:nvSpPr>
          <p:spPr>
            <a:xfrm>
              <a:off x="3640680" y="5962680"/>
              <a:ext cx="577440" cy="623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4"/>
            <p:cNvSpPr/>
            <p:nvPr/>
          </p:nvSpPr>
          <p:spPr>
            <a:xfrm>
              <a:off x="1761480" y="6340680"/>
              <a:ext cx="444240" cy="4762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5"/>
            <p:cNvSpPr/>
            <p:nvPr/>
          </p:nvSpPr>
          <p:spPr>
            <a:xfrm>
              <a:off x="3207600" y="4093920"/>
              <a:ext cx="566280" cy="660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6"/>
            <p:cNvSpPr/>
            <p:nvPr/>
          </p:nvSpPr>
          <p:spPr>
            <a:xfrm>
              <a:off x="1296720" y="5745240"/>
              <a:ext cx="141120" cy="164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47"/>
            <p:cNvSpPr/>
            <p:nvPr/>
          </p:nvSpPr>
          <p:spPr>
            <a:xfrm>
              <a:off x="3286800" y="5359320"/>
              <a:ext cx="339480" cy="299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48"/>
            <p:cNvSpPr/>
            <p:nvPr/>
          </p:nvSpPr>
          <p:spPr>
            <a:xfrm>
              <a:off x="4018320" y="5592960"/>
              <a:ext cx="423720" cy="8762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49"/>
            <p:cNvSpPr/>
            <p:nvPr/>
          </p:nvSpPr>
          <p:spPr>
            <a:xfrm>
              <a:off x="2840760" y="4130640"/>
              <a:ext cx="188640" cy="657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0"/>
            <p:cNvSpPr/>
            <p:nvPr/>
          </p:nvSpPr>
          <p:spPr>
            <a:xfrm>
              <a:off x="2424960" y="4048200"/>
              <a:ext cx="471240" cy="360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1"/>
            <p:cNvSpPr/>
            <p:nvPr/>
          </p:nvSpPr>
          <p:spPr>
            <a:xfrm>
              <a:off x="2921760" y="6102360"/>
              <a:ext cx="361800" cy="4507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2"/>
            <p:cNvSpPr/>
            <p:nvPr/>
          </p:nvSpPr>
          <p:spPr>
            <a:xfrm>
              <a:off x="3896280" y="6002280"/>
              <a:ext cx="193320" cy="19188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3"/>
            <p:cNvSpPr/>
            <p:nvPr/>
          </p:nvSpPr>
          <p:spPr>
            <a:xfrm>
              <a:off x="358560" y="5761080"/>
              <a:ext cx="385560" cy="3063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54"/>
            <p:cNvSpPr/>
            <p:nvPr/>
          </p:nvSpPr>
          <p:spPr>
            <a:xfrm>
              <a:off x="2332800" y="512928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5"/>
            <p:cNvSpPr/>
            <p:nvPr/>
          </p:nvSpPr>
          <p:spPr>
            <a:xfrm>
              <a:off x="1294920" y="559908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56"/>
            <p:cNvSpPr/>
            <p:nvPr/>
          </p:nvSpPr>
          <p:spPr>
            <a:xfrm>
              <a:off x="2363040" y="408924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57"/>
            <p:cNvSpPr/>
            <p:nvPr/>
          </p:nvSpPr>
          <p:spPr>
            <a:xfrm>
              <a:off x="3732840" y="590400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58"/>
            <p:cNvSpPr/>
            <p:nvPr/>
          </p:nvSpPr>
          <p:spPr>
            <a:xfrm>
              <a:off x="3345480" y="643572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59"/>
            <p:cNvSpPr/>
            <p:nvPr/>
          </p:nvSpPr>
          <p:spPr>
            <a:xfrm>
              <a:off x="1798200" y="6181920"/>
              <a:ext cx="6948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360"/>
            <p:cNvSpPr/>
            <p:nvPr/>
          </p:nvSpPr>
          <p:spPr>
            <a:xfrm>
              <a:off x="2598120" y="5956560"/>
              <a:ext cx="69480" cy="69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361"/>
            <p:cNvSpPr/>
            <p:nvPr/>
          </p:nvSpPr>
          <p:spPr>
            <a:xfrm>
              <a:off x="1998000" y="607212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2"/>
            <p:cNvSpPr/>
            <p:nvPr/>
          </p:nvSpPr>
          <p:spPr>
            <a:xfrm>
              <a:off x="2691720" y="4983120"/>
              <a:ext cx="344160" cy="10620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3"/>
            <p:cNvSpPr/>
            <p:nvPr/>
          </p:nvSpPr>
          <p:spPr>
            <a:xfrm>
              <a:off x="-20520" y="5843520"/>
              <a:ext cx="461520" cy="4046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4"/>
            <p:cNvSpPr/>
            <p:nvPr/>
          </p:nvSpPr>
          <p:spPr>
            <a:xfrm>
              <a:off x="85680" y="5742000"/>
              <a:ext cx="263160" cy="145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5"/>
            <p:cNvSpPr/>
            <p:nvPr/>
          </p:nvSpPr>
          <p:spPr>
            <a:xfrm>
              <a:off x="1507680" y="5288040"/>
              <a:ext cx="504360" cy="546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6"/>
            <p:cNvSpPr/>
            <p:nvPr/>
          </p:nvSpPr>
          <p:spPr>
            <a:xfrm>
              <a:off x="533160" y="6183360"/>
              <a:ext cx="464760" cy="1746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67"/>
            <p:cNvSpPr/>
            <p:nvPr/>
          </p:nvSpPr>
          <p:spPr>
            <a:xfrm>
              <a:off x="1880640" y="6473880"/>
              <a:ext cx="282240" cy="2538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68"/>
            <p:cNvSpPr/>
            <p:nvPr/>
          </p:nvSpPr>
          <p:spPr>
            <a:xfrm>
              <a:off x="1115640" y="6294600"/>
              <a:ext cx="277560" cy="3301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69"/>
            <p:cNvSpPr/>
            <p:nvPr/>
          </p:nvSpPr>
          <p:spPr>
            <a:xfrm>
              <a:off x="2305800" y="6323040"/>
              <a:ext cx="531360" cy="6174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0"/>
            <p:cNvSpPr/>
            <p:nvPr/>
          </p:nvSpPr>
          <p:spPr>
            <a:xfrm>
              <a:off x="2380680" y="6562800"/>
              <a:ext cx="296640" cy="250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3185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图片 16" descr="LOGO白副本.png"/>
          <p:cNvPicPr/>
          <p:nvPr/>
        </p:nvPicPr>
        <p:blipFill>
          <a:blip r:embed="rId3"/>
          <a:stretch/>
        </p:blipFill>
        <p:spPr>
          <a:xfrm>
            <a:off x="500040" y="500040"/>
            <a:ext cx="1420920" cy="658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6" descr="HH.png"/>
          <p:cNvPicPr/>
          <p:nvPr/>
        </p:nvPicPr>
        <p:blipFill>
          <a:blip r:embed="rId4"/>
          <a:stretch/>
        </p:blipFill>
        <p:spPr>
          <a:xfrm>
            <a:off x="0" y="2106720"/>
            <a:ext cx="2268360" cy="4751280"/>
          </a:xfrm>
          <a:prstGeom prst="rect">
            <a:avLst/>
          </a:prstGeom>
          <a:ln w="0">
            <a:noFill/>
          </a:ln>
        </p:spPr>
      </p:pic>
      <p:pic>
        <p:nvPicPr>
          <p:cNvPr id="495" name="TextBox 104" descr=""/>
          <p:cNvPicPr/>
          <p:nvPr/>
        </p:nvPicPr>
        <p:blipFill>
          <a:blip r:embed="rId5"/>
          <a:stretch/>
        </p:blipFill>
        <p:spPr>
          <a:xfrm>
            <a:off x="4102200" y="2048040"/>
            <a:ext cx="477972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8.33333E-007 -1.15607E-007 C 0.05035 -0.07076 0.10087 -0.14151 0.18264 -0.18174 C 0.26441 -0.22197 0.37657 -0.24902 0.49063 -0.24093 C 0.60469 -0.23284 0.73559 -0.18313 0.86667 -0.13318 E">
                                      <p:cBhvr>
                                        <p:cTn id="710" dur="15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124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2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6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715" dur="12400" fill="hold"/>
                                        <p:tgtEl>
                                          <p:spTgt spid="4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5:09Z</dcterms:created>
  <dc:creator/>
  <dc:description/>
  <dc:language>en-US</dc:language>
  <cp:lastModifiedBy>meina</cp:lastModifiedBy>
  <dcterms:modified xsi:type="dcterms:W3CDTF">2015-08-28T02:23:0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