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6.jpeg" ContentType="image/jpeg"/>
  <Override PartName="/ppt/media/image10.png" ContentType="image/png"/>
  <Override PartName="/ppt/media/image5.png" ContentType="image/png"/>
  <Override PartName="/ppt/media/image2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3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19.gif" ContentType="image/gif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92BE-FB15-4801-8AC8-4D76DD8C5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49D6-E6A3-478E-A1B3-20FB0C0AA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B6C1-2BDD-4EC3-919E-55619EA76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346E-6CF6-4398-B1C3-24671AD37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C0BA-1DE1-4DBC-90F4-442143F73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C699-DF54-4FC4-A20E-A83C022C5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0BB9-07DF-47DE-8740-9080858AD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FA57-8E9B-48BB-B32D-1BDA28097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4A7B-B38E-4945-85B1-05C9554D5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2AC4-792B-417E-9E5A-7C82476EB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3ACE-A9A0-4428-86A3-CF4FC8A32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D336-A83F-42C3-BDA5-F1BD6B86B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8415D-1F33-4114-AC49-F3A0193A94B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" Target="slide2.xml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" Target="slide2.xml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4.xml"/><Relationship Id="rId3" Type="http://schemas.openxmlformats.org/officeDocument/2006/relationships/image" Target="../media/image3.png"/><Relationship Id="rId4" Type="http://schemas.openxmlformats.org/officeDocument/2006/relationships/slide" Target="slide6.xml"/><Relationship Id="rId5" Type="http://schemas.openxmlformats.org/officeDocument/2006/relationships/image" Target="../media/image4.png"/><Relationship Id="rId6" Type="http://schemas.openxmlformats.org/officeDocument/2006/relationships/slide" Target="slide15.xml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zqxwzx.net/news/8/2003-04-21/20030421-4996-8.shtml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2.xml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24000" y="213948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3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风 娃 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39640" y="871920"/>
            <a:ext cx="813600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风娃娃想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: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尽力为人们做好事，人们才会喜欢我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79280" y="620640"/>
            <a:ext cx="8785440" cy="5904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835280" y="1484280"/>
            <a:ext cx="55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风娃娃却一点儿也不知道，他仍然东吹吹，西吹吹，吹跑了人们晒的衣服，折断了路边新栽的小树    人们都责怪他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29242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84360" y="5120280"/>
            <a:ext cx="813564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风娃娃听了，很后悔，心想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: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我帮人们做事，为什么他们还责怪我呢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431040" y="5883120"/>
            <a:ext cx="1812960" cy="5702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79280" y="620640"/>
            <a:ext cx="8785440" cy="5904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979640" y="1341360"/>
            <a:ext cx="513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帮助人们做好事，真容易，不光要有力气，还要动脑筋呢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3276720"/>
            <a:ext cx="2040120" cy="236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611280" y="1228680"/>
            <a:ext cx="8240760" cy="360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风娃娃来到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_____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看到船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__________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他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____________________________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风娃娃来到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______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看到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________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他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52760" y="1444680"/>
            <a:ext cx="109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河边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167520" y="1444680"/>
            <a:ext cx="2363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走得很慢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90520" y="2138400"/>
            <a:ext cx="5959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急忙跑过去，对着船帆吹起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662200" y="749160"/>
            <a:ext cx="594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风带着蒲公英的种子奔向四面八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32000" y="822240"/>
            <a:ext cx="48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风将大地吹成五颜六色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82560" y="816480"/>
            <a:ext cx="799308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你想对风娃娃说些什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?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给他写一封信，把你想说的话告诉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588000" y="6027840"/>
            <a:ext cx="1812960" cy="5698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65200" y="5703840"/>
            <a:ext cx="2432160" cy="7113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3336840" y="5703840"/>
            <a:ext cx="2432160" cy="7113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6110280" y="5567400"/>
            <a:ext cx="2448000" cy="847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620640"/>
            <a:ext cx="8785440" cy="5904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207400" y="3959280"/>
            <a:ext cx="5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ff"/>
                </a:solidFill>
                <a:latin typeface="Times New Roman"/>
                <a:ea typeface="黑体"/>
              </a:rPr>
              <a:t>风娃娃长大了。它告别了风妈妈，呼呼呼地跑出了家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684360" y="1332000"/>
            <a:ext cx="7491240" cy="39686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477800" y="2295360"/>
            <a:ext cx="627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奔、旷、跺、悔、股、埋、怨、跃、纤、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1595520" y="2411280"/>
            <a:ext cx="6003360" cy="1695600"/>
            <a:chOff x="1595520" y="2411280"/>
            <a:chExt cx="6003360" cy="1695600"/>
          </a:xfrm>
        </p:grpSpPr>
        <p:sp>
          <p:nvSpPr>
            <p:cNvPr id="50" name=""/>
            <p:cNvSpPr/>
            <p:nvPr/>
          </p:nvSpPr>
          <p:spPr>
            <a:xfrm>
              <a:off x="1595520" y="4106880"/>
              <a:ext cx="6003360" cy="0"/>
            </a:xfrm>
            <a:prstGeom prst="line">
              <a:avLst/>
            </a:prstGeom>
            <a:ln w="1908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595520" y="2411280"/>
              <a:ext cx="6003360" cy="0"/>
            </a:xfrm>
            <a:prstGeom prst="line">
              <a:avLst/>
            </a:prstGeom>
            <a:ln w="1908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826920" y="1773360"/>
            <a:ext cx="7632720" cy="24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赶紧　     飞快　     深深地　     伤心　飘荡     责怪　     不住地　无影无踪    奔跑  缓慢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970520" y="5589720"/>
            <a:ext cx="1812960" cy="5698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79280" y="620640"/>
            <a:ext cx="8785440" cy="590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7T09:56:00Z</dcterms:created>
  <dc:creator>zhangshufang</dc:creator>
  <dc:description/>
  <dc:language>en-US</dc:language>
  <cp:lastModifiedBy>李旭</cp:lastModifiedBy>
  <dcterms:modified xsi:type="dcterms:W3CDTF">2011-11-02T08:37:24Z</dcterms:modified>
  <cp:revision>188</cp:revision>
  <dc:subject/>
  <dc:title>幻灯片 1</dc:title>
</cp:coreProperties>
</file>