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91C-AB1F-43E1-A013-E97EEE35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704D-A41D-4249-B660-E5EAD13C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0878-BFBD-4D0F-B66C-F1A3420B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282-2603-4935-8B39-89D58D84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F61-B025-4B77-A2AF-B78A42A4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F2B-CAAE-4FB1-B0DD-7E75A2F0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D60-84B9-4487-99F7-F4B0ACC7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E22-EA30-4257-9B8C-5ECDA150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A5D-BED6-443B-ADE6-EEF65A1A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838-7858-4BAB-B79F-75B2E48C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9B3-EA7D-4C98-98B0-1246C37C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EA5-371E-4A34-8E93-4036B62B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1E04-C25B-43B1-A1C3-84D1B3C85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file:///tmp/home/.config/libreoffice/4/user/gallery/DRAIN.WAV" TargetMode="External"/><Relationship Id="rId3" Type="http://schemas.microsoft.com/office/2007/relationships/media" Target="file:///tmp/home/.config/libreoffice/4/user/gallery/DRAIN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6,3,&#24187;&#28783;&#29255; 3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RD13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97000" y="1403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2000" y="2052720"/>
            <a:ext cx="96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1700280"/>
            <a:ext cx="52563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黑体"/>
              </a:rPr>
              <a:t>小树见它弯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黑体"/>
              </a:rPr>
              <a:t>花儿见它点头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黑体"/>
              </a:rPr>
              <a:t>云儿见它让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1880" y="556272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88760" y="4653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黑体"/>
              </a:rPr>
              <a:t>风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娃娃又来到河边，看见许多纤夫正拉着一艘船。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他们弯着腰，流着汗，喊着号子，船却走得很慢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急忙跑过去，对着船帆吹起来。船在水面上飞快地行驶。纤夫们笑了，一边收起纤绳，一边向风娃娃表示感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娃娃又来到河边，看见许多纤夫正拉着一艘船。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他们弯着腰，流着汗，喊着号子，船却走得很慢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急忙跑过去，对着船帆吹起来。船在水面上飞快地行驶。纤夫们笑了，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收起纤绳，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向风娃娃表示感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7238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380880"/>
            <a:ext cx="7620120" cy="32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会说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舞台上，演员一边唱歌，一边＿＿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妈妈一边＿＿＿＿，一边＿＿＿＿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＿＿一边＿＿＿＿，一边＿＿＿＿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3384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90720" y="160020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风娃娃想：帮助人们做好事，真容易，只要有力气就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cap="rnd" w="19044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这么想着，来到一个广场上。那里有几个孩子正在放风筝。风娃娃看见了，赶紧过去使劲吹风。风筝在空中摇摇摆摆，有的还翻起了跟头。不一会儿，风筝被吹得无影无踪，孩子们伤心极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娃娃却一点儿也不知道，他仍然东吹吹，西吹吹，吹跑了人们晒的衣服，折断了路边新栽的小树……人们都责怪他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867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43400" cy="6754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>
            <a:off x="5724360" y="1197000"/>
            <a:ext cx="1981440" cy="3020040"/>
          </a:xfrm>
          <a:prstGeom prst="rect">
            <a:avLst/>
          </a:prstGeom>
          <a:solidFill>
            <a:srgbClr val="ffffff"/>
          </a:solidFill>
          <a:ln w="11448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会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17000" cy="6840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066680" y="4038480"/>
            <a:ext cx="51818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16 </a:t>
            </a:r>
            <a:r>
              <a:rPr b="0" lang="zh-CN" sz="4800" spc="1" strike="noStrike">
                <a:ln w="507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风娃娃</a:t>
            </a:r>
            <a:endParaRPr b="0" lang="en-US" sz="4800" spc="1" strike="noStrike">
              <a:ln w="507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267080" y="1143000"/>
            <a:ext cx="45720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朋友你能帮帮风娃娃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告诉它为什么吗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114800" cy="6400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038480" y="914400"/>
            <a:ext cx="510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风娃娃听了，很伤心，心想：我帮人们做事，为什么他们还责怪我呢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因为风娃娃虽然帮人们做好事的想法是好的，但他却没有想过他做的好事是不是对别人真的有帮助，结果好心做坏事，人们还是会责怪他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ARD13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97000" y="1403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2000" y="2052720"/>
            <a:ext cx="96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1700280"/>
            <a:ext cx="739152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黑体"/>
              </a:rPr>
              <a:t>温馨提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★</a:t>
            </a:r>
            <a:r>
              <a:rPr b="1" lang="en-US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700" spc="-1" strike="noStrike">
                <a:solidFill>
                  <a:srgbClr val="3333cc"/>
                </a:solidFill>
                <a:latin typeface="Times New Roman"/>
                <a:ea typeface="黑体"/>
              </a:rPr>
              <a:t>自由读课文，读准字音，读通         句子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★★</a:t>
            </a:r>
            <a:r>
              <a:rPr b="1" lang="en-US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700" spc="-1" strike="noStrike">
                <a:solidFill>
                  <a:srgbClr val="3333cc"/>
                </a:solidFill>
                <a:latin typeface="Times New Roman"/>
                <a:ea typeface="黑体"/>
              </a:rPr>
              <a:t>想一想：风娃娃帮人们做了哪些事？可以同桌讨论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1880" y="556272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抽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水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吸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气    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纤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夫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驶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表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示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纤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绳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风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筝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伤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心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责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怪    赶紧    飞快   容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仍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然    </a:t>
            </a: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折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断   断断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续续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摇摇摆摆  无影无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08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住地点头          飞快地行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深深地吸了口气      断断续续地流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5440" y="3357720"/>
            <a:ext cx="60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弯着腰    流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汗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喊着号子  高兴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极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1447920"/>
            <a:ext cx="8278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风娃娃长大了。 风妈妈说：“到田野里去吧，在那里，你可以帮人们做许多事。”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1447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风娃娃来到田野，看见一架大风车正在慢慢转动，抽上来的水断断续续地流着。他深深地吸了一口气，使劲向风车吹去。风车一下子转得飞快！抽上来的水奔跑着，向田里流去。秧苗喝足了水，笑着不住地点头，风娃娃也高兴极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娃娃又来到河边，看见许多纤夫正拉着一艘船。他们弯着腰，流着汗，喊着号子，船却走得很慢。他急忙跑过去，对着船帆吹起来。船在水面上飞快地行驶。纤夫们笑了，一边收起纤绳，一边向风娃娃表示感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1:49:22Z</dcterms:created>
  <dc:creator>FCC</dc:creator>
  <dc:description/>
  <dc:language>en-US</dc:language>
  <cp:lastModifiedBy>Lenovo User</cp:lastModifiedBy>
  <dcterms:modified xsi:type="dcterms:W3CDTF">2015-10-13T00:27:45Z</dcterms:modified>
  <cp:revision>2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