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A2C-E125-41CB-9392-4C1D1B2E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9CA-24EB-4845-8971-07069554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C7B-E2BB-4364-A547-D16921FA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757-8D12-41B2-963B-708C3DF2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F04-676E-4FDC-A747-C332783A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076-A1EF-44DE-9CEB-286DDC60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89F-EE9A-49A3-8271-6F4A74B2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24F-54B8-49F1-B42E-EBED89CB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204-0287-4146-935D-457F26D7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91F-38D2-4FB1-B4B9-BF90B37D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310-C0E9-40D7-8D72-A13DE63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17E-A479-4440-A9A9-9495FA2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0B37-44EA-4643-951E-359D1814C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135880" y="1604880"/>
            <a:ext cx="42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方正正大黑简体"/>
                <a:ea typeface="方正正大黑简体"/>
              </a:rPr>
              <a:t>粉色卡通房子幻灯片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8381880" y="658800"/>
            <a:ext cx="76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1:16:03Z</dcterms:created>
  <dc:creator>jaming1314</dc:creator>
  <dc:description/>
  <cp:keywords/>
  <dc:language>en-US</dc:language>
  <cp:lastModifiedBy>Sky123.Org</cp:lastModifiedBy>
  <cp:lastPrinted>1899-12-30T00:00:00Z</cp:lastPrinted>
  <dcterms:modified xsi:type="dcterms:W3CDTF">2015-07-23T09:41:52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