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100-101B-41FB-BD01-DD3F3547E9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页填写作品信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此页非设计模板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页阐述作品设计理念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此页非设计模板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ED8-ED2E-4855-9127-014F132A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635-6128-4B31-9E4E-53C8355D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CD8-31EC-4CC3-AB54-55C92CC6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812-20C0-4AD1-8ADD-8E7091BD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8572-C05D-4428-BC24-ADDDDDAD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85CA-0017-443F-B61E-FF7C22E5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BAFA-E9F6-419B-9262-5733C093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357C-4064-4E8E-B268-E94AF37E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945D-2E4C-468F-BCFA-F0534A5F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D40-0160-4D90-8FF8-C24E175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41EE-865D-4ADA-B61D-5A3CAFA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47D-1326-4FA0-A12F-87F4FEA2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1F0B-57DB-4E35-8D1E-51E6975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1265-39B2-45F0-990B-6DAA73F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14B8-BAA4-4FD0-9B55-0A446AF6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6DA0-753E-4054-8900-237B5559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074-39EF-4635-B745-2ABB2075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4D5A-8518-4C4E-95E1-83939DEC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C696-2197-4997-9193-25D1E6EB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24D7-C130-43B5-ADA5-AFF19350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2AE3-B368-4EC3-8361-FBA7AB49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5482-3366-4357-921D-0BAEFBF8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4DD-7C79-4ADB-AFA8-407BE6D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70A8-D794-426A-B5BF-D16F880B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4F89-C4F8-4245-9A70-DB6530E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E7F8-2191-443E-A5B1-E1EF69AD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75B6-66B7-4A4C-801B-DDC1D82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FF4B-1CAE-442C-A8BB-EF9FF165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7CB9-3FDD-4237-B3D7-5EE68978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2D9B-AFBD-4761-816E-4D5165AA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8DE-C7A6-46A4-B1A0-180B118F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388-BAAB-4DAC-97FE-EE9E7566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76D-3E79-4763-A101-B114A1A9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CF8-CB7A-464D-90AF-631EEF5C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7AE-4204-4F27-AEF9-936D4BC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782-B37A-45E7-9FB7-4412135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FEDA-5113-4662-B0A2-392BAF7F46A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B41E-F6EE-4017-83D5-371CDA881C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53CE-CFD0-4F8E-816E-5315E7961F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5813280"/>
            <a:ext cx="3672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作品名称：轻松办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作者姓名：俞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2428" t="23605" r="16667" b="32405"/>
          <a:stretch/>
        </p:blipFill>
        <p:spPr>
          <a:xfrm>
            <a:off x="6791400" y="1665360"/>
            <a:ext cx="2388960" cy="177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-31680" y="174132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33" name="2" descr=""/>
          <p:cNvPicPr/>
          <p:nvPr/>
        </p:nvPicPr>
        <p:blipFill>
          <a:blip r:embed="rId3"/>
          <a:stretch/>
        </p:blipFill>
        <p:spPr>
          <a:xfrm>
            <a:off x="7523280" y="6450120"/>
            <a:ext cx="1295280" cy="322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446960" y="6033960"/>
            <a:ext cx="1585800" cy="34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61080" y="609120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主办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61080" y="642780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协办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64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请在此处填写作品信息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（此页非设计页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2916360" y="174600"/>
            <a:ext cx="3530520" cy="486396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 rot="20940000">
            <a:off x="2889360" y="836280"/>
            <a:ext cx="3914640" cy="25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 rot="20880000">
            <a:off x="4110480" y="3104640"/>
            <a:ext cx="35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820000">
            <a:off x="4149720" y="4438440"/>
            <a:ext cx="22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wps.cn/zt/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"/>
                            </p:stCondLst>
                            <p:childTnLst>
                              <p:par>
                                <p:cTn id="12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19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6000" y="495360"/>
            <a:ext cx="874872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 rot="21480000">
            <a:off x="7165800" y="4530240"/>
            <a:ext cx="1498680" cy="217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请在此页阐述作品设计理念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（此页非设计模板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8205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设计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</a:rPr>
              <a:t>请阐述这幅作品的设计理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作品采用粉色和办公楼为基本元素，清新的蓝色作为字体。封面采用斜插半透明的制作手法，形式感现代感强；目录两字加入横条以显轻松；标题采用倩体让蓝色和粉色相交错，显示出轻松活泼；过度页采用封面的图片作为字的底纹，加入横条与前面目录两字加入的横条相呼应；内容页用粉色画出不同的形状底纹；封底同样采用过渡页的手法，但没有加横条，是封底完结的总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图片来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</a:rPr>
              <a:t>如果此</a:t>
            </a:r>
            <a:r>
              <a:rPr b="0" lang="zh-CN" sz="15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1500" spc="-1" strike="noStrike">
                <a:solidFill>
                  <a:srgbClr val="ffffff"/>
                </a:solidFill>
                <a:latin typeface="微软雅黑"/>
              </a:rPr>
              <a:t>引用了非原创图片，请注明来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 rot="20940000">
            <a:off x="7071840" y="4982760"/>
            <a:ext cx="160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够范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你就来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 rot="20940000">
            <a:off x="7392240" y="5954760"/>
            <a:ext cx="15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首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设计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"/>
                            </p:stCondLst>
                            <p:childTnLst>
                              <p:par>
                                <p:cTn id="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83073 0.16213 E">
                                      <p:cBhvr>
                                        <p:cTn id="29" dur="2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78 0.010361 L 0.009787 0.045146 L -0.013744 0.045146 L -0.001978 0.010361 Z">
                                      <p:cBhvr>
                                        <p:cTn id="40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中国研究开发中心</cp:lastModifiedBy>
  <dcterms:modified xsi:type="dcterms:W3CDTF">2012-12-14T09:13:29Z</dcterms:modified>
  <cp:revision>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