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8DD-2074-4C72-A559-EBF74C6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3BB-6FC0-4871-AD69-D618BED3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2AB-E392-4887-A8F1-D8D466E3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A1A-5D7B-43D0-AE71-E0EA7278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F07-4B8A-49B8-A4BA-B87B729B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20D-C323-46E9-947E-6417D4A3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73E-B1C1-431A-9AAB-A35C393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8FA-B648-447D-8E78-4100008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9BC-4914-4A05-BE61-A95B5C3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50E-33F7-4931-942C-81032D1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F51-96EB-44BD-B39C-697050B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4A3-8054-41D1-B281-796F949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4C0-0E05-4284-B3DD-7018E3762A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37148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857160" y="4500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9-11T06:29:39Z</dcterms:modified>
  <cp:revision>77</cp:revision>
  <dc:subject/>
  <dc:title>幻灯片 1</dc:title>
</cp:coreProperties>
</file>