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C5D-C134-4D8A-B3FC-6AAA5D61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21C-318B-4B0C-AB8D-A6DEA2CF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58C-7041-4D53-B920-CA50AB4D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ED3-4BC9-4ACE-968E-CC98132A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4C5-B408-4746-9EE8-EA1577D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1E6-68AE-4836-BAD5-A6D759C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ECD-4DE0-406B-B2AC-89BC8A6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2C6-E3E0-47EC-A483-9658244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910-75FF-4D5C-9198-A962AA5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A21-6145-4EBA-9865-8BDF7A93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7A6-01AD-46C0-BBFB-DD03897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8B0-6442-4986-9F5F-A4BC4D7D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43A-03A5-4539-8D18-ED062F7DFB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71720" y="42861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71720" y="50007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4-15T02:15:00Z</dcterms:modified>
  <cp:revision>76</cp:revision>
  <dc:subject/>
  <dc:title>幻灯片 1</dc:title>
</cp:coreProperties>
</file>