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42.jpeg" ContentType="image/jpeg"/>
  <Override PartName="/ppt/media/image24.png" ContentType="image/png"/>
  <Override PartName="/ppt/media/image1.gif" ContentType="image/gif"/>
  <Override PartName="/ppt/media/image11.jpeg" ContentType="image/jpeg"/>
  <Override PartName="/ppt/media/image22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20.png" ContentType="image/png"/>
  <Override PartName="/ppt/media/image9.jpeg" ContentType="image/jpeg"/>
  <Override PartName="/ppt/media/image40.png" ContentType="image/png"/>
  <Override PartName="/ppt/media/image30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31.jpeg" ContentType="image/jpeg"/>
  <Override PartName="/ppt/media/image38.gif" ContentType="image/gif"/>
  <Override PartName="/ppt/media/image44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5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8CA56520-D9D6-4DA3-9842-D5E113F0C409}" type="doc">
      <dgm:prSet loTypeId="urn:microsoft.com/office/officeart/2005/8/layout/hList3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0F728A84-D4AF-4F6B-8B77-076B3D1A4D9E}">
      <dgm:prSet phldrT="[文本]" custT="1"/>
      <dgm:spPr/>
      <dgm:t>
        <a:bodyPr/>
        <a:lstStyle/>
        <a:p>
          <a:r>
            <a:rPr lang="zh-CN" altLang="en-US" sz="4000" dirty="0" smtClean="0"/>
            <a:t>  给力ＰＰＴ  </a:t>
          </a:r>
          <a:endParaRPr lang="zh-CN" altLang="en-US" sz="4000" dirty="0"/>
        </a:p>
      </dgm:t>
    </dgm:pt>
    <dgm:pt modelId="{8734DF1B-AF01-4683-BC4F-BF8053F2577D}" type="parTrans" cxnId="{570594D6-5409-4633-BA2C-804C1521FF6C}">
      <dgm:prSet/>
      <dgm:spPr/>
      <dgm:t>
        <a:bodyPr/>
        <a:lstStyle/>
        <a:p>
          <a:endParaRPr lang="zh-CN" altLang="en-US"/>
        </a:p>
      </dgm:t>
    </dgm:pt>
    <dgm:pt modelId="{43322265-F4D1-482D-A76D-428DA970A58C}" type="sibTrans" cxnId="{570594D6-5409-4633-BA2C-804C1521FF6C}">
      <dgm:prSet/>
      <dgm:spPr/>
      <dgm:t>
        <a:bodyPr/>
        <a:lstStyle/>
        <a:p>
          <a:endParaRPr lang="zh-CN" altLang="en-US"/>
        </a:p>
      </dgm:t>
    </dgm:pt>
    <dgm:pt modelId="{890EDACD-6148-4726-86DD-B614C7BCD765}">
      <dgm:prSet phldrT="[文本]" custT="1"/>
      <dgm:spPr/>
      <dgm:t>
        <a:bodyPr/>
        <a:lstStyle/>
        <a:p>
          <a:r>
            <a:rPr lang="zh-CN" altLang="en-US" sz="4000" dirty="0" smtClean="0"/>
            <a:t>短语</a:t>
          </a:r>
          <a:endParaRPr lang="zh-CN" altLang="en-US" sz="4000" dirty="0"/>
        </a:p>
      </dgm:t>
    </dgm:pt>
    <dgm:pt modelId="{60897FCC-0EDA-4378-8D50-2506B2593AE0}" type="parTrans" cxnId="{11F5C92B-B931-48D9-92CE-ADC21485A8C2}">
      <dgm:prSet/>
      <dgm:spPr/>
      <dgm:t>
        <a:bodyPr/>
        <a:lstStyle/>
        <a:p>
          <a:endParaRPr lang="zh-CN" altLang="en-US"/>
        </a:p>
      </dgm:t>
    </dgm:pt>
    <dgm:pt modelId="{850FEE88-9E05-41B1-906E-1F5504F947F5}" type="sibTrans" cxnId="{11F5C92B-B931-48D9-92CE-ADC21485A8C2}">
      <dgm:prSet/>
      <dgm:spPr/>
      <dgm:t>
        <a:bodyPr/>
        <a:lstStyle/>
        <a:p>
          <a:endParaRPr lang="zh-CN" altLang="en-US"/>
        </a:p>
      </dgm:t>
    </dgm:pt>
    <dgm:pt modelId="{9062F5E5-C28E-494E-BAD1-9E83D9043571}">
      <dgm:prSet phldrT="[文本]" custT="1"/>
      <dgm:spPr/>
      <dgm:t>
        <a:bodyPr/>
        <a:lstStyle/>
        <a:p>
          <a:r>
            <a:rPr lang="zh-CN" altLang="en-US" sz="4000" dirty="0" smtClean="0"/>
            <a:t>图表</a:t>
          </a:r>
          <a:endParaRPr lang="zh-CN" altLang="en-US" sz="4000" dirty="0"/>
        </a:p>
      </dgm:t>
    </dgm:pt>
    <dgm:pt modelId="{875C1C99-3796-4AA1-8FEC-3AB193EE49D2}" type="parTrans" cxnId="{FD35B30C-EE91-4FDF-B492-750884A0C3D2}">
      <dgm:prSet/>
      <dgm:spPr/>
      <dgm:t>
        <a:bodyPr/>
        <a:lstStyle/>
        <a:p>
          <a:endParaRPr lang="zh-CN" altLang="en-US"/>
        </a:p>
      </dgm:t>
    </dgm:pt>
    <dgm:pt modelId="{9F766CE8-065E-4792-A626-D8FFD39EB3AF}" type="sibTrans" cxnId="{FD35B30C-EE91-4FDF-B492-750884A0C3D2}">
      <dgm:prSet/>
      <dgm:spPr/>
      <dgm:t>
        <a:bodyPr/>
        <a:lstStyle/>
        <a:p>
          <a:endParaRPr lang="zh-CN" altLang="en-US"/>
        </a:p>
      </dgm:t>
    </dgm:pt>
    <dgm:pt modelId="{7DDC3901-BC06-4648-A431-7A724A6BD662}">
      <dgm:prSet phldrT="[文本]" custT="1"/>
      <dgm:spPr/>
      <dgm:t>
        <a:bodyPr/>
        <a:lstStyle/>
        <a:p>
          <a:r>
            <a:rPr lang="zh-CN" altLang="en-US" sz="4000" dirty="0" smtClean="0"/>
            <a:t>三三</a:t>
          </a:r>
          <a:endParaRPr lang="zh-CN" altLang="en-US" sz="4000" dirty="0"/>
        </a:p>
      </dgm:t>
    </dgm:pt>
    <dgm:pt modelId="{391B66E5-0D0E-4B06-827F-436526168B1A}" type="parTrans" cxnId="{43C0C9AF-93C2-478A-89E0-B3E2637F98AC}">
      <dgm:prSet/>
      <dgm:spPr/>
      <dgm:t>
        <a:bodyPr/>
        <a:lstStyle/>
        <a:p>
          <a:endParaRPr lang="zh-CN" altLang="en-US"/>
        </a:p>
      </dgm:t>
    </dgm:pt>
    <dgm:pt modelId="{9C8E8B99-2678-4576-B006-B5BACB6C57B0}" type="sibTrans" cxnId="{43C0C9AF-93C2-478A-89E0-B3E2637F98AC}">
      <dgm:prSet/>
      <dgm:spPr/>
      <dgm:t>
        <a:bodyPr/>
        <a:lstStyle/>
        <a:p>
          <a:endParaRPr lang="zh-CN" altLang="en-US"/>
        </a:p>
      </dgm:t>
    </dgm:pt>
    <dgm:pt modelId="{267395B5-ADEE-4D7A-9921-F02FA5B438E7}" type="pres">
      <dgm:prSet presAssocID="{8CA56520-D9D6-4DA3-9842-D5E113F0C409}" presName="composite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13304F3C-432E-4CD8-A3B1-D248B66894BA}" type="pres">
      <dgm:prSet presAssocID="{0F728A84-D4AF-4F6B-8B77-076B3D1A4D9E}" presName="roof" presStyleLbl="dkBgShp" presStyleIdx="0" presStyleCnt="2"/>
      <dgm:spPr/>
      <dgm:t>
        <a:bodyPr/>
        <a:lstStyle/>
        <a:p>
          <a:endParaRPr lang="zh-CN" altLang="en-US"/>
        </a:p>
      </dgm:t>
    </dgm:pt>
    <dgm:pt modelId="{D0A6533D-6327-4665-872A-E32685213AE8}" type="pres">
      <dgm:prSet presAssocID="{0F728A84-D4AF-4F6B-8B77-076B3D1A4D9E}" presName="pillars" presStyleCnt="0"/>
      <dgm:spPr/>
    </dgm:pt>
    <dgm:pt modelId="{2935C7B1-BAFC-4BC4-BC96-A18DAB592E20}" type="pres">
      <dgm:prSet presAssocID="{0F728A84-D4AF-4F6B-8B77-076B3D1A4D9E}" presName="pillar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7262A3D-30BD-47AB-AD93-8F909CAFBAB3}" type="pres">
      <dgm:prSet presAssocID="{9062F5E5-C28E-494E-BAD1-9E83D9043571}" presName="pillarX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0CE60B8-E14C-4D84-A590-312490FDAA87}" type="pres">
      <dgm:prSet presAssocID="{7DDC3901-BC06-4648-A431-7A724A6BD662}" presName="pillarX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FF2150-ABD5-41E3-B7BD-C2A221664C44}" type="pres">
      <dgm:prSet presAssocID="{0F728A84-D4AF-4F6B-8B77-076B3D1A4D9E}" presName="base" presStyleLbl="dkBgShp" presStyleIdx="1" presStyleCnt="2"/>
      <dgm:spPr/>
    </dgm:pt>
  </dgm:ptLst>
  <dgm:cxnLst>
    <dgm:cxn modelId="{E7C2BE48-0813-4715-AD49-4E73D7DECD4E}" type="presOf" srcId="{890EDACD-6148-4726-86DD-B614C7BCD765}" destId="{2935C7B1-BAFC-4BC4-BC96-A18DAB592E20}" srcOrd="0" destOrd="0" presId="urn:microsoft.com/office/officeart/2005/8/layout/hList3"/>
    <dgm:cxn modelId="{A87CA93B-72BA-4FEF-BD55-B2AD458471B1}" type="presOf" srcId="{9062F5E5-C28E-494E-BAD1-9E83D9043571}" destId="{A7262A3D-30BD-47AB-AD93-8F909CAFBAB3}" srcOrd="0" destOrd="0" presId="urn:microsoft.com/office/officeart/2005/8/layout/hList3"/>
    <dgm:cxn modelId="{43C0C9AF-93C2-478A-89E0-B3E2637F98AC}" srcId="{0F728A84-D4AF-4F6B-8B77-076B3D1A4D9E}" destId="{7DDC3901-BC06-4648-A431-7A724A6BD662}" srcOrd="2" destOrd="0" parTransId="{391B66E5-0D0E-4B06-827F-436526168B1A}" sibTransId="{9C8E8B99-2678-4576-B006-B5BACB6C57B0}"/>
    <dgm:cxn modelId="{FD35B30C-EE91-4FDF-B492-750884A0C3D2}" srcId="{0F728A84-D4AF-4F6B-8B77-076B3D1A4D9E}" destId="{9062F5E5-C28E-494E-BAD1-9E83D9043571}" srcOrd="1" destOrd="0" parTransId="{875C1C99-3796-4AA1-8FEC-3AB193EE49D2}" sibTransId="{9F766CE8-065E-4792-A626-D8FFD39EB3AF}"/>
    <dgm:cxn modelId="{570594D6-5409-4633-BA2C-804C1521FF6C}" srcId="{8CA56520-D9D6-4DA3-9842-D5E113F0C409}" destId="{0F728A84-D4AF-4F6B-8B77-076B3D1A4D9E}" srcOrd="0" destOrd="0" parTransId="{8734DF1B-AF01-4683-BC4F-BF8053F2577D}" sibTransId="{43322265-F4D1-482D-A76D-428DA970A58C}"/>
    <dgm:cxn modelId="{D876E6D0-9873-4F38-8A5A-3F13399AD848}" type="presOf" srcId="{0F728A84-D4AF-4F6B-8B77-076B3D1A4D9E}" destId="{13304F3C-432E-4CD8-A3B1-D248B66894BA}" srcOrd="0" destOrd="0" presId="urn:microsoft.com/office/officeart/2005/8/layout/hList3"/>
    <dgm:cxn modelId="{1ACBE658-81B4-4646-B244-0E6D47E1F158}" type="presOf" srcId="{8CA56520-D9D6-4DA3-9842-D5E113F0C409}" destId="{267395B5-ADEE-4D7A-9921-F02FA5B438E7}" srcOrd="0" destOrd="0" presId="urn:microsoft.com/office/officeart/2005/8/layout/hList3"/>
    <dgm:cxn modelId="{9AAD8B77-51A6-40A9-9811-D6FAC0EA7379}" type="presOf" srcId="{7DDC3901-BC06-4648-A431-7A724A6BD662}" destId="{60CE60B8-E14C-4D84-A590-312490FDAA87}" srcOrd="0" destOrd="0" presId="urn:microsoft.com/office/officeart/2005/8/layout/hList3"/>
    <dgm:cxn modelId="{11F5C92B-B931-48D9-92CE-ADC21485A8C2}" srcId="{0F728A84-D4AF-4F6B-8B77-076B3D1A4D9E}" destId="{890EDACD-6148-4726-86DD-B614C7BCD765}" srcOrd="0" destOrd="0" parTransId="{60897FCC-0EDA-4378-8D50-2506B2593AE0}" sibTransId="{850FEE88-9E05-41B1-906E-1F5504F947F5}"/>
    <dgm:cxn modelId="{E2AE26D5-EDAE-46AC-ADA4-D70A7950FE89}" type="presParOf" srcId="{267395B5-ADEE-4D7A-9921-F02FA5B438E7}" destId="{13304F3C-432E-4CD8-A3B1-D248B66894BA}" srcOrd="0" destOrd="0" presId="urn:microsoft.com/office/officeart/2005/8/layout/hList3"/>
    <dgm:cxn modelId="{91EF1953-2A3D-499A-9DF1-F54E538B2132}" type="presParOf" srcId="{267395B5-ADEE-4D7A-9921-F02FA5B438E7}" destId="{D0A6533D-6327-4665-872A-E32685213AE8}" srcOrd="1" destOrd="0" presId="urn:microsoft.com/office/officeart/2005/8/layout/hList3"/>
    <dgm:cxn modelId="{2D0CF6AA-D65E-4612-859A-7442F343A179}" type="presParOf" srcId="{D0A6533D-6327-4665-872A-E32685213AE8}" destId="{2935C7B1-BAFC-4BC4-BC96-A18DAB592E20}" srcOrd="0" destOrd="0" presId="urn:microsoft.com/office/officeart/2005/8/layout/hList3"/>
    <dgm:cxn modelId="{E0686297-307D-465B-99DA-89A161603AB5}" type="presParOf" srcId="{D0A6533D-6327-4665-872A-E32685213AE8}" destId="{A7262A3D-30BD-47AB-AD93-8F909CAFBAB3}" srcOrd="1" destOrd="0" presId="urn:microsoft.com/office/officeart/2005/8/layout/hList3"/>
    <dgm:cxn modelId="{14819568-873B-4417-9EE1-103E12847CAE}" type="presParOf" srcId="{D0A6533D-6327-4665-872A-E32685213AE8}" destId="{60CE60B8-E14C-4D84-A590-312490FDAA87}" srcOrd="2" destOrd="0" presId="urn:microsoft.com/office/officeart/2005/8/layout/hList3"/>
    <dgm:cxn modelId="{3CBB30BD-7F53-4438-B580-4AD3D55CCDAC}" type="presParOf" srcId="{267395B5-ADEE-4D7A-9921-F02FA5B438E7}" destId="{09FF2150-ABD5-41E3-B7BD-C2A221664C44}" srcOrd="2" destOrd="0" presId="urn:microsoft.com/office/officeart/2005/8/layout/hList3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13304F3C-432E-4CD8-A3B1-D248B66894BA}">
      <dsp:nvSpPr>
        <dsp:cNvPr id="0" name=""/>
        <dsp:cNvSpPr/>
      </dsp:nvSpPr>
      <dsp:spPr>
        <a:xfrm>
          <a:off x="0" y="0"/>
          <a:ext cx="3214710" cy="942981"/>
        </a:xfrm>
        <a:prstGeom prst="rect">
          <a:avLst/>
        </a:prstGeom>
        <a:solidFill>
          <a:schemeClr val="accent1">
            <a:shade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0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kern="1200" dirty="0" smtClean="0"/>
            <a:t>  给力ＰＰＴ  </a:t>
          </a:r>
          <a:endParaRPr lang="zh-CN" altLang="en-US" sz="4000" kern="1200" dirty="0"/>
        </a:p>
      </dsp:txBody>
      <dsp:txXfrm>
        <a:off x="0" y="0"/>
        <a:ext cx="3214710" cy="942981"/>
      </dsp:txXfrm>
    </dsp:sp>
    <dsp:sp modelId="{2935C7B1-BAFC-4BC4-BC96-A18DAB592E20}">
      <dsp:nvSpPr>
        <dsp:cNvPr id="0" name=""/>
        <dsp:cNvSpPr/>
      </dsp:nvSpPr>
      <dsp:spPr>
        <a:xfrm>
          <a:off x="1569" y="942981"/>
          <a:ext cx="1070523" cy="1980260"/>
        </a:xfrm>
        <a:prstGeom prst="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50000"/>
                <a:satMod val="300000"/>
              </a:schemeClr>
            </a:gs>
            <a:gs pos="35000">
              <a:schemeClr val="accent1">
                <a:hueOff val="0"/>
                <a:satOff val="0"/>
                <a:lumOff val="0"/>
                <a:alphaOff val="0"/>
                <a:tint val="37000"/>
                <a:satMod val="3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kern="1200" dirty="0" smtClean="0"/>
            <a:t>短语</a:t>
          </a:r>
          <a:endParaRPr lang="zh-CN" altLang="en-US" sz="4000" kern="1200" dirty="0"/>
        </a:p>
      </dsp:txBody>
      <dsp:txXfrm>
        <a:off x="1569" y="942981"/>
        <a:ext cx="1070523" cy="1980260"/>
      </dsp:txXfrm>
    </dsp:sp>
    <dsp:sp modelId="{A7262A3D-30BD-47AB-AD93-8F909CAFBAB3}">
      <dsp:nvSpPr>
        <dsp:cNvPr id="0" name=""/>
        <dsp:cNvSpPr/>
      </dsp:nvSpPr>
      <dsp:spPr>
        <a:xfrm>
          <a:off x="1072093" y="942981"/>
          <a:ext cx="1070523" cy="1980260"/>
        </a:xfrm>
        <a:prstGeom prst="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50000"/>
                <a:satMod val="300000"/>
              </a:schemeClr>
            </a:gs>
            <a:gs pos="35000">
              <a:schemeClr val="accent1">
                <a:hueOff val="0"/>
                <a:satOff val="0"/>
                <a:lumOff val="0"/>
                <a:alphaOff val="0"/>
                <a:tint val="37000"/>
                <a:satMod val="3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kern="1200" dirty="0" smtClean="0"/>
            <a:t>图表</a:t>
          </a:r>
          <a:endParaRPr lang="zh-CN" altLang="en-US" sz="4000" kern="1200" dirty="0"/>
        </a:p>
      </dsp:txBody>
      <dsp:txXfrm>
        <a:off x="1072093" y="942981"/>
        <a:ext cx="1070523" cy="1980260"/>
      </dsp:txXfrm>
    </dsp:sp>
    <dsp:sp modelId="{60CE60B8-E14C-4D84-A590-312490FDAA87}">
      <dsp:nvSpPr>
        <dsp:cNvPr id="0" name=""/>
        <dsp:cNvSpPr/>
      </dsp:nvSpPr>
      <dsp:spPr>
        <a:xfrm>
          <a:off x="2142616" y="942981"/>
          <a:ext cx="1070523" cy="1980260"/>
        </a:xfrm>
        <a:prstGeom prst="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tint val="50000"/>
                <a:satMod val="300000"/>
              </a:schemeClr>
            </a:gs>
            <a:gs pos="35000">
              <a:schemeClr val="accent1">
                <a:hueOff val="0"/>
                <a:satOff val="0"/>
                <a:lumOff val="0"/>
                <a:alphaOff val="0"/>
                <a:tint val="37000"/>
                <a:satMod val="30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ctr" defTabSz="1778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kern="1200" dirty="0" smtClean="0"/>
            <a:t>三三</a:t>
          </a:r>
          <a:endParaRPr lang="zh-CN" altLang="en-US" sz="4000" kern="1200" dirty="0"/>
        </a:p>
      </dsp:txBody>
      <dsp:txXfrm>
        <a:off x="2142616" y="942981"/>
        <a:ext cx="1070523" cy="1980260"/>
      </dsp:txXfrm>
    </dsp:sp>
    <dsp:sp modelId="{09FF2150-ABD5-41E3-B7BD-C2A221664C44}">
      <dsp:nvSpPr>
        <dsp:cNvPr id="0" name=""/>
        <dsp:cNvSpPr/>
      </dsp:nvSpPr>
      <dsp:spPr>
        <a:xfrm>
          <a:off x="0" y="2923242"/>
          <a:ext cx="3214710" cy="220028"/>
        </a:xfrm>
        <a:prstGeom prst="rect">
          <a:avLst/>
        </a:prstGeom>
        <a:solidFill>
          <a:schemeClr val="accent1">
            <a:shade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0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3">
  <dgm:title val=""/>
  <dgm:desc val=""/>
  <dgm:catLst>
    <dgm:cat type="list" pri="19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5" srcId="0" destId="1" srcOrd="0" destOrd="0"/>
        <dgm:cxn modelId="6" srcId="1" destId="2" srcOrd="0" destOrd="0"/>
        <dgm:cxn modelId="7" srcId="1" destId="3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</dgm:ptLst>
      <dgm:cxnLst>
        <dgm:cxn modelId="6" srcId="0" destId="1" srcOrd="0" destOrd="0"/>
        <dgm:cxn modelId="7" srcId="1" destId="2" srcOrd="0" destOrd="0"/>
        <dgm:cxn modelId="8" srcId="1" destId="3" srcOrd="1" destOrd="0"/>
        <dgm:cxn modelId="9" srcId="1" destId="4" srcOrd="2" destOrd="0"/>
        <dgm:cxn modelId="10" srcId="1" destId="5" srcOrd="3" destOrd="0"/>
      </dgm:cxnLst>
      <dgm:bg/>
      <dgm:whole/>
    </dgm:dataModel>
  </dgm:clrData>
  <dgm:layoutNode name="composite">
    <dgm:varLst>
      <dgm:chMax val="1"/>
      <dgm:dir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roof" refType="w"/>
      <dgm:constr type="h" for="ch" forName="roof" refType="h" fact="0.3"/>
      <dgm:constr type="primFontSz" for="ch" forName="roof" val="65"/>
      <dgm:constr type="w" for="ch" forName="pillars" refType="w"/>
      <dgm:constr type="h" for="ch" forName="pillars" refType="h" fact="0.63"/>
      <dgm:constr type="t" for="ch" forName="pillars" refType="h" fact="0.3"/>
      <dgm:constr type="primFontSz" for="des" forName="pillar1" val="65"/>
      <dgm:constr type="primFontSz" for="des" forName="pillarX" refType="primFontSz" refFor="des" refForName="pillar1" op="equ"/>
      <dgm:constr type="w" for="ch" forName="base" refType="w"/>
      <dgm:constr type="h" for="ch" forName="base" refType="h" fact="0.07"/>
      <dgm:constr type="t" for="ch" forName="base" refType="h" fact="0.93"/>
    </dgm:constrLst>
    <dgm:ruleLst/>
    <dgm:forEach name="Name0" axis="ch" ptType="node" cnt="1">
      <dgm:layoutNode name="roof" styleLbl="dkBgShp">
        <dgm:alg type="tx"/>
        <dgm:shape xmlns:r="http://schemas.openxmlformats.org/officeDocument/2006/relationships" type="rect" r:blip="">
          <dgm:adjLst/>
        </dgm:shape>
        <dgm:presOf axis="self"/>
        <dgm:constrLst>
          <dgm:constr type="lMarg" refType="primFontSz" fact="0.3"/>
          <dgm:constr type="rMarg" refType="primFontSz" fact="0.3"/>
          <dgm:constr type="tMarg" refType="primFontSz" fact="0.3"/>
          <dgm:constr type="bMarg" refType="primFontSz" fact="0.3"/>
        </dgm:constrLst>
        <dgm:ruleLst>
          <dgm:rule type="primFontSz" val="5" fact="NaN" max="NaN"/>
        </dgm:ruleLst>
      </dgm:layoutNode>
      <dgm:layoutNode name="pillars" styleLbl="node1">
        <dgm:choose name="Name1">
          <dgm:if name="Name2" func="var" arg="dir" op="equ" val="norm">
            <dgm:alg type="lin">
              <dgm:param type="linDir" val="fromL"/>
            </dgm:alg>
          </dgm:if>
          <dgm:else name="Name3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illar1" refType="w"/>
          <dgm:constr type="h" for="ch" forName="pillar1" refType="h"/>
          <dgm:constr type="w" for="ch" forName="pillarX" refType="w"/>
          <dgm:constr type="h" for="ch" forName="pillarX" refType="h"/>
        </dgm:constrLst>
        <dgm:ruleLst/>
        <dgm:layoutNode name="pillar1" styleLbl="node1">
          <dgm:varLst>
            <dgm:bulletEnabled val="1"/>
          </dgm:varLst>
          <dgm:alg type="tx"/>
          <dgm:shape xmlns:r="http://schemas.openxmlformats.org/officeDocument/2006/relationships" type="rect" r:blip="">
            <dgm:adjLst/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forEach name="Name4" axis="ch" ptType="node" st="2">
          <dgm:layoutNode name="pillarX" styleLbl="node1">
            <dgm:varLst>
              <dgm:bulletEnabled val="1"/>
            </dgm:varLst>
            <dgm:alg type="tx"/>
            <dgm:shape xmlns:r="http://schemas.openxmlformats.org/officeDocument/2006/relationships" type="rect" r:blip="">
              <dgm:adjLst/>
            </dgm:shape>
            <dgm:presOf axis="desOrSelf" ptType="node"/>
            <dgm:constrLst>
              <dgm:constr type="lMarg" refType="primFontSz" fact="0.3"/>
              <dgm:constr type="rMarg" refType="primFontSz" fact="0.3"/>
              <dgm:constr type="tMarg" refType="primFontSz" fact="0.3"/>
              <dgm:constr type="bMarg" refType="primFontSz" fact="0.3"/>
            </dgm:constrLst>
            <dgm:ruleLst>
              <dgm:rule type="primFontSz" val="5" fact="NaN" max="NaN"/>
            </dgm:ruleLst>
          </dgm:layoutNode>
        </dgm:forEach>
      </dgm:layoutNode>
      <dgm:layoutNode name="base" styleLbl="dkBgShp">
        <dgm:alg type="sp"/>
        <dgm:shape xmlns:r="http://schemas.openxmlformats.org/officeDocument/2006/relationships" type="rect" r:blip="">
          <dgm:adjLst/>
        </dgm:shape>
        <dgm:presOf/>
        <dgm:constrLst/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1BC-5E70-454D-AB57-D56C81A0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7A0-A4B5-44E4-8A2D-13CC92F8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C4A-366C-4A34-97C1-2C452710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E0B-85A0-4DA4-8CB5-2AF68915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48B6-ADCB-421F-BF13-0B502194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852C-F365-4AD8-BFD8-851E85F9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E68A-0804-4F49-A765-A48F3A6F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E633-F9B6-4C1B-95ED-7A807D77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7A35-2EED-4FEB-8F8B-08443B2B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C76F-6A1B-42BC-83FD-C12DBFD4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0ACE-EC17-4AEE-9327-DB6BEBC1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599-8174-47E3-A3CC-B4216A8A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E3E4-2097-4781-9CEA-6AD99CE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B39D-C635-4F39-96DF-695973D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6C2A-4C26-4A6D-96C3-409D84A2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187A-98C2-4D74-9409-A071E0CF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42BE-7C8C-4E19-B24E-0D5138A2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8C7E-6059-47A6-965A-058F141C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09E16-6201-41EB-A3E4-CF6C510F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4DE2D-DEF5-4EBB-8F86-2606D879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91F88-E50B-4892-A033-B7245D3A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F9C0-AA66-4BCA-80D9-9A49BFEE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82D-8B49-44E8-907E-A106E296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7E2B-D6F1-4309-BDC3-76C3F66F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C9A0-0CEF-4462-9D28-3734792B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2D59-5193-47A7-A589-ACA9488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FC74E-A67E-4420-B886-39EFE83D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B014-64C9-4D9D-8A08-A0329FD9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9240-87DF-4A89-8EBC-DA811CFB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6D1D-F603-4F3E-B96F-51C0872E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6B10-7F76-45ED-85E8-08272772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96616-FD51-4F93-95EB-4A1D7BD8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47A0-8BE8-411D-A65A-139A4BD1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72B-C1F5-474E-94EF-20ABFDA6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A9A4E-63A7-4743-A689-0736A159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9914-7F2A-4D83-B0B1-FF84D5C0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2F881-DB9D-4936-9F9C-A94D7890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CF6D5-FAEC-4E2B-8F94-C94D7529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130C5-6930-44A4-ABE1-96CAB0EC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F1A9D-C9D3-407C-A386-AA8BA66E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8E27-0EA5-4578-8097-627DA1BF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453C2-322C-4BBB-AD08-BF13AA0F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4A45E-4B94-4E08-8B67-6DD0C259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58868-3B19-4916-B173-8BB7A7F9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DDD-7AF0-443D-960B-C2B57A62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4AC3D-63CF-448C-ABFA-957AAA60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9FC7-C877-486E-95DA-D27868C4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DB18D-4973-46D7-BF50-B25F0F1E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3BFEE-B7D6-492D-AE24-266287EA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7B896-329A-4ADF-A064-C1B112E1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FB4A-EDC4-4C20-A0EE-4900343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C3804-2391-4386-8362-A389EE0A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5497-B190-4D6B-BB92-478929B3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8CBF2-27C0-4164-9CF6-2CBA0080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BD419-ADC1-48C8-B1B2-5524EC92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42B-9800-4AB8-A2E9-628E896B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82459-B154-4AC7-9485-6079B711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761-0E9F-4A3C-B645-BD081225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5AC-94A3-477B-89D6-6728777A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0F7-8910-409D-AC8F-350419FA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11442B-CDB3-445E-AF88-046513EC3FC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1AE546-EB5C-471B-9B92-4D94E5A35ED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E39F02-8846-4D3A-ABA2-37B6C876AF6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A13282-6C96-4C64-AFAA-EFCFFDE4CCA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53B50C-4DD1-479C-B3E0-AB3882AD623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radafoundation.org/yinx.asp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gif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aike.tiantianxiangyang.com/doc.php?action=view&amp;docid=19" TargetMode="External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45000"/>
            <a:ext cx="7772040" cy="17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分钟精彩演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293000"/>
            <a:ext cx="6400440" cy="13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8b8b8b"/>
                </a:solidFill>
                <a:latin typeface="Calibri"/>
              </a:rPr>
              <a:t>穆晓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8b8b8b"/>
                </a:solidFill>
                <a:latin typeface="Calibri"/>
              </a:rPr>
              <a:t>南都银杏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" descr="http://www.naradafoundation.org/images/logo1.gif"/>
          <p:cNvPicPr/>
          <p:nvPr/>
        </p:nvPicPr>
        <p:blipFill>
          <a:blip r:embed="rId1"/>
          <a:stretch/>
        </p:blipFill>
        <p:spPr>
          <a:xfrm>
            <a:off x="467640" y="332640"/>
            <a:ext cx="2592000" cy="9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常规性培训技术知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032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政准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程教具，现场布局，学员分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仪态神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姿势神态，话筒服装，位置移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语音有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穿透性，稳定性，节奏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标第一：一切为主题服务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注受众，形式为内容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尊重规则，控制时间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好谋而成，持续改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572080" y="1643040"/>
            <a:ext cx="3114360" cy="44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身眼手足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话筒不挡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2533320" cy="3009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小结和练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2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演讲的目的：受众导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法则：惊讶，兴趣，接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仪态：身眼手足，话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语音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语速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紧张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受众心理节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有效控制时间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5796000" y="2709000"/>
            <a:ext cx="2390040" cy="325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分点表达：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树状图的表达结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牢记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法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善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必须：多说具象，少说抽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察和观照对方既往的经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用对方喜欢的方式与之沟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交易成本越低越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吸收转化越高越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强行归纳，适当放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4860000" y="1917000"/>
            <a:ext cx="3660480" cy="3983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重要的管理思想：结构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7714800" cy="4028760"/>
          </a:xfrm>
          <a:prstGeom prst="rect">
            <a:avLst/>
          </a:prstGeom>
          <a:ln w="9525">
            <a:noFill/>
          </a:ln>
        </p:spPr>
      </p:pic>
      <p:sp>
        <p:nvSpPr>
          <p:cNvPr id="256" name="Text Box 4"/>
          <p:cNvSpPr/>
          <p:nvPr/>
        </p:nvSpPr>
        <p:spPr>
          <a:xfrm>
            <a:off x="611280" y="1773360"/>
            <a:ext cx="2592000" cy="36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_GB2312"/>
              </a:rPr>
              <a:t>表格比你会说话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1428840" y="5500800"/>
            <a:ext cx="61434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冲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提出问题—分解结构—给出答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95280" y="6165720"/>
            <a:ext cx="718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chemeClr val="accent2"/>
                </a:solidFill>
                <a:latin typeface="Calibri"/>
                <a:ea typeface="楷体_GB2312"/>
              </a:rPr>
              <a:t>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职业能力是人生幸福的保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331640" y="1628640"/>
            <a:ext cx="6552360" cy="4715280"/>
          </a:xfrm>
          <a:prstGeom prst="rect">
            <a:avLst/>
          </a:prstGeom>
          <a:ln w="9525">
            <a:noFill/>
          </a:ln>
        </p:spPr>
      </p:pic>
      <p:sp>
        <p:nvSpPr>
          <p:cNvPr id="261" name="Text Box 8"/>
          <p:cNvSpPr/>
          <p:nvPr/>
        </p:nvSpPr>
        <p:spPr>
          <a:xfrm>
            <a:off x="395280" y="6165720"/>
            <a:ext cx="718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chemeClr val="accent2"/>
                </a:solidFill>
                <a:latin typeface="Calibri"/>
                <a:ea typeface="楷体_GB2312"/>
              </a:rPr>
              <a:t>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薪酬跑不赢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PI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你要对自己投资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899640" y="1556640"/>
            <a:ext cx="7455960" cy="4032720"/>
          </a:xfrm>
          <a:prstGeom prst="rect">
            <a:avLst/>
          </a:prstGeom>
          <a:ln w="9525">
            <a:noFill/>
          </a:ln>
        </p:spPr>
      </p:pic>
      <p:sp>
        <p:nvSpPr>
          <p:cNvPr id="264" name="Text Box 8"/>
          <p:cNvSpPr/>
          <p:nvPr/>
        </p:nvSpPr>
        <p:spPr>
          <a:xfrm>
            <a:off x="395280" y="6165720"/>
            <a:ext cx="718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chemeClr val="accent2"/>
                </a:solidFill>
                <a:latin typeface="Calibri"/>
                <a:ea typeface="楷体_GB2312"/>
              </a:rPr>
              <a:t>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5"/>
          <p:cNvSpPr/>
          <p:nvPr/>
        </p:nvSpPr>
        <p:spPr>
          <a:xfrm>
            <a:off x="4932000" y="5805360"/>
            <a:ext cx="360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归纳三点，每点展开三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2555640" y="1772640"/>
            <a:ext cx="6048360" cy="4537080"/>
          </a:xfrm>
          <a:prstGeom prst="rect">
            <a:avLst/>
          </a:prstGeom>
          <a:ln w="9525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11640" y="1700640"/>
            <a:ext cx="5758920" cy="4320000"/>
          </a:xfrm>
          <a:prstGeom prst="rect">
            <a:avLst/>
          </a:prstGeom>
          <a:ln w="9525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1187640" y="1412640"/>
            <a:ext cx="6376320" cy="4824000"/>
          </a:xfrm>
          <a:prstGeom prst="rect">
            <a:avLst/>
          </a:prstGeom>
          <a:ln w="9525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归纳，提炼，不断进行思维加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395280" y="6165720"/>
            <a:ext cx="718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chemeClr val="accent2"/>
                </a:solidFill>
                <a:latin typeface="Calibri"/>
                <a:ea typeface="楷体_GB2312"/>
              </a:rPr>
              <a:t>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最简捷有效的课程表述模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3200" spc="-1" strike="noStrike">
                <a:solidFill>
                  <a:srgbClr val="0070c0"/>
                </a:solidFill>
                <a:latin typeface="Calibri"/>
              </a:rPr>
              <a:t>树状图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70c0"/>
                </a:solidFill>
                <a:latin typeface="Calibri"/>
              </a:rPr>
              <a:t>黄金三点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+</a:t>
            </a:r>
            <a:r>
              <a:rPr b="1" lang="zh-CN" sz="3200" spc="-1" strike="noStrike">
                <a:solidFill>
                  <a:srgbClr val="0070c0"/>
                </a:solidFill>
                <a:latin typeface="Calibri"/>
              </a:rPr>
              <a:t>基本表述模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每个观点都尽量按照三段论模式讲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点集中，逻辑清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理解深入，不说空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体可行，有建设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4428000" y="3789000"/>
            <a:ext cx="2232000" cy="2259720"/>
          </a:xfrm>
          <a:prstGeom prst="rect">
            <a:avLst/>
          </a:prstGeom>
          <a:ln w="9525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6876360" y="2781000"/>
            <a:ext cx="1656000" cy="3277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树状图结构中的每个知识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640" y="1484640"/>
            <a:ext cx="8290800" cy="46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做人好，做事一定好：简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.d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杜绝浪费，充分利用资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物质载体强化文化价值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咬文嚼字：融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团队建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观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案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建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5" descr="Img240089949"/>
          <p:cNvPicPr/>
          <p:nvPr/>
        </p:nvPicPr>
        <p:blipFill>
          <a:blip r:embed="rId1"/>
          <a:stretch/>
        </p:blipFill>
        <p:spPr>
          <a:xfrm>
            <a:off x="6012000" y="4221000"/>
            <a:ext cx="2544120" cy="1907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2"/>
          <a:stretch/>
        </p:blipFill>
        <p:spPr>
          <a:xfrm>
            <a:off x="6876360" y="1772640"/>
            <a:ext cx="1656000" cy="1241640"/>
          </a:xfrm>
          <a:prstGeom prst="rect">
            <a:avLst/>
          </a:prstGeom>
          <a:ln w="9525">
            <a:noFill/>
          </a:ln>
        </p:spPr>
      </p:pic>
      <p:pic>
        <p:nvPicPr>
          <p:cNvPr id="279" name="Picture 7" descr=""/>
          <p:cNvPicPr/>
          <p:nvPr/>
        </p:nvPicPr>
        <p:blipFill>
          <a:blip r:embed="rId3"/>
          <a:stretch/>
        </p:blipFill>
        <p:spPr>
          <a:xfrm>
            <a:off x="6876360" y="3069000"/>
            <a:ext cx="1656000" cy="1060920"/>
          </a:xfrm>
          <a:prstGeom prst="rect">
            <a:avLst/>
          </a:prstGeom>
          <a:ln w="9525">
            <a:noFill/>
          </a:ln>
        </p:spPr>
      </p:pic>
      <p:pic>
        <p:nvPicPr>
          <p:cNvPr id="280" name="Picture 4" descr="104998_1177495256427"/>
          <p:cNvPicPr/>
          <p:nvPr/>
        </p:nvPicPr>
        <p:blipFill>
          <a:blip r:embed="rId4"/>
          <a:stretch/>
        </p:blipFill>
        <p:spPr>
          <a:xfrm>
            <a:off x="3492000" y="4293000"/>
            <a:ext cx="24465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参与越多，收获越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启蒙教室”公益活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天睿员工每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个公益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你亲身经历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感受毕竟不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Calibri"/>
              </a:rPr>
              <a:t>阅历塑造你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5436000" y="1772640"/>
            <a:ext cx="2995200" cy="2168280"/>
          </a:xfrm>
          <a:prstGeom prst="rect">
            <a:avLst/>
          </a:prstGeom>
          <a:ln w="9525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5220000" y="4077000"/>
            <a:ext cx="3254040" cy="2115720"/>
          </a:xfrm>
          <a:prstGeom prst="rect">
            <a:avLst/>
          </a:prstGeom>
          <a:ln w="9525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2915640" y="4077000"/>
            <a:ext cx="2247480" cy="2084040"/>
          </a:xfrm>
          <a:prstGeom prst="rect">
            <a:avLst/>
          </a:prstGeom>
          <a:ln w="9525">
            <a:noFill/>
          </a:ln>
        </p:spPr>
      </p:pic>
      <p:sp>
        <p:nvSpPr>
          <p:cNvPr id="286" name="Text Box 8"/>
          <p:cNvSpPr/>
          <p:nvPr/>
        </p:nvSpPr>
        <p:spPr>
          <a:xfrm>
            <a:off x="395280" y="6165720"/>
            <a:ext cx="718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chemeClr val="accent2"/>
                </a:solidFill>
                <a:latin typeface="Calibri"/>
                <a:ea typeface="楷体_GB2312"/>
              </a:rPr>
              <a:t>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破冰：分组，相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自我介绍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我叫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来自哪里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做什么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一句话的机构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最近最高兴的一件事是。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http://www.naradafoundation.org/images/yinxing_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20000" y="2709000"/>
            <a:ext cx="316476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黄金三点，简单有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创新基于模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从工具到自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899640" y="3357000"/>
            <a:ext cx="2376000" cy="2621520"/>
          </a:xfrm>
          <a:prstGeom prst="rect">
            <a:avLst/>
          </a:prstGeom>
          <a:ln w="9525">
            <a:noFill/>
          </a:ln>
        </p:spPr>
      </p:pic>
      <p:pic>
        <p:nvPicPr>
          <p:cNvPr id="290" name="Picture 6" descr=""/>
          <p:cNvPicPr/>
          <p:nvPr/>
        </p:nvPicPr>
        <p:blipFill>
          <a:blip r:embed="rId2"/>
          <a:stretch/>
        </p:blipFill>
        <p:spPr>
          <a:xfrm>
            <a:off x="3636000" y="4293000"/>
            <a:ext cx="1583640" cy="1799280"/>
          </a:xfrm>
          <a:prstGeom prst="rect">
            <a:avLst/>
          </a:prstGeom>
          <a:ln w="9525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3"/>
          <a:stretch/>
        </p:blipFill>
        <p:spPr>
          <a:xfrm>
            <a:off x="5652000" y="4293000"/>
            <a:ext cx="1409040" cy="1793520"/>
          </a:xfrm>
          <a:prstGeom prst="rect">
            <a:avLst/>
          </a:prstGeom>
          <a:ln w="9525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1223640" cy="1223640"/>
          </a:xfrm>
          <a:prstGeom prst="rect">
            <a:avLst/>
          </a:prstGeom>
          <a:ln w="9525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5"/>
          <a:stretch/>
        </p:blipFill>
        <p:spPr>
          <a:xfrm>
            <a:off x="6372360" y="1556640"/>
            <a:ext cx="1900800" cy="2160000"/>
          </a:xfrm>
          <a:prstGeom prst="rect">
            <a:avLst/>
          </a:prstGeom>
          <a:ln w="9525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6"/>
          <a:stretch/>
        </p:blipFill>
        <p:spPr>
          <a:xfrm>
            <a:off x="7452360" y="4149000"/>
            <a:ext cx="1007640" cy="199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精彩结尾的近因效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凤头，猪肚，豹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尾通常是励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总结，归纳，号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员每人一句话或三点收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Q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以准备双结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直接建议解决方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尾不说希望说相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一个国家的竞争力取决于企业的竞争力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5" descr="1209920018JBsI3XB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1785960"/>
            <a:ext cx="2663640" cy="266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总结，回顾，巩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2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演讲的目的：一切技巧都是为目标服务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三句话，三个词，观点，案例，建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仪态，语音，语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感染力和节奏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坚决控制时间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设计冲突、靓点和幽默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结尾：号召，相信，行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6300360" y="2997000"/>
            <a:ext cx="2163600" cy="1872000"/>
          </a:xfrm>
          <a:prstGeom prst="rect">
            <a:avLst/>
          </a:prstGeom>
          <a:ln w="9525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2"/>
          <a:stretch/>
        </p:blipFill>
        <p:spPr>
          <a:xfrm>
            <a:off x="5580000" y="5157360"/>
            <a:ext cx="3096000" cy="86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笑看风云学李耳，游刃有余做庖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5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播国学，赞襄管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谢分享，欢迎交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"/>
              </a:rPr>
              <a:t>穆晓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楷体"/>
              </a:rPr>
              <a:t>1391111715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楷体"/>
              </a:rPr>
              <a:t>228557151@qq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4" descr="300052325174487941"/>
          <p:cNvPicPr/>
          <p:nvPr/>
        </p:nvPicPr>
        <p:blipFill>
          <a:blip r:embed="rId1"/>
          <a:stretch/>
        </p:blipFill>
        <p:spPr>
          <a:xfrm>
            <a:off x="5292720" y="1700280"/>
            <a:ext cx="3069720" cy="4090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楷体_GB2312"/>
              </a:rPr>
              <a:t>传播知识，赞襄管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440" cy="45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穆晓军主讲课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国学思想与管理实践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精彩演讲和有效沟通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职业素养和管理能力提升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管理中的经济学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企业的社会责任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楷体"/>
              </a:rPr>
              <a:t>TTT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培训师的培训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管理方法和领导力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企业高管的人力资源管理技能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企业管理中的法律知识和技能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财经简史及对当代管理的启发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楷体"/>
              </a:rPr>
              <a:t>《家族企业治理转型和管理提升》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4" descr="法律思维封面穆晓军"/>
          <p:cNvPicPr/>
          <p:nvPr/>
        </p:nvPicPr>
        <p:blipFill>
          <a:blip r:embed="rId1"/>
          <a:stretch/>
        </p:blipFill>
        <p:spPr>
          <a:xfrm>
            <a:off x="4932360" y="1413000"/>
            <a:ext cx="1671120" cy="2447640"/>
          </a:xfrm>
          <a:prstGeom prst="rect">
            <a:avLst/>
          </a:prstGeom>
          <a:ln w="9525">
            <a:noFill/>
          </a:ln>
        </p:spPr>
      </p:pic>
      <p:pic>
        <p:nvPicPr>
          <p:cNvPr id="308" name="Picture 5" descr="学易经通管理封面穆晓军"/>
          <p:cNvPicPr/>
          <p:nvPr/>
        </p:nvPicPr>
        <p:blipFill>
          <a:blip r:embed="rId2"/>
          <a:stretch/>
        </p:blipFill>
        <p:spPr>
          <a:xfrm>
            <a:off x="5143680" y="3857760"/>
            <a:ext cx="1569600" cy="2257200"/>
          </a:xfrm>
          <a:prstGeom prst="rect">
            <a:avLst/>
          </a:prstGeom>
          <a:ln w="9525">
            <a:noFill/>
          </a:ln>
        </p:spPr>
      </p:pic>
      <p:pic>
        <p:nvPicPr>
          <p:cNvPr id="309" name="Picture 6" descr="财经简史封面穆晓军"/>
          <p:cNvPicPr/>
          <p:nvPr/>
        </p:nvPicPr>
        <p:blipFill>
          <a:blip r:embed="rId3"/>
          <a:stretch/>
        </p:blipFill>
        <p:spPr>
          <a:xfrm>
            <a:off x="6804000" y="1557360"/>
            <a:ext cx="1634760" cy="2263320"/>
          </a:xfrm>
          <a:prstGeom prst="rect">
            <a:avLst/>
          </a:prstGeom>
          <a:ln w="9525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4"/>
          <a:stretch/>
        </p:blipFill>
        <p:spPr>
          <a:xfrm>
            <a:off x="6858000" y="3929040"/>
            <a:ext cx="1571400" cy="231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公众演讲的目标是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表达自己是手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影响受众是目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增加受众认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改变受众态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促使受众行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建立巩固关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Calibri"/>
              </a:rPr>
              <a:t>受众导向，传播规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4428000" y="2061000"/>
            <a:ext cx="4228560" cy="2664000"/>
          </a:xfrm>
          <a:prstGeom prst="rect">
            <a:avLst/>
          </a:prstGeom>
          <a:ln w="9525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714920" y="2709000"/>
            <a:ext cx="3556080" cy="1771920"/>
          </a:xfrm>
          <a:prstGeom prst="rect">
            <a:avLst/>
          </a:prstGeom>
          <a:ln w="9525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3"/>
          <a:stretch/>
        </p:blipFill>
        <p:spPr>
          <a:xfrm>
            <a:off x="5508000" y="2133000"/>
            <a:ext cx="2520000" cy="3247920"/>
          </a:xfrm>
          <a:prstGeom prst="rect">
            <a:avLst/>
          </a:prstGeom>
          <a:ln w="9525">
            <a:noFill/>
          </a:ln>
        </p:spPr>
      </p:pic>
      <p:pic>
        <p:nvPicPr>
          <p:cNvPr id="217" name="Picture 2" descr="http://images.55bbs.com/day_090703/20090703_499ee18ed051da926ecbA439It5CfBxh.jpg"/>
          <p:cNvPicPr/>
          <p:nvPr/>
        </p:nvPicPr>
        <p:blipFill>
          <a:blip r:embed="rId4"/>
          <a:stretch/>
        </p:blipFill>
        <p:spPr>
          <a:xfrm>
            <a:off x="4500000" y="2493000"/>
            <a:ext cx="40255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</a:rPr>
              <a:t>大道至简：</a:t>
            </a:r>
            <a:r>
              <a:rPr b="1" lang="en-US" sz="6000" spc="-1" strike="noStrike">
                <a:solidFill>
                  <a:srgbClr val="cc3300"/>
                </a:solidFill>
                <a:latin typeface="黑体"/>
              </a:rPr>
              <a:t>P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</a:rPr>
              <a:t>ower</a:t>
            </a:r>
            <a:r>
              <a:rPr b="1" lang="en-US" sz="6000" spc="-1" strike="noStrike">
                <a:solidFill>
                  <a:srgbClr val="cc3300"/>
                </a:solidFill>
                <a:latin typeface="黑体"/>
              </a:rPr>
              <a:t>P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</a:rPr>
              <a:t>oin</a:t>
            </a:r>
            <a:r>
              <a:rPr b="1" lang="en-US" sz="6000" spc="-1" strike="noStrike">
                <a:solidFill>
                  <a:srgbClr val="cc3300"/>
                </a:solidFill>
                <a:latin typeface="黑体"/>
              </a:rPr>
              <a:t>T</a:t>
            </a:r>
            <a:r>
              <a:rPr b="0" lang="zh-CN" sz="6000" spc="-1" strike="noStrike">
                <a:solidFill>
                  <a:srgbClr val="000000"/>
                </a:solidFill>
                <a:latin typeface="黑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448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宁用短语不用句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用图表少用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３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三不见九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探索受众认知规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归纳法高度提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阐释了传播基本规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客户导向：要关心你的受众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是表达自己，而是帮助别人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712612956"/>
              </p:ext>
            </p:extLst>
          </p:nvPr>
        </p:nvGraphicFramePr>
        <p:xfrm>
          <a:off x="5357880" y="2357280"/>
          <a:ext cx="3214440" cy="3142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表述：精彩开场的首因效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4400280" cy="45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0070c0"/>
              </a:buClr>
              <a:buFont typeface="Arial"/>
              <a:buChar char="•"/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黑体"/>
              </a:rPr>
              <a:t>惊讶，兴趣，接纳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秒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树立主题，澄清价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为什么要听？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结构介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提出要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预测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树立威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00760" y="1571760"/>
            <a:ext cx="3685680" cy="46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在于你讲了什么，而在于受众听到了什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需求就没有市场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0" descr=""/>
          <p:cNvPicPr/>
          <p:nvPr/>
        </p:nvPicPr>
        <p:blipFill>
          <a:blip r:embed="rId1"/>
          <a:stretch/>
        </p:blipFill>
        <p:spPr>
          <a:xfrm>
            <a:off x="5500800" y="1928880"/>
            <a:ext cx="2823840" cy="2207880"/>
          </a:xfrm>
          <a:prstGeom prst="rect">
            <a:avLst/>
          </a:prstGeom>
          <a:ln w="9525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2"/>
          <a:stretch/>
        </p:blipFill>
        <p:spPr>
          <a:xfrm>
            <a:off x="3924000" y="4509000"/>
            <a:ext cx="4536000" cy="1511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2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" dur="3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Scale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校园与职场有什么不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卓有成效的职场新人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常生活与企业管理的根本区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职业化：社会角色的转换和适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角色要求，符合角色期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356920" cy="1723680"/>
          </a:xfrm>
          <a:prstGeom prst="rect">
            <a:avLst/>
          </a:prstGeom>
          <a:ln w="9525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6012000" y="2205000"/>
            <a:ext cx="2350800" cy="3528720"/>
          </a:xfrm>
          <a:prstGeom prst="rect">
            <a:avLst/>
          </a:prstGeom>
          <a:ln w="9525">
            <a:noFill/>
          </a:ln>
        </p:spPr>
      </p:pic>
      <p:sp>
        <p:nvSpPr>
          <p:cNvPr id="229" name="Text Box 8"/>
          <p:cNvSpPr/>
          <p:nvPr/>
        </p:nvSpPr>
        <p:spPr>
          <a:xfrm>
            <a:off x="395280" y="6165720"/>
            <a:ext cx="718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chemeClr val="accent2"/>
                </a:solidFill>
                <a:latin typeface="Calibri"/>
                <a:ea typeface="楷体_GB2312"/>
              </a:rPr>
              <a:t>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2008812215549790"/>
          <p:cNvPicPr/>
          <p:nvPr/>
        </p:nvPicPr>
        <p:blipFill>
          <a:blip r:embed="rId3"/>
          <a:stretch/>
        </p:blipFill>
        <p:spPr>
          <a:xfrm>
            <a:off x="826920" y="4013280"/>
            <a:ext cx="2304720" cy="1690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企业需要承担社会责任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18080" cy="44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司的社会责任就是为股东们赚钱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企业的唯一目标是按照最能获利的方式使用股东授予的资本，对利润最大化目标的任何偏离都危及公司的生存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企业是营利性社会组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责任是追求利益最大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绝对营利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论之修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00720" y="4214880"/>
            <a:ext cx="2520720" cy="1645920"/>
          </a:xfrm>
          <a:prstGeom prst="rect">
            <a:avLst/>
          </a:prstGeom>
          <a:ln w="9525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7215120" y="4143240"/>
            <a:ext cx="1207800" cy="1655280"/>
          </a:xfrm>
          <a:prstGeom prst="rect">
            <a:avLst/>
          </a:prstGeom>
          <a:ln w="9525">
            <a:noFill/>
          </a:ln>
        </p:spPr>
      </p:pic>
      <p:sp>
        <p:nvSpPr>
          <p:cNvPr id="235" name="Text Box 5"/>
          <p:cNvSpPr/>
          <p:nvPr/>
        </p:nvSpPr>
        <p:spPr>
          <a:xfrm>
            <a:off x="395280" y="6165720"/>
            <a:ext cx="718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chemeClr val="accent2"/>
                </a:solidFill>
                <a:latin typeface="Calibri"/>
                <a:ea typeface="楷体_GB2312"/>
              </a:rPr>
              <a:t>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人本管理提升生产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5186160" cy="45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面劳动与公司利润正相关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价昂贵的鞠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台湾《工商时报》：富士康员工第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跳，再加上全球股市动荡，鸿海集团总市值单日蒸发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91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亿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佳雇主的回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对超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家被评为最佳雇主的企业调查，资本回报率平均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3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年利润增长率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40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，高级人才流失率只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1%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5724360" y="2589120"/>
            <a:ext cx="3024000" cy="2896920"/>
          </a:xfrm>
          <a:prstGeom prst="rect">
            <a:avLst/>
          </a:prstGeom>
          <a:ln w="9525">
            <a:noFill/>
          </a:ln>
        </p:spPr>
      </p:pic>
      <p:sp>
        <p:nvSpPr>
          <p:cNvPr id="239" name="Text Box 5"/>
          <p:cNvSpPr/>
          <p:nvPr/>
        </p:nvSpPr>
        <p:spPr>
          <a:xfrm>
            <a:off x="395280" y="6165720"/>
            <a:ext cx="718920" cy="366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zh-CN" sz="2400" spc="-1" strike="noStrike">
                <a:solidFill>
                  <a:schemeClr val="accent2"/>
                </a:solidFill>
                <a:latin typeface="Calibri"/>
                <a:ea typeface="楷体_GB2312"/>
              </a:rPr>
              <a:t>案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克服紧张，感谢困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类上台讲话都会紧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机会伪装为困难来敲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充分熟悉，全息演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低预期，专注于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深吸慢呼，缓解定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炼关键词，小卡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手持物品，双屏电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宁可沉默，不可恩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达紧张，假设赞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建立关系，寻求支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4" descr="20_200808011414331EEpe"/>
          <p:cNvPicPr/>
          <p:nvPr/>
        </p:nvPicPr>
        <p:blipFill>
          <a:blip r:embed="rId1"/>
          <a:stretch/>
        </p:blipFill>
        <p:spPr>
          <a:xfrm>
            <a:off x="5572080" y="1857240"/>
            <a:ext cx="2356920" cy="3350880"/>
          </a:xfrm>
          <a:prstGeom prst="rect">
            <a:avLst/>
          </a:prstGeom>
          <a:ln w="9525">
            <a:noFill/>
          </a:ln>
        </p:spPr>
      </p:pic>
      <p:sp>
        <p:nvSpPr>
          <p:cNvPr id="243" name="TextBox 5"/>
          <p:cNvSpPr/>
          <p:nvPr/>
        </p:nvSpPr>
        <p:spPr>
          <a:xfrm>
            <a:off x="5072040" y="5429160"/>
            <a:ext cx="3285720" cy="333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从最容易最熟悉的开始训练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Scale>
                                      <p:cBhvr>
                                        <p:cTn id="1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1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  <Words>1073</Words>
  <Paragraphs>22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3:50:01Z</dcterms:created>
  <dc:creator>穆晓军</dc:creator>
  <dc:description/>
  <dc:language>en-US</dc:language>
  <cp:lastModifiedBy>穆晓军</cp:lastModifiedBy>
  <dcterms:modified xsi:type="dcterms:W3CDTF">2011-10-25T03:13:29Z</dcterms:modified>
  <cp:revision>11</cp:revision>
  <dc:subject/>
  <dc:title>5分钟精彩演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4</vt:r8>
  </property>
</Properties>
</file>