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23.png" ContentType="image/png"/>
  <Override PartName="/ppt/media/image18.gif" ContentType="image/gif"/>
  <Override PartName="/ppt/media/image13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4.jpeg" ContentType="image/jpeg"/>
  <Override PartName="/ppt/media/image3.gif" ContentType="image/gif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chimes.wav" ContentType="audio/x-wav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C3BF-E043-4606-82CF-B1B062A9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339-7A42-472F-B5B8-E04BC33A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6D8B-19A8-4CA6-92D7-8081B286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980F-41CA-4051-83A3-2842087B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90C-F169-47D6-84D4-A47BC7F1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7E3B-C6D9-42D4-AC95-ECBE5BFE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22B1-F5F6-496D-A88D-1A72C4FA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2BA-8FA3-4644-9FA7-0C84CE7E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6C66-AD04-4C8B-BCA9-B0214295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09E-EB7C-4843-B972-D610E083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CDE6-00F9-4D8F-9E77-7B7D51C3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1F53-8707-4E2F-93A0-58FB140C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DB7C-ED88-444F-B827-7FEEC781A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_large_lLD3_213b00097d3c2d0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468360" y="2781360"/>
            <a:ext cx="6337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们每个人都有自己的梦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下面请同学们说说我们的梦想是什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124000" y="407664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组交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m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3677040" y="1197000"/>
            <a:ext cx="2863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3300"/>
                </a:solidFill>
                <a:latin typeface="Arial"/>
              </a:rPr>
              <a:t>畅谈梦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3124080" y="3333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关于梦想的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187280" y="1413000"/>
            <a:ext cx="63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梦想只要能持久，就能成为现实。我们不就是生活在梦想中的吗？（丁尼生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梦想一旦被付诸行动，就会变得神圣（阿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安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普罗克特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人生最苦痛的是梦醒了无路可走。做梦的人是幸福的；倘没有看出可以走的路，最要紧的是不要去惊醒他（鲁迅）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755640" y="90792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，我们是祖国的花朵，是祖国的希望，我们背负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世纪的使命与希望。同时我们还活在竞争激烈的现代社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 rot="20759400">
            <a:off x="4491000" y="3788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c1c04"/>
                </a:solidFill>
                <a:latin typeface="Arial"/>
              </a:rPr>
              <a:t>机会总是留给有准备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64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519120" y="189000"/>
            <a:ext cx="82296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作为一名中学生，学习好这是大家都不可否认的，但这却不是一名合格的中学生的全部。对于一位有所作为的人来说，理想往往是至关重要的。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 flipV="1" rot="9784800">
            <a:off x="1166400" y="4468320"/>
            <a:ext cx="75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让你的理想高于才干，你的今天才有可能超过昨天，你的明天才有可能超过今天。</a:t>
            </a:r>
            <a:r>
              <a:rPr b="1" lang="en-US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----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纪伯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p_large_HinR_78b90000935f2d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3804120" y="69228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何实现梦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468360" y="321300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人距离他们的目标只缺少了一个正确的决定，而且对大多数人来说，这个正确的决定就是下决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自己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决定展开行动，追求目标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个世界上，没有一个人比一个决心达到目标的人更有力量，然而，在每个人下定决心之前，你必须先了解的是：首先，千万不要把如何实现梦想和梦想本身混为一谈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次，不要猜测你的梦想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>
            <a:lum bright="70000" contrast="-70000"/>
          </a:blip>
          <a:srcRect l="0" t="0" r="15182" b="0"/>
          <a:stretch/>
        </p:blipFill>
        <p:spPr>
          <a:xfrm>
            <a:off x="7543800" y="0"/>
            <a:ext cx="1365120" cy="1447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rcRect l="0" t="0" r="15182" b="0"/>
          <a:stretch/>
        </p:blipFill>
        <p:spPr>
          <a:xfrm>
            <a:off x="228600" y="5257800"/>
            <a:ext cx="1220760" cy="1295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228600" y="533520"/>
            <a:ext cx="684360" cy="684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4"/>
          <a:stretch/>
        </p:blipFill>
        <p:spPr>
          <a:xfrm>
            <a:off x="4114800" y="5791320"/>
            <a:ext cx="684360" cy="684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5"/>
          <a:stretch/>
        </p:blipFill>
        <p:spPr>
          <a:xfrm>
            <a:off x="5715000" y="5105520"/>
            <a:ext cx="684360" cy="68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6"/>
          <a:stretch/>
        </p:blipFill>
        <p:spPr>
          <a:xfrm>
            <a:off x="7086600" y="4724280"/>
            <a:ext cx="684360" cy="68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7"/>
          <a:stretch/>
        </p:blipFill>
        <p:spPr>
          <a:xfrm>
            <a:off x="304920" y="3962520"/>
            <a:ext cx="684000" cy="684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"/>
          <p:cNvPicPr/>
          <p:nvPr/>
        </p:nvPicPr>
        <p:blipFill>
          <a:blip r:embed="rId8"/>
          <a:stretch/>
        </p:blipFill>
        <p:spPr>
          <a:xfrm>
            <a:off x="2438280" y="5181480"/>
            <a:ext cx="684360" cy="684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"/>
          <p:cNvPicPr/>
          <p:nvPr/>
        </p:nvPicPr>
        <p:blipFill>
          <a:blip r:embed="rId9"/>
          <a:stretch/>
        </p:blipFill>
        <p:spPr>
          <a:xfrm>
            <a:off x="8077320" y="5638680"/>
            <a:ext cx="684000" cy="684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1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900000" y="12682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539640" y="1700280"/>
            <a:ext cx="8136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凡事预则立，不预则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对于目标的实现，外部的环境和条件是次要的，个人的志向、毅力和奋斗精神才是至关重要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确立目标的这个时刻起，只要你们会付诸行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锲而不舍地朝着自己的人生目标去努力奋斗，你们就会感到自己的信念和干劲在倍增，你们所确立的所有的目标都有可能实现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152280" y="3049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给自己一个目标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我们如何造就自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68360" y="2060640"/>
            <a:ext cx="55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一）立志为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95280" y="3500280"/>
            <a:ext cx="55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二）贵在必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50920" y="4724280"/>
            <a:ext cx="830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三）培养坚毅的品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宣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971640" y="184464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900000" y="1700280"/>
            <a:ext cx="7201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c1c04"/>
                </a:solidFill>
                <a:latin typeface="Arial"/>
              </a:rPr>
              <a:t>梦想成就辉煌，激情点燃希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c1c04"/>
                </a:solidFill>
                <a:latin typeface="Arial"/>
              </a:rPr>
              <a:t>强者居尊应为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c1c04"/>
                </a:solidFill>
                <a:latin typeface="Arial"/>
              </a:rPr>
              <a:t>英雄到此敢力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c1c04"/>
                </a:solidFill>
                <a:latin typeface="Arial"/>
              </a:rPr>
              <a:t>壮志激情筑梦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c1c04"/>
                </a:solidFill>
                <a:latin typeface="Arial"/>
              </a:rPr>
              <a:t>我相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c1c04"/>
                </a:solidFill>
                <a:latin typeface="Arial"/>
              </a:rPr>
              <a:t>我能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831760" y="1916280"/>
            <a:ext cx="3594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圣火第一次点燃是希望在跟随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终点已不再永久是心灵在体会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在乎等待几多轮回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在乎欢笑伴着泪水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超越梦想一起飞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我需要真心面对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让生命回味这一刻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让岁月铭记这一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2627280" y="90792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超越梦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超越梦想.mp3" descr=""/>
          <p:cNvPicPr/>
          <p:nvPr/>
        </p:nvPicPr>
        <p:blipFill>
          <a:blip r:embed="rId2"/>
          <a:stretch/>
        </p:blipFill>
        <p:spPr>
          <a:xfrm>
            <a:off x="7451640" y="5516640"/>
            <a:ext cx="5936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98687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78ffb425082a6700db2327d49270fef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2004521111346943"/>
          <p:cNvPicPr/>
          <p:nvPr/>
        </p:nvPicPr>
        <p:blipFill>
          <a:blip r:embed="rId2"/>
          <a:stretch/>
        </p:blipFill>
        <p:spPr>
          <a:xfrm>
            <a:off x="684360" y="-531720"/>
            <a:ext cx="4464000" cy="36939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相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想飞上天 和太阳肩并肩 世界等着我去改变 想做的梦 从不怕别人看见 在这里我都能实现 大声欢笑让你我肩并肩 何处不能欢乐无限 抛开烦恼 勇敢的大步向前 我就站在舞台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相信我就是我 我相信明天 我相信青春没有地平线 在日落的海边 在热闹的大街 都是我心中最美的乐园 我相信自由自在 我相信希望 我相信伸手就能碰到天 有你在我身边 让生活更新鲜 每一刻都精采万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do belie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1908000" y="4149720"/>
            <a:ext cx="749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谢谢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755640" y="90792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让我们放飞梦想一起飞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p_large_djKL_78b9000093622d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258920" y="5493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什么是梦想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84360" y="173520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提到梦想，那么什么是梦想？在很多人认为梦想实现不了则是幻想。梦想其实就是人们在内心深处对某一种成功的渴望。人人都想成为一个成功的人士。追求成功是个人提升和社会最完美的最伟大的驱动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生活中，常有“梦想成真”之说。“梦想”是人生最美好的愿望，是人生追求的目标。人人都有自己的梦想，只要不是脱离实际，只要不是违背客观，只要不是好高鹜远，任何“梦想”都能“成真”。当然，欲使“梦想”成为现实，只有靠自己艰苦奋斗，不懈追求，才能得到你所要的东西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29"/>
          <p:cNvPicPr/>
          <p:nvPr/>
        </p:nvPicPr>
        <p:blipFill>
          <a:blip r:embed="rId2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9"/>
          <p:cNvSpPr/>
          <p:nvPr/>
        </p:nvSpPr>
        <p:spPr>
          <a:xfrm>
            <a:off x="2286000" y="1735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提到梦想，那么什么是梦想？在很多人认为梦想实现不了则是幻想。梦想其实就是人们在内心深处对某一种成功的渴望。人人都想成为一个成功的人士。追求成功是个人提升和社会最完美的最伟大的驱动力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生活中，常有“梦想成真”之说。“梦想”是人生最美好的愿望，是人生追求的目标。人人都有自己的梦想，只要不是脱离实际，只要不是违背客观，只要不是好高鹜远，任何“梦想”都能“成真”。当然，欲使“梦想”成为现实，只有靠自己艰苦奋斗，不懈追求，才能得到你所要的东西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1474920" y="7650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什么是梦想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large_IdqQ_41918c2060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685800" y="167652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时写下一辈子想干的大事：到尼罗河、亚马逊河和刚果河探险；登上珠穆朗玛峰、乞力马扎罗山和麦特荷恩山；驾驭大象、骆驼和野马；探访马可波罗和亚历山大一世走过的道路；主演一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猿泰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样的电影；驾驶飞行器起飞降落；读完莎士比亚、柏拉图和亚里士多德的著作；谱一部乐曲；写一本书；游览全世界的每一个国家；结婚生孩子；参观月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838080" y="8380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Arial"/>
              </a:rPr>
              <a:t>一生的志愿 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__</a:t>
            </a:r>
            <a:r>
              <a:rPr b="1" lang="zh-CN" sz="3200" spc="-1" strike="noStrike">
                <a:solidFill>
                  <a:srgbClr val="808080"/>
                </a:solidFill>
                <a:latin typeface="Arial"/>
              </a:rPr>
              <a:t>约翰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808080"/>
                </a:solidFill>
                <a:latin typeface="Arial"/>
              </a:rPr>
              <a:t>戈达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large_Ud3z_41683i2060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3052800" y="8650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戈达德实现梦想的“足迹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1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2627280" y="1003320"/>
            <a:ext cx="63723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岁，到乔治亚州的奥克费诺基大沼泽和佛罗里达州的埃弗格莱兹去探险。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岁，他已经在加勒比海、爱琴海和红海的深海中潜过水；这年他还成为了一名空军飞行员，在欧洲上空作过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次战斗飞行。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岁，他已经到过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个国家旅行。此后，他乘筏漂流了整个科罗拉多河，探察了长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7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英里的刚果河，登上了阿拉特峰和乞力马扎罗山，驾驶过超音速喷气式战斗机飞行，写了一本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乘皮艇下尼罗河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书；结了婚生了五个孩子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....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岁，他不仅是一位经历过多次探险和远征的老手，而且还是一位杰出的电影制片人、作家和演说家。戈达德就是这样凭着自己坚定的信念，在他一生的岁月中出色地完成了自己确立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27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个目标中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6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个。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058560" y="1620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戈达德实现梦想的过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p_large_F0DP_425400001a9d2d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3354840" y="333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有梦想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就会实现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50920" y="1413000"/>
            <a:ext cx="8640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人类社会的进步就是人类产生不断的梦想，也是实现梦想的过程。例如：</a:t>
            </a:r>
            <a:br>
              <a:rPr sz="2400"/>
            </a:b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） 当人们觉得腿不够用时，就有人发明了：牛车、马车、汽车、火车、飞机。</a:t>
            </a:r>
            <a:br>
              <a:rPr sz="2400"/>
            </a:b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） 当人们觉得双手不够用时，就有人发明了锤子、锄头、机器、生产线。</a:t>
            </a:r>
            <a:br>
              <a:rPr sz="2400"/>
            </a:b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） 当人们觉得耳朵不够用时，就有人发明了留声机、电话。</a:t>
            </a:r>
            <a:br>
              <a:rPr sz="2400"/>
            </a:b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） 当人们觉得眼睛看得不够远时，有人发明了眼镜、望远镜。</a:t>
            </a:r>
            <a:br>
              <a:rPr sz="2400"/>
            </a:b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） 当人们觉得人脑不够用时，有人发明了珠算、计算器、电脑。</a:t>
            </a:r>
            <a:br>
              <a:rPr sz="2400"/>
            </a:b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这些梦想实现的过程就是人类社会向前发展的过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2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503280" y="2133720"/>
            <a:ext cx="8640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人类社会的进步就是人类产生不断的梦想，也是实现梦想的过程。例如：</a:t>
            </a:r>
            <a:br>
              <a:rPr sz="2400"/>
            </a:b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） 当人们觉得腿不够用时，就有人发明了：牛车、马车、汽车、火车、飞机。</a:t>
            </a:r>
            <a:br>
              <a:rPr sz="2400"/>
            </a:b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） 当人们觉得双手不够用时，就有人发明了锤子、锄头、机器、生产线。</a:t>
            </a:r>
            <a:br>
              <a:rPr sz="2400"/>
            </a:b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） 当人们觉得耳朵不够用时，就有人发明了留声机、电话。</a:t>
            </a:r>
            <a:br>
              <a:rPr sz="2400"/>
            </a:b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） 当人们觉得眼睛看得不够远时，有人发明了眼镜、望远镜。</a:t>
            </a:r>
            <a:br>
              <a:rPr sz="2400"/>
            </a:b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） 当人们觉得人脑不够用时，有人发明了珠算、计算器、电脑。</a:t>
            </a:r>
            <a:br>
              <a:rPr sz="2400"/>
            </a:b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这些梦想实现的过程就是人类社会向前发展的过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3570840" y="76500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有梦想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就会实现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p_large_rzM8_37bb0000a9022d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3206160" y="620640"/>
            <a:ext cx="29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有梦想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就有成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116000" y="1700280"/>
            <a:ext cx="65516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c1c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c1c04"/>
                </a:solidFill>
                <a:latin typeface="Arial"/>
              </a:rPr>
              <a:t>面对机遇、面对问题、面对奋斗的过程成功人与不成功人的重要区别在于思考模式不同。</a:t>
            </a:r>
            <a:br>
              <a:rPr sz="2400"/>
            </a:br>
            <a:r>
              <a:rPr b="0" lang="zh-CN" sz="2400" spc="-1" strike="noStrike">
                <a:solidFill>
                  <a:srgbClr val="fc1c04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c1c04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c1c04"/>
                </a:solidFill>
                <a:latin typeface="Arial"/>
              </a:rPr>
              <a:t>） 成功人说</a:t>
            </a:r>
            <a:r>
              <a:rPr b="0" lang="en-US" sz="2400" spc="-1" strike="noStrike">
                <a:solidFill>
                  <a:srgbClr val="fc1c04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fc1c04"/>
                </a:solidFill>
                <a:latin typeface="Arial"/>
              </a:rPr>
              <a:t>我能行，我一定行</a:t>
            </a:r>
            <a:r>
              <a:rPr b="0" lang="en-US" sz="2400" spc="-1" strike="noStrike">
                <a:solidFill>
                  <a:srgbClr val="fc1c04"/>
                </a:solidFill>
                <a:latin typeface="Arial"/>
              </a:rPr>
              <a:t>!,</a:t>
            </a:r>
            <a:r>
              <a:rPr b="0" lang="zh-CN" sz="2400" spc="-1" strike="noStrike">
                <a:solidFill>
                  <a:srgbClr val="fc1c04"/>
                </a:solidFill>
                <a:latin typeface="Arial"/>
              </a:rPr>
              <a:t>因为他千方百计的为成功努力。不成功的人说： 我不行</a:t>
            </a:r>
            <a:r>
              <a:rPr b="0" lang="en-US" sz="2400" spc="-1" strike="noStrike">
                <a:solidFill>
                  <a:srgbClr val="fc1c04"/>
                </a:solidFill>
                <a:latin typeface="Arial"/>
              </a:rPr>
              <a:t>--</a:t>
            </a:r>
            <a:r>
              <a:rPr b="0" lang="zh-CN" sz="2400" spc="-1" strike="noStrike">
                <a:solidFill>
                  <a:srgbClr val="fc1c04"/>
                </a:solidFill>
                <a:latin typeface="Arial"/>
              </a:rPr>
              <a:t>因为它会千方百计地找一个</a:t>
            </a:r>
            <a:r>
              <a:rPr b="0" lang="en-US" sz="2400" spc="-1" strike="noStrike">
                <a:solidFill>
                  <a:srgbClr val="fc1c04"/>
                </a:solidFill>
                <a:latin typeface="Arial"/>
              </a:rPr>
              <a:t>"</a:t>
            </a:r>
            <a:r>
              <a:rPr b="0" lang="zh-CN" sz="2400" spc="-1" strike="noStrike">
                <a:solidFill>
                  <a:srgbClr val="fc1c04"/>
                </a:solidFill>
                <a:latin typeface="Arial"/>
              </a:rPr>
              <a:t>借口</a:t>
            </a:r>
            <a:r>
              <a:rPr b="0" lang="en-US" sz="2400" spc="-1" strike="noStrike">
                <a:solidFill>
                  <a:srgbClr val="fc1c04"/>
                </a:solidFill>
                <a:latin typeface="Arial"/>
              </a:rPr>
              <a:t>"</a:t>
            </a:r>
            <a:r>
              <a:rPr b="0" lang="zh-CN" sz="2400" spc="-1" strike="noStrike">
                <a:solidFill>
                  <a:srgbClr val="fc1c04"/>
                </a:solidFill>
                <a:latin typeface="Arial"/>
              </a:rPr>
              <a:t>来证明他不行</a:t>
            </a:r>
            <a:br>
              <a:rPr sz="2400"/>
            </a:br>
            <a:r>
              <a:rPr b="0" lang="zh-CN" sz="2400" spc="-1" strike="noStrike">
                <a:solidFill>
                  <a:srgbClr val="fc1c04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c1c04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c1c04"/>
                </a:solidFill>
                <a:latin typeface="Arial"/>
              </a:rPr>
              <a:t>） 成功人说：我怎样才能富起来，千方百计地抓住机遇致富</a:t>
            </a:r>
            <a:r>
              <a:rPr b="0" lang="en-US" sz="2400" spc="-1" strike="noStrike">
                <a:solidFill>
                  <a:srgbClr val="fc1c04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fc1c04"/>
                </a:solidFill>
                <a:latin typeface="Arial"/>
              </a:rPr>
              <a:t>不成功的人说</a:t>
            </a:r>
            <a:r>
              <a:rPr b="0" lang="en-US" sz="2400" spc="-1" strike="noStrike">
                <a:solidFill>
                  <a:srgbClr val="fc1c04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fc1c04"/>
                </a:solidFill>
                <a:latin typeface="Arial"/>
              </a:rPr>
              <a:t>我这一辈子富不起来了，因此就不努力了。</a:t>
            </a:r>
            <a:br>
              <a:rPr sz="2400"/>
            </a:br>
            <a:r>
              <a:rPr b="0" lang="zh-CN" sz="2400" spc="-1" strike="noStrike">
                <a:solidFill>
                  <a:srgbClr val="fc1c04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c1c04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c1c04"/>
                </a:solidFill>
                <a:latin typeface="Arial"/>
              </a:rPr>
              <a:t>） 成功人说：因为我有孩子</a:t>
            </a:r>
            <a:r>
              <a:rPr b="0" lang="en-US" sz="2400" spc="-1" strike="noStrike">
                <a:solidFill>
                  <a:srgbClr val="fc1c04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c1c04"/>
                </a:solidFill>
                <a:latin typeface="Arial"/>
              </a:rPr>
              <a:t>我必须得富有。不成功的人说：因为我有孩子我才贫穷</a:t>
            </a:r>
            <a:br>
              <a:rPr sz="2400"/>
            </a:br>
            <a:r>
              <a:rPr b="0" lang="zh-CN" sz="2400" spc="-1" strike="noStrike">
                <a:solidFill>
                  <a:srgbClr val="fc1c04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c1c04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c1c04"/>
                </a:solidFill>
                <a:latin typeface="Arial"/>
              </a:rPr>
              <a:t>） 成功人说：贫穷是万恶之源，我要奋斗致富。不成功的人说：钱财是身外之物，他为不努力找借口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19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1332000" y="1916280"/>
            <a:ext cx="655164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Arial"/>
              </a:rPr>
              <a:t>面对机遇、面对问题、面对奋斗的过程成功人与不成功人的重要区别在于思考模式不同。</a:t>
            </a:r>
            <a:br>
              <a:rPr sz="2800"/>
            </a:br>
            <a:r>
              <a:rPr b="0" lang="zh-CN" sz="2800" spc="-1" strike="noStrike">
                <a:solidFill>
                  <a:srgbClr val="1c1c1c"/>
                </a:solidFill>
                <a:latin typeface="Arial"/>
              </a:rPr>
              <a:t> 成功人说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1c1c1c"/>
                </a:solidFill>
                <a:latin typeface="Arial"/>
              </a:rPr>
              <a:t>我能行，我一定行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!,</a:t>
            </a:r>
            <a:r>
              <a:rPr b="0" lang="zh-CN" sz="2800" spc="-1" strike="noStrike">
                <a:solidFill>
                  <a:srgbClr val="1c1c1c"/>
                </a:solidFill>
                <a:latin typeface="Arial"/>
              </a:rPr>
              <a:t>因为他千方百计的为成功努力。不成功的人说： 我不行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--</a:t>
            </a:r>
            <a:r>
              <a:rPr b="0" lang="zh-CN" sz="2800" spc="-1" strike="noStrike">
                <a:solidFill>
                  <a:srgbClr val="1c1c1c"/>
                </a:solidFill>
                <a:latin typeface="Arial"/>
              </a:rPr>
              <a:t>因为它会千方百计地找一个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1c1c1c"/>
                </a:solidFill>
                <a:latin typeface="Arial"/>
              </a:rPr>
              <a:t>借口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1c1c1c"/>
                </a:solidFill>
                <a:latin typeface="Arial"/>
              </a:rPr>
              <a:t>来证明他不行</a:t>
            </a:r>
            <a:br>
              <a:rPr sz="2800"/>
            </a:br>
            <a:r>
              <a:rPr b="0" lang="zh-CN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3421800" y="836640"/>
            <a:ext cx="29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有梦想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就有成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02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图片5"/>
          <p:cNvPicPr/>
          <p:nvPr/>
        </p:nvPicPr>
        <p:blipFill>
          <a:blip r:embed="rId2"/>
          <a:stretch/>
        </p:blipFill>
        <p:spPr>
          <a:xfrm>
            <a:off x="0" y="-214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4" name="WordArt 6"/>
          <p:cNvSpPr txBox="1"/>
          <p:nvPr/>
        </p:nvSpPr>
        <p:spPr>
          <a:xfrm>
            <a:off x="7315200" y="2895480"/>
            <a:ext cx="7650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？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WordArt 7"/>
          <p:cNvSpPr txBox="1"/>
          <p:nvPr/>
        </p:nvSpPr>
        <p:spPr>
          <a:xfrm>
            <a:off x="1828800" y="1371600"/>
            <a:ext cx="3809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各抒己见：</a:t>
            </a:r>
            <a:endParaRPr b="0" lang="en-US" sz="6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WordArt 8"/>
          <p:cNvSpPr txBox="1"/>
          <p:nvPr/>
        </p:nvSpPr>
        <p:spPr>
          <a:xfrm>
            <a:off x="1676520" y="2971800"/>
            <a:ext cx="51433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理想像什么</a:t>
            </a:r>
            <a:endParaRPr b="1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23840" y="189000"/>
            <a:ext cx="8840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理想像什么？有人说，理想无影无形，无色无臭，什么也不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说，理想像满天繁星，驱散夜空的黑暗；理想像猎猎劲风，鼓起生命的风帆；理想像灰姑娘的水晶鞋，展现生命的光华；理想像展翅高翔的海燕，呼唤着生命风暴的更加猛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对于今天的我们来说，理想更像高悬天际的启明星，指引我们攻坚克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占领人生的制高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2286000" y="333360"/>
            <a:ext cx="631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想像什么？有人说，理想无影无形，无色无味，什么也不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说，理想像满天繁星，驱散夜空的黑暗；理想像猎猎劲风，鼓起生命的风帆；理想像灰姑娘的水晶鞋，展现生命的光华；理想像展翅高翔的海燕，呼唤着生命风暴的更加猛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今天的我们来说，理想更像高悬天际的启明星，指引我们攻坚克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占领人生的制高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3:24:48Z</dcterms:created>
  <dc:creator> </dc:creator>
  <dc:description/>
  <dc:language>en-US</dc:language>
  <cp:lastModifiedBy>Administrator</cp:lastModifiedBy>
  <dcterms:modified xsi:type="dcterms:W3CDTF">2015-09-16T02:52:01Z</dcterms:modified>
  <cp:revision>41</cp:revision>
  <dc:subject/>
  <dc:title>幻灯片 1</dc:title>
</cp:coreProperties>
</file>