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D59F-F4A9-4CD5-9D22-7F197F05B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2A04-3921-410B-ADBE-E80DEA72F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5979-7455-4046-BB78-BE96D5E41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38E8-4A49-4D0C-B218-D273418B6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B7D6-24D7-4843-B506-238A2AF93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5BC1-B08E-4DA6-B386-39DF10395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9994-596B-474A-8DEB-159B3801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2F1D-5289-4186-8D83-A3C190290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136C-14D8-49F5-8D3B-37EE8F54C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C28A-8A28-476F-A9B2-C53727F1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9751-371D-4AFA-976B-A8C56DFF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C6A0-7C28-4AA6-9363-4C6DA729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AC3D0-C76A-4542-AA18-359F18CF20C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57168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 Unicode MS"/>
              <a:ea typeface="Arial Unicode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643040"/>
            <a:ext cx="640080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Arial Unicode MS"/>
              <a:ea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8T06:46:28Z</dcterms:created>
  <dc:creator>Moyea Software</dc:creator>
  <dc:description>Made by Moyea Software. To find more free PowerPoint templates, please visit http://www.dvd-ppt-slideshow.com/powerpoint-knowledge/powerpoint-templates.html</dc:description>
  <cp:keywords>free PowerPoint template download PPT template PowerPoint templates slideshow template POT POTX Power Point template slide show template festival Easter Day Easter Day PowerPoint template</cp:keywords>
  <dc:language>en-US</dc:language>
  <cp:lastModifiedBy>pc</cp:lastModifiedBy>
  <cp:lastPrinted>1899-12-30T00:00:00Z</cp:lastPrinted>
  <dcterms:modified xsi:type="dcterms:W3CDTF">2012-05-23T11:46:08Z</dcterms:modified>
  <cp:revision>1</cp:revision>
  <dc:subject>Easter Day</dc:subject>
  <dc:title>Moyea Free Easter Day 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25</vt:lpwstr>
  </property>
</Properties>
</file>