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chimes.wav" ContentType="audio/x-wav"/>
  <Override PartName="/ppt/media/image16.png" ContentType="image/png"/>
  <Override PartName="/ppt/media/image19.gif" ContentType="image/gif"/>
  <Override PartName="/ppt/media/image1.jpeg" ContentType="image/jpeg"/>
  <Override PartName="/ppt/media/image15.jpeg" ContentType="image/jpeg"/>
  <Override PartName="/ppt/media/image13.jpeg" ContentType="image/jpeg"/>
  <Override PartName="/ppt/media/image14.gif" ContentType="image/gif"/>
  <Override PartName="/ppt/media/type.wav" ContentType="audio/x-wav"/>
  <Override PartName="/ppt/media/image17.png" ContentType="image/png"/>
  <Override PartName="/ppt/media/image4.jpeg" ContentType="image/jpeg"/>
  <Override PartName="/ppt/media/projctor.wav" ContentType="audio/x-wav"/>
  <Override PartName="/ppt/media/image2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652-A4EB-4F85-828E-F570D3C1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5BE-7012-4B6A-9930-174AFE5E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5A2-E3EA-47E1-B221-8BD7296C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915-5801-4115-92DC-B03A68AF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9BDB-B194-41D0-AAF6-1E657461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584-8C4C-49C3-8D80-D130F7A9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153-9BCD-4C42-A58D-EAE74C1A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0CE-33DA-4E49-A51F-E8950F5C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A90-10E3-462C-976A-8C7B94BE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854-4D60-4961-8589-9808B648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AA3-0828-4BD7-8DA4-8E9B7E63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F60-D424-4FA7-8320-C678DF3A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78FD-1418-4EAD-9851-56B0705CB8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3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4648320" cy="6248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2601000"/>
            <a:ext cx="3946320" cy="1922400"/>
            <a:chOff x="250920" y="2601000"/>
            <a:chExt cx="3946320" cy="1922400"/>
          </a:xfrm>
        </p:grpSpPr>
        <p:sp>
          <p:nvSpPr>
            <p:cNvPr id="44" name=""/>
            <p:cNvSpPr/>
            <p:nvPr/>
          </p:nvSpPr>
          <p:spPr>
            <a:xfrm>
              <a:off x="250920" y="31194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0920" y="2601000"/>
              <a:ext cx="39463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3300"/>
                  </a:solidFill>
                  <a:latin typeface="华文新魏"/>
                  <a:ea typeface="华文新魏"/>
                </a:rPr>
                <a:t>　　新的世纪，读者为何对名人家书爱心依旧？只缘——亲情爱情友情，家书写满真情；树人育人立人，读者读懂名人。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762120" y="6095880"/>
            <a:ext cx="1295280" cy="3668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2286000" y="6095880"/>
            <a:ext cx="1295280" cy="3668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95480" y="380880"/>
            <a:ext cx="4648320" cy="6248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467040" y="457200"/>
            <a:ext cx="21913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66ff"/>
                </a:solidFill>
                <a:latin typeface="隶书"/>
                <a:ea typeface="隶书"/>
              </a:rPr>
              <a:t>傅雷家书两则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1600200"/>
            <a:ext cx="9144000" cy="7394400"/>
            <a:chOff x="0" y="1600200"/>
            <a:chExt cx="9144000" cy="7394400"/>
          </a:xfrm>
        </p:grpSpPr>
        <p:sp>
          <p:nvSpPr>
            <p:cNvPr id="119" name=""/>
            <p:cNvSpPr/>
            <p:nvPr/>
          </p:nvSpPr>
          <p:spPr>
            <a:xfrm>
              <a:off x="0" y="1600200"/>
              <a:ext cx="6686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0" y="1600200"/>
              <a:ext cx="9144000" cy="7394400"/>
              <a:chOff x="0" y="1600200"/>
              <a:chExt cx="9144000" cy="7394400"/>
            </a:xfrm>
          </p:grpSpPr>
          <p:sp>
            <p:nvSpPr>
              <p:cNvPr id="121" name=""/>
              <p:cNvSpPr/>
              <p:nvPr/>
            </p:nvSpPr>
            <p:spPr>
              <a:xfrm>
                <a:off x="0" y="1600200"/>
                <a:ext cx="6686640" cy="73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600200"/>
                <a:ext cx="914400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914400" y="685800"/>
            <a:ext cx="109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6120" y="685800"/>
            <a:ext cx="1642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亲子教育的典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33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562720" y="380880"/>
            <a:ext cx="327636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真情家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38680" y="990720"/>
            <a:ext cx="3243240" cy="4952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30492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儿子成功之时，</a:t>
            </a:r>
            <a:r>
              <a:rPr b="1" lang="zh-CN" sz="4000" spc="-1" strike="noStrike">
                <a:solidFill>
                  <a:srgbClr val="3333ff"/>
                </a:solidFill>
                <a:latin typeface="华文新魏"/>
                <a:ea typeface="华文新魏"/>
              </a:rPr>
              <a:t>傅雷的喜悦与激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867280" y="6019560"/>
            <a:ext cx="2665800" cy="520560"/>
            <a:chOff x="5867280" y="6019560"/>
            <a:chExt cx="2665800" cy="520560"/>
          </a:xfrm>
        </p:grpSpPr>
        <p:sp>
          <p:nvSpPr>
            <p:cNvPr id="131" name=""/>
            <p:cNvSpPr/>
            <p:nvPr/>
          </p:nvSpPr>
          <p:spPr>
            <a:xfrm>
              <a:off x="5867280" y="6054840"/>
              <a:ext cx="360" cy="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867280" y="6019560"/>
              <a:ext cx="2665800" cy="520560"/>
              <a:chOff x="5867280" y="6019560"/>
              <a:chExt cx="2665800" cy="520560"/>
            </a:xfrm>
          </p:grpSpPr>
          <p:sp>
            <p:nvSpPr>
              <p:cNvPr id="133" name=""/>
              <p:cNvSpPr/>
              <p:nvPr/>
            </p:nvSpPr>
            <p:spPr>
              <a:xfrm>
                <a:off x="5867280" y="6054480"/>
                <a:ext cx="360" cy="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67280" y="6019560"/>
                <a:ext cx="2665800" cy="520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c0"/>
                    </a:solidFill>
                    <a:latin typeface="Times New Roman"/>
                    <a:ea typeface="楷体_GB2312"/>
                  </a:rPr>
                  <a:t>    </a:t>
                </a:r>
                <a:r>
                  <a:rPr b="1" lang="zh-CN" sz="2800" spc="-1" strike="noStrike">
                    <a:solidFill>
                      <a:srgbClr val="0080c0"/>
                    </a:solidFill>
                    <a:latin typeface="Times New Roman"/>
                    <a:ea typeface="楷体_GB2312"/>
                  </a:rPr>
                  <a:t>傅雷与傅聪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9051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对孩子成功感到幸福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526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欣赏艺术的喜悦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4800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为祖国荣誉而激动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71640" y="16286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文中找出能贯穿两封信主旋律的一个词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用这一词再来概括两封信的内容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你说说傅雷希望儿子成为怎样的一个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35772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坚      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56720" y="5761080"/>
            <a:ext cx="960120" cy="1096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79280" y="189000"/>
            <a:ext cx="2592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两文探知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6530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遇到挫折时要坚强面对；当迎来成功时，不要被胜利冲昏了头脑，要坚强；当一名艺术家，要不怕孤独，要有一颗赤子之心，这是坚强的最高境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60828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343400" y="2133720"/>
            <a:ext cx="487692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9900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669900"/>
                </a:solidFill>
                <a:latin typeface="隶书"/>
                <a:ea typeface="隶书"/>
              </a:rPr>
              <a:t>“</a:t>
            </a:r>
            <a:r>
              <a:rPr b="1" lang="zh-CN" sz="4000" spc="-1" strike="noStrike">
                <a:solidFill>
                  <a:srgbClr val="669900"/>
                </a:solidFill>
                <a:latin typeface="隶书"/>
                <a:ea typeface="隶书"/>
              </a:rPr>
              <a:t>坚强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有两方面表现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一是败不馁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二是胜不骄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宠辱不惊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得失泰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638680"/>
            <a:ext cx="411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家书抵万金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89000"/>
            <a:ext cx="64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Times New Roman"/>
              </a:rPr>
              <a:t>合作探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综观两封信，傅雷对于“坚强”的理解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87280" y="549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从两封信来看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在哪些情况下应该坚强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傅雷认为怎样才能在这些情况下做到的坚强</a:t>
            </a: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885080" y="5761080"/>
            <a:ext cx="960480" cy="1096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8360" y="256536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消沉苦闷之        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4292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欣喜成功之        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87680" y="2924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6040" y="4581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64000" y="2637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正视现实、正视错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4437000"/>
            <a:ext cx="230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不为胜利冲昏了头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24360" y="3068640"/>
            <a:ext cx="432000" cy="2016000"/>
          </a:xfrm>
          <a:custGeom>
            <a:avLst/>
            <a:gdLst>
              <a:gd name="textAreaLeft" fmla="*/ 0 w 432000"/>
              <a:gd name="textAreaRight" fmla="*/ 155880 w 432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43640" y="364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怕孤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4360" y="69228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周国平说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: “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只有内心世界丰富的人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对精神与灵魂有着执著的追求的人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对人间充满挚爱的人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才可能体验孤独。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”在傅雷的信中指的是什么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59040" y="360828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赤        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885080" y="5761080"/>
            <a:ext cx="960480" cy="109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608640" cy="4389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148360" y="1628640"/>
            <a:ext cx="30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 “</a:t>
            </a:r>
            <a:r>
              <a:rPr b="1" lang="zh-CN" sz="3200" spc="-1" strike="noStrike">
                <a:solidFill>
                  <a:srgbClr val="669900"/>
                </a:solidFill>
                <a:latin typeface="隶书"/>
                <a:ea typeface="隶书"/>
              </a:rPr>
              <a:t>赤子之心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是坚强的最高境界，赤子能够保持心灵的纯洁，能够无惧孤独，才是人性中最可贵的无坚不摧的坚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638680"/>
            <a:ext cx="39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家书抵万金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84240"/>
            <a:ext cx="951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合作探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赤子之心”与“坚强”的怎样的联系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44280"/>
            <a:ext cx="6400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92160" y="685800"/>
            <a:ext cx="92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42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148428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赤子孤独了，会创造一个世界，创造许多心灵的朋友”。请举例加深理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35053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贝多芬、梵高、托尔斯泰、陶渊明……赤子的现实生活也许境遇不佳、缺少知音，身边的世界让他孤独；但人类最纯洁最美好的感情和思想，是相通而永存的，普天下都将成为他的知音和朋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50000">
              <a:srgbClr val="ffffff"/>
            </a:gs>
            <a:gs pos="100000">
              <a:srgbClr val="66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3808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华文隶书"/>
                <a:ea typeface="华文隶书"/>
              </a:rPr>
              <a:t>关于“矛盾与快乐”的论述</a:t>
            </a:r>
            <a:r>
              <a:rPr b="1" lang="zh-CN" sz="6000" spc="-1" strike="noStrike">
                <a:solidFill>
                  <a:srgbClr val="ff3399"/>
                </a:solidFill>
                <a:latin typeface="华文隶书"/>
                <a:ea typeface="华文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6765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艺术家没有矛盾不会进步，不会演变，不会深入。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4434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有矛盾正是生机勃勃的明证。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81500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解决一个矛盾，便是前进一步！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50000">
              <a:srgbClr val="ffffff"/>
            </a:gs>
            <a:gs pos="100000">
              <a:srgbClr val="66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057400" y="3049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华文隶书"/>
                <a:ea typeface="华文隶书"/>
              </a:rPr>
              <a:t>畅所欲言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3505320"/>
            <a:ext cx="71625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什么是朋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于情感上、精神上互相理解和慰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于志同道合，互为知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6765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从两封家书中，你能看出父子两之间的关系如何吗？请举例说明。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5480" y="380880"/>
            <a:ext cx="4648320" cy="6248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67040" y="457200"/>
            <a:ext cx="21913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66ff"/>
                </a:solidFill>
                <a:latin typeface="隶书"/>
                <a:ea typeface="隶书"/>
              </a:rPr>
              <a:t>傅雷家书两则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600200"/>
            <a:ext cx="9144000" cy="7394400"/>
            <a:chOff x="0" y="1600200"/>
            <a:chExt cx="9144000" cy="7394400"/>
          </a:xfrm>
        </p:grpSpPr>
        <p:sp>
          <p:nvSpPr>
            <p:cNvPr id="51" name=""/>
            <p:cNvSpPr/>
            <p:nvPr/>
          </p:nvSpPr>
          <p:spPr>
            <a:xfrm>
              <a:off x="0" y="1600200"/>
              <a:ext cx="6686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1600200"/>
              <a:ext cx="9144000" cy="7394400"/>
              <a:chOff x="0" y="1600200"/>
              <a:chExt cx="9144000" cy="73944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1600200"/>
                <a:ext cx="6686640" cy="73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1600200"/>
                <a:ext cx="914400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"/>
          <p:cNvSpPr/>
          <p:nvPr/>
        </p:nvSpPr>
        <p:spPr>
          <a:xfrm>
            <a:off x="914400" y="685800"/>
            <a:ext cx="109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2200" y="3733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ahoma"/>
                <a:ea typeface="华文新魏"/>
              </a:rPr>
              <a:t>书信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8580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傅雷家书》，摘编了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54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至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66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间傅雷先生及其夫人写给儿子傅聪、傅敏的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封家信。其中大部分是写给后来成为著名钢琴演奏家的大儿子傅聪的信件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傅雷家书》出版十八年来，五次重版，十九次重印，发行已达一百多万册，曾荣获“全国首届优秀青年读物”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1986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足以证明这本小书影响之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2680" y="5867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亲子教育的典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763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阅读傅雷的另一封家书，回答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亲爱的孩子，你走后第二天，就想写信，怕你嫌烦，也就罢了。可是没一天不想着你，每天清早六七点就醒，翻来覆去的睡不着，也说不出为什么。好像克利斯朵夫的母亲独自守在家里，想起孩子童年一幕幕的形象一样，我和你老妈老是想着你二三岁到六七岁间的小故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一类的话我们不知有多少可以和你说，可是不敢说。你这个年纪是一切向前的，不愿意回忆的；我们噜里噜嗦的抖出你尿布时代的往事，会引起你的憎厌。孩子，这些我都懂得，妈妈也懂得。只是你的一切终身会印在我们脑海中，随时随地会浮起来，像一幅幅的小品图画，使我们又快乐又惆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真的，你这次在家一个半月，是我们一生最愉快的时期；这幸福不知应当向谁感谢，尽管我没宗教信仰，至此也不由得要谢谢上帝了！我高兴的是我又多了一个朋友；儿子变成了朋友，世界上有什么事可以和这种幸福相比呢！尽管将来你我之间离多聚少，但我精神上至少是温暖的，不孤独的。我相信我一定会做到不太落伍，不太迂腐，不至于惹人厌烦。也希望你不要以为我在高峰的顶尖上所想的，所见到的，比你们的不真实。年纪大的人终是往更远的前途看，许多事你们一时觉得我看得不对，日子久了，现实却给你证明，我并没大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457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孩子，我从你身上得到的教训，恐怕不比你从我这儿得到的少。尤其是近三年来，不知使我对人生多增了几许深刻的体验，我从与你相处的过程中学得了忍耐。学到了说话的技巧，学到了把感情升华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走后第二天，妈妈哭了，眼睛肿了两天，这叫做悲喜交集的眼泪。我们可以不用怕羞的这样告诉你，也可以不担心你憎厌而这样告诉你，人毕竟是感情的动物，偶尔流露也不是可耻的事。何况母亲的眼泪永远是圣洁的，慈爱的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50000">
              <a:srgbClr val="ffffff"/>
            </a:gs>
            <a:gs pos="100000">
              <a:srgbClr val="66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228600" y="3049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在第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段中，作者写道：“你这次在家一个半月，是我们一生中最愉快的时期”，作者说这话的原因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228600" y="2209680"/>
            <a:ext cx="8610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家书反映出傅雷对两代人如何相处的一些看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傅雷认为在两代人的相处中，长辈应克服自身的哪些弱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傅雷认为在两代人的相处中，青年人应持有怎样的态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傅雷希望两代人建立怎样的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真的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你这次在家一个半月，是我们一生最愉快的时期；这幸福不知应当向谁感谢，尽管我没宗教信仰，至此也不由得要谢谢上帝了！我高兴的是我又多了一个朋友；儿子变成了朋友，世界上有什么事可以和这种幸福相比呢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尽管将来你我之间离多聚少，但我精神上至少是温暖的，不孤独的。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宋体"/>
              </a:rPr>
              <a:t>我相信我一定会做到不太落伍，不太迂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宋体"/>
              </a:rPr>
              <a:t>不至于惹人厌烦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也希望你不要以为我在高峰的顶尖上所想的，所见到的，比你们的不真实。年纪大的人终是往更远的前途看，许多事你们一时觉得我看得不对，日子久了，现实却给你证明，我并没大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6095880" y="6477120"/>
            <a:ext cx="838440" cy="3808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57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孩子，我从你身上得到的教训，恐怕不比你从我这儿得到的少。尤其是近三年来，不知使我对人生多增了几许深刻的体验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宋体"/>
              </a:rPr>
              <a:t>我从与你相处的过程中学得了忍耐。学到了说话的技巧，学到了把感情升华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走后第二天，妈妈哭了，眼睛肿了两天，这叫做悲喜交集的眼泪。我们可以不用怕羞的这样告诉你，也可以不担心你憎厌而这样告诉你，人毕竟是感情的动物，偶尔流露也不是可耻的事。何况母亲的眼泪永远是圣洁的，慈爱的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4360" y="139212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当代哲学家周国平说，孤独、寂寞、无聊是三种不同的境界，分别属于精神、感情和事务的层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949320" cy="914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4360" y="98100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仿照例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分别用“孤独”与“寂寞”写一个句子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体会它们的不同之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55880" y="2708280"/>
            <a:ext cx="5057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寂寞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是“杨柳岸，晓风残月”的伤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3933720"/>
            <a:ext cx="7632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孤独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是柳宗元“孤舟蓑笠翁，独钓寒江雪”的雪中垂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885080" y="5761080"/>
            <a:ext cx="960480" cy="1096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4000" y="765000"/>
            <a:ext cx="8582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寂寞是“</a:t>
            </a: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过尽千帆皆不是，斜晖脉脉水悠悠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”的悲苦；寂寞是“</a:t>
            </a: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无言独上西楼，月如钩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”的凄凉；寂寞是“</a:t>
            </a: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杨柳岸，晓风残月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”的伤感；寂寞是“</a:t>
            </a:r>
            <a:r>
              <a:rPr b="0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无意苦争春，一任群芳妒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”的无奈。</a:t>
            </a:r>
            <a:r>
              <a:rPr b="0" lang="zh-CN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10746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10800"/>
                </a:moveTo>
                <a:lnTo>
                  <a:pt x="23260" y="3794"/>
                </a:lnTo>
                <a:lnTo>
                  <a:pt x="2326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4000" y="549360"/>
            <a:ext cx="84247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孤独是陈子昂“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前不见古人，后不见来者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”的登台高歌；孤独是李白“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举杯邀明月，对影成三人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”的月下独酌；孤独是柳宗元“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孤舟蓑笠翁，独钓寒江雪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”的雪中垂钓；孤独是文天祥“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惶恐滩头说惶恐，零丁洋里叹零丁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”的海上漂泊。</a:t>
            </a:r>
            <a:r>
              <a:rPr b="0" lang="zh-CN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10746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68840" cy="4800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72428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隶书"/>
              </a:rPr>
              <a:t>傅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908-1966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翻译家、文艺评论家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0"/>
            <a:ext cx="15238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文革”期间，夫妇二人被迫害致死</a:t>
            </a:r>
            <a:r>
              <a:rPr b="1" lang="zh-CN" sz="4000" spc="-1" strike="noStrike">
                <a:solidFill>
                  <a:srgbClr val="cc66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019920" y="2971800"/>
            <a:ext cx="28558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23920" y="3357720"/>
            <a:ext cx="1216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Times New Roman"/>
                <a:ea typeface="华文中宋"/>
              </a:rPr>
              <a:t>1979.4.26</a:t>
            </a:r>
            <a:r>
              <a:rPr b="1" lang="zh-CN" sz="3200" spc="-1" strike="noStrike">
                <a:solidFill>
                  <a:srgbClr val="669900"/>
                </a:solidFill>
                <a:latin typeface="Times New Roman"/>
                <a:ea typeface="华文中宋"/>
              </a:rPr>
              <a:t>日</a:t>
            </a:r>
            <a:r>
              <a:rPr b="1" lang="zh-CN" sz="3600" spc="-1" strike="noStrike">
                <a:solidFill>
                  <a:srgbClr val="669900"/>
                </a:solidFill>
                <a:latin typeface="Times New Roman"/>
                <a:ea typeface="华文中宋"/>
              </a:rPr>
              <a:t>傅聪、傅敏参加父母追悼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亲爱的爸爸妈妈 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们好吗 ？ 现在工作很忙吧 ？ 身体好吗？ 我现在广州挺好的， 爸爸妈妈不要太牵挂，虽然我很少写信，其实我很想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爸爸每天都上班吗？管得不严就不要去了，干了一辈子革命工作，也该歇歇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我买了一件毛衣给妈妈，别舍不得穿上吧，以前儿子不太听话，现在懂事他长大了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哥哥姐姐常回来吧？替我问候他们吧！有什么活儿就让他们干，自己孩子有什么客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爸爸妈妈多保重身体，不要让儿子放心不下。今年春节我一定回家，好了先写到这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此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敬礼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                                   儿春波敬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九九三年十月十八日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471840" y="35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8088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布置作业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98108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写信是人与人之间传递感情、展开深层次心灵交流的常见方式，请你也试着就某一话题，跟父母进行一次朋友式的通信交流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3886200" cy="2133720"/>
          </a:xfrm>
          <a:prstGeom prst="irregularSeal2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小练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263700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给自己的父母写一封信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4292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要求：请你把父母当作自己的朋友知己，诉说自己的烦恼和快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028000" y="5761080"/>
            <a:ext cx="960480" cy="1096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80" y="6308640"/>
            <a:ext cx="9139320" cy="546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9320" cy="546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266920" y="549360"/>
            <a:ext cx="4681440" cy="568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3132000" y="2421000"/>
            <a:ext cx="276228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  谢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46483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译作丰富，行文流畅，文笔传神。主要作品有《约翰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·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克利斯朵夫》《高老头》《欧也妮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·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葛朗台》《老实人》等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34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部。</a:t>
            </a: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09880" y="304920"/>
            <a:ext cx="279576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629400" y="457200"/>
            <a:ext cx="2381400" cy="37339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0" y="-496800"/>
            <a:ext cx="9144000" cy="7851600"/>
            <a:chOff x="0" y="-496800"/>
            <a:chExt cx="9144000" cy="7851600"/>
          </a:xfrm>
        </p:grpSpPr>
        <p:sp>
          <p:nvSpPr>
            <p:cNvPr id="70" name=""/>
            <p:cNvSpPr/>
            <p:nvPr/>
          </p:nvSpPr>
          <p:spPr>
            <a:xfrm>
              <a:off x="0" y="-496800"/>
              <a:ext cx="7040520" cy="78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-496800"/>
              <a:ext cx="9144000" cy="1847160"/>
              <a:chOff x="0" y="-496800"/>
              <a:chExt cx="9144000" cy="184716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-496800"/>
                <a:ext cx="914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　　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-496800"/>
                <a:ext cx="2286000" cy="18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" spc="-1" strike="noStrike">
                    <a:solidFill>
                      <a:srgbClr val="000000"/>
                    </a:solidFill>
                    <a:latin typeface="Times New Roman"/>
                  </a:rPr>
                  <a:t>1961</a:t>
                </a:r>
                <a:r>
                  <a:rPr b="0" lang="zh-CN" sz="600" spc="-1" strike="noStrike">
                    <a:solidFill>
                      <a:srgbClr val="000000"/>
                    </a:solidFill>
                    <a:latin typeface="Times New Roman"/>
                  </a:rPr>
                  <a:t>年傅雷在自己设计的字典架上查阅资料。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0" y="-496800"/>
            <a:ext cx="9144000" cy="7851600"/>
            <a:chOff x="0" y="-496800"/>
            <a:chExt cx="9144000" cy="7851600"/>
          </a:xfrm>
        </p:grpSpPr>
        <p:sp>
          <p:nvSpPr>
            <p:cNvPr id="75" name=""/>
            <p:cNvSpPr/>
            <p:nvPr/>
          </p:nvSpPr>
          <p:spPr>
            <a:xfrm>
              <a:off x="0" y="-496800"/>
              <a:ext cx="7040520" cy="78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0" y="-496800"/>
              <a:ext cx="9144000" cy="1847160"/>
              <a:chOff x="0" y="-496800"/>
              <a:chExt cx="9144000" cy="1847160"/>
            </a:xfrm>
          </p:grpSpPr>
          <p:sp>
            <p:nvSpPr>
              <p:cNvPr id="77" name=""/>
              <p:cNvSpPr/>
              <p:nvPr/>
            </p:nvSpPr>
            <p:spPr>
              <a:xfrm>
                <a:off x="0" y="-496800"/>
                <a:ext cx="914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　　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-496800"/>
                <a:ext cx="2286000" cy="18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" spc="-1" strike="noStrike">
                    <a:solidFill>
                      <a:srgbClr val="000000"/>
                    </a:solidFill>
                    <a:latin typeface="Times New Roman"/>
                  </a:rPr>
                  <a:t>1961</a:t>
                </a:r>
                <a:r>
                  <a:rPr b="0" lang="zh-CN" sz="600" spc="-1" strike="noStrike">
                    <a:solidFill>
                      <a:srgbClr val="000000"/>
                    </a:solidFill>
                    <a:latin typeface="Times New Roman"/>
                  </a:rPr>
                  <a:t>年傅雷在自己设计的字典架上查阅资料。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0" y="-496800"/>
            <a:ext cx="9144000" cy="7851600"/>
            <a:chOff x="0" y="-496800"/>
            <a:chExt cx="9144000" cy="7851600"/>
          </a:xfrm>
        </p:grpSpPr>
        <p:sp>
          <p:nvSpPr>
            <p:cNvPr id="80" name=""/>
            <p:cNvSpPr/>
            <p:nvPr/>
          </p:nvSpPr>
          <p:spPr>
            <a:xfrm>
              <a:off x="0" y="-496800"/>
              <a:ext cx="7040520" cy="78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0" y="-496800"/>
              <a:ext cx="9144000" cy="1847160"/>
              <a:chOff x="0" y="-496800"/>
              <a:chExt cx="9144000" cy="1847160"/>
            </a:xfrm>
          </p:grpSpPr>
          <p:sp>
            <p:nvSpPr>
              <p:cNvPr id="82" name=""/>
              <p:cNvSpPr/>
              <p:nvPr/>
            </p:nvSpPr>
            <p:spPr>
              <a:xfrm>
                <a:off x="0" y="-496800"/>
                <a:ext cx="914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　　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-496800"/>
                <a:ext cx="2286000" cy="18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" spc="-1" strike="noStrike">
                    <a:solidFill>
                      <a:srgbClr val="000000"/>
                    </a:solidFill>
                    <a:latin typeface="Times New Roman"/>
                  </a:rPr>
                  <a:t>1961</a:t>
                </a:r>
                <a:r>
                  <a:rPr b="0" lang="zh-CN" sz="600" spc="-1" strike="noStrike">
                    <a:solidFill>
                      <a:srgbClr val="000000"/>
                    </a:solidFill>
                    <a:latin typeface="Times New Roman"/>
                  </a:rPr>
                  <a:t>年傅雷在自己设计的字典架上查阅资料。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0" y="3962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1961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年傅雷在查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3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订正字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cc3300"/>
                </a:solidFill>
                <a:latin typeface="华文楷体"/>
                <a:ea typeface="华文楷体"/>
              </a:rPr>
              <a:t>庸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碌     </a:t>
            </a:r>
            <a:r>
              <a:rPr b="1" lang="zh-CN" sz="4800" spc="-1" strike="noStrike">
                <a:solidFill>
                  <a:srgbClr val="cc3300"/>
                </a:solidFill>
                <a:latin typeface="华文楷体"/>
                <a:ea typeface="华文楷体"/>
              </a:rPr>
              <a:t>谀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词       扶</a:t>
            </a:r>
            <a:r>
              <a:rPr b="1" lang="zh-CN" sz="4800" spc="-1" strike="noStrike">
                <a:solidFill>
                  <a:srgbClr val="cc3300"/>
                </a:solidFill>
                <a:latin typeface="华文楷体"/>
                <a:ea typeface="华文楷体"/>
              </a:rPr>
              <a:t>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4800" spc="-1" strike="noStrike">
                <a:solidFill>
                  <a:srgbClr val="cc3300"/>
                </a:solidFill>
                <a:latin typeface="华文楷体"/>
                <a:ea typeface="华文楷体"/>
              </a:rPr>
              <a:t>枘 凿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相</a:t>
            </a:r>
            <a:r>
              <a:rPr b="1" lang="zh-CN" sz="4800" spc="-1" strike="noStrike">
                <a:solidFill>
                  <a:srgbClr val="cc3300"/>
                </a:solidFill>
                <a:latin typeface="华文楷体"/>
                <a:ea typeface="华文楷体"/>
              </a:rPr>
              <a:t>契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800" spc="-1" strike="noStrike">
                <a:solidFill>
                  <a:srgbClr val="cc3300"/>
                </a:solidFill>
                <a:latin typeface="华文楷体"/>
                <a:ea typeface="华文楷体"/>
              </a:rPr>
              <a:t>廓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然无累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华文楷体"/>
                <a:ea typeface="华文楷体"/>
              </a:rPr>
              <a:t>涕泗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横流    </a:t>
            </a:r>
            <a:r>
              <a:rPr b="1" lang="zh-CN" sz="4800" spc="-1" strike="noStrike">
                <a:solidFill>
                  <a:srgbClr val="cc3300"/>
                </a:solidFill>
                <a:latin typeface="华文楷体"/>
                <a:ea typeface="华文楷体"/>
              </a:rPr>
              <a:t>羲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皇上人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907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yō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114300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10666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6668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ru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6668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á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8195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2000" y="2743200"/>
            <a:ext cx="15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ku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42670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ì  s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5280" y="42670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x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608280" cy="5181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86200" y="380880"/>
            <a:ext cx="487692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9900"/>
                </a:solidFill>
                <a:latin typeface="隶书"/>
                <a:ea typeface="隶书"/>
              </a:rPr>
              <a:t>自读课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要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华文中宋"/>
                <a:ea typeface="华文中宋"/>
              </a:rPr>
              <a:t>1</a:t>
            </a:r>
            <a:r>
              <a:rPr b="1" lang="zh-CN" sz="44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提出你认为该掌握的字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华文中宋"/>
                <a:ea typeface="华文中宋"/>
              </a:rPr>
              <a:t>2</a:t>
            </a:r>
            <a:r>
              <a:rPr b="1" lang="zh-CN" sz="44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这两封家书分别是针对傅聪遇到的什么情况写的？中心是什么？</a:t>
            </a:r>
            <a:r>
              <a:rPr b="1" lang="zh-CN" sz="5400" spc="-1" strike="noStrike">
                <a:solidFill>
                  <a:srgbClr val="3333ff"/>
                </a:solidFill>
                <a:latin typeface="华文中宋"/>
                <a:ea typeface="华文中宋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56386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隶书"/>
              </a:rPr>
              <a:t>家书抵万金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05440" y="0"/>
            <a:ext cx="3238560" cy="4648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477120" y="4038480"/>
            <a:ext cx="2666880" cy="2819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3657600"/>
            <a:ext cx="39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写于儿子取得巨大成功、被鲜花与掌声簇拥的时候，激励他保持谦卑、不惧孤独，勇于攀登艺术的至境。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第一封家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7621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写于儿子精神消沉时，劝慰他如何面对感情的创伤，学会泰然处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00280" y="3124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第二封家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0"/>
            <a:ext cx="533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对人生的体悟 对儿子的期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80880"/>
            <a:ext cx="457200" cy="60962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58760 h 6096240"/>
              <a:gd name="textAreaBottom" fmla="*/ 5937480 h 609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19320"/>
            <a:ext cx="609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对音乐艺术的真切感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960" y="1828800"/>
            <a:ext cx="11552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对儿子的舔犊深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50000">
              <a:srgbClr val="ffffff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19810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两方面写怎样面对情绪上的跌宕的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应该对这一切泰然处之，尽量让心理保持平衡，不至于受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冷静、客观地分析前因后果，吸取教训，引为借鉴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380880"/>
            <a:ext cx="78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傅雷是从哪几方面具体告诉儿子怎样面对消沉苦闷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太阳太强烈，会把五谷晒焦；雨水太猛，也会淹死庄稼”一句用的什么修辞？这样说的用意是什么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0666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太阳、雨水、五谷、庄稼的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比喻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说明做任何事都要掌握分寸。说明控制情绪的必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7432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文章举“克利斯朵夫”的事例既是和傅聪自己的理想结合，也是为了鼓励儿子，凡是成功的人，都要经历许多挫折，关键在于勇于面对，学会解决问题。 “不能栽了筋斗爬不起来”，希望儿子“养成另一种心情对付过去的事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03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目的是教育儿子要学会保持平和心态，控制情绪起伏。保持冷静的头脑，理智分析，吸取教训，引以为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1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举“克利斯朵夫”的事例有何目的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09:30:23Z</dcterms:created>
  <dc:creator>www.dearedu.com</dc:creator>
  <dc:description>www.dearedu.com</dc:description>
  <cp:keywords>www.dearedu.com</cp:keywords>
  <dc:language>en-US</dc:language>
  <cp:lastModifiedBy>番茄花园</cp:lastModifiedBy>
  <dcterms:modified xsi:type="dcterms:W3CDTF">2007-07-29T08:44:33Z</dcterms:modified>
  <cp:revision>27</cp:revision>
  <dc:subject>www.dearedu.com</dc:subject>
  <dc:title>www.dearedu.com</dc:title>
</cp:coreProperties>
</file>