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75E-5DDD-46E5-8AB7-55DD0973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23F-62F3-4FC0-BE86-0762F56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1CB-E0CB-4A14-8F6F-D6D57B22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55C-D03F-4CDC-AADA-918AB3F2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19B-4C3A-4FB5-ABCC-61ACC564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7E2-FC0D-40C3-897C-61BF719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E7A-8B5E-4A1D-98A0-8E8FA85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3F9-4107-418B-ADA8-E11288D1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E57-76B1-45B9-BBE9-6A2530D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FDB-E438-4E39-9C05-F6BAF9C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19A-155A-4290-9A7C-23AA04C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ED9-2891-4EA4-A94B-50C6CF2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EB50-A42B-4703-8C35-9FA4BB1A5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nonfans.com/showlist.php?thumbid=57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.baidu.com/i?ct=503316480&amp;z=0&amp;tn=baiduimagedetail&amp;word=%B8%B8%B0%AE&#312;%B0%AE&amp;in=20627&amp;cl=2&amp;cm=1&amp;sc=0&amp;lm=-1&amp;pn=1007&amp;rn=1&amp;di=1161827120&amp;ln=1061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2087" t="13048" r="0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母爱父爱亲子图片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53352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父爱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600200"/>
            <a:ext cx="7467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父亲代表思想世界，代表法律、秩序和纪律等事物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父亲向孩子指出通往世界之路，树立孩子挑战生活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父爱的原则是：“我爱你，因为你符合我的要求，因为你履行你的职责，因为你同我相像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09320" y="3581280"/>
            <a:ext cx="632484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须靠努力才能得到，在辜负父亲期望的情况下，就会失去父爱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20640"/>
            <a:ext cx="62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36232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积极面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6576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消极面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157720"/>
            <a:ext cx="1800000" cy="170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600" y="2286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通过自己的努力去获得，可以受自己的控制和支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父爱的积极面和消极面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2760" y="4019040"/>
            <a:ext cx="5765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685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父爱和母爱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676520"/>
            <a:ext cx="71629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母亲从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身体和心理上给孩子以爱和关怀，给孩子生活上的安全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母爱是无条件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父亲从孩子六岁开始，向孩子指出通往世界之路，树立孩子挑战生活的自信心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父爱是有条件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父爱的原则是：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我爱你，因为你符合我的要求，因为你履行你的职责，因为你同我相像。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676520"/>
            <a:ext cx="7543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欲望很多，我的哭泣也很可怜，但你永远用坚决的拒绝来拯救我，这刚强的慈悲已经紧密的交织在我的生命里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泰戈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爱是一部震撼心灵的巨著，读懂了它，你也就读懂了人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2499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3201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熟的爱来自于成熟的人生与成熟的灵魂，在文中，作者认为一个成熟的人的标志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819520"/>
            <a:ext cx="43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成熟的人最终能达到他既是自己的母亲，又是自己的父亲的高度”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3097080" cy="237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9880" y="48006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你是怎么理解这句话的含义的？请用文中原话作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067040" y="533160"/>
            <a:ext cx="5830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主旨：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站在一个理论的高度，告诉我们：爱，不是与生俱来的，它是一种能力。人在这种爱的能力发展过程中，从同母亲的紧密关系发展到同父亲的紧密关系，最后达到综合，这就是人的灵魂健康和达到成熟的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76212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762120"/>
            <a:ext cx="49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743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认为“母爱是无条件的。”  “父爱是有条件的，在辜负父亲期望的情况下，就会失去父爱。”   你同意他的看法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71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探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32000" y="234936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28036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是“我爱，因为我被人爱” 、“我爱你，因为我需要你”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种是“我被人爱，因为我爱人” 、“我需要你，因为我爱你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两种爱的原则区别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 rot="1650000">
            <a:off x="7315200" y="457164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文段中提到两种爱的原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71800" y="2514600"/>
            <a:ext cx="554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一句“爱人”是原因，“被人爱”是结果。因为我爱人所以我被人爱。先付出再获得，是对爱成熟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一句，“被人爱”是原因，“爱人”是结果。因为被人爱，所以我爱人。以自己为中心，强调先获得再付出，是幼稚孩童式的爱的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24360" y="4419720"/>
            <a:ext cx="61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童稚的爱是单向的、简单的、自我中心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成熟的爱是双向的，更加复杂，也更加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4" descr="1_1033563428.jpg"/>
          <p:cNvPicPr/>
          <p:nvPr/>
        </p:nvPicPr>
        <p:blipFill>
          <a:blip r:embed="rId2"/>
          <a:stretch/>
        </p:blipFill>
        <p:spPr>
          <a:xfrm>
            <a:off x="228600" y="2438280"/>
            <a:ext cx="26431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4648320"/>
            <a:ext cx="7010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父母与孩子之间的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676520"/>
            <a:ext cx="6913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了这篇课文，你一定对母爱和父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新的认识和理解，你会对父母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什么或提出怎样的建议？请写一篇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的短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建议阅读《爱的艺术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言和 “爱的理论”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相关章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83808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问问你的心 动动你的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676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学习目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362320"/>
            <a:ext cx="65530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运用各种阅读方法法，理清文章思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解读重要语句，把握文章主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会质疑探究，力求读出自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珍惜父爱母爱，理性成熟地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2000" y="234936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838080"/>
            <a:ext cx="8280360" cy="64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中是怎样分析“孩子的爱” 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婴儿——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岁以下——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8-10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岁——少年时期——成熟时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↓                  ↓                     ↓                        ↓                        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无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孩子逐渐长大，爱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断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成熟时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父爱和母爱从而拥有健康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熟的灵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1184040" cy="140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514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有 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——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被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5146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——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创造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25146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成熟的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体现母爱的句子，深情地读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122480"/>
            <a:ext cx="815328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如果不是一个仁慈的命运在保护婴儿，不让他感觉到离开母体的恐惧的话，那么在诞生的一刹那，婴儿就会感觉到极度的恐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我什么也不做就可赢得母亲的爱，因为母亲是无条件的，我只需要是母亲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母爱是一种祝福，是和平，不需要去赢得它，也不用为此付出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如果有母爱，就有祝福；没有母爱生活就会变得空虚——而我却没有能力去唤起这种母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无条件的母爱不仅是孩子，也是我们每个人最深的渴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母亲是我们的故乡，是大自然、大地和海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144792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爱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286000"/>
            <a:ext cx="67816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母亲代表自然世界，是我们的故乡，      是大自然，大地和海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母亲从身体和心理上给孩子以爱和关怀，给孩子生活上的安全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母爱是无条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244000" cy="602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/>
          </p:cNvPr>
          <p:cNvPicPr/>
          <p:nvPr/>
        </p:nvPicPr>
        <p:blipFill>
          <a:blip r:embed="rId3"/>
          <a:srcRect l="2087" t="13048" r="0" b="0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杨"/>
          <p:cNvPicPr/>
          <p:nvPr/>
        </p:nvPicPr>
        <p:blipFill>
          <a:blip r:embed="rId4"/>
          <a:stretch/>
        </p:blipFill>
        <p:spPr>
          <a:xfrm>
            <a:off x="5715000" y="836640"/>
            <a:ext cx="3429000" cy="266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066680"/>
            <a:ext cx="496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爱是温暖的阳光，奉献着七彩光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爱是辽阔的海洋，坦露着宽广胸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爱是肥沃的土壤，哺育儿女茁壮成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爱是无限的宇宙，任儿女自由遨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57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0.0)">
                                      <p:cBhvr>
                                        <p:cTn id="97" dur="21215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198108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父爱有何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父爱有何积极面和消极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父爱和母爱有什么本质的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9144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8-18T06:40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