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9CA-0740-45E7-8F81-829AFAD1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96B-5BFC-4104-A319-CE473F00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E525-7462-46A9-B25F-DBD720BF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C879-329C-4B7F-A5FB-BCCA62ACB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E61-F641-43A3-AE7C-99D364320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ECF-F341-46DB-880F-EAE1EA4A4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1B08-7BE9-4F78-B2A9-4F43B25F6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F43-A1A1-427E-9ACB-75A2BB5C5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976-F228-46AC-A841-E3D698E44A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26C-185A-4F5C-B686-A463A8A3D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FEB-365D-49F4-BF40-893494B4A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B9F-AA77-4D9E-AAEE-57B4A3286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CD5-C6CF-4275-B9C2-3558628476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D38-4CDF-4B56-A106-050709334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0A1B-B95D-4E91-88B2-D01C203D8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B77-5FF6-41A6-81F0-EB27AFAE2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BB9-C455-4503-B8FD-F9755771BD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6B5-D714-41CA-B3A3-4BC1C00E8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5A0-9D00-4873-9DFF-3C0F3B438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FA5-A5D5-4DC1-8C2D-6C38694B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5102-D673-4999-B260-195D88451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9B25-9072-4AB0-8BD6-836E01EB6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BAEA-9D0B-40E9-B897-04CEAA129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5BFC-244E-4286-8928-E88DEA79F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3E7E-BC41-400C-B29C-DBE0BE7BF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092E-B309-44A1-88A0-A60883A76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6CAB-62F3-47E3-9DA3-94DF31E6C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232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73B-9B91-47D5-90C0-0C534FE0C99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3"/>
          <p:cNvSpPr/>
          <p:nvPr/>
        </p:nvSpPr>
        <p:spPr>
          <a:xfrm>
            <a:off x="7620120" y="7621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960" y="6444720"/>
            <a:ext cx="28954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485200" y="655272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DE5D-3C0D-4240-9D89-C340D26153D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200040" y="6324120"/>
            <a:ext cx="28954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3200400" y="63244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51280" y="4653000"/>
            <a:ext cx="5184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52520" y="2708280"/>
            <a:ext cx="55594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防灾减灾主题班会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Picture 1051" descr="KJJ770E0OC7EG6N4UQUR@2B"/>
          <p:cNvPicPr/>
          <p:nvPr/>
        </p:nvPicPr>
        <p:blipFill>
          <a:blip r:embed="rId1"/>
          <a:stretch/>
        </p:blipFill>
        <p:spPr>
          <a:xfrm>
            <a:off x="3924360" y="6308640"/>
            <a:ext cx="1495440" cy="36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52"/>
          <p:cNvSpPr/>
          <p:nvPr/>
        </p:nvSpPr>
        <p:spPr>
          <a:xfrm>
            <a:off x="6370560" y="630864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三、安全防御类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76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受到不法分子侵害如何报警？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中小学生受到违法犯罪分子的直接威胁和侵害，仅凭同学们自身的力量很难防范，最有效的方法就是向公安部门报告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①匪警电话的号码是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10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。这个号码应当牢记，以便发生异常情况时及时拨打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②拨打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10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电话，要简明、准确地向公安部门报告案件发生的地点、时间、当事人、案情等内容，以便公安部门及时派员处理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③打报警电话是事关社会治安管理的大事，千万不要随意拨打或以此开玩笑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路上被人抢劫、敲诈和勒索怎么办？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①要保持冷静，不要害怕，尽量说好话，说明自己没带钱，避免跟他们争吵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②如果他们继续坚持要钱，就跟他们说回家取钱，趁机跑掉，并向你认识的人求助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③如果还不行，就拖住别的大人大声喊“救命”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④如果一个人遭挟持，不要反抗，不要“硬碰硬”，可以给钱，但要记住对方的相貌特征，事后向公安机关报案。千万不要拉住欲跑的持刀歹徒不放，这样容易造成歹徒狗急跳墙，持刀伤人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地震知识类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大地震时不要急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破坏性地震从人感觉振动到建筑物被破坏平均只有</a:t>
            </a: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秒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在这短短的时间内你千 万不要惊慌，应根据所处环境迅速作出保障安全的抉择。如果住的是平房，那么你可以迅速跑到门外。如果住的是楼房，千万不要跳楼，应立即切断电闸，关掉煤气，暂避到洗手间等跨度小的地方，或是桌子，床铺等下面，震后迅速撤离，以防强余震。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人多先找藏身处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学校，商店，影剧院等人群聚集的场所如遇到 地震，最忌慌乱，应立即躲在课桌，椅子或坚固物品下面，待地震过后再有序地撤离。教师等现场工作人员必须冷静地指挥人们就地避震，决不可带头乱跑。</a:t>
            </a: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远离危险区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如在街道上遇到地震，应用手护住头部，迅速远离楼房，到街心一带。如在郊外遇到地震，要注意远离山崖，陡坡，河岸及高压线等。正在行驶的汽车和火车要立即停车。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被埋要保存体力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楷体_GB2312"/>
              </a:rPr>
              <a:t>如果震后不幸被废墟埋压，要尽量保持冷静，设法自救。无法脱险时，要保存体力，尽力寻找水和食物，创造生存条件，耐心等待救援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学校人员避震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在学校中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震时最需要的是学校领导和教师的冷静与果断。有中长期地震预报的地区，平时要结合教学活动，向学生们讲述地震和防、避震知识。震前要安排好学生转移、撤离的路线和场地；震后沉着地指挥学生有秩序地撤离。在比较坚固、安全的房屋里，可以躲避在课桌下、讲台旁、教学楼内的学生可以到开间小、有管道支撑的房间里，决不可让学生们乱跑或跳楼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演习动作示范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地震来临时：学生在课桌下</a:t>
            </a:r>
            <a:r>
              <a:rPr b="1" lang="zh-TW" sz="28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墙角</a:t>
            </a:r>
            <a:r>
              <a:rPr b="1" lang="zh-TW" sz="28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梁柱</a:t>
            </a:r>
            <a:r>
              <a:rPr b="1" lang="zh-TW" sz="2800" spc="-1" strike="noStrike">
                <a:solidFill>
                  <a:srgbClr val="000066"/>
                </a:solidFill>
                <a:latin typeface="Verdana"/>
                <a:ea typeface="宋体"/>
              </a:rPr>
              <a:t>下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以书包或任何坚固物品</a:t>
            </a:r>
            <a:r>
              <a:rPr b="1" lang="zh-TW" sz="28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保护头部，就地掩护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Picture 7" descr="DSC_2834"/>
          <p:cNvPicPr/>
          <p:nvPr/>
        </p:nvPicPr>
        <p:blipFill>
          <a:blip r:embed="rId1"/>
          <a:stretch/>
        </p:blipFill>
        <p:spPr>
          <a:xfrm>
            <a:off x="826920" y="2349360"/>
            <a:ext cx="7201080" cy="38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Picture 4" descr="DSC_2832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35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SC_2833"/>
          <p:cNvPicPr/>
          <p:nvPr/>
        </p:nvPicPr>
        <p:blipFill>
          <a:blip r:embed="rId2"/>
          <a:stretch/>
        </p:blipFill>
        <p:spPr>
          <a:xfrm>
            <a:off x="4105440" y="3500280"/>
            <a:ext cx="4859280" cy="3230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4859280" y="476280"/>
            <a:ext cx="4033800" cy="2665440"/>
          </a:xfrm>
          <a:prstGeom prst="wedgeRoundRectCallout">
            <a:avLst>
              <a:gd name="adj1" fmla="val -40949"/>
              <a:gd name="adj2" fmla="val 20277"/>
              <a:gd name="adj3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背部朝外，以坚固物保护头部，避免碎玻璃刺伤，安静等候主震过去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Picture 5" descr="DSC_2835"/>
          <p:cNvPicPr/>
          <p:nvPr/>
        </p:nvPicPr>
        <p:blipFill>
          <a:blip r:embed="rId1"/>
          <a:stretch/>
        </p:blipFill>
        <p:spPr>
          <a:xfrm>
            <a:off x="73080" y="1125360"/>
            <a:ext cx="4427640" cy="35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DSC_2836"/>
          <p:cNvPicPr/>
          <p:nvPr/>
        </p:nvPicPr>
        <p:blipFill>
          <a:blip r:embed="rId2"/>
          <a:stretch/>
        </p:blipFill>
        <p:spPr>
          <a:xfrm>
            <a:off x="4500720" y="1125360"/>
            <a:ext cx="4584600" cy="35514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 rot="10800000">
            <a:off x="0" y="4797360"/>
            <a:ext cx="4502160" cy="1967040"/>
          </a:xfrm>
          <a:prstGeom prst="cloudCallout">
            <a:avLst>
              <a:gd name="adj1" fmla="val 17944"/>
              <a:gd name="adj2" fmla="val 10924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重心尽量放低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快步向前走，不推挤，不喧哗。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AutoShape 8"/>
          <p:cNvSpPr/>
          <p:nvPr/>
        </p:nvSpPr>
        <p:spPr>
          <a:xfrm rot="10800000">
            <a:off x="4427280" y="4797360"/>
            <a:ext cx="4716360" cy="1873440"/>
          </a:xfrm>
          <a:prstGeom prst="wedgeEllipseCallout">
            <a:avLst>
              <a:gd name="adj1" fmla="val -32365"/>
              <a:gd name="adj2" fmla="val 130675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疏散前进时尽量靠走廊和楼梯两边依序向前快步走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4920" y="44280"/>
            <a:ext cx="88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굴림"/>
                <a:ea typeface="宋体"/>
              </a:rPr>
              <a:t>在地震暂停时</a:t>
            </a:r>
            <a:r>
              <a:rPr b="1" lang="zh-TW" sz="2800" spc="-1" strike="noStrike">
                <a:solidFill>
                  <a:srgbClr val="000066"/>
                </a:solidFill>
                <a:latin typeface="굴림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굴림"/>
                <a:ea typeface="宋体"/>
              </a:rPr>
              <a:t>进行第二阶段，</a:t>
            </a:r>
            <a:r>
              <a:rPr b="1" lang="zh-CN" sz="2800" spc="-1" strike="noStrike">
                <a:solidFill>
                  <a:srgbClr val="ff6600"/>
                </a:solidFill>
                <a:latin typeface="굴림"/>
                <a:ea typeface="宋体"/>
              </a:rPr>
              <a:t>头顶书包或者坚硬物</a:t>
            </a:r>
            <a:r>
              <a:rPr b="1" lang="zh-TW" sz="2800" spc="-1" strike="noStrike">
                <a:solidFill>
                  <a:srgbClr val="000066"/>
                </a:solidFill>
                <a:latin typeface="굴림"/>
                <a:ea typeface="宋体"/>
              </a:rPr>
              <a:t>，有秩序</a:t>
            </a:r>
            <a:r>
              <a:rPr b="1" lang="zh-CN" sz="2800" spc="-1" strike="noStrike">
                <a:solidFill>
                  <a:srgbClr val="000066"/>
                </a:solidFill>
                <a:latin typeface="굴림"/>
                <a:ea typeface="宋体"/>
              </a:rPr>
              <a:t>疏散。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8" descr="DSC_2838"/>
          <p:cNvPicPr/>
          <p:nvPr/>
        </p:nvPicPr>
        <p:blipFill>
          <a:blip r:embed="rId1"/>
          <a:stretch/>
        </p:blipFill>
        <p:spPr>
          <a:xfrm>
            <a:off x="851040" y="1704960"/>
            <a:ext cx="688968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216000" y="1125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굴림"/>
                <a:ea typeface="宋体"/>
              </a:rPr>
              <a:t>有秩序</a:t>
            </a:r>
            <a:r>
              <a:rPr b="1" lang="zh-CN" sz="2800" spc="-1" strike="noStrike">
                <a:solidFill>
                  <a:srgbClr val="000066"/>
                </a:solidFill>
                <a:latin typeface="굴림"/>
                <a:ea typeface="宋体"/>
              </a:rPr>
              <a:t>的疏散到操场、小广场等空旷的地方。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一）遇到地震，你知道如何逃生吗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遇地震，先躲避，桌边床边找空隙，靠在墙角曲身体，抓住机会逃出去，远离所有建筑物，余震蹲在开阔地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防灾减灾日”意义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6680" y="1511280"/>
            <a:ext cx="80773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国是世界上自然灾害最为严重的国家之一，灾害种类多、分布地域广、发生频率高、造成损失重。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09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今年起，国务院确定每年的</a:t>
            </a: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5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月</a:t>
            </a: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2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日为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防灾减灾日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08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</a:t>
            </a: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5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月</a:t>
            </a: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2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日，我国四川汶川发生</a:t>
            </a:r>
            <a:r>
              <a:rPr b="1" lang="en-US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8.0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级特大地震，损失影响之大，举世震惊。设立我国的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防灾减灾日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一方面是顺应社会各界对我国防灾减灾关注的诉求，另一方面也是提醒国民前事不忘，后事之师，更加重视防灾减灾，努力减少灾害损失。国家设立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防灾减灾日</a:t>
            </a:r>
            <a:r>
              <a:rPr b="1" lang="zh-CN" sz="2100" spc="-1" strike="noStrike">
                <a:solidFill>
                  <a:srgbClr val="000066"/>
                </a:solidFill>
                <a:latin typeface="宋体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将使我国的防灾减灾工作更有针对性，更加有效地开展防灾减灾工作。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二）发生火灾，我们应该如何防护呢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火灾起，怕烟熏，鼻口捂住湿毛巾，身上起火地上滚，弯腰快步离险境，不乘电梯走楼梯，盲目跳楼会伤身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三）我们在雷雨天需要注意什么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阴雨天，生雷电，避雨别在树下站，铁塔线杆要离远，打雷家中也防患，关好门窗断电源，避免雷火屋里窜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四）你知道如何对待突发的疫情吗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对疫情，别麻痹，预防传染做仔细，公共场所要少去，发现患者即隔离，通风消毒餐用具，人受感染早就医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五）你知道该如何正确用电吗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用电器，需谨记，湿手去摸使不得，电源插头不能摸，电线落地远远躲，电器若是着了火，千万不要用水泼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（六）我们如何注意交通安全？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红灯停，绿灯行，小心过街不抢行，过街要走斑马线，勿要打闹来回跑，小心车辆不要慌，避让车辆不抢行，听从交警守交规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Picture 15" descr="bettygreen_c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852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有备未必无患  无备必有大患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6" name="Picture 18" descr="ZQL]}D9F)NVBMM05H{2R%8I"/>
          <p:cNvPicPr/>
          <p:nvPr/>
        </p:nvPicPr>
        <p:blipFill>
          <a:blip r:embed="rId3"/>
          <a:stretch/>
        </p:blipFill>
        <p:spPr>
          <a:xfrm>
            <a:off x="395280" y="1268280"/>
            <a:ext cx="8388360" cy="5172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324000" y="170028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  <a:ea typeface="宋体"/>
              </a:rPr>
              <a:t>希望同学们借此机会，汲取防灾减灾的基本常识，从容应对各种突发事件，保护自己和他人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知识竞赛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每年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为我国“防灾减灾日”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日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日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7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5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日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9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月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1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日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在街上遭遇地震，应抱头迅速到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最近的建筑物内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空旷地蹲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高楼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立交桥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闻到有浓烈的煤气异味，应立即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打开门窗，关掉煤气阀门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开灯查看，确认煤气泄漏位置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打开抽风机，抽走煤气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打电话报警求助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发生地震时在学校上课，应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避险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慌乱跑向教室外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迅速抱头、闭眼，尽量蜷曲身体，躲在各自的课桌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蹲在地上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坐在座位上不动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对我国影响最大的几种自然灾害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质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自然变异和人为的作用都可能导致地质环境或地质体发生变化，当这种变化达到一定程度时，所产生的诸如滑坡、泥石流、地面下降、地面塌陷、岩石膨胀、沙土液化、土地冻融、土壤盐渍化、土地沙漠化以及地震、火山、地热害等后果会给人类和社会造成危害。将这种现象称为地质危害。地质危害也包括派生的灾害。种类有：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泥石流、滑坡、崩塌、地面下沉、地震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火场中失去自救能力时，应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求救。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呼喊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敲击身边物品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等待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想方设法站起来，引起别人的注意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6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医疗急救电话是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10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19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20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22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7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交通事故、火灾事故、刑事、治安案件、自然灾害等报警电话是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22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19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20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10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在影剧院遭遇地震，应该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沉着冷静，就地蹲下或躲在排椅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乱喊乱叫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不顾一切向外跑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站在吊灯、电扇等悬挂物下面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9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大型活动现场发生突发事件，需要紧急疏散时应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按顺序迅速撤离现场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争先恐后逃跑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围观看热闹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原地等待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、行人不要在街上滑旱冰、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等，以免引起事故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散步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逛街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滑滑板　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．聊天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76320" y="6445080"/>
            <a:ext cx="2895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加赛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在郊外遭遇雷电时，应该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___  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cc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及时躲避或尽量找低洼处蹲下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cc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停留在空旷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cc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停留在孤立的大树、高塔、电线杆旁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cc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停留在广告牌下</a:t>
            </a: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洪涝及其它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雨涝灾害、洪水灾害、凌汛灾害、地震灾害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大风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风力达到足以危害人们的生产活动、经济建设和日常生活的风，成为大风。危害性大风主要指台风、寒潮大风、雷暴大风、龙卷风。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热带气旋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热带气旋是一种发生在热带或副热带海洋上的气旋性涡旋。强烈的热带气旋伴有狂风、暴雨、巨浪、风暴潮，活动范围很广，具有很强的破坏力，是一种重要的灾害性天气系统。我国是世界上少数几个受热带气旋严重影响的国家之一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冰雹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冰雹是从发展强盛的积雨云中降落到地面的冰块或冰球。据冰雹大小及其破坏程度，还分为轻雹害、中雹害和重雹害三级。我国是世界上雹灾较多的国家之一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海洋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 风暴潮、灾害性海浪、 海啸、赤潮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其它灾害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还有很多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常见灾害及预防自救自护常识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消防防火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交通安全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安全防御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地震知识类</a:t>
            </a:r>
            <a:br>
              <a:rPr sz="2400"/>
            </a:br>
            <a:br>
              <a:rPr sz="2000"/>
            </a:br>
            <a:br>
              <a:rPr sz="1000"/>
            </a:br>
            <a:r>
              <a:rPr b="1" lang="zh-CN" sz="1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一、消防防火类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696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基本要求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: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小学生不得玩火。一是不得带火柴或打火机等火种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;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二是不得随意点火，禁止在易燃易爆物品处用火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;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三是燃放鞭炮要远离柴草等易燃品，更不允许将点燃的鞭炮乱扔。在火灾现场，小学生等未成年人要坚持先逃生的原则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火灾的处理办法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家中起火，不要慌张，应根据火情及时采取相应措施：如果炒菜时油锅起火，迅速将锅盖紧紧盖上，使锅里的油火因缺氧而熄灭，不可用水扑救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房间内起火时，不能轻易打开门窗，以免空气对流，形成大面积火灾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纸张、木头或布起火时，可用水来扑救，而电器、汽油、酒精、食用油着火时，则用土、沙泥等灭火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若火势已大，必须立即报火警。被火围困时，应视不同情况，采取不同方法脱离险境。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3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发生火灾应如何报警？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发生火情及时报警、是每个公民应尽的义务。火警电话的号码是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19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。拨打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19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时，要沉着冷静，关键是要把情况用简单的语言表达清楚。在没有电话的情况下，应大声呼喊或采取其他方法引起邻居、行人注意，协助灭火或报警。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　二、交通安全类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7696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同学们上学和放学的时候，正是一天中道路交通最拥挤的时候，人多车辆多，必须注意交通安全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基本要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    ①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在道路上行走，要走人行道；没有人行道的道路，要靠右侧的路边行走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  ②集体外出时，最好有组织、有秩序地列队行走；结伴外出时，不要相互追逐、打闹、嬉戏；行走时要专心，注意周围情况，不要东张西望、边走边看书报或做其他事情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③要学会避让机动车辆，不与机动车辆争道抢行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、横穿马路应该注意什么？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横穿马路，可能遇到的危险因素会大大增加，应特别注意安全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   ①穿越马路，要遵守交通规则，做到“绿灯行，红灯停”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②穿越马路，要走人行横道线；在有过街天桥和过街地道的路段，应自觉走过街天桥和地下通道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　③在没有人行横道的路段，应先看左边，再看右边，在确认没有机动车通过时才可以穿越马路。</a:t>
            </a:r>
            <a:br>
              <a:rPr sz="2000"/>
            </a:br>
            <a:r>
              <a:rPr b="0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　   ④不要翻越道路中央的安全护栏和隔离墩，更不能在马路上滑旱冰鞋或者滑板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0:13:21Z</dcterms:created>
  <dc:creator>lijing</dc:creator>
  <dc:description/>
  <dc:language>en-US</dc:language>
  <cp:lastModifiedBy>Administrator</cp:lastModifiedBy>
  <dcterms:modified xsi:type="dcterms:W3CDTF">2015-09-02T07:13:50Z</dcterms:modified>
  <cp:revision>66</cp:revision>
  <dc:subject/>
  <dc:title> 江苏省运河中学</dc:title>
</cp:coreProperties>
</file>