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6.png" ContentType="image/png"/>
  <Override PartName="/ppt/media/image26.gif" ContentType="image/gif"/>
  <Override PartName="/ppt/media/image7.jpeg" ContentType="image/jpeg"/>
  <Override PartName="/ppt/media/image3.png" ContentType="image/png"/>
  <Override PartName="/ppt/media/image20.gif" ContentType="image/gif"/>
  <Override PartName="/ppt/media/image13.jpeg" ContentType="image/jpeg"/>
  <Override PartName="/ppt/media/image5.jpeg" ContentType="image/jpeg"/>
  <Override PartName="/ppt/media/image4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gif" ContentType="image/gif"/>
  <Override PartName="/ppt/media/image24.jpeg" ContentType="image/jpeg"/>
  <Override PartName="/ppt/media/image30.gif" ContentType="image/gif"/>
  <Override PartName="/ppt/media/image28.gif" ContentType="image/gif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8.jpeg" ContentType="image/jpeg"/>
  <Override PartName="/ppt/media/image2.gif" ContentType="image/gif"/>
  <Override PartName="/ppt/media/image19.jpeg" ContentType="image/jpeg"/>
  <Override PartName="/ppt/media/image21.png" ContentType="image/png"/>
  <Override PartName="/ppt/media/image23.jpeg" ContentType="image/jpeg"/>
  <Override PartName="/ppt/media/image25.jpeg" ContentType="image/jpeg"/>
  <Override PartName="/ppt/media/image17.gif" ContentType="image/gif"/>
  <Override PartName="/ppt/media/image27.jpeg" ContentType="image/jpeg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F8E-9B20-422C-8B19-7B632EF2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818-144F-422E-8E84-7525866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B6B-337D-4BAC-965B-70667EBF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751-0462-4019-88C6-3A88D228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9E7F-76CA-4A66-B63C-5B3F28B5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E677-F7F8-41EC-A926-1DD86404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A39F-78AE-4B9A-BF18-F53B586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CDF6-3914-4762-A334-D49303A5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B099-3E24-4EA5-9CFF-DCC5084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53D0-32AF-46AD-9835-5BEA2782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8C3B-752F-4417-8238-CF985DF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047-D3EF-488C-A3BE-1BFCAD0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E213-418E-4AE8-A748-253AF50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97D-4676-487D-AE45-C8ABED69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044A-96B0-499E-BF77-9D3F44D4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0428-F56F-4101-9BEE-E2BA62EA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5C9E-A683-45A0-A783-71CFC352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E400-426D-4A59-8188-860C1A36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B343-C410-4559-83DC-22176E27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6E2B-669C-4F02-9ABE-4F3D50A6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6FB3-CA14-479D-BA80-4E043C5C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38AA-C16B-4B7B-A174-177BD0A7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C6F-E1CE-48BF-90F6-1B0C68A6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BD56-1262-44AA-8F08-D9C869AE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CD76-2ECE-42A1-B991-7827D1FB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2A1E-8C20-442D-9298-1820B033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69FB-2DBA-4EB2-958C-6DC5A5D2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FE23-10B0-4629-9E1E-3D99700B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EA852-C90A-4AA4-AC08-A5EB0325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7956-D729-4AC3-BBBB-6DEE0F32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C89B7-F013-421C-975A-F36417D8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F854-3704-495D-AF79-858A061A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96D77-94E6-4F91-ACE0-19F1F73D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D20-0668-47B1-A1EB-972647D3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89B53-B3AF-483D-B608-32FE1B12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5442B-A4B3-4BCF-80E9-ABADF52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BB89-2253-49C7-8CDD-CD7B154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46D6E-852D-472C-A018-7337011B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0D81-CEFC-48E3-891F-62C7097B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2F71-08D7-4011-875B-2660178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8DEB4-A811-477B-B965-C3421A29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47DD-F1AA-49E5-BF3B-3A1A5CE0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0199-A100-44CF-BBFF-2BA735E8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E005F-1830-4B09-A64C-D4E04C98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4E6-D22E-41F9-ADF1-348CC9A7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7662E-5349-4524-803B-7E922F04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A2FB2-91DD-4777-828B-649098FA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E0CC-7FD4-428B-8087-260A10CE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E8A6-C84E-4327-A2E7-F9DD72A0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98755-F6CE-402C-B5CA-A80AE01C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FE655-55D4-444C-8909-511FBEC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E0DFC-99E7-4BA3-9715-D4CDAF5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62DE6-E3B8-4D44-852C-0079B5D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FE53-1230-4266-BD1D-76D8FE9F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95548-4160-4813-BAD7-098D900B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EED-9A08-4976-B5F6-B2CE5F23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D7BB-5731-4DC1-BC4C-7005548D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51F97-9AA7-4474-9650-1F5529DA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898FA-4909-4CF4-AE24-FC453C80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8C1C1-A2DD-433D-922C-3C33E52E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1304-EBF8-4B9F-B28D-63FCC5BB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7C977-BE2E-445F-AD18-2F78186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9CC12-F7E0-4517-964A-93CEC4F0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057A-8DDF-4426-AE4C-301DDD5D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59AF-397F-4BCF-A58F-79883591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07454-CD90-459B-BF62-B9A8EB9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00B-3E71-48D3-9405-58994D9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6A2B4-D7D6-4115-A6DA-F4334E75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B0C1-6CF4-4582-BACA-B95DD6EB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B3CD6-7FD4-48B8-92A7-32E162E7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17F34-8891-4574-B6D3-0F5A0527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0D0E8-A008-4485-BEFE-0167BCB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62B50-AE7B-43E0-ABF8-4AD8CC9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F1B83-8191-43D2-9DA6-66A582D5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1614F-CE9F-4448-BE82-88FCB639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B28F5-7B7E-44DA-B9B8-A71B1441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D6493-A75D-4997-B1EE-A44F11A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C28-97CD-440D-A4C9-B1B8234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F3F6-985D-4C61-B113-73E2C15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2A62E-FBC1-43F7-99CC-0699AC1C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B7AD-DE35-410D-AEEC-B78B4CC8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C7FD4-8596-4AD6-A734-DA7326A3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DD1BA-D4DC-4BEA-B666-B4A9683D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EFF-3086-4801-98D7-B55B4C5E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4ED1-0097-4A73-9A88-C69C71CD233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6AE3-B087-40E6-A707-2FEB767162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B220-86F9-4A3A-81F5-3D379E85A7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2D6B-0421-47DD-8FCB-C58D027EE3A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D39D-0C92-4E35-B6BE-D13BD86A251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B83D-B5DD-4391-82B8-90858CDEE57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4190-D300-4086-8E9D-47E932D712C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ydzx"/>
          <p:cNvPicPr/>
          <p:nvPr/>
        </p:nvPicPr>
        <p:blipFill>
          <a:blip r:embed="rId1"/>
          <a:stretch/>
        </p:blipFill>
        <p:spPr>
          <a:xfrm>
            <a:off x="1071720" y="3286080"/>
            <a:ext cx="5562360" cy="3381480"/>
          </a:xfrm>
          <a:prstGeom prst="rect">
            <a:avLst/>
          </a:prstGeom>
          <a:ln w="0">
            <a:noFill/>
          </a:ln>
        </p:spPr>
      </p:pic>
      <p:pic>
        <p:nvPicPr>
          <p:cNvPr id="304" name="WordArt 5" descr=""/>
          <p:cNvPicPr/>
          <p:nvPr/>
        </p:nvPicPr>
        <p:blipFill>
          <a:blip r:embed="rId2"/>
          <a:stretch/>
        </p:blipFill>
        <p:spPr>
          <a:xfrm>
            <a:off x="1689120" y="706320"/>
            <a:ext cx="6175440" cy="4157640"/>
          </a:xfrm>
          <a:prstGeom prst="rect">
            <a:avLst/>
          </a:prstGeom>
          <a:ln w="0">
            <a:noFill/>
          </a:ln>
        </p:spPr>
      </p:pic>
      <p:pic>
        <p:nvPicPr>
          <p:cNvPr id="305" name="标题 5" descr=""/>
          <p:cNvPicPr/>
          <p:nvPr/>
        </p:nvPicPr>
        <p:blipFill>
          <a:blip r:embed="rId3"/>
          <a:stretch/>
        </p:blipFill>
        <p:spPr>
          <a:xfrm>
            <a:off x="493560" y="3517920"/>
            <a:ext cx="8674200" cy="15606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458200" cy="21434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春蚕到死丝方尽，蜡炬成灰泪始干。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4" descr="u=3682210448,310163319&amp;fm=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标题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吴艺宏家长：“老师平时为了孩子们辛苦了，在这里衷心祝老师节日快乐，家庭幸福。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陈柳英家长：“还是多得新班主任您的管理有方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图片 5" descr="u=759978482,3297994558&amp;fm=15&amp;gp=0.jpg"/>
          <p:cNvPicPr/>
          <p:nvPr/>
        </p:nvPicPr>
        <p:blipFill>
          <a:blip r:embed="rId3"/>
          <a:stretch/>
        </p:blipFill>
        <p:spPr>
          <a:xfrm>
            <a:off x="7429680" y="450072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3" descr="u=3978638766,3152536410&amp;fm=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6" descr="u=3068061281,2905711311&amp;fm=0&amp;gp=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5" descr="u=3592275602,2425534105&amp;fm=0&amp;gp=0.jpg"/>
          <p:cNvPicPr/>
          <p:nvPr/>
        </p:nvPicPr>
        <p:blipFill>
          <a:blip r:embed="rId3"/>
          <a:stretch/>
        </p:blipFill>
        <p:spPr>
          <a:xfrm>
            <a:off x="0" y="4071960"/>
            <a:ext cx="3143160" cy="2786040"/>
          </a:xfrm>
          <a:prstGeom prst="rect">
            <a:avLst/>
          </a:prstGeom>
          <a:ln w="0">
            <a:noFill/>
          </a:ln>
        </p:spPr>
      </p:pic>
      <p:pic>
        <p:nvPicPr>
          <p:cNvPr id="356" name="标题 1" descr=""/>
          <p:cNvPicPr/>
          <p:nvPr/>
        </p:nvPicPr>
        <p:blipFill>
          <a:blip r:embed="rId4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班主任为我们做了很多很多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我们应怎样回报我们的班主任？说说怎样以我们的实际行动回报班主任吧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3" descr="u=1105943546,3443710180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8592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第一次月测即将来临，让我们考取优异的成绩回报我们敬爱的班主任！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图片 7" descr="u=724691733,2649266145&amp;fm=3&amp;gp=0.jpg"/>
          <p:cNvPicPr/>
          <p:nvPr/>
        </p:nvPicPr>
        <p:blipFill>
          <a:blip r:embed="rId1"/>
          <a:stretch/>
        </p:blipFill>
        <p:spPr>
          <a:xfrm>
            <a:off x="0" y="1643040"/>
            <a:ext cx="5357880" cy="507204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6" descr="u=2160525314,386838796&amp;fm=3&amp;gp=0.jpg"/>
          <p:cNvPicPr/>
          <p:nvPr/>
        </p:nvPicPr>
        <p:blipFill>
          <a:blip r:embed="rId2"/>
          <a:stretch/>
        </p:blipFill>
        <p:spPr>
          <a:xfrm>
            <a:off x="3936960" y="2143080"/>
            <a:ext cx="5207040" cy="4714920"/>
          </a:xfrm>
          <a:prstGeom prst="rect">
            <a:avLst/>
          </a:prstGeom>
          <a:ln w="0">
            <a:noFill/>
          </a:ln>
        </p:spPr>
      </p:pic>
      <p:sp>
        <p:nvSpPr>
          <p:cNvPr id="363" name="WordArt 4"/>
          <p:cNvSpPr txBox="1"/>
          <p:nvPr/>
        </p:nvSpPr>
        <p:spPr>
          <a:xfrm>
            <a:off x="1785960" y="2786040"/>
            <a:ext cx="5689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献给老师的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4" name="WordArt 6"/>
          <p:cNvSpPr txBox="1"/>
          <p:nvPr/>
        </p:nvSpPr>
        <p:spPr>
          <a:xfrm>
            <a:off x="500040" y="2786040"/>
            <a:ext cx="119844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hiller"/>
              </a:rPr>
              <a:t>STEP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365" name="矩形 5"/>
          <p:cNvSpPr/>
          <p:nvPr/>
        </p:nvSpPr>
        <p:spPr>
          <a:xfrm>
            <a:off x="40179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7" name="WordArt 6"/>
          <p:cNvSpPr txBox="1"/>
          <p:nvPr/>
        </p:nvSpPr>
        <p:spPr>
          <a:xfrm>
            <a:off x="1219320" y="1981080"/>
            <a:ext cx="6665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f99ff"/>
                    </a:gs>
                  </a:gsLst>
                  <a:lin ang="5400000"/>
                </a:gradFill>
                <a:latin typeface="宋体"/>
              </a:rPr>
              <a:t>祝：班主任节日快乐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f99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68" name="Picture 7" descr="200903042141081379"/>
          <p:cNvPicPr/>
          <p:nvPr/>
        </p:nvPicPr>
        <p:blipFill>
          <a:blip r:embed="rId2"/>
          <a:stretch/>
        </p:blipFill>
        <p:spPr>
          <a:xfrm>
            <a:off x="611280" y="400536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图片 3" descr="u=3114211294,153086341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7" descr="u=1355905839,4253957846&amp;fm=15&amp;gp=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WordArt 5"/>
          <p:cNvSpPr txBox="1"/>
          <p:nvPr/>
        </p:nvSpPr>
        <p:spPr>
          <a:xfrm rot="319200">
            <a:off x="1068120" y="1375920"/>
            <a:ext cx="6858000" cy="17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掌声鼓励请班主任上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2" name="图片 4" descr="u=1254532534,2215936757&amp;fm=15&amp;gp=0.jpg"/>
          <p:cNvPicPr/>
          <p:nvPr/>
        </p:nvPicPr>
        <p:blipFill>
          <a:blip r:embed="rId3"/>
          <a:stretch/>
        </p:blipFill>
        <p:spPr>
          <a:xfrm>
            <a:off x="428760" y="214200"/>
            <a:ext cx="966600" cy="172908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5" descr="2579718161553842934.jpg"/>
          <p:cNvPicPr/>
          <p:nvPr/>
        </p:nvPicPr>
        <p:blipFill>
          <a:blip r:embed="rId4"/>
          <a:stretch/>
        </p:blipFill>
        <p:spPr>
          <a:xfrm>
            <a:off x="8001000" y="4714920"/>
            <a:ext cx="976320" cy="177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567"/>
          <p:cNvPicPr/>
          <p:nvPr/>
        </p:nvPicPr>
        <p:blipFill>
          <a:blip r:embed="rId1"/>
          <a:stretch/>
        </p:blipFill>
        <p:spPr>
          <a:xfrm>
            <a:off x="-1044720" y="0"/>
            <a:ext cx="10550520" cy="703908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3" descr=""/>
          <p:cNvPicPr/>
          <p:nvPr/>
        </p:nvPicPr>
        <p:blipFill>
          <a:blip r:embed="rId2"/>
          <a:stretch/>
        </p:blipFill>
        <p:spPr>
          <a:xfrm>
            <a:off x="237960" y="2633760"/>
            <a:ext cx="8637840" cy="1152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500040" y="3499920"/>
            <a:ext cx="8229600" cy="30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方正姚体"/>
                <a:ea typeface="方正姚体"/>
              </a:rPr>
              <a:t>                          </a:t>
            </a:r>
            <a:r>
              <a:rPr b="0" lang="zh-CN" sz="3600" spc="-1" strike="noStrike">
                <a:solidFill>
                  <a:srgbClr val="9933ff"/>
                </a:solidFill>
                <a:latin typeface="方正姚体"/>
                <a:ea typeface="方正姚体"/>
              </a:rPr>
              <a:t>游戏规则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方正姚体"/>
                <a:ea typeface="方正姚体"/>
              </a:rPr>
              <a:t>1.</a:t>
            </a:r>
            <a:r>
              <a:rPr b="0" lang="zh-CN" sz="2800" spc="-1" strike="noStrike">
                <a:solidFill>
                  <a:srgbClr val="9933ff"/>
                </a:solidFill>
                <a:latin typeface="方正姚体"/>
                <a:ea typeface="方正姚体"/>
              </a:rPr>
              <a:t>以小组为单位进行比赛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方正姚体"/>
                <a:ea typeface="方正姚体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方正姚体"/>
                <a:ea typeface="方正姚体"/>
              </a:rPr>
              <a:t>.</a:t>
            </a:r>
            <a:r>
              <a:rPr b="0" lang="zh-CN" sz="2800" spc="-1" strike="noStrike">
                <a:solidFill>
                  <a:srgbClr val="9933ff"/>
                </a:solidFill>
                <a:latin typeface="方正姚体"/>
                <a:ea typeface="方正姚体"/>
              </a:rPr>
              <a:t>各个小组积极抢答，每答对一题加一分。下课后，累计积分最高的小组，全组共加三十分，个人文明分加两分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方正姚体"/>
                <a:ea typeface="方正姚体"/>
              </a:rPr>
              <a:t>  </a:t>
            </a:r>
            <a:r>
              <a:rPr b="0" lang="zh-CN" sz="2800" spc="-1" strike="noStrike">
                <a:solidFill>
                  <a:srgbClr val="9933ff"/>
                </a:solidFill>
                <a:latin typeface="方正姚体"/>
                <a:ea typeface="方正姚体"/>
              </a:rPr>
              <a:t>（班主任可以自行加入某个小组，一起参加游戏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WordArt 5"/>
          <p:cNvSpPr txBox="1"/>
          <p:nvPr/>
        </p:nvSpPr>
        <p:spPr>
          <a:xfrm>
            <a:off x="0" y="1125360"/>
            <a:ext cx="119844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hiller"/>
              </a:rPr>
              <a:t>STEP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456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1738800" y="189000"/>
            <a:ext cx="32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是什么节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教师节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生节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班主任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79280" y="2205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你知道歌诵教师的歌曲有哪些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说出一首歌名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两首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以此类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1071360" y="1484280"/>
            <a:ext cx="49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请补充完整：一日为师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—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400040" y="3933720"/>
            <a:ext cx="345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你知道对教师的称谓有哪些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一个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两个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以此类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5053320" y="128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终身为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2022120" y="3141720"/>
            <a:ext cx="521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长大后我就成了你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每当我走过老师窗前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 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恩师难忘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老师你好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 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老师赞美诗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红烛之歌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再见老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539640" y="4869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老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广泛流行的敬称；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先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历史悠长的尊称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·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灵魂工程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富哲理；   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园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质朴无华的褒称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·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慈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真情感人的爱称；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春蚕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纯挚的称谓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·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蜡烛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温馨动人的称谓；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孺子牛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具中国特色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·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春雨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生动形象的默称；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人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高评价的专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4429440" y="1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班主任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21" name="Picture 4" descr="456"/>
          <p:cNvPicPr/>
          <p:nvPr/>
        </p:nvPicPr>
        <p:blipFill>
          <a:blip r:embed="rId1"/>
          <a:stretch/>
        </p:blipFill>
        <p:spPr>
          <a:xfrm>
            <a:off x="0" y="-747720"/>
            <a:ext cx="10369440" cy="76057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454400" y="63360"/>
            <a:ext cx="242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教师的始祖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老子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孔子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3492000" y="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240" y="1484280"/>
            <a:ext cx="45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故弟子不必不如师，师不必贤于弟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话出于谁的作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475880" y="19890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韩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师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3168720" y="2708280"/>
            <a:ext cx="280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教万教教人求真；千学万学学做真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许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珩为我国一位著名文人撰写了一副挽联，请问他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朱自清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巴金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老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7165800" y="35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朱自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69840" y="4292640"/>
            <a:ext cx="90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北宋学者杨时尊师好学，一次他和同学去洛阳拜见老师程颐。当时正值三九严寒，天空飘着雪花，来到老师门前，只见老师在打瞌睡，他们不愿打扰，就静静地肃立在门前的雪地里。程颐醒来看到他们，连忙让进厅堂，这时门外积雪已有一尺多厚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个典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被后人称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3637080" y="587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姚体"/>
              </a:rPr>
              <a:t>程门立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1332000" y="1628640"/>
            <a:ext cx="6885000" cy="444816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6c0a"/>
                </a:solidFill>
                <a:latin typeface="黑体"/>
                <a:ea typeface="黑体"/>
              </a:rPr>
              <a:t>有人说老师像园丁；也有人说老师像蜡烛；她更像一支粉笔。她缩短了自己的身躯，为我们铺长了知识之路。她总是默默地在黑板上耕耘着，为我们播下了知识的种子。 叶圣陶先生早就说过：“教师就是捧着一颗心来，不带一根草去的人”。更让我深刻的理解了人们把教师比作红烛的内涵。是啊，教师如果没有红烛那种燃烧自己，照亮别人的奉献精神，我们的教育事业怎么会蒸蒸日上？四化建设的栋梁之才从何而来？国家的繁荣富强谁来创造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673200" y="274680"/>
            <a:ext cx="80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663300"/>
                </a:solidFill>
                <a:latin typeface="Calibri"/>
                <a:ea typeface="黑体"/>
              </a:rPr>
              <a:t>你心目中的班主任是什么样的呢？你想对她说写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3" descr="u=3198212880,2561804801&amp;fm=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班主任是辛勤的园丁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班主任是我们的向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班主任从事着太阳底下最光辉的职业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请说出班主任为我们做的点点滴滴让我们送上最真挚的祝福吧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u=544675240,2961118836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WordArt 4"/>
          <p:cNvSpPr txBox="1"/>
          <p:nvPr/>
        </p:nvSpPr>
        <p:spPr>
          <a:xfrm>
            <a:off x="2700360" y="476280"/>
            <a:ext cx="4114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主任一日常规工作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696960" y="14382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519120" y="1201680"/>
            <a:ext cx="8229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每天早上检查学生出勤情况，如有缺席，及时与家长取得联系或进行家庭访问，搞清原因，同时检查学生着装仪表情况是否符合学校要求，及时进行教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督促学生认真参加广播操和升旗仪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检查班级清洁卫生情况，了解值日生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 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观察班级公物保管状况，发现损坏及时调查、教育和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检查课代表收交作业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每天观察班级课堂教学出席和上课情况，掌握班级学风的进展和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七、检查学生眼保健操以及学生课间文明休息的状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八、注意和处理好班级偶发事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九、随时发现班中的先进事迹或不良现象，及时进行表扬或批评教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、认真上好校班会课。督促学生认真收听学校教育广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一、离开教室时，检查班级卫生情况以及四关工作。（水、电、门、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6" descr="u=1957409243,811899222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WordArt 4"/>
          <p:cNvSpPr txBox="1"/>
          <p:nvPr/>
        </p:nvSpPr>
        <p:spPr>
          <a:xfrm>
            <a:off x="179280" y="692280"/>
            <a:ext cx="82393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完班主任的工作，大家有什么感受？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2" name="WordArt 5"/>
          <p:cNvSpPr txBox="1"/>
          <p:nvPr/>
        </p:nvSpPr>
        <p:spPr>
          <a:xfrm>
            <a:off x="324000" y="2133720"/>
            <a:ext cx="55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是否觉得繁琐和辛苦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318456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8"/>
          <p:cNvSpPr txBox="1"/>
          <p:nvPr/>
        </p:nvSpPr>
        <p:spPr>
          <a:xfrm>
            <a:off x="3851280" y="3284640"/>
            <a:ext cx="42498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59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但是，我们的班主任</a:t>
            </a:r>
            <a:endParaRPr b="1" lang="en-US" sz="2800" spc="1" strike="noStrike">
              <a:ln w="0">
                <a:noFill/>
              </a:ln>
              <a:solidFill>
                <a:srgbClr val="00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却在日复一日地</a:t>
            </a:r>
            <a:endParaRPr b="1" lang="en-US" sz="2800" spc="1" strike="noStrike">
              <a:ln w="0">
                <a:noFill/>
              </a:ln>
              <a:solidFill>
                <a:srgbClr val="00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复做着这些工作！</a:t>
            </a:r>
            <a:endParaRPr b="1" lang="en-US" sz="2800" spc="1" strike="noStrike">
              <a:ln w="0">
                <a:noFill/>
              </a:ln>
              <a:solidFill>
                <a:srgbClr val="00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45" name="Picture 12" descr="200903042141051351"/>
          <p:cNvPicPr/>
          <p:nvPr/>
        </p:nvPicPr>
        <p:blipFill>
          <a:blip r:embed="rId2"/>
          <a:stretch/>
        </p:blipFill>
        <p:spPr>
          <a:xfrm>
            <a:off x="539640" y="335772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5" descr="u=1266360788,3239628344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标题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在班主任的努力下，我们班的进步得到各科老师的肯定。班风班纪越来越好，这与班主任的汗水是不可分割的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请你列举出班主任的事和你的事情，说说你想对班主任说的话，送上你真挚的祝福。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1:29:12Z</dcterms:created>
  <dc:creator>shenhaiming</dc:creator>
  <dc:description/>
  <dc:language>en-US</dc:language>
  <cp:lastModifiedBy>Pan</cp:lastModifiedBy>
  <dcterms:modified xsi:type="dcterms:W3CDTF">2011-03-13T02:54:30Z</dcterms:modified>
  <cp:revision>62</cp:revision>
  <dc:subject/>
  <dc:title>幻灯片 1</dc:title>
</cp:coreProperties>
</file>