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407A-B85A-4D0C-B6A2-09799BA0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7B34-63FE-4951-911A-C071AC39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941B-FC7D-485B-A52C-A51547DA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08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08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DBE2-7C43-42F0-BEDB-BC25EB3F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6FF1-7AB4-44A1-9A20-D6CCD71C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E281-F322-44CE-9209-321D41E6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BCB3-FA85-4905-AA4E-A857FCA9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07D4-0DDA-47BE-A0E9-AA6F9A56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33E9-F006-4E03-9B1F-38DA65EA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C0FA-7821-4E98-982E-7F0DDB33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3CDA-1CD4-4C2F-AFF3-1BDFF908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9FD8-8671-4E16-9F7A-6D889640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1F45-6D93-446E-9171-477491E9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45BE-A408-4049-A589-A9A0F0E5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483A-865F-4506-A3CA-7112D19C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566A-70A5-4D62-BC03-E1E365EF4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08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140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08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140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FE0A-BF6F-4C52-8095-AF1EBCE7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211E-8FBD-4DFD-B4A8-AFA932BE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DB00-F906-4E5C-85F7-FD8F3E63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6D70-CB5B-4557-B83A-781E8C32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0F0C-6F3D-432A-A5D1-08F606E0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93F4-438D-4A45-A04C-5EC1E817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8F02-5236-4DAE-A2AE-44BF243B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87A7-A554-4874-B07C-692466CB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41F0-17E6-4EC2-9CC7-42FF53292E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3FC0-16FD-464A-83F0-C632B6F30F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thanksgiving_turkey_head_looking_hg_clr"/>
          <p:cNvPicPr/>
          <p:nvPr/>
        </p:nvPicPr>
        <p:blipFill>
          <a:blip r:embed="rId2"/>
          <a:stretch/>
        </p:blipFill>
        <p:spPr>
          <a:xfrm>
            <a:off x="152280" y="609480"/>
            <a:ext cx="1447920" cy="1905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thanksgiving_basket_harvest_food_sway_hg_clr"/>
          <p:cNvPicPr/>
          <p:nvPr/>
        </p:nvPicPr>
        <p:blipFill>
          <a:blip r:embed="rId3"/>
          <a:stretch/>
        </p:blipFill>
        <p:spPr>
          <a:xfrm>
            <a:off x="7238880" y="5451480"/>
            <a:ext cx="19051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09120" y="1601280"/>
            <a:ext cx="807732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7" name="Picture 4" descr="thanksgiving_basket_harvest_food_sway_hg_clr"/>
          <p:cNvPicPr/>
          <p:nvPr/>
        </p:nvPicPr>
        <p:blipFill>
          <a:blip r:embed="rId2"/>
          <a:stretch/>
        </p:blipFill>
        <p:spPr>
          <a:xfrm>
            <a:off x="7086600" y="4900680"/>
            <a:ext cx="213372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2:41:34Z</dcterms:created>
  <dc:creator>eclipse</dc:creator>
  <dc:description/>
  <dc:language>en-US</dc:language>
  <cp:lastModifiedBy>mike</cp:lastModifiedBy>
  <dcterms:modified xsi:type="dcterms:W3CDTF">2015-08-31T03:41:34Z</dcterms:modified>
  <cp:revision>9</cp:revision>
  <dc:subject/>
  <dc:title>Thankful Turke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