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226-7F72-4085-8794-30F92E1C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EBA-C53D-4C60-8775-FD2860BB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CDE9-60BB-4060-9A8D-BD6EA528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0CB-1FB6-4FEA-801B-94098A1C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C86-2211-4B0D-B4B6-0EB3BE52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718-1B60-43E7-84BC-63204A9F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58C-5666-4EBC-9786-D980A66E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6B6B-FBE3-42E5-AB4F-CD6B14EB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90C-2CF4-44F5-A530-080E0804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3B0-108A-47D1-A623-4B72ACFE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D347-4C99-41D5-BF91-1AA555F6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552-7BB8-4403-871B-06FE0398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A79B-F843-4511-B105-28A1EBB63C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532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爱岗敬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51200" y="2133720"/>
            <a:ext cx="5392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潜心育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63040" y="16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9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76360" y="549000"/>
            <a:ext cx="518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131640" y="2276280"/>
            <a:ext cx="524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教师节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您的学生：                                                                        年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690040" y="13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39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08:08:27Z</dcterms:created>
  <dc:creator>雨林木风</dc:creator>
  <dc:description/>
  <dc:language>en-US</dc:language>
  <cp:lastModifiedBy>雨林木风</cp:lastModifiedBy>
  <dcterms:modified xsi:type="dcterms:W3CDTF">2011-10-20T12:54:49Z</dcterms:modified>
  <cp:revision>5</cp:revision>
  <dc:subject/>
  <dc:title>张老师：</dc:title>
</cp:coreProperties>
</file>