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77C-3DC3-4949-9F9C-D8597718D4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159-2861-45F3-9486-B6E1F9DB6A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FF8-5795-4B56-B6BA-8438377A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D0F-F41E-4E36-94A7-D1414F2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5A2-53CD-4AA5-BB21-EE59AF02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A60-662E-4494-9623-E11BC65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218-E17B-4A21-86E9-94B694B5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F86-365E-48CD-BCD2-F1DCC5C2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F22-2DF2-47AF-8790-A18039AA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561-C8F3-4149-B689-10DAE03D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C57-9505-4F10-9E55-DC28F7B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BDD-B19C-4137-B22C-1B1EA724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339-E281-46E9-9AB0-9B6F724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554-A127-417F-9167-0FD344F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0B68-535E-4F38-A0CD-90A150164A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C9E5-D44E-4BE9-A6C3-57E3A4A284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50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54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20" descr="E:\2013.3.28\教师节\教师节07 [转换]-01.png"/>
          <p:cNvPicPr/>
          <p:nvPr/>
        </p:nvPicPr>
        <p:blipFill>
          <a:blip r:embed="rId11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0" descr="E:\2013.3.28\教师节\教师节07 [转换]-01.png"/>
          <p:cNvPicPr/>
          <p:nvPr/>
        </p:nvPicPr>
        <p:blipFill>
          <a:blip r:embed="rId12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62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93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106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24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31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74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12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7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35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9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42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54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60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64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72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8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85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91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8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301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11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9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31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9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53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56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70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73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23" descr="E:\2013.3.28\教师节\教师节04[转换]-01-01-01-01.png"/>
          <p:cNvPicPr/>
          <p:nvPr/>
        </p:nvPicPr>
        <p:blipFill>
          <a:blip r:embed="rId13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E:\2013.3.28\教师节\教师节01 [转换]-01.png"/>
          <p:cNvPicPr/>
          <p:nvPr/>
        </p:nvPicPr>
        <p:blipFill>
          <a:blip r:embed="rId14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8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1" descr="E:\2013.3.28\教师节\教师节02 [转换]-01-01.png"/>
          <p:cNvPicPr/>
          <p:nvPr/>
        </p:nvPicPr>
        <p:blipFill>
          <a:blip r:embed="rId15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2" descr="E:\2013.3.28\教师节\教师节03 [转换]-01-01-01.png"/>
          <p:cNvPicPr/>
          <p:nvPr/>
        </p:nvPicPr>
        <p:blipFill>
          <a:blip r:embed="rId16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3" descr="E:\2013.3.28\教师节\教师节04[转换]-01-01-01-01.png"/>
          <p:cNvPicPr/>
          <p:nvPr/>
        </p:nvPicPr>
        <p:blipFill>
          <a:blip r:embed="rId17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82" name="NULL" descr=""/>
          <p:cNvPicPr/>
          <p:nvPr/>
        </p:nvPicPr>
        <p:blipFill>
          <a:blip r:embed="rId18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8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85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9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9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40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40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40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12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25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44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370"/>
          <p:cNvSpPr/>
          <p:nvPr/>
        </p:nvSpPr>
        <p:spPr>
          <a:xfrm rot="167400">
            <a:off x="6669720" y="21600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15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50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53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56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9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63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64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8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76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7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21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9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46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9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7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42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50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54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7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9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75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9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7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93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800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06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13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16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26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34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46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54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8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71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85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8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1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4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9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900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902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903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06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9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12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15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8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21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24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6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7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40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Box 168"/>
          <p:cNvSpPr/>
          <p:nvPr/>
        </p:nvSpPr>
        <p:spPr>
          <a:xfrm rot="167400">
            <a:off x="6669720" y="21600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15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6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9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52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55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7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8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9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11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12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14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15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8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21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24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7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30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33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36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8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9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3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Box 166"/>
          <p:cNvSpPr/>
          <p:nvPr/>
        </p:nvSpPr>
        <p:spPr>
          <a:xfrm rot="167400">
            <a:off x="6669720" y="21600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15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53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56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9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1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62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63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8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66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9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70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72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73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76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9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82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85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8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91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94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6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7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10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13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16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9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1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22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23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5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8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8-28T02:50:45Z</dcterms:modified>
  <cp:revision>7</cp:revision>
  <dc:subject/>
  <dc:title>PowerPoint 演示文稿</dc:title>
</cp:coreProperties>
</file>