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907588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ldImg"/>
          </p:nvPr>
        </p:nvSpPr>
        <p:spPr>
          <a:xfrm>
            <a:off x="704880" y="740880"/>
            <a:ext cx="5340240" cy="369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704880" y="741240"/>
            <a:ext cx="5340240" cy="3697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讲师自我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04880" y="741240"/>
            <a:ext cx="5340240" cy="36975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先做采购电脑的角色演练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704880" y="741240"/>
            <a:ext cx="5340240" cy="36975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讲解前做角色演练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旧电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问学员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O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了解程度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请学员说出自己的分析情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04880" y="741240"/>
            <a:ext cx="5340240" cy="3697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06320" y="741240"/>
            <a:ext cx="5340600" cy="36975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放式的问题：你需要陈述回答的问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闭式的问题：你用一个字回答的问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4CB-434D-45F3-B2D0-00DF116F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603440" y="413064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ABD-7A8E-48DC-80D7-C4B8AECE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83668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0F3-079D-47C8-B680-61C6E5EB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9704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19028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60344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39704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719028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DBA-F25B-4F13-8277-984538F3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6344-3E25-46CA-8163-5DD7C261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6C6F-BC27-4A41-97DB-DC9493E7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90C7-F2CE-4AB7-8FAA-6482FB86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1500-B3F7-45E5-A945-BF367768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79B0-6BB4-4231-83CE-BC2BCAFB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28600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967C-67CF-444B-BDB2-B6F19B87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AD64-FB8E-428C-8E6A-4A37301B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2E1-D097-433F-A8A4-76A0AF5E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3668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D700-5A4C-43C8-B49A-6A8FABAD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B357-8E9C-4BFE-93F0-44A73DCC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603440" y="413064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325F-57EA-4724-8318-78DFF85B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83668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7A8A-467D-4D8D-8224-F7D922B6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9704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9028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60344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9704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719028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AB80-0477-4C1D-A40B-6788760F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96E-358E-4A4B-8EE8-CD8D76D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642-D127-4B41-9534-54D2C810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526-5176-4D99-A389-93D4EB4A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228600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FC1-0C5F-468D-8C7D-5832DABD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2BF-CA68-4769-B6C5-F984AA06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668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0DE-717F-4558-BD36-3CACBCEA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F4B-651D-4DAC-A5D4-03B56755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3600" cy="6856560"/>
            <a:chOff x="0" y="0"/>
            <a:chExt cx="990360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591920" cy="6856560"/>
              <a:chOff x="0" y="0"/>
              <a:chExt cx="159192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58688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80" y="49320"/>
                <a:ext cx="158184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10080" y="1623960"/>
                <a:ext cx="153036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0080" y="3313080"/>
                <a:ext cx="153036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0080" y="5016600"/>
                <a:ext cx="153036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707480" y="1631880"/>
              <a:ext cx="8196120" cy="189000"/>
              <a:chOff x="1707480" y="1631880"/>
              <a:chExt cx="819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712520" y="1643040"/>
                <a:ext cx="819108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717560" y="1817640"/>
                <a:ext cx="818604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17560" y="1779480"/>
                <a:ext cx="818604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17560" y="1731960"/>
                <a:ext cx="818604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717560" y="1677960"/>
                <a:ext cx="818604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707480" y="1631880"/>
                <a:ext cx="819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604880" y="6248520"/>
            <a:ext cx="1930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411300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8274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59C8-6EFF-4C15-93DD-238174A6462E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1440"/>
            <a:ext cx="9849600" cy="6856560"/>
            <a:chOff x="0" y="1440"/>
            <a:chExt cx="984960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654200" y="3092400"/>
              <a:ext cx="8195400" cy="188640"/>
              <a:chOff x="1654200" y="3092400"/>
              <a:chExt cx="819540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659240" y="3103200"/>
                <a:ext cx="819036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64280" y="3277800"/>
                <a:ext cx="81853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664280" y="3239640"/>
                <a:ext cx="81853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64280" y="3192120"/>
                <a:ext cx="81853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64280" y="3138120"/>
                <a:ext cx="81853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54200" y="3092400"/>
                <a:ext cx="819360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1440"/>
              <a:ext cx="1594800" cy="6856560"/>
              <a:chOff x="0" y="1440"/>
              <a:chExt cx="159480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1440"/>
                <a:ext cx="158688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6600"/>
                <a:ext cx="1594800" cy="6405480"/>
                <a:chOff x="0" y="66600"/>
                <a:chExt cx="159480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11000"/>
                  <a:ext cx="158148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5160" y="66600"/>
                  <a:ext cx="1529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080" y="3314520"/>
                  <a:ext cx="1530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080" y="5018040"/>
                  <a:ext cx="1530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0280" y="180612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650960" y="6350040"/>
            <a:ext cx="186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946680" y="6350040"/>
            <a:ext cx="373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8007480" y="6350040"/>
            <a:ext cx="186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DC45-CE3E-4DCE-849E-877386EE9576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09680" y="1828800"/>
            <a:ext cx="5257800" cy="3490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5400" spc="-1" strike="noStrike">
                <a:solidFill>
                  <a:srgbClr val="996633"/>
                </a:solidFill>
                <a:latin typeface="Times New Roman"/>
              </a:rPr>
              <a:t>高  效  沟  通  技  巧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5486400"/>
            <a:ext cx="542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cc"/>
                </a:solidFill>
                <a:latin typeface="Monotype Corsiva"/>
                <a:ea typeface="华文琥珀"/>
              </a:rPr>
              <a:t>Communication to W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沟通的四大秘诀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真诚  （一次谈判的经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信（换钞游戏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赞美他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善待他人（电梯里的镜子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967716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996633"/>
                </a:solidFill>
                <a:latin typeface="Times New Roman"/>
              </a:rPr>
              <a:t>第二讲  高 效 沟 通 的 步 骤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一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事前准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二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确认需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阐述观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异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达成协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共同实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477120" y="2590920"/>
            <a:ext cx="2971800" cy="3200400"/>
            <a:chOff x="6477120" y="2590920"/>
            <a:chExt cx="2971800" cy="320040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6477120" y="2590920"/>
              <a:ext cx="29718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548760" y="2626200"/>
              <a:ext cx="2818440" cy="31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cccccc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593280"/>
            <a:ext cx="67057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996633"/>
                </a:solidFill>
                <a:latin typeface="Times New Roman"/>
              </a:rPr>
              <a:t>步 骤 一 ：事 前 准 备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62520" y="1752120"/>
            <a:ext cx="5943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设定沟通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做好情绪和体力上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准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20624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39640" y="491760"/>
            <a:ext cx="7481880" cy="56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996633"/>
                </a:solidFill>
                <a:latin typeface="Times New Roman"/>
              </a:rPr>
              <a:t>步 骤  二 ：确 认 需 求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52120" y="19807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8580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步：有效提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步：积极聆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步：及时确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28958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71600" y="1752480"/>
            <a:ext cx="5181480" cy="38102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06240" y="343080"/>
            <a:ext cx="7186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问 题 的 类 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0" y="2743200"/>
            <a:ext cx="36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放式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362320" y="396252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封闭式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58160" y="2743200"/>
            <a:ext cx="2313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95280" y="2362320"/>
            <a:ext cx="3810240" cy="3581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362320"/>
            <a:ext cx="0" cy="3657600"/>
          </a:xfrm>
          <a:prstGeom prst="line">
            <a:avLst/>
          </a:prstGeom>
          <a:ln cap="rnd" w="93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9760" y="1623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cccc"/>
                </a:solidFill>
                <a:uFillTx/>
                <a:latin typeface="Times New Roman"/>
              </a:rPr>
              <a:t>封闭式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36320" y="1623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cccc"/>
                </a:solidFill>
                <a:uFillTx/>
                <a:latin typeface="Times New Roman"/>
              </a:rPr>
              <a:t>开放式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48080" y="2819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议结束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15760" y="39625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喜欢你的工作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8080" y="5257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还有问题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20080" y="5257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有什么问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92080" y="3733920"/>
            <a:ext cx="1887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喜欢你的工作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哪些方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87760" y="28195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议是如何结束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80010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问  题  举  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2362320"/>
            <a:ext cx="3810240" cy="3581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67690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33"/>
                </a:solidFill>
                <a:latin typeface="Times New Roman"/>
              </a:rPr>
              <a:t>自然赋予我们人类一张嘴</a:t>
            </a:r>
            <a:r>
              <a:rPr b="0" i="1" lang="zh-CN" sz="44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0" i="1" lang="zh-CN" sz="4400" spc="-1" strike="noStrike">
                <a:solidFill>
                  <a:srgbClr val="ff9933"/>
                </a:solidFill>
                <a:latin typeface="Times New Roman"/>
              </a:rPr>
              <a:t>两只耳朵</a:t>
            </a:r>
            <a:r>
              <a:rPr b="0" i="1" lang="zh-CN" sz="4400" spc="-1" strike="noStrike">
                <a:solidFill>
                  <a:srgbClr val="ff9933"/>
                </a:solidFill>
                <a:latin typeface="Times New Roman"/>
              </a:rPr>
              <a:t>.</a:t>
            </a:r>
            <a:r>
              <a:rPr b="0" i="1" lang="zh-CN" sz="4400" spc="-1" strike="noStrike">
                <a:solidFill>
                  <a:srgbClr val="ff9933"/>
                </a:solidFill>
                <a:latin typeface="Times New Roman"/>
              </a:rPr>
              <a:t>也就是让我们多听少说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806560" y="44737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ff9933"/>
                </a:solidFill>
                <a:latin typeface="Times New Roman"/>
              </a:rPr>
              <a:t>苏格拉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08160" y="260280"/>
            <a:ext cx="5105160" cy="129564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长城特圆体"/>
              </a:rPr>
              <a:t>聆 听 的 原 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2209680"/>
            <a:ext cx="756108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适应讲话者的风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眼耳并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首先寻求理解他人，然后再被他人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鼓励他人表达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聆听全部信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出有兴趣聆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42680" y="364680"/>
            <a:ext cx="71866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996633"/>
                </a:solidFill>
                <a:latin typeface="Times New Roman"/>
              </a:rPr>
              <a:t>步 骤 三 ：阐 述 观 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阐述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简单描述符合既定需求的建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描述细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阐述你的建议的原因和实施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息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描述特点</a:t>
            </a: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Fe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转化作用</a:t>
            </a: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Advant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强调利益</a:t>
            </a: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Benef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162920" y="2057400"/>
            <a:ext cx="25146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步骤四：处理异议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忽视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（理直气和的服务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转化法（每个人都是从天而降的天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太极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（劝酒、散步、保险、服装、书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询问法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礼物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是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职业人成功的要素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态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知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技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2590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9840" y="517320"/>
            <a:ext cx="662940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996633"/>
                </a:solidFill>
                <a:latin typeface="Times New Roman"/>
              </a:rPr>
              <a:t>步 骤 五 ：达 成 协 议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感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善于发现别人的支持，并表达感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对别人的结果表示感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愿和合作伙伴、同事分享工作成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积极转达内外部的反馈意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996633"/>
                </a:solidFill>
                <a:latin typeface="Times New Roman"/>
              </a:rPr>
              <a:t>对合作者的杰出工作给以回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赞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庆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095880" y="4876920"/>
            <a:ext cx="381024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73200" y="441000"/>
            <a:ext cx="71899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996633"/>
                </a:solidFill>
                <a:latin typeface="Times New Roman"/>
              </a:rPr>
              <a:t>步 骤 六 ：共 同 实 施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710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积极合作的态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按既定方针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现变化及时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589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06240" y="402840"/>
            <a:ext cx="71866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996633"/>
                </a:solidFill>
                <a:latin typeface="Times New Roman"/>
              </a:rPr>
              <a:t>第三讲  人际风格沟通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17000" y="2514600"/>
            <a:ext cx="11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cc"/>
                </a:solidFill>
                <a:latin typeface="Times New Roman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cccccc"/>
                </a:solidFill>
                <a:latin typeface="Times New Roman"/>
                <a:ea typeface="华文细黑"/>
              </a:rPr>
              <a:t>支配</a:t>
            </a:r>
            <a:r>
              <a:rPr b="1" lang="zh-CN" sz="2800" spc="-1" strike="noStrike">
                <a:solidFill>
                  <a:srgbClr val="cccccc"/>
                </a:solidFill>
                <a:latin typeface="Times New Roman"/>
                <a:ea typeface="华文细黑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15320" y="48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cc"/>
                </a:solidFill>
                <a:latin typeface="Times New Roman"/>
                <a:ea typeface="华文细黑"/>
              </a:rPr>
              <a:t>和蔼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77640" y="472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cc"/>
                </a:solidFill>
                <a:latin typeface="Times New Roman"/>
                <a:ea typeface="华文细黑"/>
              </a:rPr>
              <a:t>表现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39000" y="2590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cc"/>
                </a:solidFill>
                <a:latin typeface="Times New Roman"/>
                <a:ea typeface="华文细黑"/>
              </a:rPr>
              <a:t>分析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308600" y="1600200"/>
            <a:ext cx="7715160" cy="4834080"/>
            <a:chOff x="1308600" y="1600200"/>
            <a:chExt cx="7715160" cy="4834080"/>
          </a:xfrm>
        </p:grpSpPr>
        <p:sp>
          <p:nvSpPr>
            <p:cNvPr id="231" name=""/>
            <p:cNvSpPr/>
            <p:nvPr/>
          </p:nvSpPr>
          <p:spPr>
            <a:xfrm>
              <a:off x="2317320" y="4122720"/>
              <a:ext cx="565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33520" y="2176560"/>
              <a:ext cx="0" cy="37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58840" y="1600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内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08600" y="3834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5240" y="3834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主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85040" y="58528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外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47920" y="457200"/>
            <a:ext cx="8001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工作方式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213372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严肃认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条不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计划有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乎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实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寡言的缄默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2209680"/>
            <a:ext cx="4648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部表情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作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准确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细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调单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挂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38098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6248520" y="304920"/>
            <a:ext cx="3124080" cy="1752480"/>
            <a:chOff x="6248520" y="304920"/>
            <a:chExt cx="3124080" cy="1752480"/>
          </a:xfrm>
        </p:grpSpPr>
        <p:sp>
          <p:nvSpPr>
            <p:cNvPr id="242" name=""/>
            <p:cNvSpPr/>
            <p:nvPr/>
          </p:nvSpPr>
          <p:spPr>
            <a:xfrm>
              <a:off x="6248520" y="304920"/>
              <a:ext cx="3124080" cy="1752480"/>
            </a:xfrm>
            <a:custGeom>
              <a:avLst/>
              <a:gdLst>
                <a:gd name="textAreaLeft" fmla="*/ 713160 w 3124080"/>
                <a:gd name="textAreaRight" fmla="*/ 2410920 w 3124080"/>
                <a:gd name="textAreaTop" fmla="*/ 399960 h 1752480"/>
                <a:gd name="textAreaBottom" fmla="*/ 13525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40040" y="8056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c708e"/>
                  </a:solidFill>
                  <a:latin typeface="Times New Roman"/>
                </a:rPr>
                <a:t>分析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73160" y="266760"/>
            <a:ext cx="8001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工作方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3048120"/>
            <a:ext cx="6081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果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独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审慎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作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目光接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目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话快且有说服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日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1523880"/>
            <a:ext cx="3124080" cy="1447920"/>
          </a:xfrm>
          <a:custGeom>
            <a:avLst/>
            <a:gdLst>
              <a:gd name="textAreaLeft" fmla="*/ 713160 w 3124080"/>
              <a:gd name="textAreaRight" fmla="*/ 2410920 w 312408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71400" y="190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支配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238880" y="609480"/>
            <a:ext cx="1981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09680" y="266760"/>
            <a:ext cx="5964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工作方式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友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赞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耐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轻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1600200"/>
            <a:ext cx="426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面部表情和蔼可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频繁的目光接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话慢条斯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声音轻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抑扬顿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鼓励性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办公室里有家人照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010280" y="4572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371600" y="4648320"/>
            <a:ext cx="2438280" cy="1981080"/>
          </a:xfrm>
          <a:prstGeom prst="irregularSeal2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cccccc"/>
                </a:solidFill>
                <a:latin typeface="Times New Roman"/>
              </a:rPr>
              <a:t>和 蔼  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00200" y="533520"/>
            <a:ext cx="8001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工作方式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2057400"/>
            <a:ext cx="31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率友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热情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令人信服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幽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群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泼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快速的动作和手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动活泼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抑扬顿挫的语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说服力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陈列有说服力的物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315200" y="533520"/>
            <a:ext cx="1905120" cy="2361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971800" y="4952880"/>
            <a:ext cx="4724280" cy="1447920"/>
          </a:xfrm>
          <a:prstGeom prst="irregularSeal2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cccc"/>
                </a:solidFill>
                <a:latin typeface="Times New Roman"/>
              </a:rPr>
              <a:t>表 达 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0280" y="180612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宋体"/>
              </a:rPr>
              <a:t>第四讲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zh-CN" sz="4400" spc="-1" strike="noStrike">
                <a:solidFill>
                  <a:srgbClr val="996633"/>
                </a:solidFill>
                <a:latin typeface="宋体"/>
              </a:rPr>
              <a:t>接近客户的技巧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06560" y="3559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接近客户的三十秒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决定了推销的成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905120" y="228600"/>
            <a:ext cx="75438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一印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81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永远没有第二次机会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28800" y="3200400"/>
            <a:ext cx="3581280" cy="2209680"/>
          </a:xfrm>
          <a:prstGeom prst="irregularSeal2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cc"/>
                </a:solidFill>
                <a:latin typeface="Times New Roman"/>
              </a:rPr>
              <a:t>七秒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095880" y="4038480"/>
            <a:ext cx="27432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89000" y="1599840"/>
            <a:ext cx="6026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ccff"/>
                </a:solidFill>
                <a:latin typeface="Times New Roman"/>
              </a:rPr>
              <a:t>会见客户的商务礼仪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141360" y="2437920"/>
            <a:ext cx="3321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Times New Roman"/>
              </a:rPr>
              <a:t>相互介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Times New Roman"/>
              </a:rPr>
              <a:t>互换名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Times New Roman"/>
              </a:rPr>
              <a:t>握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Times New Roman"/>
              </a:rPr>
              <a:t>出行、乘坐交通工具的礼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960" y="2971800"/>
            <a:ext cx="2724120" cy="1828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理运用肢体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对方展现你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职业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95280" y="1905120"/>
            <a:ext cx="7543800" cy="4038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286000"/>
            <a:ext cx="7556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为了设定的</a:t>
            </a:r>
            <a:r>
              <a:rPr b="1" lang="zh-CN" sz="4000" spc="-1" strike="noStrike" u="sng">
                <a:solidFill>
                  <a:srgbClr val="ff9933"/>
                </a:solidFill>
                <a:uFillTx/>
                <a:latin typeface="Times New Roman"/>
                <a:ea typeface="华文楷体"/>
              </a:rPr>
              <a:t>目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把</a:t>
            </a:r>
            <a:r>
              <a:rPr b="1" lang="zh-CN" sz="4000" spc="-1" strike="noStrike" u="sng">
                <a:solidFill>
                  <a:srgbClr val="ff9933"/>
                </a:solidFill>
                <a:uFillTx/>
                <a:latin typeface="Times New Roman"/>
                <a:ea typeface="华文楷体"/>
              </a:rPr>
              <a:t>信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9933"/>
                </a:solidFill>
                <a:uFillTx/>
                <a:latin typeface="Times New Roman"/>
                <a:ea typeface="华文楷体"/>
              </a:rPr>
              <a:t>思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和</a:t>
            </a:r>
            <a:r>
              <a:rPr b="1" lang="zh-CN" sz="4000" spc="-1" strike="noStrike" u="sng">
                <a:solidFill>
                  <a:srgbClr val="ff9933"/>
                </a:solidFill>
                <a:uFillTx/>
                <a:latin typeface="Times New Roman"/>
                <a:ea typeface="华文楷体"/>
              </a:rPr>
              <a:t>情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个人或群体间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递，并</a:t>
            </a:r>
            <a:r>
              <a:rPr b="1" lang="zh-CN" sz="4000" spc="-1" strike="noStrike" u="sng">
                <a:solidFill>
                  <a:srgbClr val="ff9933"/>
                </a:solidFill>
                <a:uFillTx/>
                <a:latin typeface="Times New Roman"/>
                <a:ea typeface="华文楷体"/>
              </a:rPr>
              <a:t>达成共同协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过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39640" y="395280"/>
            <a:ext cx="7481880" cy="6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996633"/>
                </a:solidFill>
                <a:latin typeface="Times New Roman"/>
              </a:rPr>
              <a:t>一  沟 通 的 定 义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介绍的礼节（一）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先介绍位卑者给位尊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晚辈给长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己公司的同事给别家公司的同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公司同事给客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非官方人士给官方人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国同事给外国同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交换名片的礼仪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名片夹应该放置在西服的插袋里，而不是从西裤的后兜中掏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上司在场，应在上司与对方交换名片之后，方才出示自己的名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是坐着，尽可能起身接受对方递过来的名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双手接过对方名片，阅读名片内容，并口头确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在收到的名片上记录与之无关的信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握手的礼节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何时要握手？？？（持续时间、力量大小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遇见认识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别人道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人进入你的办公室或离开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被相互介绍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安慰某人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：与女士见面时，一定要女士主动伸手才可握手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出行、乘坐交通工具的的礼仪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计程车的座位次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人开车时的座位次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乘火车时的座位次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乘坐电梯时的礼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宋体"/>
              </a:rPr>
              <a:t>二、常用的接近话语的要点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1080" y="1523520"/>
            <a:ext cx="21153600" cy="622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429000" y="1523880"/>
            <a:ext cx="3504960" cy="5028840"/>
            <a:chOff x="3429000" y="1523880"/>
            <a:chExt cx="3504960" cy="5028840"/>
          </a:xfrm>
        </p:grpSpPr>
        <p:sp>
          <p:nvSpPr>
            <p:cNvPr id="279" name=""/>
            <p:cNvSpPr/>
            <p:nvPr/>
          </p:nvSpPr>
          <p:spPr>
            <a:xfrm>
              <a:off x="3429000" y="1523880"/>
              <a:ext cx="3504960" cy="43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称呼客户的名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9000" y="2385720"/>
              <a:ext cx="3504960" cy="43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简单自我介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5115960"/>
              <a:ext cx="3500280" cy="43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表达拜访的理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4253760"/>
              <a:ext cx="3504960" cy="43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和客户聊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29000" y="3391920"/>
              <a:ext cx="3500280" cy="43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恳请对方接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81840" y="1954800"/>
              <a:ext cx="0" cy="43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81840" y="28170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81840" y="3822840"/>
              <a:ext cx="0" cy="43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1840" y="4685040"/>
              <a:ext cx="0" cy="43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29000" y="6121800"/>
              <a:ext cx="3504960" cy="43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赞美及询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81840" y="554724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8970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宋体"/>
              </a:rPr>
              <a:t>三、获取客户好感的六大法则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给客户良好的外观印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要记住并常说出客户的名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让您的客户有优越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己保持快乐开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替客户解决问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利用小赠品赢得准客户的好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41080" y="2590560"/>
            <a:ext cx="756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996633"/>
                </a:solidFill>
                <a:latin typeface="Times New Roman"/>
              </a:rPr>
              <a:t>沟通永无止境</a:t>
            </a:r>
            <a:endParaRPr b="0" i="1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09680" y="6094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体"/>
              </a:rPr>
              <a:t>二、沟 通 的 种 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819520"/>
            <a:ext cx="10670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3962520"/>
            <a:ext cx="14475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25780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525780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5257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5257800"/>
            <a:ext cx="914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5257800"/>
            <a:ext cx="914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752120" y="4495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4495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533600" y="2835360"/>
            <a:ext cx="6446160" cy="3430800"/>
            <a:chOff x="1533600" y="2835360"/>
            <a:chExt cx="6446160" cy="3430800"/>
          </a:xfrm>
        </p:grpSpPr>
        <p:sp>
          <p:nvSpPr>
            <p:cNvPr id="134" name=""/>
            <p:cNvSpPr/>
            <p:nvPr/>
          </p:nvSpPr>
          <p:spPr>
            <a:xfrm>
              <a:off x="3577320" y="28353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沟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01400" y="3978360"/>
              <a:ext cx="12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语言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(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买剪刀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05120" y="4038480"/>
              <a:ext cx="10666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38840" y="397836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非语言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（面部表情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33600" y="5257800"/>
              <a:ext cx="189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口头       书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91720" y="519732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声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语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3320" y="519732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肢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语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11240" y="519732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身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仿宋体"/>
                </a:rPr>
                <a:t>动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895480" y="335268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19720" y="3352680"/>
              <a:ext cx="5331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724280" y="4495680"/>
              <a:ext cx="1526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449568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7280" y="4495680"/>
              <a:ext cx="12956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57400" y="266760"/>
            <a:ext cx="61167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注 意 说 话 的 语 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）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 在 说 什 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 是 怎 么 说 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 的 身 体 语 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400800" y="3581280"/>
            <a:ext cx="2768760" cy="2057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9280" y="205740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22600" y="2819520"/>
            <a:ext cx="12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38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22600" y="3505320"/>
            <a:ext cx="12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55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3880" y="33336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非言语性信息沟通渠道——传递思想、情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905120"/>
          <a:ext cx="9883800" cy="5486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05120"/>
                    <a:ext cx="9883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68560" y="2322360"/>
            <a:ext cx="5771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决定信息发送的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l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电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面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会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32960" y="3527280"/>
            <a:ext cx="208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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何时发送信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时间是否恰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7320" y="4648320"/>
            <a:ext cx="3709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确定信息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强调重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熟悉的语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73720" y="252396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86080" y="253836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38560" y="37576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84640" y="48099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三、有效的信息发送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6672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33"/>
                </a:solidFill>
                <a:latin typeface="华文彩云"/>
                <a:ea typeface="华文彩云"/>
              </a:rPr>
              <a:t>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28600"/>
            <a:ext cx="5105520" cy="1295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33"/>
                </a:solidFill>
                <a:latin typeface="Times New Roman"/>
                <a:ea typeface="华文彩云"/>
              </a:rPr>
              <a:t>有效的信息发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2362320"/>
            <a:ext cx="409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谁该接受信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先获得接受者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受者的观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需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情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32080" y="4075200"/>
            <a:ext cx="22392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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何处发送信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点是否合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被干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76800" y="250020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11400" y="280512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11760" y="44816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362320" y="6094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体"/>
              </a:rPr>
              <a:t>双 向 沟 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3920" y="362412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体"/>
              </a:rPr>
              <a:t>传送者                 接受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581280"/>
            <a:ext cx="1555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08600" y="3657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084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30804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17440" y="3341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体"/>
              </a:rPr>
              <a:t>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94320" y="410364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体"/>
              </a:rPr>
              <a:t>反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4100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仿宋体"/>
              </a:rPr>
              <a:t>传送者与接受者的角色不断相互转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仿宋体"/>
              </a:rPr>
              <a:t>听，说，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05:28:16Z</dcterms:created>
  <dc:creator>Wang Yi. Yvonne</dc:creator>
  <dc:description/>
  <dc:language>en-US</dc:language>
  <cp:lastModifiedBy>CHENJI</cp:lastModifiedBy>
  <cp:lastPrinted>1999-12-28T05:53:47Z</cp:lastPrinted>
  <dcterms:modified xsi:type="dcterms:W3CDTF">2002-12-09T12:00:35Z</dcterms:modified>
  <cp:revision>293</cp:revision>
  <dc:subject/>
  <dc:title>内部客户服务</dc:title>
</cp:coreProperties>
</file>