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F68-5931-4326-8E68-C54416AD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612-4269-43CF-8E7B-53FDC89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F60-55EC-4059-BF3F-86EC5EB9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92B-C800-4109-BEF9-0F6018AB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816-8DB4-44DA-B3F0-277ACAC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581-12D4-40C6-A637-EE811EA0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C3C-D9DC-4F2F-9B5F-5647C0A5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119-1366-4436-AEAE-FA12A18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C11-2B0B-4FBC-A5FF-AD545DC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DA6-2EB1-4845-9B23-789E626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E8F-43F7-4F15-B31C-7A4070B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61-BAAE-4E2B-BFA7-66B1A1E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C32-2262-443E-9B63-FD4D5DABB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472356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808"/>
                </a:solidFill>
                <a:latin typeface="华文楷体"/>
                <a:ea typeface="华文楷体"/>
              </a:rPr>
              <a:t>——</a:t>
            </a:r>
            <a:r>
              <a:rPr b="0" lang="zh-CN" sz="4000" spc="-1" strike="noStrike">
                <a:solidFill>
                  <a:srgbClr val="000808"/>
                </a:solidFill>
                <a:latin typeface="华文楷体"/>
                <a:ea typeface="华文楷体"/>
              </a:rPr>
              <a:t>高三（</a:t>
            </a:r>
            <a:r>
              <a:rPr b="0" lang="zh-CN" sz="4000" spc="-1" strike="noStrike">
                <a:solidFill>
                  <a:srgbClr val="000808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808"/>
                </a:solidFill>
                <a:latin typeface="华文楷体"/>
                <a:ea typeface="华文楷体"/>
              </a:rPr>
              <a:t>）主题班会</a:t>
            </a:r>
            <a:r>
              <a:rPr b="0" lang="zh-CN" sz="4000" spc="-1" strike="noStrike">
                <a:solidFill>
                  <a:srgbClr val="000808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60020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父母教会我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55640" y="54936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413000"/>
            <a:ext cx="79930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在家里最经常对父母说的话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父母经常对我说的话是什么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下面同学的做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位成绩优秀的学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对他的期望很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自己对自己的要求也很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一回家就马上学习。最近学校开展孝敬父母的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学生在家能帮助父母承担一些家务劳动。但小林却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成绩优秀就是孝敬父母，其他都是多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学生在接受了孝敬父母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教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写下了一段话：为了我们的妈妈，我们应该好好学习，将来让妈妈过上幸福的生活，不再让妈妈做又苦又累的生活，让妈妈过世界上最好的生活！妈妈，等着我给你过最幸福的生活吧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13424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妈妈的生日是哪天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父亲节是哪一天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妈妈最喜欢的是哪套衣服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爸妈的结婚纪念日是哪天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爸爸今年多少岁？属什么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爸爸喜欢吃的菜是什么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母亲节是哪一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给父亲买过生日礼物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常在家里帮父母做多少家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了解父母的爱好、兴趣吗？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0"/>
            <a:ext cx="40320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现场小调查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96000" y="5734080"/>
            <a:ext cx="33480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1187280" cy="112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00000" y="1557360"/>
            <a:ext cx="720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中宋"/>
              </a:rPr>
              <a:t>这些你都知道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讨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父母教会了你，但是你有做过这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了解父母各个方面（如：爸爸妈妈的工作是什么？辛苦吗？爸爸妈妈最喜欢吃的食物是什么、你了解爸爸妈妈的身体健康状况吗？你爸爸妈妈的生日是哪一天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尊敬父母，对父母有礼貌，听从父母的正确教导，不当面顶撞父母，不和父母发脾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生活节俭，无浪费现象，不乱花钱，不向父母提过高要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父母做力所能及的家务，减轻父母负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有心事主动和父母说，经常与父母聊天（多和父母沟通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碰到一些比较重大的事情，要和父母商量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征求和认真考虑父母的意见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努力学好各门功课，经常主动向父母汇报自己在学校的学习生活情况，不让父母操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⑧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父母亲有做得不对的地方要诚恳的指出（实话实说）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189000"/>
            <a:ext cx="4392360" cy="1257120"/>
          </a:xfrm>
          <a:prstGeom prst="cloudCallout">
            <a:avLst>
              <a:gd name="adj1" fmla="val -48699"/>
              <a:gd name="adj2" fmla="val 597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20090509_d31c2a326408411f1ba63TA4JMo01PT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765000"/>
            <a:ext cx="74167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词是可以这样解释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父亲常常教会我要勇敢面对挫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父亲对我说不要被挫折击倒，要勇于抗争，做生活的主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我悲伤时，您轻轻抹去我的泪水，让我鼓起勇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感谢您给了我一个健康的体魄，使我感受到生活的美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只有您没有回报的付出才使我的生活充满乐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oa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您为我铺设了前半程的道路，后半程的路需要我自己走完，但有您在，我会充满信心勇往直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词也是可以这样解释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妈妈给了我很多很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l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妈妈为我操心，白发已爬上了您的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您为我流过不少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您有一颗慈祥温暖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您注视我的目光总是充满着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您从不欺骗我们，教导我们去做正确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0"/>
            <a:ext cx="54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你知道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Ftheer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Mother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吗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227664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这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79640" y="404640"/>
            <a:ext cx="532908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父母教会了我什么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47640" y="2133720"/>
            <a:ext cx="612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其实在你还小的时候就已经开始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.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0090509_f9bd8266d8c8a871967drAdgoX1SMbn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0090509_bd1fb3a94a388f4bcb7b2SXF6O8rwRZ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5558" r="0" b="0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1341360"/>
            <a:ext cx="6588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836640"/>
            <a:ext cx="68007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完这则漫画，你有什么感想？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2:07:37Z</dcterms:created>
  <dc:creator>王利红</dc:creator>
  <dc:description/>
  <dc:language>en-US</dc:language>
  <cp:lastModifiedBy>微软用户</cp:lastModifiedBy>
  <dcterms:modified xsi:type="dcterms:W3CDTF">2014-08-30T02:20:01Z</dcterms:modified>
  <cp:revision>142</cp:revision>
  <dc:subject/>
  <dc:title>幻灯片 1</dc:title>
</cp:coreProperties>
</file>