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23.gif" ContentType="image/gif"/>
  <Override PartName="/ppt/media/image3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7E20-2EAB-4324-8334-E858FE9162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　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　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　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　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81B-287E-4FD4-839B-9EA1D4A3B2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C38-65ED-4D80-9E52-0EBE5B23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0A6-8124-4693-941F-07105772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3BE-2EA7-4892-B1A9-AC1B22AE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503-CF4B-4FFD-ABD2-31B0A253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588-555A-4B4E-A250-6EB2CCE8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AFA-132F-4B84-BFC3-41CC6280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DC1-8EB6-4CF8-85C0-F79304CE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967-0F2D-4045-AD47-7034DC16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186-E2B5-4363-AD98-85AE72A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163-D419-4C92-9006-2FCDF5BD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12C-CD7D-4090-85E2-71100DA1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5B8-9D28-42BA-9D4C-598A4515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32D3-35A7-4B50-8626-32B2104A6B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1601640"/>
            <a:ext cx="1165320" cy="52563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-27000"/>
            <a:ext cx="9199440" cy="622440"/>
            <a:chOff x="0" y="-27000"/>
            <a:chExt cx="9199440" cy="622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-27000"/>
              <a:ext cx="157500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151308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5"/>
            <a:stretch/>
          </p:blipFill>
          <p:spPr>
            <a:xfrm>
              <a:off x="302436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6"/>
            <a:stretch/>
          </p:blipFill>
          <p:spPr>
            <a:xfrm>
              <a:off x="453708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7"/>
            <a:stretch/>
          </p:blipFill>
          <p:spPr>
            <a:xfrm>
              <a:off x="605016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>
              <a:off x="762480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179280" y="260280"/>
            <a:ext cx="959040" cy="136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7740720" y="260280"/>
            <a:ext cx="958680" cy="13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740720" y="1557360"/>
          <a:ext cx="1174680" cy="530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40720" y="1557360"/>
                    <a:ext cx="117468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 txBox="1"/>
          <p:nvPr/>
        </p:nvSpPr>
        <p:spPr>
          <a:xfrm rot="5400000">
            <a:off x="6299640" y="3861360"/>
            <a:ext cx="3960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华文行楷"/>
              </a:rPr>
              <a:t>齐心协力同育孩子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1" name=""/>
          <p:cNvSpPr txBox="1"/>
          <p:nvPr/>
        </p:nvSpPr>
        <p:spPr>
          <a:xfrm rot="5400000">
            <a:off x="-1225800" y="3897360"/>
            <a:ext cx="3889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华文行楷"/>
              </a:rPr>
              <a:t>与时俱进共创明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87280" y="692280"/>
            <a:ext cx="669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家校携手  共创佳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19280" y="2133720"/>
            <a:ext cx="5761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天水市八中欢迎您的到来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005360"/>
            <a:ext cx="73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高二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(12)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班家长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班主任：陈志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联系电话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13919666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8839080" y="0"/>
            <a:ext cx="304920" cy="43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44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cc"/>
                </a:solidFill>
                <a:latin typeface="黑体"/>
                <a:ea typeface="黑体"/>
              </a:rPr>
              <a:t>开学以来学生的总体表现</a:t>
            </a:r>
            <a:r>
              <a:rPr b="1" lang="zh-CN" sz="57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优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生们的集体荣誉感较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学之间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团结互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较好地遵守校纪班规，大多数同学学习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认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刻苦，勤奋踏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少数同学自习效率低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别学生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自控能力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自身要求不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能认真完成作业，上课迟到，多次被发现玩手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620640"/>
            <a:ext cx="7129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二、开学以来我们所做的工作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2492280"/>
            <a:ext cx="583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总结过去  展望未来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365720"/>
            <a:ext cx="547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33336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高二分班以来我们一直坚持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2205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树立理想，明确学习目标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3213000"/>
            <a:ext cx="88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授学习方法，培养学习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414972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既要成才，更要成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30064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重视安全教育，培养集体荣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268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严格制度，规范行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79280" y="404640"/>
            <a:ext cx="8388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三、本学期中考试、月考试成绩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421000"/>
            <a:ext cx="568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期中考试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月考试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708360" cy="3174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35640" y="4005360"/>
            <a:ext cx="309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让我们一起分享孩子成功的喜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7640" y="206064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肯定所有学生的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29242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保持和提高名次不容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78936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进步和退步是暂时的、相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479736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不以成绩论英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260280"/>
            <a:ext cx="432108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成绩的背后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偏科严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部分同学上课自以为是，不够专心，甚至出现开小差。有些学生作业马虎，作业差错多，选择题乱猜，计算题只写一个答案；老师讲评过的练习部分学生始终没有养成及时订正的习惯，导致已做过的练习屡做屡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松学习，临考试才匆忙复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10108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考试心理承受能力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能合理安排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基础薄弱，却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问老师或同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部分同学有抄袭作业的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早恋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生自觉性不足，老师在与不在教室不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分数和压力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0408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很重要，我们始终把学习成绩看作是学生素质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重要的一个方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该是我们教育的全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更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该是我们评价孩子的唯一砝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要的是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交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共同寻找解决问题的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自觉性不强的孩子需要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必要的适当的压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但对于那些学习上已经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苦但成绩不是太理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孩子，不要再施加压力了（讲究方法 、适当的鼓励），否则会适得其反。现在全国不断有中学生因为学习负担重、心理压力大离家出走而精神错乱、甚至跳楼自杀的案例，应该引起我们老师和父母的高度重视。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现在的孩子们学习真的很辛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心理也很脆弱。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他们，需要我们呵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89000"/>
            <a:ext cx="46483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家长应该知道的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000" y="404640"/>
            <a:ext cx="755964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启体简体"/>
              </a:rPr>
              <a:t>学生现状之忧虑点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启体简体"/>
              <a:ea typeface="方正启体简体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48428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压力过大，心态调整不好，影响了考试成绩，甚至是平时的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存在瘸腿科目，影响整体成绩的提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处于生理危险期而焦躁不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学习态度好，但效率不高，不会合理利用时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成绩相比较稍后的学生自信心不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、个别学生缺乏学习动力，学习习惯懒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8000" y="1773360"/>
            <a:ext cx="5321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1417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有些学生学习没有预习，上课注意力不集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做小动作、讲闲话，看窗外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不愿意做笔记，课堂效率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1989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首先感谢您在百忙之中抽空来参加此次家长会，关心、帮助、督促贵子女是我们共同的心愿！您的孩子能取得进步，获得全面发展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692280"/>
            <a:ext cx="61214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Times New Roman"/>
                <a:ea typeface="黑体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35280" y="93024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效率产生差距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700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学校里，有些学生自觉性比较差，没有充分利用午休时间和自习课时间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997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学之后，没有及时回家，在外玩，很晚才进入学习状态。做完作业后没有复习预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末、假期时间过于放松。先玩再学习。前松后紧，质量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35280" y="105264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作业质量值得重视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844640"/>
            <a:ext cx="8137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些学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业马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业差错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选择题乱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计算题只有答案没有过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老师讲评过的练习始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没有及时订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习惯，导致已做过的练习屡做屡错。到考试时遇到难题不是去思考，而是乱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业时，懒得翻书，再看一眼，只求任务完成。如果有同学已经完成时，要么拿起来就抄，否则就随便乱写搪塞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63640" y="112536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四、家庭配合很关键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844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206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学校教育离不开正确家庭教育的配合，一分耕耘，一分收获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倘若没有良好，正确合理的家庭教育配合，再好的师资和学校都不可能产生好的教育效果。 希望家长主动监督其学习的时间和学习的自觉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4653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教育是双向的，必须家庭和学校积极配合才可能取得成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16000" y="404640"/>
            <a:ext cx="6810480" cy="18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四、需要家长配合的工作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1280" y="2637000"/>
            <a:ext cx="8091360" cy="9032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4149720"/>
            <a:ext cx="5688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, Arial, 宋体"/>
                <a:ea typeface="黑体"/>
              </a:rPr>
              <a:t>家长会后</a:t>
            </a:r>
            <a:r>
              <a:rPr b="1" lang="zh-CN" sz="4800" spc="-1" strike="noStrike">
                <a:solidFill>
                  <a:srgbClr val="000000"/>
                </a:solidFill>
                <a:latin typeface="Verdana, Arial, 宋体"/>
                <a:ea typeface="黑体"/>
              </a:rPr>
              <a:t>您会怎么对待孩子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4360" y="1628640"/>
            <a:ext cx="8153280" cy="221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有一个美丽的大学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所以我会风雨无阻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6000" y="2924280"/>
            <a:ext cx="385740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的心里话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亲爱的爸爸妈妈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907920"/>
            <a:ext cx="84358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f0dab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你们此刻正坐在教室里分析着我们的成绩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考得好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你们会感到由衷的欣慰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考得不好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你们则感到很担心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很难过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此同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你们教室中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室外的我们也并不轻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尤其当我们考的差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心更是沉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愧疚和自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怕你们难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怕你们伤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f0dab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爸爸妈妈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你们是我们最爱最在乎的人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请相信我们的每一份努力都是为了换取你们的欣慰的微笑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即便我们不那么优秀，但我们一定会很努力</a:t>
            </a:r>
            <a:r>
              <a:rPr b="1" lang="zh-CN" sz="3200" spc="-1" strike="noStrike">
                <a:solidFill>
                  <a:srgbClr val="6f0dab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不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为此时不理想的成绩而对我们失去信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相信和支持我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们的支持和鼓励是我们奋斗的最大动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404640"/>
            <a:ext cx="820908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不怪你的唠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正我青春期也即将过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再叛逆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妈妈您让我放下了学习的烦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只要一进家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一定能听到您的关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谢谢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0dab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一年后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我就要上大学了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我也成了知识分子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虽然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您现在在我的学习上辅导不了我多少了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不过您看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我不是越来越有进步了么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335772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一次考试前我们都带着您的嘱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一次考试后我们都想让您高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尤其是我们马上就要进入高三的紧张生活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论怎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都愿意得到你们的肯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0dab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考得好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我们想请您为我们鼓劲儿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考得不好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我们更希望得到你们的加油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3645000"/>
            <a:ext cx="8569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04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知道你们很辛苦，你们也十分关心我。但是，很对不起，我的成绩太不理想了，愧对你们。我知道，一切都是努力才能获得的。平时，我们沟通得太少了，我真的很希望跟你们成为无话不说的朋友，但是十几年的“习惯”却似乎是一道很厚的屏障，阻隔着我们，愿我们一起努力，打破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3429000"/>
            <a:ext cx="8713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0dab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6f0dab"/>
                </a:solidFill>
                <a:latin typeface="Times New Roman"/>
                <a:ea typeface="黑体"/>
              </a:rPr>
              <a:t>为了我，你们辛苦了。能作你们的儿子是我最大的幸福，但我仍十分希望，在你们望子成龙的同时，能给我多一些肯定，多一定鼓励与支持，好吗？我不是最好的人，但我会尽力做得更好，相信我，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476280"/>
            <a:ext cx="85345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孩子不愿意家长来参加家长会的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某些家长在会后控制不住自己的情绪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参加家长会后的紧张、忧郁、愤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时间就不折不扣的倾倒给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对孩子的期望太大，看到小孩成绩退步就发火或者长嘘短叹，给懂事的他们带来更沉重的心理负担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他们更不知所措，更没有信心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52280"/>
            <a:ext cx="8839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, Arial, 宋体"/>
              </a:rPr>
              <a:t>                    </a:t>
            </a:r>
            <a:r>
              <a:rPr b="1" lang="zh-CN" sz="4000" spc="-1" strike="noStrike">
                <a:solidFill>
                  <a:srgbClr val="333399"/>
                </a:solidFill>
                <a:latin typeface="Verdana, Arial, 宋体"/>
                <a:ea typeface="黑体"/>
              </a:rPr>
              <a:t>建议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, Arial, 宋体"/>
              </a:rPr>
              <a:t>     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开完家长会后，面对孩子似乎和平常一样，但是他会找到一个合适的机会和方式和孩子聊一聊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面对孩子的好成绩不喜形于色，而是真诚地肯定孩子所做的努力，同时理性的评价，提出殷切的希望，给孩子以进步的新起点和动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面对孩子的问题，需心平气和地与孩子探讨产生的原因，提出意见和方法。允许孩子有去尝试改进的时间，这样孩子就有被信任、被重视、被关爱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家长心平气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孩子心情愉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样孩子学习就会更专心，就会更加全力以赴。</a:t>
            </a:r>
            <a:r>
              <a:rPr b="1" lang="zh-CN" sz="2800" spc="-1" strike="noStrike">
                <a:solidFill>
                  <a:srgbClr val="000000"/>
                </a:solidFill>
                <a:latin typeface="Verdana, Arial, 宋体"/>
                <a:ea typeface="黑体"/>
              </a:rPr>
              <a:t>争取保持一种安详、自信的精神状态，就能培养孩子积极、进取的积极心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地实施教育，能够更好教育自己的子女成人与成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74128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68360" y="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请家长配合的事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5000"/>
            <a:ext cx="8891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协助学校落实学生行为规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（头发、首饰、手机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以身作则，在家庭中培养良好学习    氛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07664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经常和班主任和科任老师沟通，多了解孩子的在校情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589720"/>
            <a:ext cx="872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多关注孩子周末的生活和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6000" y="476280"/>
            <a:ext cx="892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放假时，督促孩子在家做好以下几件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f0dab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英语单词背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理化公式，概念记清，要书写落实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语文生物的背诵积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要多读好书、杂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新闻联播要看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6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抽时间多谈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47640" y="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给家长的几点建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9810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最好多关心子女的思想动态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多观察，少评价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多沟通，少批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教做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道理，提高他们的道德修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最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多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孩子一点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信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最好与班主任和科任老师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坦诚相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多沟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每天都要关照他们上学、放学路上的安全问题，节假日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安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111680"/>
            <a:ext cx="8748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允许去网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歌厅、舞厅等不适宜学生去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允许带手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通讯工具来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允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别人家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留宿。特别是周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周末要注意孩子活动的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零用钱要适度，不宜一次多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如无特殊情况，不要请假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给家长的几点建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481644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每月和班主任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进行一次信息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家庭教育和学校教育的和谐配合，会产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+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115920"/>
            <a:ext cx="882000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        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十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外留宿要问。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回家很晚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带同学住宿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打电话时间长，次数多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受伤回家要问。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超消费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超出友谊要问。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绩突然下降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穿奇装异服，爱好打扮，沉默寡言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上网的频率过高、时间过长及其上网内容要过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972440" y="7542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最后我想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6286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我时间，给我机会，我会证明我带的班级是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优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；给我舞台，给我空间，我可以施展我教书育人的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热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给我学生，给我一个班级，我会努力把它带成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好的班集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给我一缕阳光，给我一个笑容，给我一点鼓励和支持，我会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用事实来回报所有的家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163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03640" y="6237360"/>
            <a:ext cx="3529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6524640"/>
            <a:ext cx="3313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ownRibbonSharp"/>
          <p:cNvSpPr/>
          <p:nvPr/>
        </p:nvSpPr>
        <p:spPr>
          <a:xfrm>
            <a:off x="539640" y="260280"/>
            <a:ext cx="8317080" cy="1297080"/>
          </a:xfrm>
          <a:custGeom>
            <a:avLst/>
            <a:gdLst>
              <a:gd name="textAreaLeft" fmla="*/ 2079360 w 8317080"/>
              <a:gd name="textAreaRight" fmla="*/ 6238080 w 8317080"/>
              <a:gd name="textAreaTop" fmla="*/ 16200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家长会议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2421000"/>
            <a:ext cx="81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主任汇报班级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学生代表发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互动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24000" y="2276640"/>
            <a:ext cx="6769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本班学生总人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男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女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58920" y="620640"/>
            <a:ext cx="6769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一、班级基本情况介绍 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2920" y="692280"/>
            <a:ext cx="741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高二（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9</a:t>
            </a: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）班团干部名单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班  长：库尔班江     学习委员：刘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活委员：王佳乐 王华龙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体育委员：杨雨琦 马文月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团支书记：唐伟     纪律委员：肖文东    吕鹏   马宏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语文：郭冉冉   数学：毕彩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英语：刘佳慧 热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物理：冯志文  化学：谢佳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生物：王华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979640" y="3330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汉仪雪峰体简"/>
              </a:rPr>
              <a:t>各科课代表名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404640"/>
            <a:ext cx="8353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我们班级从组建至今已有半年多了，在这期间，我们的同学和老师通过不断地探讨、交流、沟通、磨合，教学已经步入正轨。进入高二下学期，我们加强了对学生的管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华文新魏"/>
              </a:rPr>
              <a:t>在卫生常规工作方面：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我们完善了常规卫生工作分工职责，并让每个成员都清楚地认识到，一个团队要进步，要发展，必须从自身做起，尽到自己的责任和义务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404640"/>
            <a:ext cx="8353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华文新魏"/>
              </a:rPr>
              <a:t>        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华文新魏"/>
              </a:rPr>
              <a:t>在学习方面：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我们注重培养学生的自主学习能力，让每个人都能认真自觉地对待学习，以促成良好学习氛围的形成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400" spc="-1" strike="noStrike">
                <a:solidFill>
                  <a:srgbClr val="ff0066"/>
                </a:solidFill>
                <a:latin typeface="Arial"/>
              </a:rPr>
              <a:t>能力锻炼方面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：在组班的时候，各位同学踊跃参加班干部的竞选。重新选举了班委干部和各学科代表，充分调动大家的积极性，让更多的同学能参与班集体建设，锻炼和培养自己多方面的能力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2:51:19Z</dcterms:created>
  <dc:creator>韩玉兰</dc:creator>
  <dc:description/>
  <dc:language>en-US</dc:language>
  <cp:lastModifiedBy>微软用户</cp:lastModifiedBy>
  <dcterms:modified xsi:type="dcterms:W3CDTF">2013-08-17T11:59:12Z</dcterms:modified>
  <cp:revision>31</cp:revision>
  <dc:subject/>
  <dc:title>家长会</dc:title>
</cp:coreProperties>
</file>