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A6F4-FCA4-49F2-B3DF-A055E7E60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03F6F-6255-4C42-8F70-DA67C93D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7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54569-27C8-4179-AAB7-0F847F04AF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3E5538-440B-4BA8-BB1D-89011FB30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8923F-9756-479F-A5B6-5F118C9AE7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7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06F49B-1CFC-46BF-93EF-7B607D066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8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934EE-5644-4F67-9ADA-1409B4603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8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ABC55-BB9C-4FD4-AB3B-E9FA7CD6D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8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0E8EB-553A-4B65-AC38-CF7EA3EA43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9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0E6B98-A13B-4379-9E50-5510B87471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9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E7860-0C1E-4732-A606-7504CB9EC8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7D3E6F-76A7-487B-AE2A-90006DB157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42AEA-6A86-4414-B17B-9ECE77CE1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09"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311014-77AE-42DE-9205-04D065B93C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1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BDFE95-6A1C-4FA6-8047-063282E61C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13"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4"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92E39F-B79E-4308-B316-EAA1A215F4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9A0E43-832E-4055-8AA9-05E72622BD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9073BC-E10D-4161-838F-9E1E5C046A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1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9"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0"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E2D8E-ED9F-4BE8-96E8-4AF0CEEAE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2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4"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B47537-A00C-4592-9C44-58F059FBBD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2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7"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8"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E0314F-82B0-4B38-A25D-57CA5848A1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30"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1"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16AEBE-A1D6-43B4-923E-E8BD846869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33"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4"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5"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6"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7E948D-7A01-4956-89D7-90953FA428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7656A-1065-449B-8287-35606C2A6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38"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9"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0"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1"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2"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3"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EB139A-FFF4-4D38-A32B-1A8F95F3F4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C4E3FB-0720-4264-87E8-887F29B294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49"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33E483-2D7A-4692-9067-31D06FDB66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5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3A07B4-B348-48C7-876D-9B01A56B0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53"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4"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32D5A2-EE01-42D0-AA21-BC45F15E85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279528-E39C-4D37-8E8E-8050088AE3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DC98AC-3A2D-4E4A-962C-C51A9B5508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5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9"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0"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FD9BA1-A98B-4A11-8CF7-2B5D16B827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6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4"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A985D3-20BA-45A6-8959-D810EFA159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7"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8"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817B7D-C61A-4EC2-BA87-35C671F25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9352F-DC74-4AF4-B88B-9287D7314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70"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1"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2312AC-5300-4F67-A578-68DF1C7C4A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73"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4"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5"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6"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E528E0-40DD-45CA-99BA-E5B121E375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78"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9"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0"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1"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2"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3"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EF7682-33DE-4812-900E-C7534A7807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F29A70-47B4-4F82-8B50-3F5F316598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91"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A7DA3A-43D5-4343-A58D-CA09A081C4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9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1CD9C4-BAA8-43CA-BA47-73F21B4F12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95"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6"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DC80B1-1850-41E6-9978-E77EFB6C0A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9FC75E-2180-4353-A2A2-8E37023C35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CD9272-0D34-4400-B01F-1C6ED12E19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00"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1"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2"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49B711-C953-429D-BF4A-AD37BA58DA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4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4892E-CBC9-4F98-8AB7-4777B56F5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04"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6"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1F1CBE-A15C-4398-99B9-A860AE444C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0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9"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0"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F1E64A-6E86-4FD2-9E77-7D6155C8A5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12"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3"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8A306E-0A3E-44AD-89F2-ECC71C2E41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1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7"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8"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CF39CC-0417-49F6-A8FE-F965FB3C47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20"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1"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2"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3"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4"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5"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8FAE2D-D0D0-4A59-BF80-374F0A8EA4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0A77FB-B29D-4B79-B590-93334415E3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31"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981B9B-23F0-4E02-B68D-8BE426EE6F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3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CCC0CA-5C19-4E67-9FB9-385011F964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35"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36"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3A3AAF-3335-4AC1-9D16-1DF4196B81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94CC71-DEBB-4090-916A-4D8EEDBB86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4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AFA61-9250-4FFB-A0F7-7AFD5126C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D9AA3C-5C9C-41B5-BCF0-2C0FC582AB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40"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1"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2"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345E9E-3498-412A-8497-0E2604CA38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44"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6"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8F6B40-2676-436C-BFE2-3150920C43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4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9"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0"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E26850-2BB2-4B46-922D-57EFBD49AC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52"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3"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72A7AA-3456-4E2D-9811-DC14513E9D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5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7"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8"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4C7B4F-E059-4316-B183-0B0B859C91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60"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1"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2"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3"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4"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5"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2C59754-F6E6-4594-B792-7303114A76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209F5-1B22-44B3-8101-0DE7C300C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3627F-DAA3-4C18-AF7F-F4DA6324C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D9301-AAF9-49CE-B17F-270F07473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8ECF0-8A36-4C59-9335-587277F03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63B7-4B31-4AAF-BC2A-452F097F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622AD-FF10-406C-8B86-95C79F879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0ED30-71CF-4019-A93C-A91E395C5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0CD83-22BE-4F78-9E32-663DCBA2B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91833-1565-4003-8ADF-4E88EDEA3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50078-0D65-4C12-B107-B294ABAE8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A8EEF-429D-4F0E-9386-B5DA6475D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34"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4538D-FA54-4124-8A78-25DB4E3F0C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3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12F1C-1C7F-4744-BBC2-14BCBFD6A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38"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7A48E-C16F-4EFB-9DA8-265268D98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8E70A-19F9-49A3-ACF9-5F2A0F5B5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E2789-4E86-45B7-A87F-1EDC28748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D83C21-2423-4932-9CA0-B58BA6367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43"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5"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36BA7-76FD-4320-94FE-3A94A5085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47"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9"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1CE3E-9FBB-4B55-A076-11D21ABB0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5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3"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06AE4-9036-4F89-A9DA-89ED6A24C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55"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6"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896A2-416A-4654-95D5-30098CD59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5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1"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386E60-60AE-4ABA-918A-8DA4549A55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63"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8"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55546-D264-4EA6-A787-236BC1D16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0D2D73-D6D8-464A-854D-A8A996743B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49"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1D4B4-2E1A-42F0-B3BE-5F90FC2C0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5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912F1-B629-46C7-84AA-F0DFEAA6C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9F5F7-826E-4553-93F7-CA07FB5E2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53"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54"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8CB6B-FEB1-4BFF-9A86-EE2F4CE03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DBC22-175C-41CB-8629-9DEEB22A67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F5C86-2995-4A04-A3DB-59A4AB837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5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59"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0"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ECB1A-0FC0-490E-8C8B-505F46447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6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4"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E9657-45C6-4C2C-BB61-2E034012E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7"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8"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1BFE9-D03E-4447-B4E6-C90EF3329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0"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1"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C7D40-6866-4903-AEA0-0DF179DCB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3"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4"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5"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6"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58D699-0A5D-4FE5-88C3-8A635A0F52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8"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9"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0"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1"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2"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3"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68913-90A8-476C-BABF-2436103B6A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2B2FF0-7B34-42FC-9B47-3EF97E7A19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BAC26-BE01-45D0-9718-2B5038A41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41"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8794D-2B25-4629-A6FA-FCA6DDEE5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4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A572DA-9DF1-4830-A478-B04EF0EC0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45"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6"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A1C62-6289-4C3F-B25A-874031D9D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AF0DEA-398E-4B67-8C9F-58C153AFA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90520C-9525-4236-8CA5-E0164315D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50"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1"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2"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B62AF-5B2E-4F66-8A60-DF3706A23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54"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6"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85BFD-F13E-46ED-9B91-67FEDCE74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5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9"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0"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30005-0CD2-4A20-9AB2-29645654B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2"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3"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31D1F-8D63-461C-A9CB-1C430EF24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7"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8"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A99139-AC18-4CA0-81AE-3F479AF230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EBB0A-258A-4718-A99F-37E6A5F7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70"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1"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2"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3"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4"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5"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9F8E2A-D4B3-44C1-A4FD-080FA73405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AC7A34-85B6-40D6-A60F-11AF355878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91"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ABAF8-FDF8-448D-89A7-3A165C09E4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9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1C2D6-D547-4F0B-806D-01BF51D64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95"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6"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A7A75-7C64-4E35-9FCD-58A68B0F4F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CA614-CDFB-46F4-AC48-BE9EFB7ED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E840A0-725D-4BE9-BA87-67204D411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0"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1"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2"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DF904-0642-4D17-8F6C-19C463FBFD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4"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6"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D46BB-9300-4AC4-83DC-0600BF087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8"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9"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0"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DCD88-8A2C-47CA-B749-0090393A7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FC7D-0790-43C3-8E1B-F81BA9B5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12"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3"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6B8BD8-DC8C-420E-93EC-F9E120787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1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7"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8"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34FB7E-3CB0-4A47-9013-8C5C85B81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20"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1"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2"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3"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4"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5"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49DB8-6317-4F3E-943D-8392A8BE8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4174B3-C20D-494A-B0A9-7A2ED68A71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32"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6D1019-0EE9-4C2F-B248-16E42ACAF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3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00018C-AA8A-491C-94BC-6C998B7973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36"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01ED77-74CC-4A7F-9919-CFD0C8CAA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5EB71-7B87-4F1F-A7C4-EC550BF25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F9A919-54F3-47BC-B672-D3FA85EE0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B843D-ABDA-442E-AC09-66D01DBDF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2B31-30C2-458B-AE8D-70282E93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5"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67CCE-ABFA-416F-ADE6-826D62777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9"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0"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1"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25D4B-2B47-468C-A777-F215B8D73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53"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4"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6F316-46F7-4DA5-A38F-58B88B637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5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7"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9"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3B73A9-E25E-49FD-A5C4-F6508637E4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61"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2"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3"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4"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5"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6"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E4C214-4526-4BE7-87E9-4B7D927DC9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FCF9D8-6F1C-4564-B35D-03207B432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00"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514CB-AAC7-475F-9CAA-EB6A5BB3C9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02"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4F2F5-E5C4-47EE-AC78-E82B7B7E8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04"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5"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93009-49F0-4158-8B9F-82042EFB1A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E390F2-EB85-4923-A07E-B3F0ADF1E6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48BB-19F7-4EB3-AB08-1AAFD09F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F90314-5C80-4A67-9B07-CD5880AC0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09"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0"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1"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E9CC0-E338-4E17-87EA-00469FDDE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3"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4"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5"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9992A-7E46-4BDA-9623-560E0EC70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8"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9"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3667E-087F-4641-916E-C0430BC71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21"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2"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C1F30-C2EC-4954-9CD0-3B65467A30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2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6"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7"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8DCA7A-51D0-4CE8-9200-D115DBD975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29"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0"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1"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2"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3"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4"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324DC5-5DDE-4CC2-B3FB-2C84DE92F0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973AB7-1C62-4194-803C-1ADE784ED0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2E5E1E-573E-43FE-A62E-EE07F2745C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67E515-8265-4AE2-9C5D-2DE840B06F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85.xml"/><Relationship Id="rId11" Type="http://schemas.openxmlformats.org/officeDocument/2006/relationships/slideLayout" Target="../slideLayouts/slideLayout86.xml"/><Relationship Id="rId12" Type="http://schemas.openxmlformats.org/officeDocument/2006/relationships/slideLayout" Target="../slideLayouts/slideLayout87.xml"/><Relationship Id="rId13" Type="http://schemas.openxmlformats.org/officeDocument/2006/relationships/slideLayout" Target="../slideLayouts/slideLayout88.xml"/><Relationship Id="rId14" Type="http://schemas.openxmlformats.org/officeDocument/2006/relationships/slideLayout" Target="../slideLayouts/slideLayout89.xml"/><Relationship Id="rId15" Type="http://schemas.openxmlformats.org/officeDocument/2006/relationships/slideLayout" Target="../slideLayouts/slideLayout90.xml"/><Relationship Id="rId16" Type="http://schemas.openxmlformats.org/officeDocument/2006/relationships/slideLayout" Target="../slideLayouts/slideLayout91.xml"/><Relationship Id="rId17" Type="http://schemas.openxmlformats.org/officeDocument/2006/relationships/slideLayout" Target="../slideLayouts/slideLayout92.xml"/><Relationship Id="rId18" Type="http://schemas.openxmlformats.org/officeDocument/2006/relationships/slideLayout" Target="../slideLayouts/slideLayout93.xml"/><Relationship Id="rId19" Type="http://schemas.openxmlformats.org/officeDocument/2006/relationships/slideLayout" Target="../slideLayouts/slideLayout94.xml"/><Relationship Id="rId20" Type="http://schemas.openxmlformats.org/officeDocument/2006/relationships/slideLayout" Target="../slideLayouts/slideLayout95.xml"/><Relationship Id="rId21"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B373-7674-483B-B9C5-C0F05321B9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903" name="PlaceHolder 2"/>
          <p:cNvSpPr>
            <a:spLocks noGrp="1"/>
          </p:cNvSpPr>
          <p:nvPr>
            <p:ph type="dt" idx="28"/>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4" name="PlaceHolder 3"/>
          <p:cNvSpPr>
            <a:spLocks noGrp="1"/>
          </p:cNvSpPr>
          <p:nvPr>
            <p:ph type="ftr" idx="29"/>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5" name="PlaceHolder 4"/>
          <p:cNvSpPr>
            <a:spLocks noGrp="1"/>
          </p:cNvSpPr>
          <p:nvPr>
            <p:ph type="sldNum" idx="30"/>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3883-8D3B-46B1-96CB-08060314B7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06" name="strtegic1" descr=""/>
          <p:cNvPicPr/>
          <p:nvPr/>
        </p:nvPicPr>
        <p:blipFill>
          <a:blip r:embed="rId2"/>
          <a:stretch/>
        </p:blipFill>
        <p:spPr>
          <a:xfrm>
            <a:off x="0" y="0"/>
            <a:ext cx="1219320" cy="6858000"/>
          </a:xfrm>
          <a:prstGeom prst="rect">
            <a:avLst/>
          </a:prstGeom>
          <a:ln w="0">
            <a:noFill/>
          </a:ln>
        </p:spPr>
      </p:pic>
      <p:sp>
        <p:nvSpPr>
          <p:cNvPr id="907"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945"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46"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947"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5BA5-222C-46BE-8960-A4E92213A6DF}"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985" name="PlaceHolder 2"/>
          <p:cNvSpPr>
            <a:spLocks noGrp="1"/>
          </p:cNvSpPr>
          <p:nvPr>
            <p:ph type="dt" idx="34"/>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6" name="PlaceHolder 3"/>
          <p:cNvSpPr>
            <a:spLocks noGrp="1"/>
          </p:cNvSpPr>
          <p:nvPr>
            <p:ph type="ftr" idx="35"/>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7" name="PlaceHolder 4"/>
          <p:cNvSpPr>
            <a:spLocks noGrp="1"/>
          </p:cNvSpPr>
          <p:nvPr>
            <p:ph type="sldNum" idx="36"/>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8393-2315-4FD9-B31B-EC4EB74869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8" name="strtegic1" descr=""/>
          <p:cNvPicPr/>
          <p:nvPr/>
        </p:nvPicPr>
        <p:blipFill>
          <a:blip r:embed="rId2"/>
          <a:stretch/>
        </p:blipFill>
        <p:spPr>
          <a:xfrm>
            <a:off x="0" y="0"/>
            <a:ext cx="1219320" cy="6858000"/>
          </a:xfrm>
          <a:prstGeom prst="rect">
            <a:avLst/>
          </a:prstGeom>
          <a:ln w="0">
            <a:noFill/>
          </a:ln>
        </p:spPr>
      </p:pic>
      <p:sp>
        <p:nvSpPr>
          <p:cNvPr id="989"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1027" name="PlaceHolder 2"/>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028"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29" name="PlaceHolder 4"/>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0059-C187-4689-8DDD-BC8EEBA71F4D}"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6D6C-8FA8-47D2-BDD7-36BC1344736D}"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566640" y="0"/>
            <a:ext cx="7891560" cy="6821640"/>
            <a:chOff x="566640" y="0"/>
            <a:chExt cx="7891560" cy="6821640"/>
          </a:xfrm>
        </p:grpSpPr>
        <p:sp>
          <p:nvSpPr>
            <p:cNvPr id="83" name=""/>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 name=""/>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 name=""/>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28" name=""/>
          <p:cNvGrpSpPr/>
          <p:nvPr/>
        </p:nvGrpSpPr>
        <p:grpSpPr>
          <a:xfrm>
            <a:off x="1066680" y="3444840"/>
            <a:ext cx="533520" cy="491760"/>
            <a:chOff x="1066680" y="3444840"/>
            <a:chExt cx="533520" cy="491760"/>
          </a:xfrm>
        </p:grpSpPr>
        <p:sp>
          <p:nvSpPr>
            <p:cNvPr id="229"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0"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2"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6"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7"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0"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1"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1066680" y="4552920"/>
            <a:ext cx="533520" cy="491760"/>
            <a:chOff x="1066680" y="4552920"/>
            <a:chExt cx="533520" cy="491760"/>
          </a:xfrm>
        </p:grpSpPr>
        <p:sp>
          <p:nvSpPr>
            <p:cNvPr id="243"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4"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0"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1"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4"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5"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1066680" y="5562720"/>
            <a:ext cx="533520" cy="491760"/>
            <a:chOff x="1066680" y="5562720"/>
            <a:chExt cx="533520" cy="491760"/>
          </a:xfrm>
        </p:grpSpPr>
        <p:sp>
          <p:nvSpPr>
            <p:cNvPr id="257"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8"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5"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7"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80880" y="3962520"/>
            <a:ext cx="533520" cy="491760"/>
            <a:chOff x="380880" y="3962520"/>
            <a:chExt cx="533520" cy="491760"/>
          </a:xfrm>
        </p:grpSpPr>
        <p:sp>
          <p:nvSpPr>
            <p:cNvPr id="271"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2"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5"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6"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9"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3"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380880" y="5070600"/>
            <a:ext cx="533520" cy="491760"/>
            <a:chOff x="380880" y="5070600"/>
            <a:chExt cx="533520" cy="491760"/>
          </a:xfrm>
        </p:grpSpPr>
        <p:sp>
          <p:nvSpPr>
            <p:cNvPr id="285"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6"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0"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3"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5"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7"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380880" y="6121440"/>
            <a:ext cx="533520" cy="491760"/>
            <a:chOff x="380880" y="6121440"/>
            <a:chExt cx="533520" cy="491760"/>
          </a:xfrm>
        </p:grpSpPr>
        <p:sp>
          <p:nvSpPr>
            <p:cNvPr id="299"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4"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6"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7"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0"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1"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934320" y="0"/>
            <a:ext cx="2317680" cy="2055600"/>
            <a:chOff x="6934320" y="0"/>
            <a:chExt cx="2317680" cy="2055600"/>
          </a:xfrm>
        </p:grpSpPr>
        <p:sp>
          <p:nvSpPr>
            <p:cNvPr id="313" name="未知"/>
            <p:cNvSpPr/>
            <p:nvPr/>
          </p:nvSpPr>
          <p:spPr>
            <a:xfrm>
              <a:off x="7041600" y="0"/>
              <a:ext cx="2102760" cy="190620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6934320" y="6480"/>
              <a:ext cx="2317680" cy="2049120"/>
              <a:chOff x="6934320" y="6480"/>
              <a:chExt cx="2317680" cy="2049120"/>
            </a:xfrm>
          </p:grpSpPr>
          <p:sp>
            <p:nvSpPr>
              <p:cNvPr id="315" name="未知"/>
              <p:cNvSpPr/>
              <p:nvPr/>
            </p:nvSpPr>
            <p:spPr>
              <a:xfrm>
                <a:off x="7045200" y="6480"/>
                <a:ext cx="383760" cy="14184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未知"/>
              <p:cNvSpPr/>
              <p:nvPr/>
            </p:nvSpPr>
            <p:spPr>
              <a:xfrm>
                <a:off x="6934320" y="6480"/>
                <a:ext cx="2317680" cy="204912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未知"/>
              <p:cNvSpPr/>
              <p:nvPr/>
            </p:nvSpPr>
            <p:spPr>
              <a:xfrm>
                <a:off x="7485120" y="969840"/>
                <a:ext cx="186480" cy="21456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未知"/>
              <p:cNvSpPr/>
              <p:nvPr/>
            </p:nvSpPr>
            <p:spPr>
              <a:xfrm>
                <a:off x="7314120" y="1057680"/>
                <a:ext cx="162720" cy="28764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未知"/>
              <p:cNvSpPr/>
              <p:nvPr/>
            </p:nvSpPr>
            <p:spPr>
              <a:xfrm>
                <a:off x="7211520" y="482400"/>
                <a:ext cx="534960" cy="24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未知"/>
              <p:cNvSpPr/>
              <p:nvPr/>
            </p:nvSpPr>
            <p:spPr>
              <a:xfrm>
                <a:off x="7818120" y="1165680"/>
                <a:ext cx="383760" cy="39096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未知"/>
              <p:cNvSpPr/>
              <p:nvPr/>
            </p:nvSpPr>
            <p:spPr>
              <a:xfrm>
                <a:off x="8701200" y="770040"/>
                <a:ext cx="392400" cy="7272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 name="未知"/>
              <p:cNvSpPr/>
              <p:nvPr/>
            </p:nvSpPr>
            <p:spPr>
              <a:xfrm>
                <a:off x="8831880" y="754920"/>
                <a:ext cx="301680" cy="17964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未知"/>
              <p:cNvSpPr/>
              <p:nvPr/>
            </p:nvSpPr>
            <p:spPr>
              <a:xfrm>
                <a:off x="8820360" y="904680"/>
                <a:ext cx="325080" cy="1418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未知"/>
              <p:cNvSpPr/>
              <p:nvPr/>
            </p:nvSpPr>
            <p:spPr>
              <a:xfrm>
                <a:off x="8566200" y="1038960"/>
                <a:ext cx="546840" cy="12672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未知"/>
              <p:cNvSpPr/>
              <p:nvPr/>
            </p:nvSpPr>
            <p:spPr>
              <a:xfrm>
                <a:off x="8625960" y="1162080"/>
                <a:ext cx="443880" cy="1105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未知"/>
              <p:cNvSpPr/>
              <p:nvPr/>
            </p:nvSpPr>
            <p:spPr>
              <a:xfrm>
                <a:off x="8598600" y="1249920"/>
                <a:ext cx="455040" cy="3643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未知"/>
              <p:cNvSpPr/>
              <p:nvPr/>
            </p:nvSpPr>
            <p:spPr>
              <a:xfrm>
                <a:off x="8895600" y="1104120"/>
                <a:ext cx="257400" cy="64836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32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7"/>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8"/>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9"/>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829A-1C93-4606-808A-E39C3F7FB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4572000" y="28440"/>
            <a:ext cx="4755960" cy="4338360"/>
            <a:chOff x="4572000" y="28440"/>
            <a:chExt cx="4755960" cy="4338360"/>
          </a:xfrm>
        </p:grpSpPr>
        <p:sp>
          <p:nvSpPr>
            <p:cNvPr id="371"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554040" y="36360"/>
            <a:ext cx="7891560" cy="6821640"/>
            <a:chOff x="554040" y="36360"/>
            <a:chExt cx="7891560" cy="6821640"/>
          </a:xfrm>
        </p:grpSpPr>
        <p:sp>
          <p:nvSpPr>
            <p:cNvPr id="385" name=""/>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9" name=""/>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 name=""/>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53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31" name="PlaceHolder 2"/>
          <p:cNvSpPr>
            <a:spLocks noGrp="1"/>
          </p:cNvSpPr>
          <p:nvPr>
            <p:ph type="dt" idx="10"/>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2" name="PlaceHolder 3"/>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3" name="PlaceHolder 4"/>
          <p:cNvSpPr>
            <a:spLocks noGrp="1"/>
          </p:cNvSpPr>
          <p:nvPr>
            <p:ph type="sldNum" idx="12"/>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D9A3-C938-44DB-AC3E-C753F4F9B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34" name=""/>
          <p:cNvGrpSpPr/>
          <p:nvPr/>
        </p:nvGrpSpPr>
        <p:grpSpPr>
          <a:xfrm>
            <a:off x="152280" y="4724280"/>
            <a:ext cx="1685880" cy="1557360"/>
            <a:chOff x="152280" y="4724280"/>
            <a:chExt cx="1685880" cy="1557360"/>
          </a:xfrm>
        </p:grpSpPr>
        <p:sp>
          <p:nvSpPr>
            <p:cNvPr id="535"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2"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4" name=""/>
          <p:cNvGrpSpPr/>
          <p:nvPr/>
        </p:nvGrpSpPr>
        <p:grpSpPr>
          <a:xfrm>
            <a:off x="-632160" y="-427680"/>
            <a:ext cx="2691720" cy="7684920"/>
            <a:chOff x="-632160" y="-427680"/>
            <a:chExt cx="2691720" cy="7684920"/>
          </a:xfrm>
        </p:grpSpPr>
        <p:sp>
          <p:nvSpPr>
            <p:cNvPr id="585" name=""/>
            <p:cNvSpPr/>
            <p:nvPr/>
          </p:nvSpPr>
          <p:spPr>
            <a:xfrm rot="2700000">
              <a:off x="-325080" y="-113400"/>
              <a:ext cx="1442160" cy="145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rot="2700000">
              <a:off x="-328320" y="-130680"/>
              <a:ext cx="1442880" cy="14565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rot="2700000">
              <a:off x="-306720" y="-114480"/>
              <a:ext cx="1442880" cy="145908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rot="2700000">
              <a:off x="-315360" y="-127440"/>
              <a:ext cx="1444680" cy="145908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rot="2700000">
              <a:off x="45720" y="247680"/>
              <a:ext cx="681480" cy="69156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rot="2700000">
              <a:off x="-325080" y="1116360"/>
              <a:ext cx="1442160" cy="145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rot="2700000">
              <a:off x="-328320" y="1108080"/>
              <a:ext cx="1442880" cy="14565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rot="2700000">
              <a:off x="-306720" y="1126080"/>
              <a:ext cx="1442880" cy="145908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rot="2700000">
              <a:off x="-315360" y="1113480"/>
              <a:ext cx="1444680" cy="145908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rot="2700000">
              <a:off x="45000" y="1493280"/>
              <a:ext cx="682200" cy="69156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rot="2700000">
              <a:off x="-325800" y="2365920"/>
              <a:ext cx="1442880" cy="145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rot="2700000">
              <a:off x="-325800" y="3620880"/>
              <a:ext cx="1442880" cy="145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rot="2700000">
              <a:off x="-328320" y="3613320"/>
              <a:ext cx="1442880" cy="14565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rot="2700000">
              <a:off x="-306720" y="3631320"/>
              <a:ext cx="1442880" cy="145908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rot="2700000">
              <a:off x="-315360" y="3618720"/>
              <a:ext cx="1444680" cy="145908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rot="2700000">
              <a:off x="45720" y="3993840"/>
              <a:ext cx="681480" cy="69156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rot="2700000">
              <a:off x="-325800" y="4866480"/>
              <a:ext cx="1442880" cy="145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rot="18900000">
              <a:off x="289440" y="516960"/>
              <a:ext cx="1458360" cy="144324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rot="18900000">
              <a:off x="279720" y="516600"/>
              <a:ext cx="1458360" cy="144396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rot="18900000">
              <a:off x="284400" y="516600"/>
              <a:ext cx="1458360" cy="144180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rot="18900000">
              <a:off x="279720" y="517320"/>
              <a:ext cx="1458720" cy="144396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rot="18900000">
              <a:off x="692280" y="897120"/>
              <a:ext cx="68868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rot="18900000">
              <a:off x="298440" y="1757880"/>
              <a:ext cx="1459080" cy="144252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rot="18900000">
              <a:off x="289440" y="1757880"/>
              <a:ext cx="1459080" cy="144396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rot="18900000">
              <a:off x="294840" y="1756800"/>
              <a:ext cx="1458360" cy="144252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rot="18900000">
              <a:off x="284760" y="1758600"/>
              <a:ext cx="1458720" cy="144396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rot="18900000">
              <a:off x="692280" y="2138040"/>
              <a:ext cx="68868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rot="2700000">
              <a:off x="-327240" y="2358360"/>
              <a:ext cx="1441800" cy="14565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rot="2700000">
              <a:off x="-306720" y="2376360"/>
              <a:ext cx="1442880" cy="145908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rot="2700000">
              <a:off x="-309600" y="2363760"/>
              <a:ext cx="1444680" cy="145836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rot="2700000">
              <a:off x="45720" y="2743560"/>
              <a:ext cx="681480" cy="69156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rot="18900000">
              <a:off x="303480" y="3008160"/>
              <a:ext cx="1458360" cy="144252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rot="18900000">
              <a:off x="303840" y="3007440"/>
              <a:ext cx="1458360" cy="144396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rot="18900000">
              <a:off x="299520" y="3007080"/>
              <a:ext cx="1458360" cy="144252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rot="18900000">
              <a:off x="289800" y="3008880"/>
              <a:ext cx="1458720" cy="144396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rot="18900000">
              <a:off x="696960" y="3388320"/>
              <a:ext cx="68868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rot="18900000">
              <a:off x="298440" y="4263120"/>
              <a:ext cx="1459080" cy="144252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rot="18900000">
              <a:off x="289800" y="4262400"/>
              <a:ext cx="145908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rot="18900000">
              <a:off x="294840" y="4262040"/>
              <a:ext cx="1458360" cy="144252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rot="18900000">
              <a:off x="289800" y="4263840"/>
              <a:ext cx="1458720" cy="144396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rot="18900000">
              <a:off x="692280" y="4643280"/>
              <a:ext cx="68868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rot="2700000">
              <a:off x="-327240" y="4858920"/>
              <a:ext cx="1441800" cy="14565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rot="2700000">
              <a:off x="-306720" y="4876920"/>
              <a:ext cx="1442880" cy="145908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rot="2700000">
              <a:off x="-315360" y="4863960"/>
              <a:ext cx="1444680" cy="145908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rot="2700000">
              <a:off x="45720" y="5244120"/>
              <a:ext cx="681480" cy="69156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rot="18900000">
              <a:off x="298440" y="5508360"/>
              <a:ext cx="1459080" cy="144324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rot="18900000">
              <a:off x="289440" y="5508720"/>
              <a:ext cx="1459080" cy="144396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rot="18900000">
              <a:off x="294120" y="5508000"/>
              <a:ext cx="1458360" cy="144180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rot="18900000">
              <a:off x="284760" y="5509080"/>
              <a:ext cx="1458720" cy="144396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rot="18900000">
              <a:off x="692280" y="5888880"/>
              <a:ext cx="688680" cy="68436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636"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37" name="PlaceHolder 3"/>
          <p:cNvSpPr>
            <a:spLocks noGrp="1"/>
          </p:cNvSpPr>
          <p:nvPr>
            <p:ph type="dt" idx="13"/>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8" name="PlaceHolder 4"/>
          <p:cNvSpPr>
            <a:spLocks noGrp="1"/>
          </p:cNvSpPr>
          <p:nvPr>
            <p:ph type="ftr" idx="14"/>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9" name="PlaceHolder 5"/>
          <p:cNvSpPr>
            <a:spLocks noGrp="1"/>
          </p:cNvSpPr>
          <p:nvPr>
            <p:ph type="sldNum" idx="15"/>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93DA-C8A5-4729-95AB-7E1D97B2E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6" name=""/>
          <p:cNvGrpSpPr/>
          <p:nvPr/>
        </p:nvGrpSpPr>
        <p:grpSpPr>
          <a:xfrm>
            <a:off x="-2484720" y="-1466280"/>
            <a:ext cx="14139720" cy="14109480"/>
            <a:chOff x="-2484720" y="-1466280"/>
            <a:chExt cx="14139720" cy="14109480"/>
          </a:xfrm>
        </p:grpSpPr>
        <p:sp>
          <p:nvSpPr>
            <p:cNvPr id="677" name=""/>
            <p:cNvSpPr/>
            <p:nvPr/>
          </p:nvSpPr>
          <p:spPr>
            <a:xfrm rot="18900000">
              <a:off x="-407520" y="652680"/>
              <a:ext cx="9953280" cy="992448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rot="18900000">
              <a:off x="-419040" y="628920"/>
              <a:ext cx="9954000" cy="992628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rot="18900000">
              <a:off x="-433080" y="626040"/>
              <a:ext cx="9951120" cy="992448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rot="18900000">
              <a:off x="-349560" y="599760"/>
              <a:ext cx="9954000" cy="992412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rot="18900000">
              <a:off x="-11160" y="1059840"/>
              <a:ext cx="9207360" cy="918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rot="18900000">
              <a:off x="-21600" y="1036440"/>
              <a:ext cx="9206280" cy="917964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rot="18900000">
              <a:off x="-12960" y="1018800"/>
              <a:ext cx="9207000" cy="918180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rot="18900000">
              <a:off x="43920" y="994320"/>
              <a:ext cx="9204840" cy="918108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rot="18900000">
              <a:off x="2532960" y="3744720"/>
              <a:ext cx="4075920" cy="406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6"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687" name="PlaceHolder 2"/>
          <p:cNvSpPr>
            <a:spLocks noGrp="1"/>
          </p:cNvSpPr>
          <p:nvPr>
            <p:ph type="dt" idx="16"/>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88" name="PlaceHolder 3"/>
          <p:cNvSpPr>
            <a:spLocks noGrp="1"/>
          </p:cNvSpPr>
          <p:nvPr>
            <p:ph type="ftr" idx="17"/>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89" name="PlaceHolder 4"/>
          <p:cNvSpPr>
            <a:spLocks noGrp="1"/>
          </p:cNvSpPr>
          <p:nvPr>
            <p:ph type="sldNum" idx="18"/>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AAE5-83E3-4731-85E9-D436402CA59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2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3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B1B9-80DF-4D2E-A2EC-4116843A5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67" name=""/>
          <p:cNvGrpSpPr/>
          <p:nvPr/>
        </p:nvGrpSpPr>
        <p:grpSpPr>
          <a:xfrm>
            <a:off x="0" y="0"/>
            <a:ext cx="9156600" cy="757080"/>
            <a:chOff x="0" y="0"/>
            <a:chExt cx="9156600" cy="757080"/>
          </a:xfrm>
        </p:grpSpPr>
        <p:sp>
          <p:nvSpPr>
            <p:cNvPr id="768" name="未知"/>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未知"/>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未知"/>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未知"/>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未知"/>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未知"/>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未知"/>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未知"/>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未知"/>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未知"/>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未知"/>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未知"/>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未知"/>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未知"/>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未知"/>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未知"/>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未知"/>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未知"/>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未知"/>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未知"/>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未知"/>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未知"/>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0" y="6180120"/>
            <a:ext cx="9169560" cy="138240"/>
            <a:chOff x="0" y="6180120"/>
            <a:chExt cx="9169560" cy="138240"/>
          </a:xfrm>
        </p:grpSpPr>
        <p:sp>
          <p:nvSpPr>
            <p:cNvPr id="791" name="未知"/>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未知"/>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未知"/>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7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796" name="PlaceHolder 3"/>
          <p:cNvSpPr>
            <a:spLocks noGrp="1"/>
          </p:cNvSpPr>
          <p:nvPr>
            <p:ph type="dt" idx="22"/>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7" name="PlaceHolder 4"/>
          <p:cNvSpPr>
            <a:spLocks noGrp="1"/>
          </p:cNvSpPr>
          <p:nvPr>
            <p:ph type="ftr" idx="23"/>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8" name="PlaceHolder 5"/>
          <p:cNvSpPr>
            <a:spLocks noGrp="1"/>
          </p:cNvSpPr>
          <p:nvPr>
            <p:ph type="sldNum" idx="24"/>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7767-8CA0-4E8D-87CB-44B971C2B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0"/>
    <p:sldLayoutId id="2147483741" r:id="rId11"/>
    <p:sldLayoutId id="2147483742" r:id="rId12"/>
    <p:sldLayoutId id="2147483743" r:id="rId13"/>
    <p:sldLayoutId id="2147483744" r:id="rId14"/>
    <p:sldLayoutId id="2147483745" r:id="rId15"/>
    <p:sldLayoutId id="2147483746" r:id="rId16"/>
    <p:sldLayoutId id="2147483747" r:id="rId17"/>
    <p:sldLayoutId id="2147483748" r:id="rId18"/>
    <p:sldLayoutId id="2147483749" r:id="rId19"/>
    <p:sldLayoutId id="2147483750" r:id="rId20"/>
    <p:sldLayoutId id="2147483751" r:id="rId21"/>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35" name=""/>
          <p:cNvGrpSpPr/>
          <p:nvPr/>
        </p:nvGrpSpPr>
        <p:grpSpPr>
          <a:xfrm>
            <a:off x="19080" y="1109520"/>
            <a:ext cx="9156600" cy="757080"/>
            <a:chOff x="19080" y="1109520"/>
            <a:chExt cx="9156600" cy="757080"/>
          </a:xfrm>
        </p:grpSpPr>
        <p:sp>
          <p:nvSpPr>
            <p:cNvPr id="836" name="未知"/>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未知"/>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未知"/>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未知"/>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未知"/>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未知"/>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未知"/>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未知"/>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未知"/>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未知"/>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未知"/>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未知"/>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未知"/>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未知"/>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未知"/>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未知"/>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未知"/>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未知"/>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未知"/>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未知"/>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未知"/>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未知"/>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20520" y="6161040"/>
            <a:ext cx="9169560" cy="138240"/>
            <a:chOff x="20520" y="6161040"/>
            <a:chExt cx="9169560" cy="138240"/>
          </a:xfrm>
        </p:grpSpPr>
        <p:sp>
          <p:nvSpPr>
            <p:cNvPr id="859" name="未知"/>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未知"/>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未知"/>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2"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863" name="PlaceHolder 2"/>
          <p:cNvSpPr>
            <a:spLocks noGrp="1"/>
          </p:cNvSpPr>
          <p:nvPr>
            <p:ph type="dt" idx="25"/>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4" name="PlaceHolder 3"/>
          <p:cNvSpPr>
            <a:spLocks noGrp="1"/>
          </p:cNvSpPr>
          <p:nvPr>
            <p:ph type="ftr" idx="26"/>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5" name="PlaceHolder 4"/>
          <p:cNvSpPr>
            <a:spLocks noGrp="1"/>
          </p:cNvSpPr>
          <p:nvPr>
            <p:ph type="sldNum" idx="27"/>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2AD2-90B9-4C8A-8544-F300DD57D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6" name=""/>
          <p:cNvSpPr txBox="1"/>
          <p:nvPr/>
        </p:nvSpPr>
        <p:spPr>
          <a:xfrm>
            <a:off x="1981080" y="1676520"/>
            <a:ext cx="5791320" cy="1752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31680">
                  <a:solidFill>
                    <a:srgbClr val="ff0000"/>
                  </a:solidFill>
                  <a:miter/>
                </a:ln>
                <a:solidFill>
                  <a:srgbClr val="ff0000"/>
                </a:solidFill>
                <a:latin typeface="宋体"/>
              </a:rPr>
              <a:t>高一二班家长会</a:t>
            </a:r>
            <a:endParaRPr b="0" lang="en-US" sz="2400" spc="1" strike="noStrike">
              <a:ln w="31680">
                <a:solidFill>
                  <a:srgbClr val="ff0000"/>
                </a:solidFill>
                <a:miter/>
              </a:ln>
              <a:solidFill>
                <a:srgbClr val="ff0000"/>
              </a:solidFill>
              <a:latin typeface="宋体"/>
              <a:ea typeface="宋体"/>
            </a:endParaRPr>
          </a:p>
        </p:txBody>
      </p:sp>
      <p:sp>
        <p:nvSpPr>
          <p:cNvPr id="1067" name=""/>
          <p:cNvSpPr/>
          <p:nvPr/>
        </p:nvSpPr>
        <p:spPr>
          <a:xfrm>
            <a:off x="3491640" y="44197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热烈欢迎大家的光临</a:t>
            </a:r>
            <a:endParaRPr b="0" lang="en-US" sz="3600" spc="-1" strike="noStrike">
              <a:solidFill>
                <a:srgbClr val="000000"/>
              </a:solidFill>
              <a:latin typeface="Times New Roman"/>
            </a:endParaRPr>
          </a:p>
        </p:txBody>
      </p:sp>
      <p:sp>
        <p:nvSpPr>
          <p:cNvPr id="1068" name=""/>
          <p:cNvSpPr/>
          <p:nvPr/>
        </p:nvSpPr>
        <p:spPr>
          <a:xfrm>
            <a:off x="3830400" y="6010200"/>
            <a:ext cx="192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班主任    柳召伟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5" name=""/>
          <p:cNvSpPr/>
          <p:nvPr/>
        </p:nvSpPr>
        <p:spPr>
          <a:xfrm>
            <a:off x="2286720" y="27612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进步的同学</a:t>
            </a:r>
            <a:endParaRPr b="0" lang="en-US" sz="4800" spc="-1" strike="noStrike">
              <a:solidFill>
                <a:srgbClr val="000000"/>
              </a:solidFill>
              <a:latin typeface="Times New Roman"/>
            </a:endParaRPr>
          </a:p>
        </p:txBody>
      </p:sp>
      <p:sp>
        <p:nvSpPr>
          <p:cNvPr id="1086" name=""/>
          <p:cNvSpPr/>
          <p:nvPr/>
        </p:nvSpPr>
        <p:spPr>
          <a:xfrm>
            <a:off x="1295280" y="1295280"/>
            <a:ext cx="6858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87" name=""/>
          <p:cNvSpPr/>
          <p:nvPr/>
        </p:nvSpPr>
        <p:spPr>
          <a:xfrm>
            <a:off x="1593720" y="1044720"/>
            <a:ext cx="309600" cy="5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1579680" y="1135080"/>
            <a:ext cx="7313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王宏磊    李昕彤    薛    飞     张    倩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陈乃瑶    张洋洋    韩婷婷    王    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訾晓晶    刘丽华   李    江     刘    燕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韩    杰    张曹盎   柳黎明     李文杰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樊    蕾    徐成义   颜    聪     张庆鑫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孟繁森    李   敏    桑美清     刘    奇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王    涵 </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rPr>
              <a:t>学习认真刻苦</a:t>
            </a:r>
            <a:br>
              <a:rPr sz="4000"/>
            </a:br>
            <a:endParaRPr b="0" lang="en-US" sz="4000" spc="-1" strike="noStrike">
              <a:solidFill>
                <a:srgbClr val="996600"/>
              </a:solidFill>
              <a:latin typeface="Times New Roman"/>
            </a:endParaRPr>
          </a:p>
        </p:txBody>
      </p:sp>
      <p:sp>
        <p:nvSpPr>
          <p:cNvPr id="109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苏晓光   樊晓飞   柳   潇   颜廷仁</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孟志豪   孙国梁   李宗坤   朱良帅</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王    妍   高灿灿   王文明   刘    奇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安贞壮   董艳玲   杨远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1" name=""/>
          <p:cNvSpPr/>
          <p:nvPr/>
        </p:nvSpPr>
        <p:spPr>
          <a:xfrm>
            <a:off x="1752480" y="279360"/>
            <a:ext cx="6892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成绩有波动但潜力大</a:t>
            </a:r>
            <a:endParaRPr b="0" lang="en-US" sz="4800" spc="-1" strike="noStrike">
              <a:solidFill>
                <a:srgbClr val="000000"/>
              </a:solidFill>
              <a:latin typeface="Times New Roman"/>
            </a:endParaRPr>
          </a:p>
        </p:txBody>
      </p:sp>
      <p:sp>
        <p:nvSpPr>
          <p:cNvPr id="1092" name=""/>
          <p:cNvSpPr/>
          <p:nvPr/>
        </p:nvSpPr>
        <p:spPr>
          <a:xfrm>
            <a:off x="1600200" y="457200"/>
            <a:ext cx="30960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2581560" y="1584360"/>
            <a:ext cx="48272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潘    飞    许肖征    张    盈     殷秀枝</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樊    宇    张小红    孙忠亭     王文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陈    冰    董广鹏    张瑞琪     陈    硕</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孙慧丽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4" name=""/>
          <p:cNvSpPr/>
          <p:nvPr/>
        </p:nvSpPr>
        <p:spPr>
          <a:xfrm>
            <a:off x="2794320" y="473040"/>
            <a:ext cx="3167640" cy="454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成绩好同学的几点共性</a:t>
            </a:r>
            <a:r>
              <a:rPr b="1" lang="zh-CN" sz="3200" spc="-1" strike="noStrike">
                <a:solidFill>
                  <a:srgbClr val="ff33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学习效率高，基础扎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心态良好，平静对待考试</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自制力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勤于思考，动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5" name=""/>
          <p:cNvSpPr/>
          <p:nvPr/>
        </p:nvSpPr>
        <p:spPr>
          <a:xfrm>
            <a:off x="1828800" y="1981080"/>
            <a:ext cx="7010280" cy="2681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3200" spc="-1" strike="noStrike">
                <a:solidFill>
                  <a:srgbClr val="000000"/>
                </a:solidFill>
                <a:latin typeface="Times New Roman"/>
              </a:rPr>
              <a:t>．学习方法不科学</a:t>
            </a:r>
            <a:r>
              <a:rPr b="1" lang="zh-CN" sz="3200" spc="-1" strike="noStrike">
                <a:solidFill>
                  <a:srgbClr val="000000"/>
                </a:solidFill>
                <a:latin typeface="宋体"/>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学习自觉性还存在一些问题</a:t>
            </a:r>
            <a:r>
              <a:rPr b="1" lang="zh-CN" sz="3200" spc="-1" strike="noStrike">
                <a:solidFill>
                  <a:srgbClr val="000000"/>
                </a:solidFill>
                <a:latin typeface="宋体"/>
              </a:rPr>
              <a:t>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自信心不足</a:t>
            </a:r>
            <a:r>
              <a:rPr b="1" lang="zh-CN" sz="2800" spc="-1" strike="noStrike">
                <a:solidFill>
                  <a:srgbClr val="000000"/>
                </a:solidFill>
                <a:latin typeface="宋体"/>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学生压力过大</a:t>
            </a:r>
            <a:endParaRPr b="0" lang="en-US" sz="2800" spc="-1" strike="noStrike">
              <a:solidFill>
                <a:srgbClr val="000000"/>
              </a:solidFill>
              <a:latin typeface="Times New Roman"/>
            </a:endParaRPr>
          </a:p>
        </p:txBody>
      </p:sp>
      <p:sp>
        <p:nvSpPr>
          <p:cNvPr id="1096" name=""/>
          <p:cNvSpPr/>
          <p:nvPr/>
        </p:nvSpPr>
        <p:spPr>
          <a:xfrm>
            <a:off x="2718720" y="8380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学习中存在的问题</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2b6"/>
        </a:solidFill>
      </p:bgPr>
    </p:bg>
    <p:spTree>
      <p:nvGrpSpPr>
        <p:cNvPr id="1" name=""/>
        <p:cNvGrpSpPr/>
        <p:nvPr/>
      </p:nvGrpSpPr>
      <p:grpSpPr>
        <a:xfrm>
          <a:off x="0" y="0"/>
          <a:ext cx="0" cy="0"/>
          <a:chOff x="0" y="0"/>
          <a:chExt cx="0" cy="0"/>
        </a:xfrm>
      </p:grpSpPr>
      <p:sp>
        <p:nvSpPr>
          <p:cNvPr id="1097" name=""/>
          <p:cNvSpPr/>
          <p:nvPr/>
        </p:nvSpPr>
        <p:spPr>
          <a:xfrm>
            <a:off x="3012840" y="228600"/>
            <a:ext cx="2114640" cy="1312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意见和建议</a:t>
            </a:r>
            <a:r>
              <a:rPr b="1" lang="zh-CN" sz="3200" spc="-1" strike="noStrike">
                <a:solidFill>
                  <a:srgbClr val="000000"/>
                </a:solidFill>
                <a:latin typeface="宋体"/>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
          <p:cNvSpPr/>
          <p:nvPr/>
        </p:nvSpPr>
        <p:spPr>
          <a:xfrm>
            <a:off x="838080" y="1066680"/>
            <a:ext cx="769644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495360" y="1179360"/>
            <a:ext cx="8262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r>
              <a:rPr b="1" lang="zh-CN" sz="4400" spc="-1" strike="noStrike">
                <a:solidFill>
                  <a:srgbClr val="000000"/>
                </a:solidFill>
                <a:latin typeface="Times New Roman"/>
              </a:rPr>
              <a:t>、</a:t>
            </a:r>
            <a:r>
              <a:rPr b="1" lang="en-US" sz="4400" spc="-1" strike="noStrike">
                <a:solidFill>
                  <a:srgbClr val="000000"/>
                </a:solidFill>
                <a:latin typeface="Times New Roman"/>
              </a:rPr>
              <a:t>关照他们上学、放学路上的安全问题，节假日的安全问题。</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r>
              <a:rPr b="1" lang="zh-CN" sz="4400" spc="-1" strike="noStrike">
                <a:solidFill>
                  <a:srgbClr val="000000"/>
                </a:solidFill>
                <a:latin typeface="Times New Roman"/>
              </a:rPr>
              <a:t>、</a:t>
            </a:r>
            <a:r>
              <a:rPr b="1" lang="en-US" sz="4400" spc="-1" strike="noStrike">
                <a:solidFill>
                  <a:srgbClr val="000000"/>
                </a:solidFill>
                <a:latin typeface="Times New Roman"/>
              </a:rPr>
              <a:t>要督促其按时到校。</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r>
              <a:rPr b="1" lang="zh-CN" sz="4400" spc="-1" strike="noStrike">
                <a:solidFill>
                  <a:srgbClr val="000000"/>
                </a:solidFill>
                <a:latin typeface="Times New Roman"/>
              </a:rPr>
              <a:t>、</a:t>
            </a:r>
            <a:r>
              <a:rPr b="1" lang="en-US" sz="4400" spc="-1" strike="noStrike">
                <a:solidFill>
                  <a:srgbClr val="000000"/>
                </a:solidFill>
                <a:latin typeface="Times New Roman"/>
              </a:rPr>
              <a:t>不允许去网吧、歌厅、舞厅等不适宜学生去的地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3240" y="1680480"/>
            <a:ext cx="9029880" cy="411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a:t>
            </a:r>
            <a:r>
              <a:rPr b="1" lang="zh-CN" sz="4400" spc="-1" strike="noStrike">
                <a:solidFill>
                  <a:srgbClr val="000000"/>
                </a:solidFill>
                <a:latin typeface="Times New Roman"/>
              </a:rPr>
              <a:t>、</a:t>
            </a:r>
            <a:r>
              <a:rPr b="1" lang="en-US" sz="4400" spc="-1" strike="noStrike">
                <a:solidFill>
                  <a:srgbClr val="000000"/>
                </a:solidFill>
                <a:latin typeface="Times New Roman"/>
              </a:rPr>
              <a:t>不允许带手机等通讯工具来校。</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5</a:t>
            </a:r>
            <a:r>
              <a:rPr b="1" lang="zh-CN" sz="4400" spc="-1" strike="noStrike">
                <a:solidFill>
                  <a:srgbClr val="000000"/>
                </a:solidFill>
                <a:latin typeface="Times New Roman"/>
              </a:rPr>
              <a:t>、</a:t>
            </a:r>
            <a:r>
              <a:rPr b="1" lang="en-US" sz="4400" spc="-1" strike="noStrike">
                <a:solidFill>
                  <a:srgbClr val="000000"/>
                </a:solidFill>
                <a:latin typeface="Times New Roman"/>
              </a:rPr>
              <a:t>不允许在别人家留宿。特别是周末</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6</a:t>
            </a:r>
            <a:r>
              <a:rPr b="1" lang="zh-CN" sz="4400" spc="-1" strike="noStrike">
                <a:solidFill>
                  <a:srgbClr val="000000"/>
                </a:solidFill>
                <a:latin typeface="Times New Roman"/>
              </a:rPr>
              <a:t>、</a:t>
            </a:r>
            <a:r>
              <a:rPr b="1" lang="en-US" sz="4400" spc="-1" strike="noStrike">
                <a:solidFill>
                  <a:srgbClr val="000000"/>
                </a:solidFill>
                <a:latin typeface="Times New Roman"/>
              </a:rPr>
              <a:t>周末可以打篮球，但要适度。</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7</a:t>
            </a:r>
            <a:r>
              <a:rPr b="1" lang="zh-CN" sz="4400" spc="-1" strike="noStrike">
                <a:solidFill>
                  <a:srgbClr val="000000"/>
                </a:solidFill>
                <a:latin typeface="Times New Roman"/>
              </a:rPr>
              <a:t>、</a:t>
            </a:r>
            <a:r>
              <a:rPr b="1" lang="en-US" sz="4400" spc="-1" strike="noStrike">
                <a:solidFill>
                  <a:srgbClr val="000000"/>
                </a:solidFill>
                <a:latin typeface="Times New Roman"/>
              </a:rPr>
              <a:t>零用钱要适度，不宜一次多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8</a:t>
            </a:r>
            <a:r>
              <a:rPr b="1" lang="zh-CN" sz="4400" spc="-1" strike="noStrike">
                <a:solidFill>
                  <a:srgbClr val="000000"/>
                </a:solidFill>
                <a:latin typeface="Times New Roman"/>
              </a:rPr>
              <a:t>、</a:t>
            </a:r>
            <a:r>
              <a:rPr b="1" lang="en-US" sz="4400" spc="-1" strike="noStrike">
                <a:solidFill>
                  <a:srgbClr val="000000"/>
                </a:solidFill>
                <a:latin typeface="Times New Roman"/>
              </a:rPr>
              <a:t>如无特殊情况，不要请假。 </a:t>
            </a:r>
            <a:endParaRPr b="0"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163440" y="279360"/>
            <a:ext cx="863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下阶段学校重点解决的问题</a:t>
            </a:r>
            <a:endParaRPr b="0" lang="en-US" sz="5400" spc="-1" strike="noStrike">
              <a:solidFill>
                <a:srgbClr val="000000"/>
              </a:solidFill>
              <a:latin typeface="Times New Roman"/>
            </a:endParaRPr>
          </a:p>
        </p:txBody>
      </p:sp>
      <p:sp>
        <p:nvSpPr>
          <p:cNvPr id="1102" name=""/>
          <p:cNvSpPr/>
          <p:nvPr/>
        </p:nvSpPr>
        <p:spPr>
          <a:xfrm>
            <a:off x="1285200" y="2033640"/>
            <a:ext cx="910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宋体"/>
              </a:rPr>
              <a:t>1</a:t>
            </a:r>
            <a:r>
              <a:rPr b="1" lang="zh-CN" sz="4800" spc="-1" strike="noStrike">
                <a:solidFill>
                  <a:srgbClr val="000000"/>
                </a:solidFill>
                <a:latin typeface="Times New Roman"/>
                <a:ea typeface="宋体"/>
              </a:rPr>
              <a:t>、早恋</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宋体"/>
              </a:rPr>
              <a:t>2</a:t>
            </a:r>
            <a:r>
              <a:rPr b="1" lang="zh-CN" sz="4800" spc="-1" strike="noStrike">
                <a:solidFill>
                  <a:srgbClr val="000000"/>
                </a:solidFill>
                <a:latin typeface="Times New Roman"/>
                <a:ea typeface="宋体"/>
              </a:rPr>
              <a:t>、手机</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宋体"/>
              </a:rPr>
              <a:t>3</a:t>
            </a:r>
            <a:r>
              <a:rPr b="1" lang="zh-CN" sz="4800" spc="-1" strike="noStrike">
                <a:solidFill>
                  <a:srgbClr val="000000"/>
                </a:solidFill>
                <a:latin typeface="Times New Roman"/>
                <a:ea typeface="宋体"/>
              </a:rPr>
              <a:t>、上网</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3" name="" descr=""/>
          <p:cNvPicPr/>
          <p:nvPr/>
        </p:nvPicPr>
        <p:blipFill>
          <a:blip r:embed="rId1"/>
          <a:stretch/>
        </p:blipFill>
        <p:spPr>
          <a:xfrm>
            <a:off x="250920" y="2708280"/>
            <a:ext cx="5040360" cy="3645000"/>
          </a:xfrm>
          <a:prstGeom prst="rect">
            <a:avLst/>
          </a:prstGeom>
          <a:ln w="0">
            <a:noFill/>
          </a:ln>
        </p:spPr>
      </p:pic>
      <p:sp>
        <p:nvSpPr>
          <p:cNvPr id="1104" name=""/>
          <p:cNvSpPr/>
          <p:nvPr/>
        </p:nvSpPr>
        <p:spPr>
          <a:xfrm>
            <a:off x="971640" y="1125360"/>
            <a:ext cx="403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失恋少年自杀 体内鲜血流出一半</a:t>
            </a:r>
            <a:r>
              <a:rPr b="1" lang="en-US" sz="3600" spc="-1" strike="noStrike">
                <a:solidFill>
                  <a:srgbClr val="ff0000"/>
                </a:solidFill>
                <a:latin typeface="宋体"/>
              </a:rPr>
              <a:t> </a:t>
            </a:r>
            <a:endParaRPr b="0" lang="en-US" sz="3600" spc="-1" strike="noStrike">
              <a:solidFill>
                <a:srgbClr val="000000"/>
              </a:solidFill>
              <a:latin typeface="Times New Roman"/>
            </a:endParaRPr>
          </a:p>
        </p:txBody>
      </p:sp>
      <p:sp>
        <p:nvSpPr>
          <p:cNvPr id="1105" name=""/>
          <p:cNvSpPr/>
          <p:nvPr/>
        </p:nvSpPr>
        <p:spPr>
          <a:xfrm>
            <a:off x="5435640" y="0"/>
            <a:ext cx="3386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003</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26</a:t>
            </a:r>
            <a:r>
              <a:rPr b="1" lang="zh-CN" sz="3200" spc="-1" strike="noStrike">
                <a:solidFill>
                  <a:srgbClr val="000000"/>
                </a:solidFill>
                <a:latin typeface="楷体_GB2312"/>
                <a:ea typeface="楷体_GB2312"/>
              </a:rPr>
              <a:t>日傍晚，沈阳市康平县第一中学校园内发生一幕惨剧，一名高二年级男生因恋人提出分手，用尖锐的玻璃碎片扎破自己胸口，造成严重的心脏破裂，裂口长达</a:t>
            </a:r>
            <a:r>
              <a:rPr b="1" lang="en-US" sz="3200" spc="-1" strike="noStrike">
                <a:solidFill>
                  <a:srgbClr val="000000"/>
                </a:solidFill>
                <a:latin typeface="楷体_GB2312"/>
                <a:ea typeface="楷体_GB2312"/>
              </a:rPr>
              <a:t>1.5</a:t>
            </a:r>
            <a:r>
              <a:rPr b="1" lang="zh-CN" sz="3200" spc="-1" strike="noStrike">
                <a:solidFill>
                  <a:srgbClr val="000000"/>
                </a:solidFill>
                <a:latin typeface="楷体_GB2312"/>
                <a:ea typeface="楷体_GB2312"/>
              </a:rPr>
              <a:t>厘米，生命岌岌可危。 </a:t>
            </a:r>
            <a:endParaRPr b="0" lang="en-US" sz="3200" spc="-1" strike="noStrike">
              <a:solidFill>
                <a:srgbClr val="000000"/>
              </a:solidFill>
              <a:latin typeface="Times New Roman"/>
            </a:endParaRPr>
          </a:p>
        </p:txBody>
      </p:sp>
      <p:sp>
        <p:nvSpPr>
          <p:cNvPr id="1106" name=""/>
          <p:cNvSpPr/>
          <p:nvPr/>
        </p:nvSpPr>
        <p:spPr>
          <a:xfrm>
            <a:off x="395280" y="189000"/>
            <a:ext cx="2160720" cy="647640"/>
          </a:xfrm>
          <a:prstGeom prst="rect">
            <a:avLst/>
          </a:prstGeom>
          <a:gradFill rotWithShape="0">
            <a:gsLst>
              <a:gs pos="0">
                <a:srgbClr val="ffff66"/>
              </a:gs>
              <a:gs pos="50000">
                <a:srgbClr val="ffffff"/>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事例一</a:t>
            </a:r>
            <a:endParaRPr b="0" lang="en-US" sz="3600" spc="-1" strike="noStrike">
              <a:solidFill>
                <a:srgbClr val="000000"/>
              </a:solidFill>
              <a:latin typeface="Times New Roman"/>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611280" y="981000"/>
            <a:ext cx="853272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北京：初中生“情侣”相拥卧轨自杀身亡</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怀柔三中初二八班的古伟、李青男女两同学在牵手进教室时，被老师看见，随后遭到老师批评，认为两人还小，不该有谈恋爱的行为。当天，这两同学便离开学校，在铁路怀柔段相互拥抱卧轨自杀，死于非命。</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京华时报》 </a:t>
            </a:r>
            <a:r>
              <a:rPr b="1" lang="en-US" sz="3200" spc="-1" strike="noStrike">
                <a:solidFill>
                  <a:srgbClr val="000000"/>
                </a:solidFill>
                <a:latin typeface="楷体_GB2312"/>
                <a:ea typeface="楷体_GB2312"/>
              </a:rPr>
              <a:t>200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01</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15</a:t>
            </a:r>
            <a:r>
              <a:rPr b="1" lang="zh-CN" sz="3200" spc="-1" strike="noStrike">
                <a:solidFill>
                  <a:srgbClr val="000000"/>
                </a:solidFill>
                <a:latin typeface="楷体_GB2312"/>
                <a:ea typeface="楷体_GB2312"/>
              </a:rPr>
              <a:t>日第二十一版 </a:t>
            </a:r>
            <a:br>
              <a:rPr sz="3200"/>
            </a:br>
            <a:r>
              <a:rPr b="1"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108" name=""/>
          <p:cNvSpPr/>
          <p:nvPr/>
        </p:nvSpPr>
        <p:spPr>
          <a:xfrm>
            <a:off x="395280" y="189000"/>
            <a:ext cx="2160720" cy="647640"/>
          </a:xfrm>
          <a:prstGeom prst="rect">
            <a:avLst/>
          </a:prstGeom>
          <a:gradFill rotWithShape="0">
            <a:gsLst>
              <a:gs pos="0">
                <a:srgbClr val="ffff66"/>
              </a:gs>
              <a:gs pos="50000">
                <a:srgbClr val="ffffff"/>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事例二</a:t>
            </a:r>
            <a:endParaRPr b="0" lang="en-US" sz="3600" spc="-1" strike="noStrike">
              <a:solidFill>
                <a:srgbClr val="000000"/>
              </a:solidFill>
              <a:latin typeface="Times New Roman"/>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69" name=""/>
          <p:cNvSpPr/>
          <p:nvPr/>
        </p:nvSpPr>
        <p:spPr>
          <a:xfrm>
            <a:off x="1600200" y="685800"/>
            <a:ext cx="7086600" cy="1445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_x000b__x000c_"/>
              </a:rPr>
              <a:t>尊敬的家长你们好</a:t>
            </a:r>
            <a:r>
              <a:rPr b="1" lang="zh-CN" sz="4000" spc="-1" strike="noStrike">
                <a:solidFill>
                  <a:srgbClr val="000000"/>
                </a:solidFill>
                <a:latin typeface="Times New Roman"/>
                <a:ea typeface="_x000b__x000c_"/>
              </a:rPr>
              <a:t>:  </a:t>
            </a:r>
            <a:r>
              <a:rPr b="1"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首先，</a:t>
            </a:r>
            <a:r>
              <a:rPr b="1" lang="zh-CN" sz="3200" spc="-1" strike="noStrike">
                <a:solidFill>
                  <a:srgbClr val="000000"/>
                </a:solidFill>
                <a:latin typeface="Times New Roman"/>
                <a:ea typeface="_x000b_"/>
              </a:rPr>
              <a:t> </a:t>
            </a:r>
            <a:r>
              <a:rPr b="1" lang="zh-CN" sz="3200" spc="-1" strike="noStrike">
                <a:solidFill>
                  <a:srgbClr val="000000"/>
                </a:solidFill>
                <a:latin typeface="_x000b_"/>
              </a:rPr>
              <a:t>请允许我代表高一二班的全体任课教师对你们的到来表示</a:t>
            </a:r>
            <a:r>
              <a:rPr b="1" lang="zh-CN" sz="3200" spc="-1" strike="noStrike">
                <a:solidFill>
                  <a:srgbClr val="ff3300"/>
                </a:solidFill>
                <a:latin typeface="_x000b_"/>
              </a:rPr>
              <a:t>热烈的欢迎！</a:t>
            </a:r>
            <a:r>
              <a:rPr b="1" lang="zh-CN" sz="3200" spc="-1" strike="noStrike">
                <a:solidFill>
                  <a:srgbClr val="000000"/>
                </a:solidFill>
                <a:latin typeface="_x000b_"/>
              </a:rPr>
              <a:t>今天你们能够在百忙之中抽出宝贵的时间来参加我们的家长会，单从这点就可看出你们对自己的子女的关心和对我们学校的工作的支持。我同时代表全体高一二班的学生感谢大家的到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9" name=""/>
          <p:cNvSpPr/>
          <p:nvPr/>
        </p:nvSpPr>
        <p:spPr>
          <a:xfrm>
            <a:off x="539640" y="1484280"/>
            <a:ext cx="83170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名十五六岁的少年跌跌撞撞地跑向一幢高楼，从</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层开始，每到一层，他都抡起棍子打碎楼道窗玻璃，随后探头朝楼下张望高度，当他爬到</a:t>
            </a:r>
            <a:r>
              <a:rPr b="1" lang="en-US" sz="2800" spc="-1" strike="noStrike">
                <a:solidFill>
                  <a:srgbClr val="000000"/>
                </a:solidFill>
                <a:latin typeface="楷体_GB2312"/>
                <a:ea typeface="楷体_GB2312"/>
              </a:rPr>
              <a:t>13</a:t>
            </a:r>
            <a:r>
              <a:rPr b="1" lang="zh-CN" sz="2800" spc="-1" strike="noStrike">
                <a:solidFill>
                  <a:srgbClr val="000000"/>
                </a:solidFill>
                <a:latin typeface="楷体_GB2312"/>
                <a:ea typeface="楷体_GB2312"/>
              </a:rPr>
              <a:t>层时，纵身跳下……这是</a:t>
            </a: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日发生在燕山北庄南里令人心悸的“跳楼事件”。 </a:t>
            </a:r>
            <a:br>
              <a:rPr sz="2800"/>
            </a:br>
            <a:r>
              <a:rPr b="1" lang="en-US" sz="2800" spc="-1" strike="noStrike">
                <a:solidFill>
                  <a:srgbClr val="000000"/>
                </a:solidFill>
                <a:latin typeface="楷体_GB2312"/>
                <a:ea typeface="楷体_GB2312"/>
              </a:rPr>
              <a:t>    当附近居民为此扼腕叹息时，“跳楼事件”背后的早恋惨剧更令人震惊：名叫金铭的跳楼少年在跳楼前，曾和同学李洋为争抢一个女孩而大动干戈，并扎了李洋</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刀。李洋倒在血泊中后，他随即跳楼</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当场死亡。        </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人民网</a:t>
            </a:r>
            <a:r>
              <a:rPr b="1" lang="en-US"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23</a:t>
            </a:r>
            <a:r>
              <a:rPr b="1" lang="zh-CN" sz="2800" spc="-1" strike="noStrike">
                <a:solidFill>
                  <a:srgbClr val="000000"/>
                </a:solidFill>
                <a:latin typeface="楷体_GB2312"/>
                <a:ea typeface="楷体_GB2312"/>
              </a:rPr>
              <a:t>日</a:t>
            </a:r>
            <a:r>
              <a:rPr b="1"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
        <p:nvSpPr>
          <p:cNvPr id="1110" name=""/>
          <p:cNvSpPr/>
          <p:nvPr/>
        </p:nvSpPr>
        <p:spPr>
          <a:xfrm>
            <a:off x="395280" y="189000"/>
            <a:ext cx="2160720" cy="647640"/>
          </a:xfrm>
          <a:prstGeom prst="rect">
            <a:avLst/>
          </a:prstGeom>
          <a:gradFill rotWithShape="0">
            <a:gsLst>
              <a:gs pos="0">
                <a:srgbClr val="ffff66"/>
              </a:gs>
              <a:gs pos="50000">
                <a:srgbClr val="ffffff"/>
              </a:gs>
              <a:gs pos="100000">
                <a:srgbClr val="ffff66"/>
              </a:gs>
            </a:gsLst>
            <a:lin ang="5400000"/>
          </a:gra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事例三</a:t>
            </a:r>
            <a:endParaRPr b="0" lang="en-US" sz="3600" spc="-1" strike="noStrike">
              <a:solidFill>
                <a:srgbClr val="000000"/>
              </a:solidFill>
              <a:latin typeface="Times New Roman"/>
            </a:endParaRPr>
          </a:p>
        </p:txBody>
      </p:sp>
      <p:sp>
        <p:nvSpPr>
          <p:cNvPr id="1111" name=""/>
          <p:cNvSpPr/>
          <p:nvPr/>
        </p:nvSpPr>
        <p:spPr>
          <a:xfrm>
            <a:off x="2771640" y="260280"/>
            <a:ext cx="57610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初中生情陷三角恋酿惨剧 少年争女友</a:t>
            </a:r>
            <a:r>
              <a:rPr b="1" lang="en-US" sz="3600" spc="-1" strike="noStrike">
                <a:solidFill>
                  <a:srgbClr val="ff0000"/>
                </a:solidFill>
                <a:latin typeface="Times New Roman"/>
              </a:rPr>
              <a:t>1</a:t>
            </a:r>
            <a:r>
              <a:rPr b="1" lang="zh-CN" sz="3600" spc="-1" strike="noStrike">
                <a:solidFill>
                  <a:srgbClr val="ff0000"/>
                </a:solidFill>
                <a:latin typeface="Times New Roman"/>
              </a:rPr>
              <a:t>死</a:t>
            </a:r>
            <a:r>
              <a:rPr b="1" lang="en-US" sz="3600" spc="-1" strike="noStrike">
                <a:solidFill>
                  <a:srgbClr val="ff0000"/>
                </a:solidFill>
                <a:latin typeface="Times New Roman"/>
              </a:rPr>
              <a:t>1</a:t>
            </a:r>
            <a:r>
              <a:rPr b="1" lang="zh-CN" sz="3600" spc="-1" strike="noStrike">
                <a:solidFill>
                  <a:srgbClr val="ff0000"/>
                </a:solidFill>
                <a:latin typeface="Times New Roman"/>
              </a:rPr>
              <a:t>伤</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2" name=""/>
          <p:cNvSpPr/>
          <p:nvPr/>
        </p:nvSpPr>
        <p:spPr>
          <a:xfrm>
            <a:off x="0" y="78732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br>
              <a:rPr sz="2800"/>
            </a:br>
            <a:r>
              <a:rPr b="0"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日前天凌晨２时许，在广州市沙面某酒吧内，一群中学生正为一名男生庆祝生日，１</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岁少女小莉看到寿星仔与另一名女生不停地打情骂俏及大唱情歌，心里极度失落和伤心。因为小莉曾与寿星仔关系密切，近日两人闹别扭了。于是，她便到附近商店购买了一把裁纸刀藏在身上，然后静静回到座位上，并狂饮啤酒。不久有同学发现小莉面色苍白，神志不清伏在桌台上，桌下还有一大摊血迹，左手腕有一道长约６厘米的切口，同学们找来出租车将其送院救治。 </a:t>
            </a:r>
            <a:br>
              <a:rPr sz="2800"/>
            </a:br>
            <a:r>
              <a:rPr b="1" lang="en-US" sz="2800" spc="-1" strike="noStrike">
                <a:solidFill>
                  <a:srgbClr val="000000"/>
                </a:solidFill>
                <a:latin typeface="楷体_GB2312"/>
                <a:ea typeface="楷体_GB2312"/>
              </a:rPr>
              <a:t>    经医生检查，小莉左手腕有４条肌腱被切断，还伴有轻度酒精中毒。当天，医生为小莉做了接驳肌腱手术。</a:t>
            </a:r>
            <a:r>
              <a:rPr b="0" lang="en-US" sz="2800" spc="-1" strike="noStrike">
                <a:solidFill>
                  <a:srgbClr val="000000"/>
                </a:solidFill>
                <a:latin typeface="楷体_GB2312"/>
                <a:ea typeface="楷体_GB2312"/>
              </a:rPr>
              <a:t> </a:t>
            </a:r>
            <a:br>
              <a:rPr sz="2800"/>
            </a:br>
            <a:r>
              <a:rPr b="0"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羊城晚报》</a:t>
            </a:r>
            <a:r>
              <a:rPr b="1" lang="en-US"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06</a:t>
            </a:r>
            <a:r>
              <a:rPr b="1" lang="zh-CN" sz="2800" spc="-1" strike="noStrike">
                <a:solidFill>
                  <a:srgbClr val="000000"/>
                </a:solidFill>
                <a:latin typeface="楷体_GB2312"/>
                <a:ea typeface="楷体_GB2312"/>
              </a:rPr>
              <a:t>日</a:t>
            </a:r>
            <a:r>
              <a:rPr b="0"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
        <p:nvSpPr>
          <p:cNvPr id="1113" name=""/>
          <p:cNvSpPr/>
          <p:nvPr/>
        </p:nvSpPr>
        <p:spPr>
          <a:xfrm>
            <a:off x="250920" y="0"/>
            <a:ext cx="2160360" cy="647640"/>
          </a:xfrm>
          <a:prstGeom prst="rect">
            <a:avLst/>
          </a:prstGeom>
          <a:gradFill rotWithShape="0">
            <a:gsLst>
              <a:gs pos="0">
                <a:srgbClr val="ffff66"/>
              </a:gs>
              <a:gs pos="50000">
                <a:srgbClr val="ffffff"/>
              </a:gs>
              <a:gs pos="100000">
                <a:srgbClr val="ffff66"/>
              </a:gs>
            </a:gsLst>
            <a:lin ang="5400000"/>
          </a:gra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事例四</a:t>
            </a:r>
            <a:endParaRPr b="0" lang="en-US" sz="3600" spc="-1" strike="noStrike">
              <a:solidFill>
                <a:srgbClr val="000000"/>
              </a:solidFill>
              <a:latin typeface="Times New Roman"/>
            </a:endParaRPr>
          </a:p>
        </p:txBody>
      </p:sp>
      <p:sp>
        <p:nvSpPr>
          <p:cNvPr id="1114" name=""/>
          <p:cNvSpPr/>
          <p:nvPr/>
        </p:nvSpPr>
        <p:spPr>
          <a:xfrm>
            <a:off x="2700360" y="0"/>
            <a:ext cx="4392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广州一花季女失恋　先狂饮后割腕</a:t>
            </a:r>
            <a:br>
              <a:rPr sz="3600"/>
            </a:br>
            <a:endParaRPr b="0" lang="en-US" sz="3600" spc="-1" strike="noStrike">
              <a:solidFill>
                <a:srgbClr val="000000"/>
              </a:solidFill>
              <a:latin typeface="Times New Roman"/>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34920" y="1359000"/>
            <a:ext cx="9144000" cy="19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1</a:t>
            </a:r>
            <a:r>
              <a:rPr b="1" lang="zh-CN" sz="3600" spc="-1" strike="noStrike">
                <a:solidFill>
                  <a:srgbClr val="3333cc"/>
                </a:solidFill>
                <a:latin typeface="黑体"/>
                <a:ea typeface="黑体"/>
              </a:rPr>
              <a:t>、</a:t>
            </a:r>
            <a:r>
              <a:rPr b="1" lang="en-US" sz="3600" spc="-1" strike="noStrike">
                <a:solidFill>
                  <a:srgbClr val="3333cc"/>
                </a:solidFill>
                <a:latin typeface="黑体"/>
                <a:ea typeface="黑体"/>
              </a:rPr>
              <a:t>早恋危害中学生的身心健康 </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en-US" sz="3600" spc="-1" strike="noStrike">
                <a:solidFill>
                  <a:srgbClr val="3333cc"/>
                </a:solidFill>
                <a:latin typeface="Times New Roman"/>
              </a:rPr>
              <a:t>2</a:t>
            </a:r>
            <a:r>
              <a:rPr b="1" lang="zh-CN" sz="3600" spc="-1" strike="noStrike">
                <a:solidFill>
                  <a:srgbClr val="3333cc"/>
                </a:solidFill>
                <a:latin typeface="Times New Roman"/>
              </a:rPr>
              <a:t>、</a:t>
            </a:r>
            <a:r>
              <a:rPr b="1" lang="en-US" sz="3600" spc="-1" strike="noStrike">
                <a:solidFill>
                  <a:srgbClr val="3333cc"/>
                </a:solidFill>
                <a:latin typeface="Times New Roman"/>
              </a:rPr>
              <a:t>早恋对中学生的学习干扰极大</a:t>
            </a:r>
            <a:br>
              <a:rPr sz="3600"/>
            </a:br>
            <a:r>
              <a:rPr b="0" lang="en-US" sz="2800" spc="-1" strike="noStrike">
                <a:solidFill>
                  <a:srgbClr val="000000"/>
                </a:solidFill>
                <a:latin typeface="Times New Roman"/>
              </a:rPr>
              <a:t>   </a:t>
            </a:r>
            <a:r>
              <a:rPr b="0" lang="en-US" sz="3200" spc="-1" strike="noStrike">
                <a:solidFill>
                  <a:srgbClr val="000000"/>
                </a:solidFill>
                <a:latin typeface="Times New Roman"/>
              </a:rPr>
              <a:t>有的学生错误地认为：“只要两个人志同道合，谈恋爱不会影响学习”，或者认为：“相爱产生动力，促进两人学习”。大量事实表明，这种看法是幼稚、糊涂、错误的。实际上，早恋者往往以恋爱为中心，以对方为航向，感情为对方所牵制，学习没有不分心，成绩没有不下降的。</a:t>
            </a:r>
            <a:endParaRPr b="0" lang="en-US" sz="3200" spc="-1" strike="noStrike">
              <a:solidFill>
                <a:srgbClr val="000000"/>
              </a:solidFill>
              <a:latin typeface="Times New Roman"/>
            </a:endParaRPr>
          </a:p>
        </p:txBody>
      </p:sp>
      <p:sp>
        <p:nvSpPr>
          <p:cNvPr id="1116" name=""/>
          <p:cNvSpPr/>
          <p:nvPr/>
        </p:nvSpPr>
        <p:spPr>
          <a:xfrm>
            <a:off x="741240" y="409680"/>
            <a:ext cx="3616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5050"/>
                </a:solidFill>
                <a:latin typeface="Times New Roman"/>
                <a:ea typeface="宋体"/>
              </a:rPr>
              <a:t>早恋的危害</a:t>
            </a:r>
            <a:endParaRPr b="0" lang="en-US" sz="5400" spc="-1" strike="noStrike">
              <a:solidFill>
                <a:srgbClr val="000000"/>
              </a:solidFill>
              <a:latin typeface="Times New Roman"/>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533520" y="449280"/>
            <a:ext cx="86104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成千上万的实例告诉我们，沉湎于早恋的同学多数都是沿着 “感情直线上升，成绩直线下降”的轨迹运动的。这是因为中学生的早恋</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时常要经受嫉妒和失败的折磨！这一切对于涉世不深、意志薄弱、情感易于冲动的中学生本来就是一种“超负荷”运载。在早恋的沉重的几乎要压垮全部稚嫩心灵的超负荷运载下，无心学习，成绩下降，是十分自然的，也是屡见不鲜的。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0" y="304920"/>
            <a:ext cx="9144000" cy="21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050"/>
                </a:solidFill>
                <a:latin typeface="黑体"/>
                <a:ea typeface="黑体"/>
              </a:rPr>
              <a:t>  </a:t>
            </a:r>
            <a:r>
              <a:rPr b="1" lang="en-US" sz="3600" spc="-1" strike="noStrike">
                <a:solidFill>
                  <a:srgbClr val="3333cc"/>
                </a:solidFill>
                <a:latin typeface="黑体"/>
                <a:ea typeface="黑体"/>
              </a:rPr>
              <a:t> </a:t>
            </a:r>
            <a:r>
              <a:rPr b="1" lang="zh-CN" sz="3600" spc="-1" strike="noStrike">
                <a:solidFill>
                  <a:srgbClr val="3333cc"/>
                </a:solidFill>
                <a:latin typeface="黑体"/>
                <a:ea typeface="黑体"/>
              </a:rPr>
              <a:t>3</a:t>
            </a:r>
            <a:r>
              <a:rPr b="1" lang="en-US" sz="3600" spc="-1" strike="noStrike">
                <a:solidFill>
                  <a:srgbClr val="3333cc"/>
                </a:solidFill>
                <a:latin typeface="黑体"/>
                <a:ea typeface="黑体"/>
              </a:rPr>
              <a:t>．早恋有可能导致犯罪 </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据有关部门调查的结果，中学生过早涉及爱情，也会给社会带来不安定。流氓、殴斗、盗窃等社会现象的发生，有很大一部分是与学生的早恋有关。中学生气盛，不肯轻易吃亏，特别是在女朋友面前，更不愿意丢脸，他们往往会因为对方对女朋友说了一句不礼貌的话，做出了一个不雅的举动而丧失理智，大打出手，甚至聚众斗殴，以显示自己的本事，以至违法犯罪。另一方面，中学生恋爱还需要有物质上的消费，但他们的经济依赖于父母或他人，自己还不能自立，在从初恋到结婚的一段</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rPr>
              <a:t>马拉松</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rPr>
              <a:t>式的恋爱期间，需要相当的一笔金钱花费。而父母所能提供的一点零花钱又往往满足不了需要。这样中学生就容易误入歧途，诱发偷和抢的念头，最后锒铛入狱。</a:t>
            </a:r>
            <a:r>
              <a:rPr b="1" lang="en-US"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rPr>
              <a:t>中学生带手机的危害</a:t>
            </a:r>
            <a:endParaRPr b="0" lang="en-US" sz="5400" spc="-1" strike="noStrike">
              <a:solidFill>
                <a:srgbClr val="000000"/>
              </a:solidFill>
              <a:latin typeface="Times New Roman"/>
            </a:endParaRPr>
          </a:p>
        </p:txBody>
      </p:sp>
      <p:sp>
        <p:nvSpPr>
          <p:cNvPr id="1120" name=""/>
          <p:cNvSpPr/>
          <p:nvPr/>
        </p:nvSpPr>
        <p:spPr>
          <a:xfrm>
            <a:off x="900000" y="1701720"/>
            <a:ext cx="7155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这里阐明一下</a:t>
            </a:r>
            <a:r>
              <a:rPr b="0" lang="en-US" sz="3600" spc="-1" strike="noStrike">
                <a:solidFill>
                  <a:srgbClr val="000000"/>
                </a:solidFill>
                <a:latin typeface="Times New Roman"/>
                <a:ea typeface="宋体"/>
              </a:rPr>
              <a:t>中学生佩带手机的危害，学生家长以及所有的人，都要明白这个再简单不过的道理——中学生佩带手机有害学习</a:t>
            </a:r>
            <a:endParaRPr b="0" lang="en-US" sz="3600" spc="-1" strike="noStrike">
              <a:solidFill>
                <a:srgbClr val="000000"/>
              </a:solidFill>
              <a:latin typeface="Times New Roman"/>
            </a:endParaRPr>
          </a:p>
        </p:txBody>
      </p:sp>
      <p:sp>
        <p:nvSpPr>
          <p:cNvPr id="1121" name=""/>
          <p:cNvSpPr/>
          <p:nvPr/>
        </p:nvSpPr>
        <p:spPr>
          <a:xfrm>
            <a:off x="1189080" y="4294080"/>
            <a:ext cx="691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宋体"/>
              </a:rPr>
              <a:t>为什么说中学生佩带手机有害学习？我们只须看一下他们用手中的手机都干了些什么便知</a:t>
            </a:r>
            <a:r>
              <a:rPr b="0" lang="zh-CN" sz="3200" spc="-1" strike="noStrike">
                <a:solidFill>
                  <a:srgbClr val="00cc99"/>
                </a:solidFill>
                <a:latin typeface="Times New Roman"/>
                <a:ea typeface="宋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1012680" y="887400"/>
            <a:ext cx="6512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741240" y="669960"/>
            <a:ext cx="77216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1</a:t>
            </a:r>
            <a:r>
              <a:rPr b="0" lang="en-US" sz="3600" spc="-1" strike="noStrike">
                <a:solidFill>
                  <a:srgbClr val="3333cc"/>
                </a:solidFill>
                <a:latin typeface="Times New Roman"/>
                <a:ea typeface="宋体"/>
              </a:rPr>
              <a:t>、与家人联系</a:t>
            </a:r>
            <a:r>
              <a:rPr b="0" lang="zh-CN" sz="3600" spc="-1" strike="noStrike">
                <a:solidFill>
                  <a:srgbClr val="3333cc"/>
                </a:solidFill>
                <a:latin typeface="Times New Roman"/>
                <a:ea typeface="宋体"/>
              </a:rPr>
              <a:t>   </a:t>
            </a:r>
            <a:r>
              <a:rPr b="0" lang="zh-CN" sz="2800" spc="-1" strike="noStrike">
                <a:solidFill>
                  <a:srgbClr val="3333cc"/>
                </a:solidFill>
                <a:latin typeface="Times New Roman"/>
                <a:ea typeface="宋体"/>
              </a:rPr>
              <a:t>                                                   </a:t>
            </a:r>
            <a:r>
              <a:rPr b="0" lang="en-US" sz="3200" spc="-1" strike="noStrike">
                <a:solidFill>
                  <a:srgbClr val="000000"/>
                </a:solidFill>
                <a:latin typeface="Times New Roman"/>
                <a:ea typeface="宋体"/>
              </a:rPr>
              <a:t>也许一些家长的出发点是好的，给孩子佩手机只是为了方便与孩子联系。学生手中的手机的的确确有此功用，如果学生只是用手机来干这点事儿，那么手机对他几乎没有什么害处。可能带来的害处是：①走途学生（本地学生）：由于有了手机的便利，可能会拖延放学回家时间，养成贪玩的毛病；②住宿的学生：睹物思人，面对着家人送给他的手机，可能会时常勾起他的思乡情绪，多少会影响学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324000" y="692280"/>
            <a:ext cx="813744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2</a:t>
            </a:r>
            <a:r>
              <a:rPr b="0" lang="zh-CN" sz="3600" spc="-1" strike="noStrike">
                <a:solidFill>
                  <a:srgbClr val="3333cc"/>
                </a:solidFill>
                <a:latin typeface="Times New Roman"/>
                <a:ea typeface="宋体"/>
              </a:rPr>
              <a:t>、与好友联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首先值得肯定的一点是，朋友之间正常的勾通与交流是有益无害的，包括通过手机的勾通与交流。但中学生一旦手机在手，这种勾通与交流往往就会变得频繁甚至泛滥，有的学生索性把与朋友接打电话、收发短信当成了自己的“事业”。浪费金钱且不说，这白白浪费的时间是无法找回的，还谈什么学习？试想，这样的一个高科技产物在手，就连我们成人有时也会出现不当的过分使用，更何况小小的孩子呢？</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4920" y="117360"/>
            <a:ext cx="907416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3</a:t>
            </a:r>
            <a:r>
              <a:rPr b="0" lang="zh-CN" sz="3600" spc="-1" strike="noStrike">
                <a:solidFill>
                  <a:srgbClr val="3333cc"/>
                </a:solidFill>
                <a:latin typeface="Times New Roman"/>
                <a:ea typeface="宋体"/>
              </a:rPr>
              <a:t>、谈情说爱</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中学生“早恋”对学习的危害应是大家公认的，所以在这里不赘述。我要说的是这手机已经实实在在地成为了中学生“早恋”的“帮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①</a:t>
            </a:r>
            <a:r>
              <a:rPr b="0" lang="zh-CN" sz="3200" spc="-1" strike="noStrike">
                <a:solidFill>
                  <a:srgbClr val="000000"/>
                </a:solidFill>
                <a:latin typeface="Times New Roman"/>
                <a:ea typeface="宋体"/>
              </a:rPr>
              <a:t>手机是他们求爱的最佳工具。既避免了“飞鸽传书”中间路途的风险，也省去了不少时间，又以最为隐密的方式传去了最难以启齿的话语。如此之便利，如此之高效的工具，何人不爱？</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②</a:t>
            </a:r>
            <a:r>
              <a:rPr b="0" lang="zh-CN" sz="3200" spc="-1" strike="noStrike">
                <a:solidFill>
                  <a:srgbClr val="000000"/>
                </a:solidFill>
                <a:latin typeface="Times New Roman"/>
                <a:ea typeface="宋体"/>
              </a:rPr>
              <a:t>手机是他们谈情的最好媒介。通过手机传情、谈情，打破了时间、空间的限制，可以实现一切时间、一切地点的谈情说爱，只要他们有心情。特别是通过短信的方式，更为隐密，且更方便传达无法当面启齿的爱语，这短信实在功劳不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34920" y="0"/>
            <a:ext cx="907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③</a:t>
            </a:r>
            <a:r>
              <a:rPr b="0" lang="zh-CN" sz="2800" spc="-1" strike="noStrike">
                <a:solidFill>
                  <a:srgbClr val="000000"/>
                </a:solidFill>
                <a:latin typeface="Times New Roman"/>
                <a:ea typeface="宋体"/>
              </a:rPr>
              <a:t>手机是他们朝思暮想的由头。还要用到那个词——“睹物思人”。平日时常用手机与对方勾通谈情，每每看到手机，自然勾起对对方的思念，如此一来，他（她）还有心思学习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④</a:t>
            </a:r>
            <a:r>
              <a:rPr b="0" lang="zh-CN" sz="2800" spc="-1" strike="noStrike">
                <a:solidFill>
                  <a:srgbClr val="000000"/>
                </a:solidFill>
                <a:latin typeface="Times New Roman"/>
                <a:ea typeface="宋体"/>
              </a:rPr>
              <a:t>是他们与对方相约、相处的最好帮手。一旦有“约会”的打算，只要一个电话，有时未必需要对方接听，只要呼叫信号传达对方，他们心有灵犀，自然会同时到达“老地方”，花前月下、海誓山盟自然不在话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⑤</a:t>
            </a:r>
            <a:r>
              <a:rPr b="0" lang="zh-CN" sz="2800" spc="-1" strike="noStrike">
                <a:solidFill>
                  <a:srgbClr val="000000"/>
                </a:solidFill>
                <a:latin typeface="Times New Roman"/>
                <a:ea typeface="宋体"/>
              </a:rPr>
              <a:t>是他们受到骚扰的“罪魁祸首”。一些学生本来的学习生活很安宁，也很充实。但只有手机一上（特别是女生），那么求爱者就会纷至沓来，求爱短信铺天盖地，骚扰电话接二连三。一旦如此，她就别想安心学习了，最终的结果是陷入“早恋”的泥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0" name=""/>
          <p:cNvSpPr/>
          <p:nvPr/>
        </p:nvSpPr>
        <p:spPr>
          <a:xfrm>
            <a:off x="1523880" y="457200"/>
            <a:ext cx="72392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
              </a:rPr>
              <a:t>    </a:t>
            </a:r>
            <a:r>
              <a:rPr b="1" lang="zh-CN" sz="2800" spc="-1" strike="noStrike">
                <a:solidFill>
                  <a:srgbClr val="000000"/>
                </a:solidFill>
                <a:latin typeface="_x000b_"/>
              </a:rPr>
              <a:t>为</a:t>
            </a:r>
            <a:r>
              <a:rPr b="1" lang="zh-CN" sz="3200" spc="-1" strike="noStrike">
                <a:solidFill>
                  <a:srgbClr val="000000"/>
                </a:solidFill>
                <a:latin typeface="_x000b_"/>
              </a:rPr>
              <a:t>什么这么说呢？因为我觉得我们这次家长会的</a:t>
            </a:r>
            <a:r>
              <a:rPr b="1" lang="zh-CN" sz="3200" spc="-1" strike="noStrike">
                <a:solidFill>
                  <a:srgbClr val="ff3300"/>
                </a:solidFill>
                <a:latin typeface="_x000b_"/>
              </a:rPr>
              <a:t>真正意义</a:t>
            </a:r>
            <a:r>
              <a:rPr b="1" lang="zh-CN" sz="3200" spc="-1" strike="noStrike">
                <a:solidFill>
                  <a:srgbClr val="000000"/>
                </a:solidFill>
                <a:latin typeface="_x000b_"/>
              </a:rPr>
              <a:t>可能不在于我们能通过家长会更多的交流什么，而在于给学生鼓鼓劲，在学生的心中他不在乎我们家长会会开什么内容，但只要自己的家长在其中，来参加会议，对他们来说这就是骄傲就是幸福，就会转化为取之不尽用之不竭的力量源泉。如果说家长会是成功的的话，那么你们的到来我就可以说家长会是成功的。</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493560" y="477720"/>
            <a:ext cx="8326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276120" y="355680"/>
            <a:ext cx="86886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4</a:t>
            </a:r>
            <a:r>
              <a:rPr b="0" lang="zh-CN" sz="3600" spc="-1" strike="noStrike">
                <a:solidFill>
                  <a:srgbClr val="3333cc"/>
                </a:solidFill>
                <a:latin typeface="Times New Roman"/>
                <a:ea typeface="宋体"/>
              </a:rPr>
              <a:t>、考试作弊</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学生利用手机考场作弊已不是什么新鲜事。中学生手机考场作弊也是普遍现象。考试作弊是不劳而获，是人人唾弃的丑陋行为。难道你家长给孩子佩手机真就是为了培养孩子的作弊能力吗？你家长真的想让孩子成为一个只会投机取巧而毫无本能的废物吗？但是，可笑的是，有些学生就是以考试要作弊为由向家长索要手机，而有些家长还真的为此给孩子买了手机。呜呼！无法可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
          <p:cNvSpPr/>
          <p:nvPr/>
        </p:nvSpPr>
        <p:spPr>
          <a:xfrm>
            <a:off x="262080" y="314280"/>
            <a:ext cx="85579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5</a:t>
            </a:r>
            <a:r>
              <a:rPr b="0" lang="zh-CN" sz="3600" spc="-1" strike="noStrike">
                <a:solidFill>
                  <a:srgbClr val="3333cc"/>
                </a:solidFill>
                <a:latin typeface="Times New Roman"/>
                <a:ea typeface="宋体"/>
              </a:rPr>
              <a:t>、惹是生非</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些学生闲来无聊，用手机到处招惹是非，引发了一些不必要的矛盾和争执，甚至引发恶性的打斗事件。还有的学生与同学发生口角，本来事件并不大，可手机在手，就非要打电话找一下“能人”来平息，进而显示一下自己的“本事”，从而把事态闹大，无法收拾。如若没有这个手机，事情可能会好办得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89080" y="314280"/>
            <a:ext cx="83883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6</a:t>
            </a:r>
            <a:r>
              <a:rPr b="0" lang="zh-CN" sz="3600" spc="-1" strike="noStrike">
                <a:solidFill>
                  <a:srgbClr val="3333cc"/>
                </a:solidFill>
                <a:latin typeface="Times New Roman"/>
                <a:ea typeface="宋体"/>
              </a:rPr>
              <a:t>、课堂收发短信，接打电话</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就是前面提到的把与朋友交流勾通当“事业”的学生干的事，当然“早恋”者也在其中。这样的学生能认真学习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7</a:t>
            </a:r>
            <a:r>
              <a:rPr b="0" lang="zh-CN" sz="3600" spc="-1" strike="noStrike">
                <a:solidFill>
                  <a:srgbClr val="3333cc"/>
                </a:solidFill>
                <a:latin typeface="Times New Roman"/>
                <a:ea typeface="宋体"/>
              </a:rPr>
              <a:t>、利用手机在课堂上听歌、玩游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大好时光，就被他们这样浪费了，可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8</a:t>
            </a:r>
            <a:r>
              <a:rPr b="0" lang="zh-CN" sz="3600" spc="-1" strike="noStrike">
                <a:solidFill>
                  <a:srgbClr val="3333cc"/>
                </a:solidFill>
                <a:latin typeface="Times New Roman"/>
                <a:ea typeface="宋体"/>
              </a:rPr>
              <a:t>、吹嘘炫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一些家长“豪气”冲天，为孩子佩带的手机“超凡脱俗”，价格不菲。这成了学生在同学中间炫耀的资本。家长无形当中在助长孩子的虚荣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617400" y="614520"/>
            <a:ext cx="76280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宋体"/>
              </a:rPr>
              <a:t>事实已经摆在眼前：</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①</a:t>
            </a:r>
            <a:r>
              <a:rPr b="0" lang="en-US" sz="3200" spc="-1" strike="noStrike">
                <a:solidFill>
                  <a:srgbClr val="000000"/>
                </a:solidFill>
                <a:latin typeface="Times New Roman"/>
                <a:ea typeface="宋体"/>
              </a:rPr>
              <a:t>佩带手机的学生，</a:t>
            </a:r>
            <a:r>
              <a:rPr b="0" lang="zh-CN" sz="3200" spc="-1" strike="noStrike">
                <a:solidFill>
                  <a:srgbClr val="000000"/>
                </a:solidFill>
                <a:latin typeface="Times New Roman"/>
                <a:ea typeface="宋体"/>
              </a:rPr>
              <a:t>主要是</a:t>
            </a:r>
            <a:r>
              <a:rPr b="0" lang="en-US" sz="3200" spc="-1" strike="noStrike">
                <a:solidFill>
                  <a:srgbClr val="000000"/>
                </a:solidFill>
                <a:latin typeface="Times New Roman"/>
                <a:ea typeface="宋体"/>
              </a:rPr>
              <a:t>一些品行的不端的学生，多数成绩低劣，不求上进，这就是手机的功劳。②佩带手机的学生，都是家庭条件好的学生，且最终沦为差生，这是不是印证了一句话：“自古雄才多磨难，从来纨绔少伟男。”那么我要反问一句：为什么“纨绔少伟男”？是孩子天生就是一个蠢才、弱智？我看还是这些孩子的家长出了问题吧！所以我要说：我们的一些学生学习差，不是老师没有教好，而是家长把他惯得实在太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549360" y="477720"/>
            <a:ext cx="819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247680" y="396720"/>
            <a:ext cx="857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③</a:t>
            </a:r>
            <a:r>
              <a:rPr b="0" lang="zh-CN" sz="3200" spc="-1" strike="noStrike">
                <a:solidFill>
                  <a:srgbClr val="000000"/>
                </a:solidFill>
                <a:latin typeface="Times New Roman"/>
                <a:ea typeface="宋体"/>
              </a:rPr>
              <a:t>即便是这个学生学习很好，各个方面都很优秀，但是只要手机一佩，他就会开始出现问题，直至学习下降，走向堕落。为什么会这样？因为与他联系交往的人必然多了那些已手机在手的“差生”，近朱者赤，近墨者黑。他不变坏才是怪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958680" y="333360"/>
            <a:ext cx="74296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宋体"/>
              </a:rPr>
              <a:t>如何才能杜绝中学生佩带手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是老师的严厉打击吗？这根本解决不了问题。问题的关键是，家长要认识到孩子佩带手机的危害。也就是说，中学生佩带手机这颗毒瘤的根源在家长，只要家长决心不给孩子带手机了，这个顼疾就算根治了。否则老师再怎么喊，再怎么严要求，有你家长在后面做后盾，与老师唱反调，老师的教育也只能变得苍白无力，甚至不起任何作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5" name=""/>
          <p:cNvSpPr/>
          <p:nvPr/>
        </p:nvSpPr>
        <p:spPr>
          <a:xfrm>
            <a:off x="1434960" y="2260440"/>
            <a:ext cx="7407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误区一</a:t>
            </a:r>
            <a:r>
              <a:rPr b="1" lang="zh-CN" sz="2800" spc="-1" strike="noStrike">
                <a:solidFill>
                  <a:srgbClr val="000000"/>
                </a:solidFill>
                <a:latin typeface="Times New Roman"/>
              </a:rPr>
              <a:t>：过分保护。家长老是把孩子重点保护起来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6" name=""/>
          <p:cNvSpPr/>
          <p:nvPr/>
        </p:nvSpPr>
        <p:spPr>
          <a:xfrm>
            <a:off x="1376280" y="3024360"/>
            <a:ext cx="74678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误区二</a:t>
            </a:r>
            <a:r>
              <a:rPr b="1" lang="zh-CN" sz="2800" spc="-1" strike="noStrike">
                <a:solidFill>
                  <a:srgbClr val="000000"/>
                </a:solidFill>
                <a:latin typeface="Times New Roman"/>
              </a:rPr>
              <a:t>：过分疼爱。特别是女家长，怕孩子受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误区三</a:t>
            </a:r>
            <a:r>
              <a:rPr b="1" lang="zh-CN" sz="2800" spc="-1" strike="noStrike">
                <a:solidFill>
                  <a:srgbClr val="000000"/>
                </a:solidFill>
                <a:latin typeface="Times New Roman"/>
              </a:rPr>
              <a:t>：家长要言传身教，要重视自己对孩子的影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误区四</a:t>
            </a:r>
            <a:r>
              <a:rPr b="1" lang="zh-CN" sz="2800" spc="-1" strike="noStrike">
                <a:solidFill>
                  <a:srgbClr val="000000"/>
                </a:solidFill>
                <a:latin typeface="Times New Roman"/>
              </a:rPr>
              <a:t>：要重视心理健康，有些家长对孩子的身体备加呵护，却忽视了孩子的心理健康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7" name=""/>
          <p:cNvSpPr/>
          <p:nvPr/>
        </p:nvSpPr>
        <p:spPr>
          <a:xfrm>
            <a:off x="2822040" y="504720"/>
            <a:ext cx="3472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宋体"/>
              </a:rPr>
              <a:t>家长关心学生的</a:t>
            </a:r>
            <a:r>
              <a:rPr b="1" lang="zh-CN" sz="4800" spc="-1" strike="noStrike">
                <a:solidFill>
                  <a:srgbClr val="ff3300"/>
                </a:solidFill>
                <a:latin typeface="Times New Roman"/>
                <a:ea typeface="宋体"/>
              </a:rPr>
              <a:t>误区</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8" name=""/>
          <p:cNvSpPr/>
          <p:nvPr/>
        </p:nvSpPr>
        <p:spPr>
          <a:xfrm>
            <a:off x="1584360" y="295200"/>
            <a:ext cx="656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_x000b_"/>
              </a:rPr>
              <a:t>现在我也真诚的向在座的每一位家长提出一些希望：</a:t>
            </a:r>
            <a:r>
              <a:rPr b="1" lang="zh-CN" sz="3600" spc="-1" strike="noStrike">
                <a:solidFill>
                  <a:srgbClr val="ff33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9" name=""/>
          <p:cNvSpPr/>
          <p:nvPr/>
        </p:nvSpPr>
        <p:spPr>
          <a:xfrm>
            <a:off x="1523880" y="1981080"/>
            <a:ext cx="73152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1</a:t>
            </a:r>
            <a:r>
              <a:rPr b="1" lang="zh-CN" sz="2800" spc="-1" strike="noStrike">
                <a:solidFill>
                  <a:srgbClr val="000000"/>
                </a:solidFill>
                <a:latin typeface="_x000b_"/>
              </a:rPr>
              <a:t>．家长要了解学校对学生的要求，积极配合学校做好工作。</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2</a:t>
            </a:r>
            <a:r>
              <a:rPr b="1" lang="zh-CN" sz="2800" spc="-1" strike="noStrike">
                <a:solidFill>
                  <a:srgbClr val="000000"/>
                </a:solidFill>
                <a:latin typeface="Times New Roman"/>
                <a:ea typeface="_x000b_"/>
              </a:rPr>
              <a:t>、经常与学校联系及时了解学生的情况。</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3</a:t>
            </a:r>
            <a:r>
              <a:rPr b="1" lang="zh-CN" sz="2800" spc="-1" strike="noStrike">
                <a:solidFill>
                  <a:srgbClr val="000000"/>
                </a:solidFill>
                <a:latin typeface="_x000b_"/>
              </a:rPr>
              <a:t>．家长要培养学生的自理能力，要让学生能自己管理自己，</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4</a:t>
            </a:r>
            <a:r>
              <a:rPr b="1" lang="zh-CN" sz="2800" spc="-1" strike="noStrike">
                <a:solidFill>
                  <a:srgbClr val="000000"/>
                </a:solidFill>
                <a:latin typeface="_x000b_"/>
              </a:rPr>
              <a:t>．注重学生学习习惯和学习能力的培养，使学生养成良好的学习方惯，切记家长不要包办代替，要注重学生的实践能力和创新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0" name=""/>
          <p:cNvSpPr/>
          <p:nvPr/>
        </p:nvSpPr>
        <p:spPr>
          <a:xfrm>
            <a:off x="1660680" y="349200"/>
            <a:ext cx="71024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1600200" y="45720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
              </a:rPr>
              <a:t>4</a:t>
            </a:r>
            <a:r>
              <a:rPr b="1" lang="zh-CN" sz="2800" spc="-1" strike="noStrike">
                <a:solidFill>
                  <a:srgbClr val="000000"/>
                </a:solidFill>
                <a:latin typeface="_x000b_"/>
              </a:rPr>
              <a:t>．在这里我想说，要学会欣赏学生，要善于发现他们的闪光点。要让他们认识到自己能行</a:t>
            </a:r>
            <a:r>
              <a:rPr b="1" lang="zh-CN" sz="2800" spc="-1" strike="noStrike">
                <a:solidFill>
                  <a:srgbClr val="000000"/>
                </a:solidFill>
                <a:latin typeface="Times New Roman"/>
                <a:ea typeface="_x000b_"/>
              </a:rPr>
              <a:t> </a:t>
            </a:r>
            <a:r>
              <a:rPr b="1" lang="zh-CN" sz="2800" spc="-1" strike="noStrike">
                <a:solidFill>
                  <a:srgbClr val="000000"/>
                </a:solidFill>
                <a:latin typeface="_x000b_"/>
              </a:rPr>
              <a:t>，是好样的。试想，当一个学生认识到自己也同样很优秀，当他内心成材成功的欲望被激起时，学生能学不好吗？要理解他们，尊重信任他们，不要对他们施加太多压力，要对他们说你能行。事实上学生的要求，也不在于家长给他们买多少好吃的，多少好穿的，有时候一句鼓励的话语，一个慈爱的眼神就可以使他们很满足，充满动力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学生实际上很在乎你们，我们要善于利用好这块资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2" name=""/>
          <p:cNvSpPr/>
          <p:nvPr/>
        </p:nvSpPr>
        <p:spPr>
          <a:xfrm>
            <a:off x="2600280" y="30492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对走读生家长的建议：</a:t>
            </a:r>
            <a:endParaRPr b="0" lang="en-US" sz="3600" spc="-1" strike="noStrike">
              <a:solidFill>
                <a:srgbClr val="000000"/>
              </a:solidFill>
              <a:latin typeface="Times New Roman"/>
            </a:endParaRPr>
          </a:p>
        </p:txBody>
      </p:sp>
      <p:sp>
        <p:nvSpPr>
          <p:cNvPr id="1143" name=""/>
          <p:cNvSpPr/>
          <p:nvPr/>
        </p:nvSpPr>
        <p:spPr>
          <a:xfrm>
            <a:off x="1676520" y="1066680"/>
            <a:ext cx="7162560" cy="3176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要求学生保证学生按时作息，不要因晚上学习时间过长或看电视无度、睡眠不足影响第二天学习；</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让学生吃好早餐，保证身体健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及时检查、维修好交通工具，教育学生遵守交通规则，确保交通安全、按时到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意观察学生变化，及时发现并纠正其不良行为而切忌护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意学生回家或离家的时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1" name=""/>
          <p:cNvSpPr/>
          <p:nvPr/>
        </p:nvSpPr>
        <p:spPr>
          <a:xfrm>
            <a:off x="1523880" y="609480"/>
            <a:ext cx="7239240" cy="171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开这次家长会的</a:t>
            </a:r>
            <a:r>
              <a:rPr b="1" lang="zh-CN" sz="3200" spc="-1" strike="noStrike">
                <a:solidFill>
                  <a:srgbClr val="ff3300"/>
                </a:solidFill>
                <a:latin typeface="Times New Roman"/>
              </a:rPr>
              <a:t>目的</a:t>
            </a:r>
            <a:r>
              <a:rPr b="1" lang="zh-CN" sz="3200" spc="-1" strike="noStrike">
                <a:solidFill>
                  <a:srgbClr val="000000"/>
                </a:solidFill>
                <a:latin typeface="Times New Roman"/>
              </a:rPr>
              <a:t>是为了加强老师与家长之间的联系，相互交流一下我们这一届高一学生在校及在家的情况，以便老师能够及时调整工作，提高教育教学质量，同时促使家长也能够积极参与到学生的教育管理中来，使我们的学生你们的孩子在后年的高考中能取得最佳的成绩，以实现你们家长、你们的孩子、我们学校老师三者共同的心愿。总之一句话，就是“一切为了学生”。</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4" name=""/>
          <p:cNvSpPr/>
          <p:nvPr/>
        </p:nvSpPr>
        <p:spPr>
          <a:xfrm>
            <a:off x="3278520" y="98280"/>
            <a:ext cx="4112280" cy="493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33"/>
                </a:solidFill>
                <a:latin typeface="Arial Black"/>
                <a:ea typeface="楷体_GB2312"/>
              </a:rPr>
              <a:t>寒假要求</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1" lang="zh-CN" sz="3200" spc="-1" strike="noStrike">
                <a:solidFill>
                  <a:srgbClr val="000000"/>
                </a:solidFill>
                <a:latin typeface="Times New Roman"/>
                <a:ea typeface="宋体"/>
              </a:rPr>
              <a:t>、引导学生合理安排时间—</a:t>
            </a: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宋体"/>
              </a:rPr>
              <a:t>做时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的主人，合理安排好每天的作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和学习时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3200" spc="-1" strike="noStrike">
                <a:solidFill>
                  <a:srgbClr val="000000"/>
                </a:solidFill>
                <a:latin typeface="Times New Roman"/>
                <a:ea typeface="宋体"/>
              </a:rPr>
              <a:t>、督促孩子做文明学生，不进三室一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a:t>
            </a:r>
            <a:r>
              <a:rPr b="1" lang="zh-CN" sz="3200" spc="-1" strike="noStrike">
                <a:solidFill>
                  <a:srgbClr val="000000"/>
                </a:solidFill>
                <a:latin typeface="Times New Roman"/>
                <a:ea typeface="宋体"/>
              </a:rPr>
              <a:t>、严格要求学生完成每天的作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a:t>
            </a:r>
            <a:r>
              <a:rPr b="1" lang="zh-CN" sz="3200" spc="-1" strike="noStrike">
                <a:solidFill>
                  <a:srgbClr val="000000"/>
                </a:solidFill>
                <a:latin typeface="Times New Roman"/>
                <a:ea typeface="宋体"/>
              </a:rPr>
              <a:t>、加强与学生的谈心交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5</a:t>
            </a:r>
            <a:r>
              <a:rPr b="1" lang="zh-CN" sz="3200" spc="-1" strike="noStrike">
                <a:solidFill>
                  <a:srgbClr val="000000"/>
                </a:solidFill>
                <a:latin typeface="Times New Roman"/>
                <a:ea typeface="宋体"/>
              </a:rPr>
              <a:t>。提醒学生注意安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5" name=""/>
          <p:cNvSpPr/>
          <p:nvPr/>
        </p:nvSpPr>
        <p:spPr>
          <a:xfrm>
            <a:off x="1676520" y="106668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rPr>
              <a:t>最后我想说：我衷心希望学校的工作能得到各位家长的大力支持，并坚信：在我们学校、你们家长、学生自己三方共同努力下，能实现我们共同的美好的目标，让我们拭目以待。最后谨祝大家：身体健康！工作顺利！家庭满美！万事如意！谢谢！</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6" name="边框9" descr=""/>
          <p:cNvPicPr/>
          <p:nvPr/>
        </p:nvPicPr>
        <p:blipFill>
          <a:blip r:embed="rId1"/>
          <a:stretch/>
        </p:blipFill>
        <p:spPr>
          <a:xfrm>
            <a:off x="0" y="0"/>
            <a:ext cx="9067680" cy="6858000"/>
          </a:xfrm>
          <a:prstGeom prst="rect">
            <a:avLst/>
          </a:prstGeom>
          <a:ln w="0">
            <a:noFill/>
          </a:ln>
        </p:spPr>
      </p:pic>
      <p:sp>
        <p:nvSpPr>
          <p:cNvPr id="1147" name=""/>
          <p:cNvSpPr/>
          <p:nvPr/>
        </p:nvSpPr>
        <p:spPr>
          <a:xfrm>
            <a:off x="1371600" y="3199320"/>
            <a:ext cx="7467480" cy="825120"/>
          </a:xfrm>
          <a:prstGeom prst="rect">
            <a:avLst/>
          </a:prstGeom>
          <a:noFill/>
          <a:ln w="0">
            <a:noFill/>
          </a:ln>
        </p:spPr>
        <p:style>
          <a:lnRef idx="0"/>
          <a:fillRef idx="0"/>
          <a:effectRef idx="0"/>
          <a:fontRef idx="minor"/>
        </p:style>
        <p:txBody>
          <a:bodyPr lIns="90000" rIns="90000" tIns="46800" bIns="46800" anchor="b">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隶书"/>
              </a:rPr>
              <a:t>教育的成功有赖您的支持！</a:t>
            </a:r>
            <a:endParaRPr b="0" lang="en-US" sz="48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5400000"/>
        </a:gradFill>
      </p:bgPr>
    </p:bg>
    <p:spTree>
      <p:nvGrpSpPr>
        <p:cNvPr id="1" name=""/>
        <p:cNvGrpSpPr/>
        <p:nvPr/>
      </p:nvGrpSpPr>
      <p:grpSpPr>
        <a:xfrm>
          <a:off x="0" y="0"/>
          <a:ext cx="0" cy="0"/>
          <a:chOff x="0" y="0"/>
          <a:chExt cx="0" cy="0"/>
        </a:xfrm>
      </p:grpSpPr>
      <p:sp>
        <p:nvSpPr>
          <p:cNvPr id="1148" name=""/>
          <p:cNvSpPr txBox="1"/>
          <p:nvPr/>
        </p:nvSpPr>
        <p:spPr>
          <a:xfrm>
            <a:off x="1305000" y="762120"/>
            <a:ext cx="7381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感谢您对我们工作的大力支持！</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
        <p:nvSpPr>
          <p:cNvPr id="1149" name=""/>
          <p:cNvSpPr txBox="1"/>
          <p:nvPr/>
        </p:nvSpPr>
        <p:spPr>
          <a:xfrm>
            <a:off x="1295280" y="3046320"/>
            <a:ext cx="73152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隶书"/>
              </a:rPr>
              <a:t>一切都是为了我们的孩子！</a:t>
            </a:r>
            <a:endParaRPr b="1" lang="en-US" sz="2400" spc="1" strike="noStrike">
              <a:ln cap="sq"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
        <p:nvSpPr>
          <p:cNvPr id="1150" name=""/>
          <p:cNvSpPr txBox="1"/>
          <p:nvPr/>
        </p:nvSpPr>
        <p:spPr>
          <a:xfrm>
            <a:off x="2438280" y="4724280"/>
            <a:ext cx="45720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谢谢！</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set>
                                      <p:cBhvr>
                                        <p:cTn id="6" dur="1" fill="hold">
                                          <p:stCondLst>
                                            <p:cond delay="0"/>
                                          </p:stCondLst>
                                        </p:cTn>
                                        <p:tgtEl>
                                          <p:spTgt spid="1150"/>
                                        </p:tgtEl>
                                        <p:attrNameLst>
                                          <p:attrName>style.visibility</p:attrName>
                                        </p:attrNameLst>
                                      </p:cBhvr>
                                      <p:to>
                                        <p:strVal val="visible"/>
                                      </p:to>
                                    </p:set>
                                    <p:anim calcmode="lin" valueType="num">
                                      <p:cBhvr additive="base">
                                        <p:cTn id="7" dur="1000" fill="hold"/>
                                        <p:tgtEl>
                                          <p:spTgt spid="1150"/>
                                        </p:tgtEl>
                                        <p:attrNameLst>
                                          <p:attrName>ppt_w</p:attrName>
                                        </p:attrNameLst>
                                      </p:cBhvr>
                                      <p:tavLst>
                                        <p:tav tm="0">
                                          <p:val>
                                            <p:fltVal val="0"/>
                                          </p:val>
                                        </p:tav>
                                        <p:tav tm="100000">
                                          <p:val>
                                            <p:strVal val="#ppt_w"/>
                                          </p:val>
                                        </p:tav>
                                      </p:tavLst>
                                    </p:anim>
                                    <p:anim calcmode="lin" valueType="num">
                                      <p:cBhvr additive="base">
                                        <p:cTn id="8" dur="1000" fill="hold"/>
                                        <p:tgtEl>
                                          <p:spTgt spid="1150"/>
                                        </p:tgtEl>
                                        <p:attrNameLst>
                                          <p:attrName>ppt_h</p:attrName>
                                        </p:attrNameLst>
                                      </p:cBhvr>
                                      <p:tavLst>
                                        <p:tav tm="0">
                                          <p:val>
                                            <p:fltVal val="0"/>
                                          </p:val>
                                        </p:tav>
                                        <p:tav tm="100000">
                                          <p:val>
                                            <p:strVal val="#ppt_h"/>
                                          </p:val>
                                        </p:tav>
                                      </p:tavLst>
                                    </p:anim>
                                    <p:anim calcmode="lin" valueType="num">
                                      <p:cBhvr additive="base">
                                        <p:cTn id="9"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base">
                                        <p:cTn id="10"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371240" y="3045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    </a:t>
            </a:r>
            <a:r>
              <a:rPr b="1" lang="zh-CN" sz="4800" spc="-1" strike="noStrike">
                <a:solidFill>
                  <a:srgbClr val="ff3300"/>
                </a:solidFill>
                <a:latin typeface="Times New Roman"/>
              </a:rPr>
              <a:t>本班情况</a:t>
            </a:r>
            <a:endParaRPr b="0" lang="en-US" sz="4800" spc="-1" strike="noStrike">
              <a:solidFill>
                <a:srgbClr val="996600"/>
              </a:solidFill>
              <a:latin typeface="Times New Roman"/>
            </a:endParaRPr>
          </a:p>
        </p:txBody>
      </p:sp>
      <p:sp>
        <p:nvSpPr>
          <p:cNvPr id="1073" name=""/>
          <p:cNvSpPr/>
          <p:nvPr/>
        </p:nvSpPr>
        <p:spPr>
          <a:xfrm>
            <a:off x="2275920" y="152388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学风浓</a:t>
            </a:r>
            <a:endParaRPr b="0" lang="en-US" sz="3200" spc="-1" strike="noStrike">
              <a:solidFill>
                <a:srgbClr val="000000"/>
              </a:solidFill>
              <a:latin typeface="Times New Roman"/>
            </a:endParaRPr>
          </a:p>
        </p:txBody>
      </p:sp>
      <p:sp>
        <p:nvSpPr>
          <p:cNvPr id="1074" name=""/>
          <p:cNvSpPr/>
          <p:nvPr/>
        </p:nvSpPr>
        <p:spPr>
          <a:xfrm>
            <a:off x="1557360" y="2438280"/>
            <a:ext cx="426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历次考试成绩突出</a:t>
            </a:r>
            <a:endParaRPr b="0" lang="en-US" sz="3200" spc="-1" strike="noStrike">
              <a:solidFill>
                <a:srgbClr val="000000"/>
              </a:solidFill>
              <a:latin typeface="Times New Roman"/>
            </a:endParaRPr>
          </a:p>
        </p:txBody>
      </p:sp>
      <p:sp>
        <p:nvSpPr>
          <p:cNvPr id="1075" name=""/>
          <p:cNvSpPr/>
          <p:nvPr/>
        </p:nvSpPr>
        <p:spPr>
          <a:xfrm>
            <a:off x="1467000" y="3436920"/>
            <a:ext cx="52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学生个性突出</a:t>
            </a:r>
            <a:endParaRPr b="0" lang="en-US" sz="3200" spc="-1" strike="noStrike">
              <a:solidFill>
                <a:srgbClr val="000000"/>
              </a:solidFill>
              <a:latin typeface="Times New Roman"/>
            </a:endParaRPr>
          </a:p>
        </p:txBody>
      </p:sp>
      <p:sp>
        <p:nvSpPr>
          <p:cNvPr id="1076" name=""/>
          <p:cNvSpPr/>
          <p:nvPr/>
        </p:nvSpPr>
        <p:spPr>
          <a:xfrm>
            <a:off x="1647720" y="4149720"/>
            <a:ext cx="56988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楷体_GB2312"/>
              </a:rPr>
              <a:t>三好学生</a:t>
            </a:r>
            <a:endParaRPr b="0" lang="en-US" sz="5400" spc="-1" strike="noStrike">
              <a:solidFill>
                <a:srgbClr val="996600"/>
              </a:solidFill>
              <a:latin typeface="Times New Roman"/>
            </a:endParaRPr>
          </a:p>
        </p:txBody>
      </p:sp>
      <p:sp>
        <p:nvSpPr>
          <p:cNvPr id="1078"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陈乃瑶    王洪磊      张    倩       柳    潇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樊晓飞     韩婷婷     訾晓晶       李昕彤</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薛    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楷体_GB2312"/>
              </a:rPr>
              <a:t>自律学生</a:t>
            </a:r>
            <a:endParaRPr b="0" lang="en-US" sz="4400" spc="-1" strike="noStrike">
              <a:solidFill>
                <a:srgbClr val="996600"/>
              </a:solidFill>
              <a:latin typeface="Times New Roman"/>
            </a:endParaRPr>
          </a:p>
        </p:txBody>
      </p:sp>
      <p:sp>
        <p:nvSpPr>
          <p:cNvPr id="108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刘   燕     刘丽华      朱良帅</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韩   杰     桑美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优秀班干部</a:t>
            </a:r>
            <a:endParaRPr b="0" lang="en-US" sz="4400" spc="-1" strike="noStrike">
              <a:solidFill>
                <a:srgbClr val="996600"/>
              </a:solidFill>
              <a:latin typeface="Times New Roman"/>
            </a:endParaRPr>
          </a:p>
        </p:txBody>
      </p:sp>
      <p:sp>
        <p:nvSpPr>
          <p:cNvPr id="1082"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李文杰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王亚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优秀团员</a:t>
            </a:r>
            <a:endParaRPr b="0" lang="en-US" sz="4400" spc="-1" strike="noStrike">
              <a:solidFill>
                <a:srgbClr val="996600"/>
              </a:solidFill>
              <a:latin typeface="Times New Roman"/>
            </a:endParaRPr>
          </a:p>
        </p:txBody>
      </p:sp>
      <p:sp>
        <p:nvSpPr>
          <p:cNvPr id="1084"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颜廷仁    李宗坤   王   珂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苏晓光    孙国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zhg</cp:lastModifiedBy>
  <cp:lastPrinted>1899-12-30T00:00:00Z</cp:lastPrinted>
  <dcterms:modified xsi:type="dcterms:W3CDTF">2005-04-19T02:45:01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