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DD5-E9CB-4943-8309-866C72C2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9B2-4C62-45B4-B075-9F178515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F9C56-C229-4B5A-A578-FB1506E8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9CFDF-C48F-4819-A298-D9B73FE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BC5C-A024-4242-A7E5-B1F0AA4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1ADDC-068A-4FCE-9F9F-534FE84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5C9E-4076-4C99-9EF3-C635ED8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B4677-0D96-46E2-8F03-5D3D2F2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BA6E7-0083-4A97-AF44-4F877FD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77E5-46E7-440C-BEE9-C4F2B334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668A-40B3-4220-870F-7F187300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180A-004C-4F04-B091-F9E76F88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BE2-428E-49FE-A40E-39392EA4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2C94E-88B1-4B6B-914B-677F7CC7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32EE5-134E-4CC8-B4F0-0AEEA8D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520DC-F1FA-43AA-A254-3DC0DA8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2F471-BA6C-41C8-B232-3873278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56D2F-ABF6-4FA4-AE58-5349250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EA5A0-F873-4EF6-851E-5CD1DBF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025B8-C3F8-4304-8101-41D37BD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BFF23-6D64-4B48-A2C8-2E41165B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D84F7-1EC6-4C9B-8ACA-8A7E37F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7D78E-89BC-421F-9683-DCF0FAE1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DE2-8D80-47CB-9C40-A936AC49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5549E-D18C-48C8-9577-CD96C5A7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A155-4992-4B65-B2AE-CA3156FC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3184-9A50-4A9A-9387-ACA7F50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F22D-A2FA-4BA7-B561-927FDBD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90429-5A32-4138-8F3B-738DB04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3F50C-95A7-46E5-B764-8313E17E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2133D-88D7-4968-96C8-A35755B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10290-71C4-470D-B95D-6418188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12BF6-197D-4300-A181-D80B3B9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FED1-8F31-4ED5-9477-252954F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AD7-22C7-4BE9-A56C-96AD207A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14AE7-F0FF-41A6-B800-83AD8D83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91158-F445-4A4E-8B24-E2E55587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11BB-56ED-445A-A622-9595307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625F3-7BA7-4D15-902B-A1F1A4DE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B9858-8863-4F6E-A896-D820E86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219F8-8C15-4B98-B086-10B26C9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2149C-61F5-4261-AEA6-7410707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13EC-925F-4A3F-B02A-D3A54C6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44F3C-3C16-42D9-975E-D6C592B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3CF16-0B54-4CDB-A0A0-0FDD536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0ACC-3D4A-425E-A951-AE116D2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63009-F10B-43D8-82FB-4F740B7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88709-B18C-4B65-BA28-BC46A7B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F1E27-2BC8-498B-B702-6C7D140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BE21-AE71-4955-8E2E-5F342FA1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32051-9A0F-40D9-AFB1-29A064D5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B3D9-CA5C-459F-95DE-2F36E7AE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3CD2-E8BE-4677-B42C-EC8EF795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BE9A-65A4-43F2-BECC-81F49F37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895-05EC-445A-9E69-C4A33A7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53A1-FE36-40BE-8D7D-88D97AD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BBF-8EDA-46DD-8BD3-2503E39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684-D527-4396-B024-7CC66D1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6186-DF2A-434F-82A8-EAD7A57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A1F1-93A1-4DD4-9038-F7EF72F4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8A61-E038-46B3-981A-3173B8D4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E66-7944-43A2-B708-F6F3D6DB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890A-A77B-4E1D-BB4C-17F9C7CF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027E-331D-422F-AC50-05694BBD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813D-3488-407E-AABC-12E2E7A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67CC-088B-4CB5-B25E-4249A56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44D6-0118-40C1-ACD8-F1290D7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66E-800D-4D87-8713-0B961A4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BEA7-ACF0-4B8F-9D4B-508019D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3D3D-9D8F-4717-A88F-A44482E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E97D-9B0C-4001-BC44-399C77D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74D0-F3E4-4A4A-AD37-40FD168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0287-3388-4356-87A6-93A3C16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C208-3680-4474-8C98-A6340199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F0DA-3FBB-4166-80CD-7DB62C69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8280-A95B-4D1F-BC0F-DDBABF35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866F-4224-406D-975D-283A09E7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C7AA-EC91-4778-8241-4E6EC797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41A-9B03-4463-B0BD-C361899A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B3E1-F932-48B1-A574-C1A96A40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305B-C8CF-4798-8567-BBC5292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7467-7CDF-4861-95CA-1A1A959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6899-DCCE-40A9-8FF9-05D4E61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B402-0135-46B9-BC8A-C3F286B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C8D5-D91B-4849-B9B9-101FF325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3EF4-11AA-4A10-98C9-F797AD1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F5B7-3404-4F29-B052-3EA37175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33DE-DF8B-4A91-8A03-BA32312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9CFFC-985F-48C0-B375-450CBFED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143-2541-47AC-9868-2AC13AA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CA9A-390A-485D-B943-82B944C1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3126-9148-4019-92B0-0688118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C90C-4F4E-40DC-862E-F4837A09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B222-8FE2-4CB9-8074-D4988CF4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0584-3CF3-45DD-8170-0566AC61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4597-D784-49E6-A3DD-8ADE8A1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C5C2-0BFB-46D8-9368-14DB4BD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30C7-F9D9-4567-8FCF-2B4111A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8E4C6-942D-42EE-915D-0151F6B6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D238-9CD3-4ACA-BD1C-0FC6B008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F63-2452-4D9F-B9CA-3064CD6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A1EF-EA92-4719-82FF-6E0A79E3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DA9C-A526-4B53-BC33-EE20A4EB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357B-7B8D-4DDD-9A81-0645DA76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84D75-4F94-449A-A8D0-3128B50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7156-1F67-4FAC-917A-00293F8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3D6A-160D-4AB0-8D9B-16FFC4EF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765C-60C2-43CD-B6FD-A5F59646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E185-4E82-4DA9-85D5-587D592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259B-48D5-4FF5-A82F-DEDA4F3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9D6C-D71F-4C98-8339-4AAF211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D35-916D-46D8-A808-874C7E0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D7E7-847D-4602-801D-03148901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662B-213B-48A9-A42C-9C3B2A5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A175-34EC-425B-9A2A-D69E9E84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FDF7-BB38-4F9E-BD48-6938088F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7E57-A3AA-4F86-B52F-D8CF6F6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BEAA-4BA9-4B31-B506-0F806595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773E-05C8-4322-9432-7400C24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7AC2-7C5A-456E-A564-046B3DD2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6310-8401-47C7-995B-48F452B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03CAA-1684-4CA8-86AB-D13A4DF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75F-7E6D-43F8-91A6-AAB48056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EFCDE-2534-4127-B7B4-2CE50EF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8F27-3A97-4CAF-8427-687661F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1922-175F-4D50-AC68-E5BD8FF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A422-E2B0-4FAB-A0CA-CF0A6B43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6E6E-B85E-464B-9B45-474E8348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B6F4-7F03-442A-A3D7-02E2E30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F0325-4F0E-4EFC-9757-98F7051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C7BB-CDC9-4A22-A1A7-E0E6DE57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ED83-8D4B-4772-B992-D4FD334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331B-FD84-4D1C-8A46-162EECC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AEB-9D52-4ADD-B55F-14A144B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4AED-78A6-4BA1-BAB4-379175BC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AF32-858B-4BE6-8EEB-503058BE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6DA46-B4E3-43DA-9756-AA10E6CB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6E19-D01F-4E9D-A68F-EFEEC44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DB169-F0EA-4D58-940D-B5006C0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7BCB5-F210-458D-AB35-E5180522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71620-87C3-4741-AC54-A1120D7E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BB7B0-F8C9-40D2-B8DC-5054C311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4B763-AB5B-4F4F-AB3E-114340B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8CC4-55B9-490D-83E0-92293E9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98C-9E0F-42E4-8F8C-7F608873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9CC-BCF5-4ADD-B22C-7C297B68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7D05-6A2D-4000-BD95-153D92C10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0DB-FC1F-46ED-88B3-428B0C701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7AD-9131-43ED-8182-BD06B1049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00A8-6AC3-4E03-94FB-5D90B08EA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A038-BAE3-4D07-B8A1-E9D5BFB0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B106-1A27-4B16-A5B3-98B3DAAE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05A1-EB90-488A-ACEC-ABB1B3B8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AF65-F08B-4CAE-B33F-297F19D3F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0BD8-C5DB-4CAA-97A2-E8EF54EE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B05-8B87-4971-8CE5-AB095BF79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6"/>
          <p:cNvSpPr/>
          <p:nvPr/>
        </p:nvSpPr>
        <p:spPr>
          <a:xfrm>
            <a:off x="152280" y="1508040"/>
            <a:ext cx="9601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习惯   决定    性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性格     决定     命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课时“身在曹营心在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专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去问老师问题或到校医室看病时顺便到外面散散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看到别人讲话，总忍不住要凑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自制力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不少同学喜欢转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在班级吃东西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扔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课有少数同学瞌睡、喝水、讲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值日不认真，不及时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时生怕自己多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少数同学时间抓得不紧，没有课前准备，以上课铃声响来看自己是否该学习了，甚至老师到了还在打闹，有少数同学经常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迟到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228600" y="55627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评：（没有长远的目光，对自己的人生没有计划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84920" y="4952880"/>
            <a:ext cx="350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点评：习惯差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1921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现象都是很平常细小的事情，每天都发生在我们身边或身上。为什么会出现这些现象，我们从自己身上找找原因，就像病人生病了总得先找出症状才能对症下药，否则他吃再多的药，他也不一定能治好病；一个学生如果不知道造成成绩差的真正原因是什么，即使他再怎样用功，他也不一定能提高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1482840" y="4572000"/>
            <a:ext cx="62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这样的小事或许还有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子一天天地过，事情一件件地做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觉地就变成了你的一种习惯。坏习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力量是可怕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改变自己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坏习惯会让自己自食恶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89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年轻人向理发师学理发，师父要徒弟先拿冬瓜进行练习，用剃刀把冬瓜上的一层薄薄的毛剃干净但不能损坏冬瓜皮。徒弟每次都很细心地把这层毛剃得干干净净而且冬瓜皮完好无损。但是，他每次剃完之后都会顺手把剃刀插在冬瓜上。师父要徒弟改掉这个坏习惯，但徒弟总是说：“没事的，我以后为顾客理发时绝对不会这样做。”结果，当徒弟为第一个顾客理完发时，顺手就把剃刀往顾客头上一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547560" y="59983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一定要趁早改变坏习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7315200" y="5486400"/>
            <a:ext cx="1600200" cy="1219320"/>
          </a:xfrm>
          <a:prstGeom prst="cloudCallout">
            <a:avLst>
              <a:gd name="adj1" fmla="val -498810"/>
              <a:gd name="adj2" fmla="val -11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24000" y="152568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让事情改变，先改变自己；要让事情变得更好，先让自己变得更好。如果你的成绩提不高，你不去改变学习方法和学习态度，即使换了班级换了老师也没用。只要你一改变，生活也会随之变动。美国成功哲学家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洛恩说过这么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成功不是追求得来的，而是被改变后的自己主动吸引而来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274320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改变习惯是需要一个过程的，所以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习惯是可以改变的。只要不断地重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457200" y="1600200"/>
            <a:ext cx="754380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大家用右手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我自信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出色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努力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成功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.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用左手写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609480" y="3886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这说明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绍习惯形成的三个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心理学研究表明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上的重复会形成习惯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的重复会形成稳定的习惯。即同一个动作，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就会变成习惯性的动作；同样道理，任何一个想法，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或者重复验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就会变成习惯性想法。所以，一个观念如果被别人或者自己验证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以上，它一定已经变成了你的信念。习惯的形成大致分三个阶段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“刻意，不自然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需要十分刻意提醒自己改变，而你也会觉得有些不自然，不舒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不要放弃第一阶段的努力，继续重复，跨入第二阶段。此阶段的特征是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刻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你已经觉得比较自然，比较舒服了，但是一不留意，你还会回复到从前。因此，你还需要刻意提醒自己改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不经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其实这就是习惯。这一阶段被称为“习惯性的稳定期”。一旦跨入此阶段，一个人已经完成了自我改造，这项习惯就已经成为他生命中的一个有机组成部分，它会自然而然地不停地为人们“效劳”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218240"/>
            <a:ext cx="8353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正视自己，改变自己，走向成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了习惯形成的三个阶段之后，同学们商量看看有什么好办法来改变自己的坏习惯，形成好习惯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名言名句贴在桌上警惕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请老师同学督促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每天定下一个目标，时刻检查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认真学是一天，不认真学也是一天，何不认认真真学习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04920" y="3657600"/>
            <a:ext cx="96012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但是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应该立长志    而不应常立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等待机会，而要创造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不是将来才有的，而是从决定去做的那一刻起，持续累积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动是治愈恐惧的良药，而犹豫、拖延将不断滋养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将事前的忧虑，换为事前的思考和计划吧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长的路，一步步也能走完，再短的路，不迈开双脚也无法到达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业绩的质变都来自于量变的积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对的事情比把事情做对重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一种不通过蔑视、忍受和奋斗就可以征服的命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天生的信心，只有不断培养的信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一条路不能选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就是放弃的路；只有一条路不能拒绝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就是成长的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能从别人的观念来看事情，能了解别人心灵活动的人永远不必为自己的前途担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人最大的破产是绝望，最大的资产是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句古话：江山易改，本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。这句话的涵义有两层：人的本性是很难改变的；人的本性虽然很难改变，但并非改变不了。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无论是什么做法，贵在坚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坚持你就可以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03400" y="357120"/>
            <a:ext cx="651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总        结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作家罗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罗兰有句名言：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性格即命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假如我们的本性中有一些阻碍成功的因素，我们如果不改变，岂不是注定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败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其实，每天克服自己一点点毛病，每天坚持进步一点点，我们就会离成功越来越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讨     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2408400"/>
            <a:ext cx="96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晨读前时间怎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午时间怎样安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休后躺在床上睡不着的时间咋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95280" y="619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问苏格拉底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什么最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447920" y="2743200"/>
            <a:ext cx="72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问同学们一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自己吗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18200" y="170028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格拉底答道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你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首先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优  点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24000" y="21614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尺有所短，寸有所长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每个人都有自己的优势和长处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天生我才必有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学会欣赏自己，学会暗示自己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可以，我能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不是因为有些事情难以做到，我们才失去自信；而是因为我们失去了自信，有些事情才显得难以做到。拥有自信我们就能逐步摆脱“事事不如人”阴影的困扰，就会感到生活有盼头，从而保持奋发向上的劲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692360" y="1242360"/>
            <a:ext cx="59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要想了解自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最好问问别人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信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孤芳自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也不是夜郎自大，更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得意忘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毫无根据的自以为是。我们要客观地看到在我们身上还存在这样或那样的问题，而这些正是我们通往成功之路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绊脚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0" y="472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有勇气来正视这些绊脚石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6781680" y="3124080"/>
            <a:ext cx="190512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再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缺  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业不会做，把别人的作业或参考书上的答案不加思索地搬到作业本上以便交差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掩耳盗铃的做法，自欺欺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，我不会做，但我不想欺骗你，所以我不交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诚实的学生，遇到问题为什么不想办法解决，而让自己的包袱越来越沉重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种都属于遇到问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逃避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缺乏知难而进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习课以讨论问题开始，闲聊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点评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制能力差，受不了诱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5-10-22T05:34:58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