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8DC-6204-417A-BF48-A5EF268D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040-3DFF-4E05-9360-FC2DC173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222-B727-4F48-8EEC-FDCBDCCD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DE2-8B14-4EF5-9EFA-71BEB5A6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A9F2-067C-4059-A916-909E7F3C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D824-57C3-49C3-9082-59D75EF9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C942-0460-4632-8D31-8C419CF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A384-90F3-4EDB-895F-7E48D606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8DCF-B556-49FF-ACF1-41E9AF48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B27-A2EB-45F3-9613-DA1668E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1ADB-B544-46ED-83A5-2FF50B27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B18-E406-47C0-B16E-5EFC4D40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C483-975B-4A91-926B-A7594568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DB34-B2FB-4794-8F19-D49BD9F8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D207-1559-4B6C-A6D7-F9A8B10E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A1A6-155D-40E0-9E7D-D8D414B9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8951-8188-4835-8FCD-72B994F7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5B2-B98A-4B45-B368-5D99EF14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FAB-69CF-4792-B1F3-90679108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EA0-B517-42A0-9E42-4CF1AD83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175-3F9A-4D9F-9D9E-7728C5F8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565-0FEC-405F-9AE8-C3D406D4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128-E50F-4263-B3A6-AAF9050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9BF-D3C6-41A5-A511-FBADF43A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862A-5D9F-4FFA-852A-115452DB2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3934-32A9-45D6-9BC6-EA1BB436187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2000" y="141264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告别陋习、走向文明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》   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主题班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你们知道吗？国家发出以礼仪、礼貌、礼节为重点的 “三礼”教育和学生行为习惯的培养，树立中学生“十个文明形象”。那这十个文明形象是什么呢？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5406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升降国旗，奏唱国歌时肃立行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与人相处，语言文明，友善宽容，明礼诚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公共场合，轻声交谈，举止文雅，着装得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孝敬父母，尊敬师长，乐于助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乘车购物，不拥不挤，座位让给有困难的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08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行车走路，遵守交通规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保护环境，垃圾废物不乱扔，绿地草坪不践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⑧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爱护公用设施，节约公用资源，遵守公共秩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社会交往热情、友好、大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情趣健康，远离不利于身心健康的场所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0" lang="zh-CN" sz="9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481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54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文明就文明在言行上。文明言行主要是三管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管好你的嘴，不要骂人，不讲脏话，不起绰号，不乱吐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管好你的脚，不要乱走、乱踢、乱蹋、乱踩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管好的你的手，不要乱扔乱丢，不要随便伸手拿别人的东西，不要打人，不要损坏公共财物，不要乱采乱摘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408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406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古人云：“勿以善小而不为，勿以恶小而为之。”文明行为，贵在实践。文明就餐、文明用语、文明交往、文明聚会、文明上网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看上去都是日常学习、生活的小事，但真正做起来并不容易。我们每位同学都要少说漂亮话，多做实事，积极参加各种修身养性的活动，做到举止得体、言行文明、品德高尚、尊敬师长、尊重他人，以自己的实际行为，告别各种不良行为，坚持不懈地提升自身的道德素质，做一个文明的中学生。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5533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做文明中学生要从我做起，从身边的小事做起。如果我们每个人都做文明人，我们的学校就会成为名符其实的文明学校，我们不仅要做文明人，还要做有教养的人，做别人称道的人，做受人尊敬的人，还要敢于同不文明人做斗争，帮助不文明人改正不文明行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作业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29714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写一篇反思自身文明礼仪的周记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5406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华夏大地，礼仪之邦，几千年源远流长的文明礼仪，是我们的骄傲和财富。时至今日，我们在衡量一个人的气质，德行的时候，仍以那些细节作为考核的重要参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但是我们身边还存在许多不文明的行为。有哪些是不文明的行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请小组讨论并列举这些不文明的行为，然后小组竞答，并记录积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u=3703223577,1435522885&amp;gp=20"/>
          <p:cNvPicPr/>
          <p:nvPr/>
        </p:nvPicPr>
        <p:blipFill>
          <a:blip r:embed="rId1"/>
          <a:stretch/>
        </p:blipFill>
        <p:spPr>
          <a:xfrm>
            <a:off x="5435640" y="692280"/>
            <a:ext cx="2735280" cy="165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u=3759467382,878604369&amp;gp=-34"/>
          <p:cNvPicPr/>
          <p:nvPr/>
        </p:nvPicPr>
        <p:blipFill>
          <a:blip r:embed="rId2"/>
          <a:stretch/>
        </p:blipFill>
        <p:spPr>
          <a:xfrm>
            <a:off x="5580000" y="2781360"/>
            <a:ext cx="2592360" cy="1646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u=4217347003,2473731112&amp;gp=-34"/>
          <p:cNvPicPr/>
          <p:nvPr/>
        </p:nvPicPr>
        <p:blipFill>
          <a:blip r:embed="rId3"/>
          <a:stretch/>
        </p:blipFill>
        <p:spPr>
          <a:xfrm>
            <a:off x="5508720" y="4724280"/>
            <a:ext cx="2808360" cy="1568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图片4"/>
          <p:cNvPicPr/>
          <p:nvPr/>
        </p:nvPicPr>
        <p:blipFill>
          <a:blip r:embed="rId4"/>
          <a:srcRect l="0" t="0" r="0" b="16897"/>
          <a:stretch/>
        </p:blipFill>
        <p:spPr>
          <a:xfrm>
            <a:off x="755640" y="162864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65320"/>
            <a:ext cx="765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看来我们的同学都能意识到生活中存在的不良行为，这些行为若不及时改正，将会给我们的生活，学习及以后的就业造成严重的后果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讲文明讲礼仪，不仅是要遵守各项规章制度，言行举止得体，还应该会为别人着想，学会换位思考，为他人提供方便，给遇到困难的人伸出援助之手。接下来让我们一起玩一个游戏，体会一下残疾人的生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5406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一人用布蒙住眼睛，扮演盲人，另一人扮演哑巴，“哑巴”作为拐杖扶“盲人”在教室内按指定路线行走，两人均不准出声，班上其他同学将不动声色地在他们行进的过程中设置障碍，“哑巴”用身体语言引导“盲人”通过障碍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406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文明人”自测：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你是一个文明的人吗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540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你平时说脏话吗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说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很少说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说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升国旗时，你能敬礼肃穆，行注目礼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能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时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进老师的办公室，你先敲门、喊报告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是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时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你在家经常做一些力所能及的小事，比如洗碗，叠被    子？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是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时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瞻仰烈士陵园时，你能保持肃穆吗？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能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一会儿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54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离开宿舍时，你会关好门窗，熄灯再走人吗？　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会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时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在公共场所购物购票时，你能按顺序排队吗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能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时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你能按时独立完成作业，不抄袭别人作业吗？　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能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时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在学校或在街上遇见外国人，你会好奇地盯着他们看，对他们指手画脚吗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会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　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如有同学生病了，你会主动帮助他到医务室看病吗？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会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时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3736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说明：选择“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”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，选择“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”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，选择“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”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。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数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4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：你是个讲文明，懂礼貌的人。举止言谈文明，与老师、父母、同学相处融洽，人际关系好，是个受欢迎的人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数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：一般情况下，你是个文明的人，但有时可能没有认真对待一些事情，特别是一些小事，人际关系一般，是个比较受欢迎的人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数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4—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分：许多情况下，你是个不文明的人，人际关系一定很差，是个不受欢迎的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4446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PMingLiU"/>
              </a:rPr>
              <a:t>同学们，你们都是文明人吗？自测完后，你发觉了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PMingLiU"/>
              </a:rPr>
              <a:t>反思：自己存在哪些不良的行为习惯？会给自己和他人带来什么不良的后果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PMingLiU"/>
              </a:rPr>
              <a:t>小组讨论：成为一名文明学生，我们应该怎么做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PMingLiU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02:42:50Z</dcterms:created>
  <dc:creator>Administrators</dc:creator>
  <dc:description/>
  <dc:language>en-US</dc:language>
  <cp:lastModifiedBy>Administrator</cp:lastModifiedBy>
  <dcterms:modified xsi:type="dcterms:W3CDTF">2015-09-28T00:40:05Z</dcterms:modified>
  <cp:revision>4</cp:revision>
  <dc:subject/>
  <dc:title>《告别陋习、走向文明》    主题班会</dc:title>
</cp:coreProperties>
</file>