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9565-ECCC-484C-9EB3-1FE0317F7E3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战略是公司战略的起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人不能对自己负责，那对公司不可能负责的，没有个人的成长就不可能有公司的成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司的责任就是在不违背人性的原则下，将公司的成长与个人的成长成正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司战略就是让个人聚焦与专注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在业务上就可以获得突破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过来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司可以根据明确的战略要求选拔与淘汰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当然是企业界少有的强人了。连续创建企业那么多年了，但我还属于年富力强，我远远没有退休的年龄，我还没有到倪润峰、柳传志的年龄。我还没到应该交班的时候，但是我交班，问题就在这里。如果强人政治，强人管理，这个它只能是你这一代。一旦强人因为某种原因，政治原因、经济原因，或者是生理、生命上的原因，你总是要退休的。之后，这个企业它就可能会出现一个问题。比如你如何培养年轻人，你明明知道他们有缺点，你明明知道他们经验不够，但是你放手让他们去做。因为你知道你不仅仅要看到现在，要看到将来。万科成功不成功不在我王石在的时候，而在我王石不在的时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人战略背后的逻辑和企业战略背后的逻辑是一样的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战略是对客观规律的认识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这个意义上，个人战略是对个人发展规率的一次再认识，再发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你未来想成为什么样的人，取决于你对现在的选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实际上个人战略是企业战略的起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BEB-D75E-4198-8566-82433581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51280" y="278136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51280" y="4149720"/>
            <a:ext cx="511344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1280" y="4563720"/>
            <a:ext cx="511344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F42-15A3-42BC-92A8-8F702AC2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51280" y="278136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51280" y="4149720"/>
            <a:ext cx="2495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471720" y="4149720"/>
            <a:ext cx="2495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51280" y="4563720"/>
            <a:ext cx="2495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1720" y="4563720"/>
            <a:ext cx="2495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0DB-794F-4022-8D9C-FB5BD6C2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51280" y="278136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51280" y="4149720"/>
            <a:ext cx="1646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80360" y="4149720"/>
            <a:ext cx="1646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309080" y="4149720"/>
            <a:ext cx="1646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51280" y="4563720"/>
            <a:ext cx="1646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5580360" y="4563720"/>
            <a:ext cx="1646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309080" y="4563720"/>
            <a:ext cx="1646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8DC0-41DD-4E5B-89E6-66C3F0FD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BFE0-0580-42B0-A30D-CFE7426D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51280" y="278136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51280" y="4149720"/>
            <a:ext cx="51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C405-E578-4F48-BC96-A83048FE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51280" y="278136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51280" y="4149720"/>
            <a:ext cx="5113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1BC8-04FA-4312-81A0-6E7E8675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51280" y="278136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1280" y="4149720"/>
            <a:ext cx="24951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471720" y="4149720"/>
            <a:ext cx="24951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4EB5-EC3A-48CA-973A-D985715F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51280" y="278136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241F-44C7-4CA3-AC62-AD633332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51280" y="2781360"/>
            <a:ext cx="511344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9E6A-64DD-40B5-8DD9-D31935EE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51280" y="278136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51280" y="4149720"/>
            <a:ext cx="2495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471720" y="4149720"/>
            <a:ext cx="24951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51280" y="4563720"/>
            <a:ext cx="2495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4EC8-3A02-48C3-8688-376FDCF6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51280" y="278136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51280" y="4149720"/>
            <a:ext cx="51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5E7-E462-41A1-B47F-8CA9C266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51280" y="278136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51280" y="4149720"/>
            <a:ext cx="24951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471720" y="4149720"/>
            <a:ext cx="2495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71720" y="4563720"/>
            <a:ext cx="2495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1A67-D4F3-49E3-A197-EE930A52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51280" y="278136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51280" y="4149720"/>
            <a:ext cx="2495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471720" y="4149720"/>
            <a:ext cx="2495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51280" y="4563720"/>
            <a:ext cx="511344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6C1D-1C95-4B56-B9DC-41B0B5F3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51280" y="278136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51280" y="4149720"/>
            <a:ext cx="511344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51280" y="4563720"/>
            <a:ext cx="511344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399F-F23C-4B4C-BD66-BC568F8B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51280" y="278136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51280" y="4149720"/>
            <a:ext cx="2495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471720" y="4149720"/>
            <a:ext cx="2495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51280" y="4563720"/>
            <a:ext cx="2495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471720" y="4563720"/>
            <a:ext cx="2495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BBE1-EA07-4178-953D-86DC6FEF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51280" y="278136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51280" y="4149720"/>
            <a:ext cx="1646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580360" y="4149720"/>
            <a:ext cx="1646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309080" y="4149720"/>
            <a:ext cx="1646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51280" y="4563720"/>
            <a:ext cx="1646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5580360" y="4563720"/>
            <a:ext cx="1646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7309080" y="4563720"/>
            <a:ext cx="1646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D0CA-84BC-483C-A906-4242BA71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51280" y="278136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51280" y="4149720"/>
            <a:ext cx="51134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9E2F-64F9-4886-BCFF-E30D549D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51280" y="278136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51280" y="4149720"/>
            <a:ext cx="24951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1720" y="4149720"/>
            <a:ext cx="24951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4E4-C53A-40F0-BB75-F88D37F7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51280" y="278136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648E-AE3A-42D1-8AEB-04DEF344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51280" y="2781360"/>
            <a:ext cx="511344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3CA-2C59-42F3-AA95-8D43B797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51280" y="278136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51280" y="4149720"/>
            <a:ext cx="2495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471720" y="4149720"/>
            <a:ext cx="24951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51280" y="4563720"/>
            <a:ext cx="2495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DBDD-7C8F-484B-B9AF-739D4263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51280" y="278136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51280" y="4149720"/>
            <a:ext cx="24951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471720" y="4149720"/>
            <a:ext cx="2495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1720" y="4563720"/>
            <a:ext cx="2495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E0C-A7D8-448F-B688-F4F7901B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51280" y="278136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51280" y="4149720"/>
            <a:ext cx="2495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71720" y="4149720"/>
            <a:ext cx="2495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51280" y="4563720"/>
            <a:ext cx="511344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C02-3469-4BA1-84EB-20A5A303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362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楷体_GB2312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楷体_GB2312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楷体_GB2312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35280" y="6589440"/>
            <a:ext cx="1692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40000" y="6453360"/>
            <a:ext cx="20322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81920" y="6453000"/>
            <a:ext cx="1162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5097-34CB-48C4-A8CE-D7593F2DF0D3}" type="slidenum"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83320"/>
            <a:ext cx="64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00"/>
                </a:solidFill>
                <a:latin typeface="Arial"/>
                <a:ea typeface="楷体_GB2312"/>
              </a:rPr>
              <a:t>机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190760" y="6583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99"/>
                </a:solidFill>
                <a:latin typeface="Arial"/>
                <a:ea typeface="楷体_GB2312"/>
              </a:rPr>
              <a:t>锡恩顾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164360" y="476280"/>
            <a:ext cx="1368360" cy="3603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95280" y="1125360"/>
            <a:ext cx="8352000" cy="0"/>
          </a:xfrm>
          <a:prstGeom prst="line">
            <a:avLst/>
          </a:prstGeom>
          <a:ln w="284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51280" y="2781360"/>
            <a:ext cx="511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276720" y="4076280"/>
            <a:ext cx="5251320" cy="180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4360" y="6524280"/>
            <a:ext cx="1692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5940000" y="6453360"/>
            <a:ext cx="20322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981920" y="6453000"/>
            <a:ext cx="1162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14CF-8D43-4AA8-8B73-CDE6AB21BF37}" type="slidenum"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0" y="1174680"/>
            <a:ext cx="43675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5240" y="620640"/>
            <a:ext cx="43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北京锡恩企业管理顾问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51280" y="6464160"/>
            <a:ext cx="1225440" cy="330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95640" y="2708280"/>
            <a:ext cx="129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楷体_GB2312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楷体_GB2312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楷体_GB2312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楷体_GB2312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楷体_GB2312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楷体_GB2312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楷体_GB2312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楷体_GB2312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楷体_GB2312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楷体_GB2312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楷体_GB2312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楷体_GB2312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楷体_GB2312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楷体_GB2312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0360" y="2924280"/>
            <a:ext cx="5688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何做个人战略规划</a:t>
            </a:r>
            <a:endParaRPr b="1" lang="en-US" sz="4800" spc="-1" strike="noStrike">
              <a:solidFill>
                <a:srgbClr val="000000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0920" y="2924280"/>
            <a:ext cx="8569080" cy="117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无数的人拥有伟大的梦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而只有专注于个人战略的人获得成功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362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做个人战略就是设计自己美好的未来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7848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人战略在本质上就是要回答自己是谁，你要去向何方，其背后就是要对自己负责！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首先要对自己负责，才能对企业负责！如果不能对自己负责，那对企业负责就是一种假象！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作个人战略就是做自己，完成一次战略思考！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ccff"/>
                </a:solidFill>
                <a:latin typeface="楷体_GB2312"/>
              </a:rPr>
              <a:t>一个有战略的人是可怕的，每天要检查自己为战略付出了多少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14920" y="1773360"/>
            <a:ext cx="525780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企业决策人战略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24360" y="234936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43280" y="2997360"/>
            <a:ext cx="540072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企业战略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43280" y="4076640"/>
            <a:ext cx="532944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企业部门战略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14920" y="5229360"/>
            <a:ext cx="525780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部门员工战略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72360" y="2349360"/>
            <a:ext cx="503280" cy="576360"/>
          </a:xfrm>
          <a:prstGeom prst="upArrow">
            <a:avLst>
              <a:gd name="adj1" fmla="val 50000"/>
              <a:gd name="adj2" fmla="val 286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24360" y="465444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24360" y="35020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272360" y="4653000"/>
            <a:ext cx="503280" cy="576360"/>
          </a:xfrm>
          <a:prstGeom prst="upArrow">
            <a:avLst>
              <a:gd name="adj1" fmla="val 50000"/>
              <a:gd name="adj2" fmla="val 286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72360" y="3502080"/>
            <a:ext cx="503280" cy="576360"/>
          </a:xfrm>
          <a:prstGeom prst="upArrow">
            <a:avLst>
              <a:gd name="adj1" fmla="val 50000"/>
              <a:gd name="adj2" fmla="val 286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6560" y="67788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人战略与企业战略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2781360"/>
            <a:ext cx="316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一个人没有战略，就像人生道路上不知道追求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一家公司的人没有战略，这家公司就没有战略可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0" y="1295280"/>
            <a:ext cx="3581280" cy="693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1295280"/>
            <a:ext cx="2362320" cy="693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1989000"/>
            <a:ext cx="3581280" cy="216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989000"/>
            <a:ext cx="2362320" cy="20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362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个人战略规划的内容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600200"/>
            <a:ext cx="22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人核心价值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2205000"/>
            <a:ext cx="17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五年远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997360"/>
            <a:ext cx="17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两年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645000"/>
            <a:ext cx="16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度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16002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人发展战略所要解决的根本矛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2349360"/>
            <a:ext cx="17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行动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3573360"/>
            <a:ext cx="25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需要的资源支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971800" y="2637000"/>
            <a:ext cx="1676520" cy="12189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28526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人战略的出发点：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必须感动自己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抓住根本（主要）矛盾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根本矛盾就是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：阻碍你成长的最主要因素是什么？有这个因素，没这个因素事情会截然不同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050840" y="234648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38760" y="0"/>
            <a:ext cx="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95280" y="1052640"/>
          <a:ext cx="8429760" cy="5364000"/>
        </p:xfrm>
        <a:graphic>
          <a:graphicData uri="http://schemas.openxmlformats.org/drawingml/2006/table">
            <a:tbl>
              <a:tblPr/>
              <a:tblGrid>
                <a:gridCol w="84297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个人核心价值观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五年远景（</a:t>
                      </a:r>
                      <a:r>
                        <a:rPr b="1" lang="zh-CN" sz="1800" spc="-1" strike="noStrike">
                          <a:solidFill>
                            <a:srgbClr val="3333cc"/>
                          </a:solidFill>
                          <a:latin typeface="楷体_GB2312"/>
                          <a:ea typeface="楷体_GB2312"/>
                        </a:rPr>
                        <a:t>确立成长目标：未来的你应该是谁？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两年目标（</a:t>
                      </a:r>
                      <a:r>
                        <a:rPr b="1" lang="zh-CN" sz="1800" spc="-1" strike="noStrike">
                          <a:solidFill>
                            <a:srgbClr val="3333cc"/>
                          </a:solidFill>
                          <a:latin typeface="楷体_GB2312"/>
                          <a:ea typeface="Times New Roman"/>
                        </a:rPr>
                        <a:t>你的中期目标是什么？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年度主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3492360" y="189000"/>
            <a:ext cx="4751640" cy="1584360"/>
          </a:xfrm>
          <a:prstGeom prst="wedgeRoundRectCallout">
            <a:avLst>
              <a:gd name="adj1" fmla="val -73018"/>
              <a:gd name="adj2" fmla="val 1583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一要能帮助自己实现目标，二要帮助你自己实现内心的安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对个人核心价值观要建立起宗教般的信仰，这是一种观念上的主动投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27640" y="2492280"/>
            <a:ext cx="4535280" cy="1873440"/>
          </a:xfrm>
          <a:prstGeom prst="wedgeRoundRectCallout">
            <a:avLst>
              <a:gd name="adj1" fmla="val -87171"/>
              <a:gd name="adj2" fmla="val -5347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构筑对未来的梦想，要模糊一些，要宏大，激进一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是不是你真正最想要的？能够让你快乐的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个人五年目标与公司五年战略目标是否符合？是不是能够跟上公司的发展要求？是否清晰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24000" y="3573360"/>
            <a:ext cx="2087640" cy="1295640"/>
          </a:xfrm>
          <a:prstGeom prst="wedgeRoundRectCallout">
            <a:avLst>
              <a:gd name="adj1" fmla="val -86884"/>
              <a:gd name="adj2" fmla="val -4926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是否可以支撑自己的五年目标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是否具体可衡量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76360" y="5229360"/>
            <a:ext cx="4103640" cy="969840"/>
          </a:xfrm>
          <a:prstGeom prst="wedgeRoundRectCallout">
            <a:avLst>
              <a:gd name="adj1" fmla="val -48995"/>
              <a:gd name="adj2" fmla="val -11464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一年就是一件事，贯穿始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是不是基于自己最大的优势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是不是公司目前的重点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304920" y="1154160"/>
          <a:ext cx="8534160" cy="5083200"/>
        </p:xfrm>
        <a:graphic>
          <a:graphicData uri="http://schemas.openxmlformats.org/drawingml/2006/table">
            <a:tbl>
              <a:tblPr/>
              <a:tblGrid>
                <a:gridCol w="8534160"/>
              </a:tblGrid>
              <a:tr h="86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人发展战略所要解决的根本矛盾（</a:t>
                      </a:r>
                      <a:r>
                        <a:rPr b="1" lang="zh-CN" sz="1800" spc="-1" strike="noStrike">
                          <a:solidFill>
                            <a:srgbClr val="3333cc"/>
                          </a:solidFill>
                          <a:latin typeface="楷体_GB2312"/>
                          <a:ea typeface="楷体_GB2312"/>
                        </a:rPr>
                        <a:t>是什么阻碍你的进一步成长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年度行动计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需要的资源支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4356000" y="1773360"/>
            <a:ext cx="4464000" cy="792000"/>
          </a:xfrm>
          <a:prstGeom prst="wedgeRoundRectCallout">
            <a:avLst>
              <a:gd name="adj1" fmla="val -64509"/>
              <a:gd name="adj2" fmla="val -6102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阻碍你成为一流高手的最主要因素是什么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是不是个人急需解决的最大问题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3467160"/>
            <a:ext cx="5399280" cy="1257120"/>
          </a:xfrm>
          <a:prstGeom prst="wedgeRoundRectCallout">
            <a:avLst>
              <a:gd name="adj1" fmla="val -70199"/>
              <a:gd name="adj2" fmla="val -6515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必须有时间概念，把一年分成几个阶段，每个阶段有一个结果，每个阶段都有相应的里程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是不是能支撑自己的目标的实现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是不是可以执行、可检查和可衡量？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63480" y="2420640"/>
            <a:ext cx="55292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咨询事业本部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人新年梦想规划</a:t>
            </a:r>
            <a:endParaRPr b="1" lang="en-US" sz="4400" spc="-1" strike="noStrike">
              <a:solidFill>
                <a:srgbClr val="000000"/>
              </a:solidFill>
              <a:latin typeface="华文新魏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851280" y="4149720"/>
            <a:ext cx="511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362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我有一个梦想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09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我有一个梦想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有一天，锡恩公司名字一提起就引来目光的尊重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有一天，锡恩员工象万科一样成为职业化的象征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有一天，每个高级顾问的名字就是这个行业最高水平的代表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有一天，中国所有的优秀公司都来自于我们万万工程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有一天，我可以悄然退下，而站起的是无数新姜汝祥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我希望你们象我一样努力，因为为这个目标我已经奋斗了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我希望你们象我一样勤奋，因为我今天所仅有的一点成绩完全来自勤奋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我希望你们超过我，因为如果我再活一次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我还能比今天更努力，更勤奋！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楷体_GB2312"/>
              </a:rPr>
              <a:t>这就是我送给全公司的新年主题词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楷体_GB2312"/>
              </a:rPr>
              <a:t>: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楷体_GB2312"/>
              </a:rPr>
              <a:t>成就我们共同的梦想，分享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楷体_GB2312"/>
              </a:rPr>
              <a:t>/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楷体_GB2312"/>
              </a:rPr>
              <a:t>共享我们彼此的成就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姜汝祥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2004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年梦想计划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50840" y="234648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38760" y="0"/>
            <a:ext cx="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80880" y="657360"/>
          <a:ext cx="8429760" cy="5576760"/>
        </p:xfrm>
        <a:graphic>
          <a:graphicData uri="http://schemas.openxmlformats.org/drawingml/2006/table">
            <a:tbl>
              <a:tblPr/>
              <a:tblGrid>
                <a:gridCol w="84297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个人核心价值观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专注、勤奋、认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五年远景（定位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中国一流的战略及战略实施咨询专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两年目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成为一名优秀的咨询顾问、一名干练的执行专家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每季度参与一个项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年主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成长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——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楷体_GB2312"/>
                          <a:ea typeface="Times New Roman"/>
                        </a:rPr>
                        <a:t>专注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于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4R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，用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楷体_GB2312"/>
                          <a:ea typeface="Times New Roman"/>
                        </a:rPr>
                        <a:t>勤奋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来换取自己的快速成长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2895480" y="152280"/>
            <a:ext cx="29718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05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个人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304920" y="657360"/>
          <a:ext cx="8534160" cy="5659200"/>
        </p:xfrm>
        <a:graphic>
          <a:graphicData uri="http://schemas.openxmlformats.org/drawingml/2006/table">
            <a:tbl>
              <a:tblPr/>
              <a:tblGrid>
                <a:gridCol w="853416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个人发展战略所要解决的根本矛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身上存在着的“花心、惰性与粗心”与“成为一名合格的锡恩咨询顾问”之间的矛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200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年行动计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贯穿全年的行动：专注于</a:t>
                      </a:r>
                      <a:r>
                        <a:rPr b="1" lang="zh-CN" sz="16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4R</a:t>
                      </a:r>
                      <a:r>
                        <a:rPr b="1" lang="zh-CN" sz="16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，通过勤奋获得成长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在项目中，和客户维护中，加深对客户的认识，学习客户的成功之处，结合</a:t>
                      </a:r>
                      <a:r>
                        <a:rPr b="1" lang="zh-CN" sz="16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4R</a:t>
                      </a:r>
                      <a:r>
                        <a:rPr b="1" lang="zh-CN" sz="16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，不断提升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第一步：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2005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年第一季度用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4R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来管理自己，亲身实践、体会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4R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第二步：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2005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年第二、三季度参与咨询项目，在项目中实践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4R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、体会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4R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，重在积累、沉淀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第三步：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2005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年第四季度继续参与项目，在积累沉淀的基础上进行总结，具备对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4R</a:t>
                      </a:r>
                      <a:r>
                        <a:rPr b="1" lang="zh-CN" sz="1400" spc="-1" strike="noStrike">
                          <a:solidFill>
                            <a:srgbClr val="0000ff"/>
                          </a:solidFill>
                          <a:latin typeface="楷体_GB2312"/>
                          <a:ea typeface="Times New Roman"/>
                        </a:rPr>
                        <a:t>本质的理解和认识，可以熟练的帮助客户进行项目实施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需要的资源支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ff"/>
                          </a:solidFill>
                          <a:latin typeface="楷体_GB2312"/>
                          <a:ea typeface="Arial Unicode MS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ff"/>
                          </a:solidFill>
                          <a:latin typeface="楷体_GB2312"/>
                          <a:ea typeface="Arial"/>
                        </a:rPr>
                        <a:t>、在“专注、勤奋、认真”方面，自己是根本，需要在平时的工作中得到大家的提醒、监督和指导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ff"/>
                          </a:solidFill>
                          <a:latin typeface="楷体_GB2312"/>
                          <a:ea typeface="Arial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ff"/>
                          </a:solidFill>
                          <a:latin typeface="楷体_GB2312"/>
                          <a:ea typeface="Arial"/>
                        </a:rPr>
                        <a:t>、需要得到</a:t>
                      </a:r>
                      <a:r>
                        <a:rPr b="1" lang="zh-CN" sz="1600" spc="-1" strike="noStrike">
                          <a:solidFill>
                            <a:srgbClr val="0000ff"/>
                          </a:solidFill>
                          <a:latin typeface="楷体_GB2312"/>
                          <a:ea typeface="Arial"/>
                        </a:rPr>
                        <a:t>Peter</a:t>
                      </a:r>
                      <a:r>
                        <a:rPr b="1" lang="zh-CN" sz="1600" spc="-1" strike="noStrike">
                          <a:solidFill>
                            <a:srgbClr val="0000ff"/>
                          </a:solidFill>
                          <a:latin typeface="楷体_GB2312"/>
                          <a:ea typeface="Arial"/>
                        </a:rPr>
                        <a:t>、</a:t>
                      </a:r>
                      <a:r>
                        <a:rPr b="1" lang="zh-CN" sz="1600" spc="-1" strike="noStrike">
                          <a:solidFill>
                            <a:srgbClr val="0000ff"/>
                          </a:solidFill>
                          <a:latin typeface="楷体_GB2312"/>
                          <a:ea typeface="Arial"/>
                        </a:rPr>
                        <a:t>Bill</a:t>
                      </a:r>
                      <a:r>
                        <a:rPr b="1" lang="zh-CN" sz="1600" spc="-1" strike="noStrike">
                          <a:solidFill>
                            <a:srgbClr val="0000ff"/>
                          </a:solidFill>
                          <a:latin typeface="楷体_GB2312"/>
                          <a:ea typeface="Arial"/>
                        </a:rPr>
                        <a:t>等同事在平时工作及项目运作上的帮助和指导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314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ff"/>
                          </a:solidFill>
                          <a:latin typeface="楷体_GB2312"/>
                          <a:ea typeface="Arial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ff"/>
                          </a:solidFill>
                          <a:latin typeface="楷体_GB2312"/>
                          <a:ea typeface="Arial"/>
                        </a:rPr>
                        <a:t>、需要在</a:t>
                      </a:r>
                      <a:r>
                        <a:rPr b="1" lang="zh-CN" sz="1600" spc="-1" strike="noStrike">
                          <a:solidFill>
                            <a:srgbClr val="0000ff"/>
                          </a:solidFill>
                          <a:latin typeface="楷体_GB2312"/>
                          <a:ea typeface="Arial"/>
                        </a:rPr>
                        <a:t>4R</a:t>
                      </a:r>
                      <a:r>
                        <a:rPr b="1" lang="zh-CN" sz="1600" spc="-1" strike="noStrike">
                          <a:solidFill>
                            <a:srgbClr val="0000ff"/>
                          </a:solidFill>
                          <a:latin typeface="楷体_GB2312"/>
                          <a:ea typeface="Arial"/>
                        </a:rPr>
                        <a:t>的理解及公司文化、核心价值观的体会上得到各位同事的帮助和指导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2895480" y="152280"/>
            <a:ext cx="29718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05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个人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133720"/>
            <a:ext cx="78487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36280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个音乐发烧友的五年目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27640" y="3860640"/>
            <a:ext cx="2521080" cy="2676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2205000"/>
            <a:ext cx="54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目标一：五年后，我希望能有一张唱片在市场上，而这张唱片很受欢迎，可以得到许多人的肯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目标二：我住在一个有很多很多音乐的地方，能天天与一些世界一流的乐师一起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362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总结：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3068640"/>
            <a:ext cx="7920000" cy="6426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命若不是现在，那是何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257720" y="2882880"/>
            <a:ext cx="392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行楷"/>
              </a:rPr>
              <a:t>因为专注，所以专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620120" y="4114800"/>
          <a:ext cx="53316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4114800"/>
                    <a:ext cx="5331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362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以终为始——计划是这样形成的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4560" y="2087280"/>
            <a:ext cx="1397160" cy="3934080"/>
            <a:chOff x="34560" y="2087280"/>
            <a:chExt cx="1397160" cy="3934080"/>
          </a:xfrm>
        </p:grpSpPr>
        <p:sp>
          <p:nvSpPr>
            <p:cNvPr id="106" name=""/>
            <p:cNvSpPr/>
            <p:nvPr/>
          </p:nvSpPr>
          <p:spPr>
            <a:xfrm>
              <a:off x="684360" y="4489560"/>
              <a:ext cx="431640" cy="1531800"/>
            </a:xfrm>
            <a:prstGeom prst="upArrow">
              <a:avLst>
                <a:gd name="adj1" fmla="val 50000"/>
                <a:gd name="adj2" fmla="val 88720"/>
              </a:avLst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第五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34560" y="2087280"/>
              <a:ext cx="1397160" cy="1773000"/>
              <a:chOff x="34560" y="2087280"/>
              <a:chExt cx="1397160" cy="1773000"/>
            </a:xfrm>
          </p:grpSpPr>
          <p:sp>
            <p:nvSpPr>
              <p:cNvPr id="108" name=""/>
              <p:cNvSpPr/>
              <p:nvPr/>
            </p:nvSpPr>
            <p:spPr>
              <a:xfrm rot="10800000">
                <a:off x="34560" y="2087280"/>
                <a:ext cx="1397160" cy="1773000"/>
              </a:xfrm>
              <a:custGeom>
                <a:avLst/>
                <a:gdLst>
                  <a:gd name="textAreaLeft" fmla="*/ 0 w 1397160"/>
                  <a:gd name="textAreaRight" fmla="*/ 1397520 w 1397160"/>
                  <a:gd name="textAreaTop" fmla="*/ 0 h 1773000"/>
                  <a:gd name="textAreaBottom" fmla="*/ 1773360 h 177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5320" y="2421000"/>
                <a:ext cx="424440" cy="8240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一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唱片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面世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1115640" y="2084400"/>
            <a:ext cx="1397160" cy="3865680"/>
            <a:chOff x="1115640" y="2084400"/>
            <a:chExt cx="1397160" cy="3865680"/>
          </a:xfrm>
        </p:grpSpPr>
        <p:sp>
          <p:nvSpPr>
            <p:cNvPr id="111" name=""/>
            <p:cNvSpPr/>
            <p:nvPr/>
          </p:nvSpPr>
          <p:spPr>
            <a:xfrm>
              <a:off x="1763640" y="4417920"/>
              <a:ext cx="432000" cy="1532160"/>
            </a:xfrm>
            <a:prstGeom prst="upArrow">
              <a:avLst>
                <a:gd name="adj1" fmla="val 50000"/>
                <a:gd name="adj2" fmla="val 88667"/>
              </a:avLst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第四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115640" y="2084400"/>
              <a:ext cx="1397160" cy="1774800"/>
              <a:chOff x="1115640" y="2084400"/>
              <a:chExt cx="1397160" cy="1774800"/>
            </a:xfrm>
          </p:grpSpPr>
          <p:sp>
            <p:nvSpPr>
              <p:cNvPr id="113" name=""/>
              <p:cNvSpPr/>
              <p:nvPr/>
            </p:nvSpPr>
            <p:spPr>
              <a:xfrm rot="10800000">
                <a:off x="1115640" y="2084400"/>
                <a:ext cx="1397160" cy="1774800"/>
              </a:xfrm>
              <a:custGeom>
                <a:avLst/>
                <a:gdLst>
                  <a:gd name="textAreaLeft" fmla="*/ 0 w 1397160"/>
                  <a:gd name="textAreaRight" fmla="*/ 1397520 w 1397160"/>
                  <a:gd name="textAreaTop" fmla="*/ 0 h 1774800"/>
                  <a:gd name="textAreaBottom" fmla="*/ 1775160 h 177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586880" y="2421000"/>
                <a:ext cx="424440" cy="10674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与一家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唱片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公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签约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195640" y="2084400"/>
            <a:ext cx="1396800" cy="3936960"/>
            <a:chOff x="2195640" y="2084400"/>
            <a:chExt cx="1396800" cy="3936960"/>
          </a:xfrm>
        </p:grpSpPr>
        <p:sp>
          <p:nvSpPr>
            <p:cNvPr id="116" name=""/>
            <p:cNvSpPr/>
            <p:nvPr/>
          </p:nvSpPr>
          <p:spPr>
            <a:xfrm>
              <a:off x="2771640" y="4489560"/>
              <a:ext cx="432000" cy="1531800"/>
            </a:xfrm>
            <a:prstGeom prst="upArrow">
              <a:avLst>
                <a:gd name="adj1" fmla="val 50000"/>
                <a:gd name="adj2" fmla="val 88646"/>
              </a:avLst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第三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195640" y="2084400"/>
              <a:ext cx="1396800" cy="1774800"/>
              <a:chOff x="2195640" y="2084400"/>
              <a:chExt cx="1396800" cy="1774800"/>
            </a:xfrm>
          </p:grpSpPr>
          <p:sp>
            <p:nvSpPr>
              <p:cNvPr id="118" name=""/>
              <p:cNvSpPr/>
              <p:nvPr/>
            </p:nvSpPr>
            <p:spPr>
              <a:xfrm rot="10800000">
                <a:off x="2195640" y="2084400"/>
                <a:ext cx="1396800" cy="1774800"/>
              </a:xfrm>
              <a:custGeom>
                <a:avLst/>
                <a:gdLst>
                  <a:gd name="textAreaLeft" fmla="*/ 0 w 1396800"/>
                  <a:gd name="textAreaRight" fmla="*/ 1397160 w 1396800"/>
                  <a:gd name="textAreaTop" fmla="*/ 0 h 1774800"/>
                  <a:gd name="textAreaBottom" fmla="*/ 1775160 h 177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24760" y="2565360"/>
                <a:ext cx="424440" cy="8240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完成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系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作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3276720" y="2084400"/>
            <a:ext cx="1396800" cy="3936960"/>
            <a:chOff x="3276720" y="2084400"/>
            <a:chExt cx="1396800" cy="3936960"/>
          </a:xfrm>
        </p:grpSpPr>
        <p:sp>
          <p:nvSpPr>
            <p:cNvPr id="121" name=""/>
            <p:cNvSpPr/>
            <p:nvPr/>
          </p:nvSpPr>
          <p:spPr>
            <a:xfrm>
              <a:off x="3924360" y="4489560"/>
              <a:ext cx="431640" cy="1531800"/>
            </a:xfrm>
            <a:prstGeom prst="upArrow">
              <a:avLst>
                <a:gd name="adj1" fmla="val 50000"/>
                <a:gd name="adj2" fmla="val 88720"/>
              </a:avLst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第二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276720" y="2084400"/>
              <a:ext cx="1396800" cy="1774800"/>
              <a:chOff x="3276720" y="2084400"/>
              <a:chExt cx="1396800" cy="1774800"/>
            </a:xfrm>
          </p:grpSpPr>
          <p:sp>
            <p:nvSpPr>
              <p:cNvPr id="123" name=""/>
              <p:cNvSpPr/>
              <p:nvPr/>
            </p:nvSpPr>
            <p:spPr>
              <a:xfrm rot="10800000">
                <a:off x="3276720" y="2084400"/>
                <a:ext cx="1396800" cy="1774800"/>
              </a:xfrm>
              <a:custGeom>
                <a:avLst/>
                <a:gdLst>
                  <a:gd name="textAreaLeft" fmla="*/ 0 w 1396800"/>
                  <a:gd name="textAreaRight" fmla="*/ 1397160 w 1396800"/>
                  <a:gd name="textAreaTop" fmla="*/ 0 h 1774800"/>
                  <a:gd name="textAreaBottom" fmla="*/ 1775160 h 177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12160" y="2603520"/>
                <a:ext cx="668520" cy="8240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选择优秀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作品开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录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4355640" y="2084400"/>
            <a:ext cx="1397160" cy="3936960"/>
            <a:chOff x="4355640" y="2084400"/>
            <a:chExt cx="1397160" cy="3936960"/>
          </a:xfrm>
        </p:grpSpPr>
        <p:sp>
          <p:nvSpPr>
            <p:cNvPr id="126" name=""/>
            <p:cNvSpPr/>
            <p:nvPr/>
          </p:nvSpPr>
          <p:spPr>
            <a:xfrm>
              <a:off x="5076720" y="4489560"/>
              <a:ext cx="432000" cy="1531800"/>
            </a:xfrm>
            <a:prstGeom prst="upArrow">
              <a:avLst>
                <a:gd name="adj1" fmla="val 50000"/>
                <a:gd name="adj2" fmla="val 88646"/>
              </a:avLst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第一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355640" y="2084400"/>
              <a:ext cx="1397160" cy="1774800"/>
              <a:chOff x="4355640" y="2084400"/>
              <a:chExt cx="1397160" cy="1774800"/>
            </a:xfrm>
          </p:grpSpPr>
          <p:sp>
            <p:nvSpPr>
              <p:cNvPr id="128" name=""/>
              <p:cNvSpPr/>
              <p:nvPr/>
            </p:nvSpPr>
            <p:spPr>
              <a:xfrm rot="10800000">
                <a:off x="4355640" y="2084400"/>
                <a:ext cx="1397160" cy="1774800"/>
              </a:xfrm>
              <a:custGeom>
                <a:avLst/>
                <a:gdLst>
                  <a:gd name="textAreaLeft" fmla="*/ 0 w 1397160"/>
                  <a:gd name="textAreaRight" fmla="*/ 1397520 w 1397160"/>
                  <a:gd name="textAreaTop" fmla="*/ 0 h 1774800"/>
                  <a:gd name="textAreaBottom" fmla="*/ 1775160 h 177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000" y="2565360"/>
                <a:ext cx="936720" cy="8240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编曲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排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录音作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436720" y="2082600"/>
            <a:ext cx="1397160" cy="3938760"/>
            <a:chOff x="5436720" y="2082600"/>
            <a:chExt cx="1397160" cy="3938760"/>
          </a:xfrm>
        </p:grpSpPr>
        <p:sp>
          <p:nvSpPr>
            <p:cNvPr id="131" name=""/>
            <p:cNvSpPr/>
            <p:nvPr/>
          </p:nvSpPr>
          <p:spPr>
            <a:xfrm>
              <a:off x="6084720" y="4489560"/>
              <a:ext cx="432000" cy="1531800"/>
            </a:xfrm>
            <a:prstGeom prst="upArrow">
              <a:avLst>
                <a:gd name="adj1" fmla="val 50000"/>
                <a:gd name="adj2" fmla="val 88646"/>
              </a:avLst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第六个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5436720" y="2082600"/>
              <a:ext cx="1397160" cy="1773000"/>
              <a:chOff x="5436720" y="2082600"/>
              <a:chExt cx="1397160" cy="1773000"/>
            </a:xfrm>
          </p:grpSpPr>
          <p:sp>
            <p:nvSpPr>
              <p:cNvPr id="133" name=""/>
              <p:cNvSpPr/>
              <p:nvPr/>
            </p:nvSpPr>
            <p:spPr>
              <a:xfrm rot="10800000">
                <a:off x="5436720" y="2082600"/>
                <a:ext cx="1397160" cy="1773000"/>
              </a:xfrm>
              <a:custGeom>
                <a:avLst/>
                <a:gdLst>
                  <a:gd name="textAreaLeft" fmla="*/ 0 w 1397160"/>
                  <a:gd name="textAreaRight" fmla="*/ 1397520 w 1397160"/>
                  <a:gd name="textAreaTop" fmla="*/ 0 h 1773000"/>
                  <a:gd name="textAreaBottom" fmla="*/ 1773360 h 177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48920" y="2603520"/>
                <a:ext cx="546480" cy="8240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修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未完成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作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6516720" y="2082600"/>
            <a:ext cx="1396800" cy="3938760"/>
            <a:chOff x="6516720" y="2082600"/>
            <a:chExt cx="1396800" cy="3938760"/>
          </a:xfrm>
        </p:grpSpPr>
        <p:sp>
          <p:nvSpPr>
            <p:cNvPr id="136" name=""/>
            <p:cNvSpPr/>
            <p:nvPr/>
          </p:nvSpPr>
          <p:spPr>
            <a:xfrm>
              <a:off x="7164360" y="4489560"/>
              <a:ext cx="432000" cy="1531800"/>
            </a:xfrm>
            <a:prstGeom prst="upArrow">
              <a:avLst>
                <a:gd name="adj1" fmla="val 50000"/>
                <a:gd name="adj2" fmla="val 88646"/>
              </a:avLst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第一个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516720" y="2082600"/>
              <a:ext cx="1396800" cy="1773000"/>
              <a:chOff x="6516720" y="2082600"/>
              <a:chExt cx="1396800" cy="1773000"/>
            </a:xfrm>
          </p:grpSpPr>
          <p:sp>
            <p:nvSpPr>
              <p:cNvPr id="138" name=""/>
              <p:cNvSpPr/>
              <p:nvPr/>
            </p:nvSpPr>
            <p:spPr>
              <a:xfrm rot="10800000">
                <a:off x="6516720" y="2082600"/>
                <a:ext cx="1396800" cy="1773000"/>
              </a:xfrm>
              <a:custGeom>
                <a:avLst/>
                <a:gdLst>
                  <a:gd name="textAreaLeft" fmla="*/ 0 w 1396800"/>
                  <a:gd name="textAreaRight" fmla="*/ 1397160 w 1396800"/>
                  <a:gd name="textAreaTop" fmla="*/ 0 h 1773000"/>
                  <a:gd name="textAreaBottom" fmla="*/ 1773360 h 177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887160" y="2603520"/>
                <a:ext cx="424440" cy="8240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曲子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修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完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7597800" y="2082600"/>
            <a:ext cx="1396800" cy="3938760"/>
            <a:chOff x="7597800" y="2082600"/>
            <a:chExt cx="1396800" cy="3938760"/>
          </a:xfrm>
        </p:grpSpPr>
        <p:sp>
          <p:nvSpPr>
            <p:cNvPr id="141" name=""/>
            <p:cNvSpPr/>
            <p:nvPr/>
          </p:nvSpPr>
          <p:spPr>
            <a:xfrm>
              <a:off x="8172360" y="4489560"/>
              <a:ext cx="432000" cy="1531800"/>
            </a:xfrm>
            <a:prstGeom prst="upArrow">
              <a:avLst>
                <a:gd name="adj1" fmla="val 50000"/>
                <a:gd name="adj2" fmla="val 88646"/>
              </a:avLst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第一个礼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7597800" y="2082600"/>
              <a:ext cx="1396800" cy="1773000"/>
              <a:chOff x="7597800" y="2082600"/>
              <a:chExt cx="1396800" cy="1773000"/>
            </a:xfrm>
          </p:grpSpPr>
          <p:sp>
            <p:nvSpPr>
              <p:cNvPr id="143" name=""/>
              <p:cNvSpPr/>
              <p:nvPr/>
            </p:nvSpPr>
            <p:spPr>
              <a:xfrm rot="10800000">
                <a:off x="7597800" y="2082600"/>
                <a:ext cx="1396800" cy="1773000"/>
              </a:xfrm>
              <a:custGeom>
                <a:avLst/>
                <a:gdLst>
                  <a:gd name="textAreaLeft" fmla="*/ 0 w 1396800"/>
                  <a:gd name="textAreaRight" fmla="*/ 1397160 w 1396800"/>
                  <a:gd name="textAreaTop" fmla="*/ 0 h 1773000"/>
                  <a:gd name="textAreaBottom" fmla="*/ 1773360 h 177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96960" y="2492280"/>
                <a:ext cx="668520" cy="10674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列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曲子清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进行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修改分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2133720"/>
            <a:ext cx="78487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31480" y="1483920"/>
            <a:ext cx="794052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五年目标：要生活在一个有很多音乐的地方，然后与许多一流的乐师一起忙着工作。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250920" y="475920"/>
            <a:ext cx="836280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目标二的分解和阶段成果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60560" y="4829040"/>
            <a:ext cx="6680160" cy="1479600"/>
            <a:chOff x="1060560" y="4829040"/>
            <a:chExt cx="6680160" cy="1479600"/>
          </a:xfrm>
        </p:grpSpPr>
        <p:sp>
          <p:nvSpPr>
            <p:cNvPr id="149" name=""/>
            <p:cNvSpPr/>
            <p:nvPr/>
          </p:nvSpPr>
          <p:spPr>
            <a:xfrm>
              <a:off x="1060560" y="5348160"/>
              <a:ext cx="6037200" cy="960480"/>
            </a:xfrm>
            <a:custGeom>
              <a:avLst/>
              <a:gdLst/>
              <a:ahLst/>
              <a:rect l="l" t="t" r="r" b="b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99cc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24040" y="4829040"/>
              <a:ext cx="5195880" cy="524160"/>
            </a:xfrm>
            <a:custGeom>
              <a:avLst/>
              <a:gdLst/>
              <a:ahLst/>
              <a:rect l="l" t="t" r="r" b="b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99ccff">
                <a:alpha val="50000"/>
              </a:srgbClr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1619280" y="4829040"/>
              <a:ext cx="6121440" cy="1479600"/>
              <a:chOff x="1619280" y="4829040"/>
              <a:chExt cx="6121440" cy="1479600"/>
            </a:xfrm>
          </p:grpSpPr>
          <p:sp>
            <p:nvSpPr>
              <p:cNvPr id="152" name=""/>
              <p:cNvSpPr/>
              <p:nvPr/>
            </p:nvSpPr>
            <p:spPr>
              <a:xfrm>
                <a:off x="6429240" y="4829040"/>
                <a:ext cx="1311480" cy="1479600"/>
              </a:xfrm>
              <a:custGeom>
                <a:avLst/>
                <a:gdLst/>
                <a:ahLst/>
                <a:rect l="l" t="t" r="r" b="b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ccccff"/>
              </a:solidFill>
              <a:ln cap="rnd"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619280" y="5721480"/>
                <a:ext cx="5113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不是住在德州，而是已经住在纽约或是洛杉机了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3397320" y="2060640"/>
            <a:ext cx="1511280" cy="947520"/>
            <a:chOff x="3397320" y="2060640"/>
            <a:chExt cx="1511280" cy="947520"/>
          </a:xfrm>
        </p:grpSpPr>
        <p:sp>
          <p:nvSpPr>
            <p:cNvPr id="155" name=""/>
            <p:cNvSpPr/>
            <p:nvPr/>
          </p:nvSpPr>
          <p:spPr>
            <a:xfrm>
              <a:off x="4073400" y="2060640"/>
              <a:ext cx="835200" cy="947520"/>
            </a:xfrm>
            <a:custGeom>
              <a:avLst/>
              <a:gdLst/>
              <a:ahLst/>
              <a:rect l="l" t="t" r="r" b="b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cccc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3397320" y="2060640"/>
              <a:ext cx="1355760" cy="947520"/>
              <a:chOff x="3397320" y="2060640"/>
              <a:chExt cx="1355760" cy="947520"/>
            </a:xfrm>
          </p:grpSpPr>
          <p:sp>
            <p:nvSpPr>
              <p:cNvPr id="157" name=""/>
              <p:cNvSpPr/>
              <p:nvPr/>
            </p:nvSpPr>
            <p:spPr>
              <a:xfrm>
                <a:off x="3397320" y="2060640"/>
                <a:ext cx="1355760" cy="947520"/>
              </a:xfrm>
              <a:custGeom>
                <a:avLst/>
                <a:gdLst/>
                <a:ahLst/>
                <a:rect l="l" t="t" r="r" b="b"/>
                <a:pathLst>
                  <a:path w="1011" h="735">
                    <a:moveTo>
                      <a:pt x="0" y="734"/>
                    </a:moveTo>
                    <a:lnTo>
                      <a:pt x="1010" y="734"/>
                    </a:lnTo>
                    <a:lnTo>
                      <a:pt x="505" y="0"/>
                    </a:lnTo>
                    <a:lnTo>
                      <a:pt x="0" y="734"/>
                    </a:lnTo>
                  </a:path>
                </a:pathLst>
              </a:custGeom>
              <a:solidFill>
                <a:srgbClr val="99ccff"/>
              </a:solidFill>
              <a:ln cap="rnd"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62360" y="2583360"/>
                <a:ext cx="633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五年目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1835280" y="3916440"/>
            <a:ext cx="4957560" cy="1284120"/>
            <a:chOff x="1835280" y="3916440"/>
            <a:chExt cx="4957560" cy="1284120"/>
          </a:xfrm>
        </p:grpSpPr>
        <p:sp>
          <p:nvSpPr>
            <p:cNvPr id="160" name=""/>
            <p:cNvSpPr/>
            <p:nvPr/>
          </p:nvSpPr>
          <p:spPr>
            <a:xfrm>
              <a:off x="5648400" y="3916440"/>
              <a:ext cx="1144440" cy="1282680"/>
            </a:xfrm>
            <a:custGeom>
              <a:avLst/>
              <a:gdLst/>
              <a:ahLst/>
              <a:rect l="l" t="t" r="r" b="b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cccc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06680" y="3916440"/>
              <a:ext cx="3470400" cy="349200"/>
            </a:xfrm>
            <a:custGeom>
              <a:avLst/>
              <a:gdLst/>
              <a:ahLst/>
              <a:rect l="l" t="t" r="r" b="b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99ccff">
                <a:alpha val="50000"/>
              </a:srgbClr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835280" y="4264200"/>
              <a:ext cx="4494240" cy="936360"/>
              <a:chOff x="1835280" y="4264200"/>
              <a:chExt cx="4494240" cy="936360"/>
            </a:xfrm>
          </p:grpSpPr>
          <p:sp>
            <p:nvSpPr>
              <p:cNvPr id="163" name=""/>
              <p:cNvSpPr/>
              <p:nvPr/>
            </p:nvSpPr>
            <p:spPr>
              <a:xfrm>
                <a:off x="1835280" y="4264200"/>
                <a:ext cx="4494240" cy="936360"/>
              </a:xfrm>
              <a:custGeom>
                <a:avLst/>
                <a:gdLst/>
                <a:ahLst/>
                <a:rect l="l" t="t" r="r" b="b"/>
                <a:pathLst>
                  <a:path w="3354" h="726">
                    <a:moveTo>
                      <a:pt x="0" y="725"/>
                    </a:moveTo>
                    <a:lnTo>
                      <a:pt x="3353" y="725"/>
                    </a:lnTo>
                    <a:lnTo>
                      <a:pt x="2844" y="0"/>
                    </a:lnTo>
                    <a:lnTo>
                      <a:pt x="499" y="0"/>
                    </a:lnTo>
                    <a:lnTo>
                      <a:pt x="0" y="725"/>
                    </a:lnTo>
                  </a:path>
                </a:pathLst>
              </a:custGeom>
              <a:solidFill>
                <a:srgbClr val="99ccff"/>
              </a:solidFill>
              <a:ln cap="rnd"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75000" y="4606920"/>
                <a:ext cx="32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这个圈子里的人在一起工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2617920" y="2982960"/>
            <a:ext cx="3209760" cy="1123920"/>
            <a:chOff x="2617920" y="2982960"/>
            <a:chExt cx="3209760" cy="1123920"/>
          </a:xfrm>
        </p:grpSpPr>
        <p:sp>
          <p:nvSpPr>
            <p:cNvPr id="166" name=""/>
            <p:cNvSpPr/>
            <p:nvPr/>
          </p:nvSpPr>
          <p:spPr>
            <a:xfrm>
              <a:off x="3298680" y="2982960"/>
              <a:ext cx="1735200" cy="169920"/>
            </a:xfrm>
            <a:custGeom>
              <a:avLst/>
              <a:gdLst/>
              <a:ahLst/>
              <a:rect l="l" t="t" r="r" b="b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99ccff">
                <a:alpha val="50000"/>
              </a:srgbClr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42000" y="2984400"/>
              <a:ext cx="985680" cy="1122480"/>
            </a:xfrm>
            <a:custGeom>
              <a:avLst/>
              <a:gdLst/>
              <a:ahLst/>
              <a:rect l="l" t="t" r="r" b="b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cccc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617920" y="3151080"/>
              <a:ext cx="2921040" cy="955800"/>
              <a:chOff x="2617920" y="3151080"/>
              <a:chExt cx="2921040" cy="955800"/>
            </a:xfrm>
          </p:grpSpPr>
          <p:sp>
            <p:nvSpPr>
              <p:cNvPr id="169" name=""/>
              <p:cNvSpPr/>
              <p:nvPr/>
            </p:nvSpPr>
            <p:spPr>
              <a:xfrm>
                <a:off x="2617920" y="3151080"/>
                <a:ext cx="2921040" cy="955800"/>
              </a:xfrm>
              <a:custGeom>
                <a:avLst/>
                <a:gdLst/>
                <a:ahLst/>
                <a:rect l="l" t="t" r="r" b="b"/>
                <a:pathLst>
                  <a:path w="2179" h="741">
                    <a:moveTo>
                      <a:pt x="0" y="740"/>
                    </a:moveTo>
                    <a:lnTo>
                      <a:pt x="2178" y="740"/>
                    </a:lnTo>
                    <a:lnTo>
                      <a:pt x="1672" y="0"/>
                    </a:lnTo>
                    <a:lnTo>
                      <a:pt x="505" y="0"/>
                    </a:lnTo>
                    <a:lnTo>
                      <a:pt x="0" y="740"/>
                    </a:lnTo>
                  </a:path>
                </a:pathLst>
              </a:custGeom>
              <a:solidFill>
                <a:srgbClr val="99ccff"/>
              </a:solidFill>
              <a:ln cap="rnd"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40000" y="3562920"/>
                <a:ext cx="167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有你自己的一个工作室或录音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36280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实际进展情况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"/>
          <p:cNvSpPr/>
          <p:nvPr/>
        </p:nvSpPr>
        <p:spPr>
          <a:xfrm>
            <a:off x="7522200" y="1844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梦想实现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08000" y="1268280"/>
            <a:ext cx="6912000" cy="1871640"/>
            <a:chOff x="108000" y="1268280"/>
            <a:chExt cx="6912000" cy="1871640"/>
          </a:xfrm>
        </p:grpSpPr>
        <p:sp>
          <p:nvSpPr>
            <p:cNvPr id="174" name=""/>
            <p:cNvSpPr/>
            <p:nvPr/>
          </p:nvSpPr>
          <p:spPr>
            <a:xfrm>
              <a:off x="108000" y="1339560"/>
              <a:ext cx="2448000" cy="172728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120" y="2126880"/>
              <a:ext cx="151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787320"/>
                  <a:tab algn="l" pos="1574640"/>
                  <a:tab algn="l" pos="2362320"/>
                  <a:tab algn="l" pos="3149640"/>
                  <a:tab algn="l" pos="3936960"/>
                  <a:tab algn="l" pos="4724280"/>
                  <a:tab algn="l" pos="5511960"/>
                  <a:tab algn="l" pos="6299280"/>
                  <a:tab algn="l" pos="7086600"/>
                  <a:tab algn="l" pos="7873920"/>
                  <a:tab algn="l" pos="8661240"/>
                  <a:tab algn="l" pos="9448920"/>
                  <a:tab algn="l" pos="1023624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977</a:t>
              </a:r>
              <a:r>
                <a:rPr b="1" lang="zh-CN" sz="15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，离开了休斯顿，搬到洛杉机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4000" y="1268280"/>
              <a:ext cx="3456000" cy="1871640"/>
            </a:xfrm>
            <a:custGeom>
              <a:avLst/>
              <a:gdLst>
                <a:gd name="textAreaLeft" fmla="*/ 0 w 3456000"/>
                <a:gd name="textAreaRight" fmla="*/ 3456360 w 345600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40240" y="2147400"/>
              <a:ext cx="20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787320"/>
                  <a:tab algn="l" pos="1574640"/>
                  <a:tab algn="l" pos="2362320"/>
                  <a:tab algn="l" pos="3149640"/>
                  <a:tab algn="l" pos="3936960"/>
                  <a:tab algn="l" pos="4724280"/>
                  <a:tab algn="l" pos="5511960"/>
                  <a:tab algn="l" pos="6299280"/>
                  <a:tab algn="l" pos="7086600"/>
                  <a:tab algn="l" pos="7873920"/>
                  <a:tab algn="l" pos="8661240"/>
                  <a:tab algn="l" pos="9448920"/>
                  <a:tab algn="l" pos="1023624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983</a:t>
              </a:r>
              <a:r>
                <a:rPr b="1" lang="zh-CN" sz="15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，我的唱片在亚洲开始出售，我每天二十四小时几乎全都忙着与一些顶尖的音乐高手，日出日落地一起工作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52840" y="1780920"/>
              <a:ext cx="155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66ff"/>
                  </a:solidFill>
                  <a:latin typeface="Arial"/>
                  <a:ea typeface="Arial"/>
                </a:rPr>
                <a:t>…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08360" y="3213000"/>
            <a:ext cx="31226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2133720"/>
            <a:ext cx="78487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94920" y="1915920"/>
            <a:ext cx="4140360" cy="40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如果，你对你的生命经常在问“为什么会这样？为什么会那样？”的时候，你不妨试着问一下自己，你是否很“清清楚楚”地知道你自己要的是什么？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选择目标”的权力交在我们的手上。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79280" y="33336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启示：前提——首先明确你想要什么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2641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66280" y="2090880"/>
            <a:ext cx="414972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明白自己想要什么”是前提，有了目标之后就去行动。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根据目标一点点倒推阶段性目标，制定阶段性计划，一直分析到眼前你应该做些什么，这就是“以终为始”制定计划的过程。</a:t>
            </a:r>
            <a:endParaRPr b="0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3267000" cy="4105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0920" y="333360"/>
            <a:ext cx="91440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启示：其次——为了目标你要做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362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你想成为什么，决定了你会成为什么！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19280" y="2638440"/>
            <a:ext cx="7345440" cy="1511280"/>
            <a:chOff x="719280" y="2638440"/>
            <a:chExt cx="7345440" cy="1511280"/>
          </a:xfrm>
        </p:grpSpPr>
        <p:sp>
          <p:nvSpPr>
            <p:cNvPr id="189" name=""/>
            <p:cNvSpPr/>
            <p:nvPr/>
          </p:nvSpPr>
          <p:spPr>
            <a:xfrm>
              <a:off x="719280" y="2638440"/>
              <a:ext cx="7345440" cy="1511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96720" y="2854440"/>
              <a:ext cx="4569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00"/>
                  </a:solidFill>
                  <a:latin typeface="Arial"/>
                  <a:ea typeface="黑体"/>
                </a:rPr>
                <a:t>你的梦想是什么？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6200" y="2871720"/>
            <a:ext cx="8209080" cy="954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9933"/>
            </a:solidFill>
            <a:miter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五年后的你，是什么样子呢？</a:t>
            </a:r>
            <a:endParaRPr b="0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05:23:44Z</dcterms:created>
  <dc:creator>Grace</dc:creator>
  <dc:description/>
  <dc:language>en-US</dc:language>
  <cp:lastModifiedBy>LL</cp:lastModifiedBy>
  <dcterms:modified xsi:type="dcterms:W3CDTF">2006-12-22T01:28:10Z</dcterms:modified>
  <cp:revision>459</cp:revision>
  <dc:subject/>
  <dc:title>业通家居4R项目</dc:title>
</cp:coreProperties>
</file>