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A79-04B1-428A-B908-5C2F9C29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133-70FE-402B-8636-85E54FF3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D00-5B4B-4007-B7B5-767C290D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8C9-D00C-47F0-ADFD-CAA7B5BE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48E-4FED-463D-810A-EBB78F21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90E-A132-4E7F-A031-377FA1BD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D70-71BD-4044-9D80-4B179104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91A-B6A7-48B7-BF8D-D70DD0F5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DE0-D9E1-4D51-A23F-B7592DC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BFD-8F38-4B59-88BE-8056A20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7FC-B8D2-4139-B6B6-CE786162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577-E40B-4A71-9509-1E16B01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C694-99D2-430C-BE18-14F25DE1BC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559840" y="2357280"/>
            <a:ext cx="115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837760" y="4410000"/>
            <a:ext cx="79020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357600" y="2214720"/>
            <a:ext cx="606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3354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4140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212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83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211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354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6069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426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185724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855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0020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783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5691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140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9260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283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7140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185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140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069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02T09:49:47Z</dcterms:modified>
  <cp:revision>41</cp:revision>
  <dc:subject/>
  <dc:title>幻灯片 1</dc:title>
</cp:coreProperties>
</file>