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49D4-4C5D-49DB-8F3C-EC056EE0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D517-FFAF-4FA9-A5E6-A72C2D34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0E4B-A0CC-4A3C-8FC0-94C9D2E9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8FC2-2EFC-44EC-B50C-D120B504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F8D8-49C3-4C3D-BA9A-9E6E773D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B1BE-7B15-4C0C-8EE5-3BE7CCDA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2E2D-8606-4CA9-A3ED-7CB1A5F5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856F-D305-4304-94A5-8AE64D53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45FF-6354-4E2A-8644-AB8B9CC4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5359-7E74-4603-9B35-7F50888E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DD89-1E41-4903-929D-85409134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6078-DB72-4E79-8BAC-724208C4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727B-7244-4E01-AB9F-ECAFADB624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357720" y="3429000"/>
            <a:ext cx="52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714840" y="433548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09-30T02:36:03Z</dcterms:modified>
  <cp:revision>79</cp:revision>
  <dc:subject/>
  <dc:title>幻灯片 1</dc:title>
</cp:coreProperties>
</file>