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34563050" cy="259238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611-D6CE-4FDC-ACED-BB71CCEE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26920" y="1037880"/>
            <a:ext cx="3111012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7440"/>
                <a:tab algn="l" pos="6915240"/>
                <a:tab algn="l" pos="1037268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26920" y="6048360"/>
            <a:ext cx="3111012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26920" y="14985360"/>
            <a:ext cx="3111012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37B-0EC5-42C4-BF0D-599F197A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26920" y="1037880"/>
            <a:ext cx="3111012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7440"/>
                <a:tab algn="l" pos="6915240"/>
                <a:tab algn="l" pos="1037268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26920" y="6048360"/>
            <a:ext cx="1518156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668080" y="6048360"/>
            <a:ext cx="1518156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26920" y="14985360"/>
            <a:ext cx="1518156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668080" y="14985360"/>
            <a:ext cx="1518156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4B4-04CC-469D-BBAF-157F092A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26920" y="1037880"/>
            <a:ext cx="3111012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7440"/>
                <a:tab algn="l" pos="6915240"/>
                <a:tab algn="l" pos="1037268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26920" y="6048360"/>
            <a:ext cx="1001736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245400" y="6048360"/>
            <a:ext cx="1001736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764240" y="6048360"/>
            <a:ext cx="1001736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26920" y="14985360"/>
            <a:ext cx="1001736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245400" y="14985360"/>
            <a:ext cx="1001736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764240" y="14985360"/>
            <a:ext cx="1001736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8D3-2955-46FF-8874-9C6D0D80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26920" y="1037880"/>
            <a:ext cx="3111012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7440"/>
                <a:tab algn="l" pos="6915240"/>
                <a:tab algn="l" pos="1037268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26920" y="6048360"/>
            <a:ext cx="31110120" cy="171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70F-B9C7-4B3A-B910-588B5D2D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26920" y="1037880"/>
            <a:ext cx="3111012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7440"/>
                <a:tab algn="l" pos="6915240"/>
                <a:tab algn="l" pos="1037268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26920" y="6048360"/>
            <a:ext cx="31110120" cy="17110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211C-1B89-40E2-9FC0-8B72772B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26920" y="1037880"/>
            <a:ext cx="3111012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7440"/>
                <a:tab algn="l" pos="6915240"/>
                <a:tab algn="l" pos="1037268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26920" y="6048360"/>
            <a:ext cx="15181560" cy="17110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668080" y="6048360"/>
            <a:ext cx="15181560" cy="17110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3A5-DB57-426D-88FB-7F82A2A2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26920" y="1037880"/>
            <a:ext cx="3111012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7440"/>
                <a:tab algn="l" pos="6915240"/>
                <a:tab algn="l" pos="1037268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518-31CA-4699-A910-85DC9A80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26920" y="1037880"/>
            <a:ext cx="31110120" cy="20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613-89ED-4376-9CC6-F75FD0AE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26920" y="1037880"/>
            <a:ext cx="3111012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7440"/>
                <a:tab algn="l" pos="6915240"/>
                <a:tab algn="l" pos="1037268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26920" y="6048360"/>
            <a:ext cx="1518156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668080" y="6048360"/>
            <a:ext cx="15181560" cy="17110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26920" y="14985360"/>
            <a:ext cx="1518156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DF4-DF97-4738-AE3F-1AAF9DE1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26920" y="1037880"/>
            <a:ext cx="3111012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7440"/>
                <a:tab algn="l" pos="6915240"/>
                <a:tab algn="l" pos="1037268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26920" y="6048360"/>
            <a:ext cx="15181560" cy="17110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668080" y="6048360"/>
            <a:ext cx="1518156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668080" y="14985360"/>
            <a:ext cx="1518156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B9A-77D8-48D7-AE1A-52F71E30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26920" y="1037880"/>
            <a:ext cx="3111012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7440"/>
                <a:tab algn="l" pos="6915240"/>
                <a:tab algn="l" pos="10372680"/>
              </a:tabLst>
            </a:pP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26920" y="6048360"/>
            <a:ext cx="1518156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668080" y="6048360"/>
            <a:ext cx="1518156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26920" y="14985360"/>
            <a:ext cx="31110120" cy="81612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3457440"/>
                <a:tab algn="l" pos="6915240"/>
                <a:tab algn="l" pos="1037268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693-EE25-4896-8A80-D197444D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26920" y="1037880"/>
            <a:ext cx="31110120" cy="4321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ctr">
            <a:noAutofit/>
          </a:bodyPr>
          <a:p>
            <a:pPr indent="0" algn="ctr">
              <a:buNone/>
              <a:tabLst>
                <a:tab algn="l" pos="0"/>
                <a:tab algn="l" pos="3457440"/>
                <a:tab algn="l" pos="6915240"/>
                <a:tab algn="l" pos="1037268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26920" y="6048360"/>
            <a:ext cx="31110120" cy="1711008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rmAutofit/>
          </a:bodyPr>
          <a:p>
            <a:pPr marL="1295280" indent="-12952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57440"/>
                <a:tab algn="l" pos="6915240"/>
                <a:tab algn="l" pos="1037268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lvl="1" marL="2806560" indent="-1079280">
              <a:spcBef>
                <a:spcPts val="2999"/>
              </a:spcBef>
              <a:buClr>
                <a:srgbClr val="000000"/>
              </a:buClr>
              <a:buFont typeface="Arial"/>
              <a:buChar char="–"/>
              <a:tabLst>
                <a:tab algn="l" pos="3457440"/>
                <a:tab algn="l" pos="6915240"/>
                <a:tab algn="l" pos="1037268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lvl="2" marL="4321080" indent="-8636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57440"/>
                <a:tab algn="l" pos="6915240"/>
                <a:tab algn="l" pos="1037268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lvl="3" marL="6048360" indent="-863640">
              <a:spcBef>
                <a:spcPts val="2999"/>
              </a:spcBef>
              <a:buClr>
                <a:srgbClr val="000000"/>
              </a:buClr>
              <a:buFont typeface="Arial"/>
              <a:buChar char="–"/>
              <a:tabLst>
                <a:tab algn="l" pos="3457440"/>
                <a:tab algn="l" pos="6915240"/>
                <a:tab algn="l" pos="1037268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lvl="4" marL="7775640" indent="-863640">
              <a:spcBef>
                <a:spcPts val="2999"/>
              </a:spcBef>
              <a:buClr>
                <a:srgbClr val="000000"/>
              </a:buClr>
              <a:buFont typeface="Arial"/>
              <a:buChar char="»"/>
              <a:tabLst>
                <a:tab algn="l" pos="3457440"/>
                <a:tab algn="l" pos="6915240"/>
                <a:tab algn="l" pos="1037268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lvl="5" marL="7775640" indent="-863640">
              <a:spcBef>
                <a:spcPts val="2999"/>
              </a:spcBef>
              <a:buClr>
                <a:srgbClr val="000000"/>
              </a:buClr>
              <a:buFont typeface="Arial"/>
              <a:buChar char="»"/>
              <a:tabLst>
                <a:tab algn="l" pos="3457440"/>
                <a:tab algn="l" pos="6915240"/>
                <a:tab algn="l" pos="1037268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lvl="6" marL="7775640" indent="-863640">
              <a:spcBef>
                <a:spcPts val="2999"/>
              </a:spcBef>
              <a:buClr>
                <a:srgbClr val="000000"/>
              </a:buClr>
              <a:buFont typeface="Arial"/>
              <a:buChar char="»"/>
              <a:tabLst>
                <a:tab algn="l" pos="3457440"/>
                <a:tab algn="l" pos="6915240"/>
                <a:tab algn="l" pos="1037268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26920" y="23606280"/>
            <a:ext cx="8064360" cy="18000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07640" y="23606280"/>
            <a:ext cx="10948680" cy="18000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772680" y="23606280"/>
            <a:ext cx="8064360" cy="1800000"/>
          </a:xfrm>
          <a:prstGeom prst="rect">
            <a:avLst/>
          </a:prstGeom>
          <a:noFill/>
          <a:ln w="0">
            <a:noFill/>
          </a:ln>
        </p:spPr>
        <p:txBody>
          <a:bodyPr lIns="345600" rIns="345600" tIns="172800" bIns="172800" anchor="t">
            <a:noAutofit/>
          </a:bodyPr>
          <a:lstStyle>
            <a:lvl1pPr indent="0" algn="r">
              <a:buNone/>
              <a:tabLst>
                <a:tab algn="l" pos="0"/>
                <a:tab algn="l" pos="3457440"/>
                <a:tab algn="l" pos="6915240"/>
                <a:tab algn="l" pos="10372680"/>
              </a:tabLst>
              <a:defRPr b="0" lang="en-US" sz="5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457440"/>
                <a:tab algn="l" pos="6915240"/>
                <a:tab algn="l" pos="10372680"/>
              </a:tabLst>
            </a:pPr>
            <a:fld id="{F722F7DB-2A69-4460-B335-CFB1F954CEE5}" type="slidenum">
              <a:rPr b="0" lang="en-US" sz="5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600" y="9360"/>
            <a:ext cx="34552080" cy="259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564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564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564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564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564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564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564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564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564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7289360" y="1314360"/>
            <a:ext cx="17275320" cy="22993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0" y="1442880"/>
            <a:ext cx="17275320" cy="230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8"/>
          <a:stretch/>
        </p:blipFill>
        <p:spPr>
          <a:xfrm>
            <a:off x="0" y="674640"/>
            <a:ext cx="34564680" cy="245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564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564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564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564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564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564680" cy="259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2:34:18Z</dcterms:created>
  <dc:creator>新教育</dc:creator>
  <dc:description/>
  <dc:language>en-US</dc:language>
  <cp:lastModifiedBy>Sky123.Org</cp:lastModifiedBy>
  <dcterms:modified xsi:type="dcterms:W3CDTF">2015-08-04T10:32:29Z</dcterms:modified>
  <cp:revision>5</cp:revision>
  <dc:subject/>
  <dc:title>幻灯片 1</dc:title>
</cp:coreProperties>
</file>