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5B6C-E0BF-4AD7-A9D3-BA06537EC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08B6-E4AF-4380-A62C-10E74DCC60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E76B-9B53-4741-BFE3-79684FEB86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471C-1ABF-4876-8225-B95864BDAE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B740-C95C-4E78-B518-A006C6EFB4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A7F3-9339-451C-BEE6-1CAC690C61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91E4-E820-4E82-BB78-2487F0D549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416C-9985-4ECF-B9AA-5A1AFE6A17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4EB0-6DD6-4FA0-87C8-FCBF2EA783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5BAE-6B3F-4519-9581-864368BC6D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3724-33C8-4CBF-B6B0-6B956E7002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6535-02EC-4944-BFAC-A01059EB59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904C-6FA5-406A-B5B7-6286BC905C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155C-913E-4628-9098-06476F2B47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6C37-7D1A-4F26-A817-513517E0CD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B059-31E4-4A0D-92D5-1EBEED1D8C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8C67-FCCD-4936-8F54-BDE44D9306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F3B-BED6-4B90-B311-C29E8ACF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65A-2394-4886-9D7B-10119B85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0A8-3531-4F58-A987-93A3D48A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892-B3A5-4D30-8F8F-57F10F3B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7F3-3B59-4CE3-82AA-81D17A0E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A7A-9218-44FD-B56D-998643C4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D1B-5FE1-427E-A535-D0BA0E40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C8C-A602-4871-9951-8A6B0C81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1BF-464F-4EE3-9058-5523ABA1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C0F-2617-4CA0-A56C-5924DBA3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731-0C9D-4764-9FB2-E918E271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07E-4A97-456C-A3CA-374BA05A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3731-F030-40BC-9A55-AEF807B0B6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nance.imhb.cn/Channel/content/2006/200612/20061229/41446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8280"/>
            <a:ext cx="9144000" cy="4392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042920" y="1987560"/>
            <a:ext cx="72741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080808">
                      <a:alpha val="50000"/>
                    </a:srgbClr>
                  </a:outerShdw>
                </a:effectLst>
                <a:latin typeface="黑体"/>
              </a:rPr>
              <a:t>工作重在到位</a:t>
            </a:r>
            <a:endParaRPr b="1" lang="en-US" sz="60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080808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8850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五、革除工作不到位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五大陋习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755640" y="1413000"/>
            <a:ext cx="3808440" cy="863640"/>
          </a:xfrm>
          <a:prstGeom prst="rightArrow">
            <a:avLst>
              <a:gd name="adj1" fmla="val 50000"/>
              <a:gd name="adj2" fmla="val 110244"/>
            </a:avLst>
          </a:prstGeom>
          <a:solidFill>
            <a:srgbClr val="ffff00"/>
          </a:solidFill>
          <a:ln cap="sq" w="12600">
            <a:solidFill>
              <a:srgbClr val="080808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黑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   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861080" y="1479600"/>
            <a:ext cx="2087280" cy="695160"/>
          </a:xfrm>
          <a:prstGeom prst="flowChartAlternateProcess">
            <a:avLst/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en-US" sz="6000" spc="-1" strike="noStrike">
                <a:solidFill>
                  <a:srgbClr val="ff3300"/>
                </a:solidFill>
                <a:latin typeface="Tahoma"/>
                <a:ea typeface="黑体"/>
              </a:rPr>
              <a:t>   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755640" y="2384280"/>
            <a:ext cx="3808440" cy="863640"/>
          </a:xfrm>
          <a:prstGeom prst="rightArrow">
            <a:avLst>
              <a:gd name="adj1" fmla="val 50000"/>
              <a:gd name="adj2" fmla="val 110244"/>
            </a:avLst>
          </a:prstGeom>
          <a:solidFill>
            <a:srgbClr val="ffff00"/>
          </a:solidFill>
          <a:ln cap="sq" w="12600">
            <a:solidFill>
              <a:srgbClr val="080808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黑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   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4861080" y="2451240"/>
            <a:ext cx="2087280" cy="695160"/>
          </a:xfrm>
          <a:prstGeom prst="flowChartAlternateProcess">
            <a:avLst/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en-US" sz="6000" spc="-1" strike="noStrike">
                <a:solidFill>
                  <a:srgbClr val="ff3300"/>
                </a:solidFill>
                <a:latin typeface="Tahoma"/>
                <a:ea typeface="黑体"/>
              </a:rPr>
              <a:t>   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755640" y="3392640"/>
            <a:ext cx="3808440" cy="863280"/>
          </a:xfrm>
          <a:prstGeom prst="rightArrow">
            <a:avLst>
              <a:gd name="adj1" fmla="val 50000"/>
              <a:gd name="adj2" fmla="val 110290"/>
            </a:avLst>
          </a:prstGeom>
          <a:solidFill>
            <a:srgbClr val="ffff00"/>
          </a:solidFill>
          <a:ln cap="sq" w="12600">
            <a:solidFill>
              <a:srgbClr val="080808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黑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黑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   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861080" y="3459240"/>
            <a:ext cx="2087280" cy="695160"/>
          </a:xfrm>
          <a:prstGeom prst="flowChartAlternateProcess">
            <a:avLst/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en-US" sz="6000" spc="-1" strike="noStrike">
                <a:solidFill>
                  <a:srgbClr val="ff3300"/>
                </a:solidFill>
                <a:latin typeface="Tahoma"/>
                <a:ea typeface="黑体"/>
              </a:rPr>
              <a:t>   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755640" y="5408640"/>
            <a:ext cx="3808440" cy="863640"/>
          </a:xfrm>
          <a:prstGeom prst="rightArrow">
            <a:avLst>
              <a:gd name="adj1" fmla="val 50000"/>
              <a:gd name="adj2" fmla="val 110244"/>
            </a:avLst>
          </a:prstGeom>
          <a:solidFill>
            <a:srgbClr val="ffff00"/>
          </a:solidFill>
          <a:ln cap="sq" w="12600">
            <a:solidFill>
              <a:srgbClr val="080808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黑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黑体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   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4861080" y="5475240"/>
            <a:ext cx="3727440" cy="763560"/>
          </a:xfrm>
          <a:prstGeom prst="flowChartAlternateProcess">
            <a:avLst/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  <a:ea typeface="黑体"/>
              </a:rPr>
              <a:t>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755640" y="4400640"/>
            <a:ext cx="3808440" cy="863640"/>
          </a:xfrm>
          <a:prstGeom prst="rightArrow">
            <a:avLst>
              <a:gd name="adj1" fmla="val 50000"/>
              <a:gd name="adj2" fmla="val 110244"/>
            </a:avLst>
          </a:prstGeom>
          <a:solidFill>
            <a:srgbClr val="ffff00"/>
          </a:solidFill>
          <a:ln cap="sq" w="12600">
            <a:solidFill>
              <a:srgbClr val="080808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黑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黑体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   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4861080" y="4467240"/>
            <a:ext cx="2087280" cy="695160"/>
          </a:xfrm>
          <a:prstGeom prst="flowChartAlternateProcess">
            <a:avLst/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en-US" sz="6000" spc="-1" strike="noStrike">
                <a:solidFill>
                  <a:srgbClr val="ff3300"/>
                </a:solidFill>
                <a:latin typeface="Tahoma"/>
                <a:ea typeface="黑体"/>
              </a:rPr>
              <a:t>   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7850160" cy="100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六、工作到位需团队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配合到位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4" name="Picture 16" descr="2009111210494376"/>
          <p:cNvPicPr/>
          <p:nvPr/>
        </p:nvPicPr>
        <p:blipFill>
          <a:blip r:embed="rId1"/>
          <a:stretch/>
        </p:blipFill>
        <p:spPr>
          <a:xfrm>
            <a:off x="2614680" y="1484280"/>
            <a:ext cx="41893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3948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六、工作到位需团队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配合到位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96" name="Diagram 17"/>
          <p:cNvGrpSpPr/>
          <p:nvPr/>
        </p:nvGrpSpPr>
        <p:grpSpPr>
          <a:xfrm>
            <a:off x="1982520" y="2087280"/>
            <a:ext cx="5181480" cy="3967560"/>
            <a:chOff x="1982520" y="2087280"/>
            <a:chExt cx="5181480" cy="3967560"/>
          </a:xfrm>
        </p:grpSpPr>
        <p:sp>
          <p:nvSpPr>
            <p:cNvPr id="97" name="_s1028"/>
            <p:cNvSpPr/>
            <p:nvPr/>
          </p:nvSpPr>
          <p:spPr>
            <a:xfrm>
              <a:off x="2875320" y="2140560"/>
              <a:ext cx="3396600" cy="2619720"/>
            </a:xfrm>
            <a:custGeom>
              <a:avLst/>
              <a:gdLst>
                <a:gd name="textAreaLeft" fmla="*/ 0 w 3396600"/>
                <a:gd name="textAreaRight" fmla="*/ 3396960 w 3396600"/>
                <a:gd name="textAreaTop" fmla="*/ 0 h 2619720"/>
                <a:gd name="textAreaBottom" fmla="*/ 2620080 h 26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029"/>
            <p:cNvSpPr/>
            <p:nvPr/>
          </p:nvSpPr>
          <p:spPr>
            <a:xfrm rot="7200000">
              <a:off x="3728160" y="2372760"/>
              <a:ext cx="2619720" cy="3396600"/>
            </a:xfrm>
            <a:custGeom>
              <a:avLst/>
              <a:gdLst>
                <a:gd name="textAreaLeft" fmla="*/ 0 w 2619720"/>
                <a:gd name="textAreaRight" fmla="*/ 2620080 w 2619720"/>
                <a:gd name="textAreaTop" fmla="*/ 0 h 3396600"/>
                <a:gd name="textAreaBottom" fmla="*/ 3396960 h 339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030"/>
            <p:cNvSpPr/>
            <p:nvPr/>
          </p:nvSpPr>
          <p:spPr>
            <a:xfrm rot="14400000">
              <a:off x="2797920" y="2372400"/>
              <a:ext cx="2619720" cy="3396600"/>
            </a:xfrm>
            <a:custGeom>
              <a:avLst/>
              <a:gdLst>
                <a:gd name="textAreaLeft" fmla="*/ 0 w 2619720"/>
                <a:gd name="textAreaRight" fmla="*/ 2620080 w 2619720"/>
                <a:gd name="textAreaTop" fmla="*/ 0 h 3396600"/>
                <a:gd name="textAreaBottom" fmla="*/ 3396960 h 339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1031"/>
            <p:cNvSpPr/>
            <p:nvPr/>
          </p:nvSpPr>
          <p:spPr>
            <a:xfrm>
              <a:off x="5502960" y="2619720"/>
              <a:ext cx="136260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ff"/>
                  </a:solidFill>
                  <a:uFillTx/>
                  <a:latin typeface="Arial"/>
                  <a:ea typeface="黑体"/>
                </a:rPr>
                <a:t>        </a:t>
              </a:r>
              <a:r>
                <a:rPr b="1" lang="en-US" sz="4000" spc="-1" strike="noStrike" u="sng">
                  <a:solidFill>
                    <a:srgbClr val="ffffff"/>
                  </a:solidFill>
                  <a:uFillTx/>
                  <a:latin typeface="Arial"/>
                  <a:ea typeface="黑体"/>
                </a:rPr>
                <a:t>!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032"/>
            <p:cNvSpPr/>
            <p:nvPr/>
          </p:nvSpPr>
          <p:spPr>
            <a:xfrm>
              <a:off x="3894120" y="4774320"/>
              <a:ext cx="136224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ff"/>
                  </a:solidFill>
                  <a:uFillTx/>
                  <a:latin typeface="Arial"/>
                  <a:ea typeface="黑体"/>
                </a:rPr>
                <a:t>        </a:t>
              </a:r>
              <a:r>
                <a:rPr b="1" lang="en-US" sz="4000" spc="-1" strike="noStrike" u="sng">
                  <a:solidFill>
                    <a:srgbClr val="ffffff"/>
                  </a:solidFill>
                  <a:uFillTx/>
                  <a:latin typeface="Arial"/>
                  <a:ea typeface="黑体"/>
                </a:rPr>
                <a:t>!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2279520" y="2621160"/>
              <a:ext cx="136260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ffff"/>
                  </a:solidFill>
                  <a:uFillTx/>
                  <a:latin typeface="Arial"/>
                  <a:ea typeface="黑体"/>
                </a:rPr>
                <a:t>        </a:t>
              </a:r>
              <a:r>
                <a:rPr b="1" lang="en-US" sz="4000" spc="-1" strike="noStrike" u="sng">
                  <a:solidFill>
                    <a:srgbClr val="ffffff"/>
                  </a:solidFill>
                  <a:uFillTx/>
                  <a:latin typeface="Arial"/>
                  <a:ea typeface="黑体"/>
                </a:rPr>
                <a:t>!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6920" y="330120"/>
            <a:ext cx="792036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七、结果到位才算是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真正到位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079720" y="1916280"/>
            <a:ext cx="501300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工作到位最重要的核心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</a:t>
            </a:r>
            <a:r>
              <a:rPr b="1" i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68360" y="3068640"/>
            <a:ext cx="8316720" cy="2135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701"/>
                </a:solidFill>
                <a:latin typeface="黑体"/>
                <a:ea typeface="黑体"/>
              </a:rPr>
              <a:t>为什么单位聘你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701"/>
                </a:solidFill>
                <a:latin typeface="黑体"/>
                <a:ea typeface="黑体"/>
              </a:rPr>
              <a:t>为什么单位给你发薪水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e701"/>
                </a:solidFill>
                <a:latin typeface="黑体"/>
                <a:ea typeface="黑体"/>
              </a:rPr>
              <a:t>因为你在为单位</a:t>
            </a:r>
            <a:r>
              <a:rPr b="1" lang="zh-CN" sz="5400" spc="-1" strike="noStrike" u="sng">
                <a:solidFill>
                  <a:srgbClr val="ffe701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5400" spc="-1" strike="noStrike">
                <a:solidFill>
                  <a:srgbClr val="ffe701"/>
                </a:solidFill>
                <a:latin typeface="黑体"/>
                <a:ea typeface="黑体"/>
              </a:rPr>
              <a:t>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081080" y="476280"/>
            <a:ext cx="8028000" cy="1099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取得结果的</a:t>
            </a: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方法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en-US" sz="6600" spc="-1" strike="noStrike">
                <a:solidFill>
                  <a:srgbClr val="ffffff"/>
                </a:solidFill>
                <a:latin typeface="黑体"/>
                <a:ea typeface="黑体"/>
              </a:rPr>
              <a:t>PDC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1116000" y="1700280"/>
            <a:ext cx="6984720" cy="4323600"/>
            <a:chOff x="1116000" y="1700280"/>
            <a:chExt cx="6984720" cy="4323600"/>
          </a:xfrm>
        </p:grpSpPr>
        <p:sp>
          <p:nvSpPr>
            <p:cNvPr id="108" name="Line 4"/>
            <p:cNvSpPr/>
            <p:nvPr/>
          </p:nvSpPr>
          <p:spPr>
            <a:xfrm>
              <a:off x="5213160" y="1700280"/>
              <a:ext cx="1440" cy="151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5"/>
            <p:cNvSpPr/>
            <p:nvPr/>
          </p:nvSpPr>
          <p:spPr>
            <a:xfrm>
              <a:off x="7432200" y="3475800"/>
              <a:ext cx="654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 flipH="1">
              <a:off x="2566440" y="3475800"/>
              <a:ext cx="5814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018320" y="4093200"/>
              <a:ext cx="1440" cy="228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6749640" y="4093200"/>
              <a:ext cx="1440" cy="228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9"/>
            <p:cNvSpPr/>
            <p:nvPr/>
          </p:nvSpPr>
          <p:spPr>
            <a:xfrm>
              <a:off x="3420360" y="5250960"/>
              <a:ext cx="1440" cy="228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0"/>
            <p:cNvSpPr/>
            <p:nvPr/>
          </p:nvSpPr>
          <p:spPr>
            <a:xfrm>
              <a:off x="6749640" y="5250960"/>
              <a:ext cx="1440" cy="228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"/>
            <p:cNvSpPr/>
            <p:nvPr/>
          </p:nvSpPr>
          <p:spPr>
            <a:xfrm>
              <a:off x="2061720" y="2081520"/>
              <a:ext cx="5020200" cy="365004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3662640" y="1862640"/>
              <a:ext cx="1819080" cy="7297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P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：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6281640" y="3541680"/>
              <a:ext cx="1819080" cy="7297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D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：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3662640" y="5294160"/>
              <a:ext cx="1819080" cy="7297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C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：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116000" y="3541680"/>
              <a:ext cx="1819080" cy="7297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A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：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6"/>
            <p:cNvSpPr/>
            <p:nvPr/>
          </p:nvSpPr>
          <p:spPr>
            <a:xfrm>
              <a:off x="3735000" y="3322800"/>
              <a:ext cx="1650240" cy="129780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落实过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17"/>
            <p:cNvSpPr/>
            <p:nvPr/>
          </p:nvSpPr>
          <p:spPr>
            <a:xfrm>
              <a:off x="4608720" y="2592720"/>
              <a:ext cx="0" cy="657360"/>
            </a:xfrm>
            <a:prstGeom prst="line">
              <a:avLst/>
            </a:prstGeom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18"/>
            <p:cNvSpPr/>
            <p:nvPr/>
          </p:nvSpPr>
          <p:spPr>
            <a:xfrm>
              <a:off x="4608720" y="4636800"/>
              <a:ext cx="0" cy="657360"/>
            </a:xfrm>
            <a:prstGeom prst="line">
              <a:avLst/>
            </a:prstGeom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19"/>
            <p:cNvSpPr/>
            <p:nvPr/>
          </p:nvSpPr>
          <p:spPr>
            <a:xfrm>
              <a:off x="2935080" y="3906720"/>
              <a:ext cx="799920" cy="0"/>
            </a:xfrm>
            <a:prstGeom prst="line">
              <a:avLst/>
            </a:prstGeom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20"/>
            <p:cNvSpPr/>
            <p:nvPr/>
          </p:nvSpPr>
          <p:spPr>
            <a:xfrm>
              <a:off x="5481720" y="3906720"/>
              <a:ext cx="799920" cy="0"/>
            </a:xfrm>
            <a:prstGeom prst="line">
              <a:avLst/>
            </a:prstGeom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1"/>
            <p:cNvSpPr/>
            <p:nvPr/>
          </p:nvSpPr>
          <p:spPr>
            <a:xfrm>
              <a:off x="6936120" y="3322800"/>
              <a:ext cx="0" cy="146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22"/>
            <p:cNvSpPr/>
            <p:nvPr/>
          </p:nvSpPr>
          <p:spPr>
            <a:xfrm flipH="1">
              <a:off x="5408280" y="5587200"/>
              <a:ext cx="1458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23"/>
            <p:cNvSpPr/>
            <p:nvPr/>
          </p:nvSpPr>
          <p:spPr>
            <a:xfrm flipV="1">
              <a:off x="2134800" y="4199040"/>
              <a:ext cx="0" cy="146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24"/>
            <p:cNvSpPr/>
            <p:nvPr/>
          </p:nvSpPr>
          <p:spPr>
            <a:xfrm>
              <a:off x="3617640" y="2227680"/>
              <a:ext cx="117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081080" y="476280"/>
            <a:ext cx="8028000" cy="1099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取得结果的</a:t>
            </a: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方法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en-US" sz="6600" spc="-1" strike="noStrike">
                <a:solidFill>
                  <a:srgbClr val="ffffff"/>
                </a:solidFill>
                <a:latin typeface="黑体"/>
                <a:ea typeface="黑体"/>
              </a:rPr>
              <a:t>PDC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826920" y="2130120"/>
            <a:ext cx="7199280" cy="3856680"/>
            <a:chOff x="826920" y="2130120"/>
            <a:chExt cx="7199280" cy="3856680"/>
          </a:xfrm>
        </p:grpSpPr>
        <p:sp>
          <p:nvSpPr>
            <p:cNvPr id="131" name="Line 4"/>
            <p:cNvSpPr/>
            <p:nvPr/>
          </p:nvSpPr>
          <p:spPr>
            <a:xfrm flipH="1">
              <a:off x="2134800" y="3657600"/>
              <a:ext cx="580320" cy="1800"/>
            </a:xfrm>
            <a:prstGeom prst="line">
              <a:avLst/>
            </a:prstGeom>
            <a:ln cap="sq"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"/>
            <p:cNvSpPr/>
            <p:nvPr/>
          </p:nvSpPr>
          <p:spPr>
            <a:xfrm>
              <a:off x="3368520" y="4213440"/>
              <a:ext cx="1440" cy="207720"/>
            </a:xfrm>
            <a:prstGeom prst="line">
              <a:avLst/>
            </a:prstGeom>
            <a:ln cap="sq"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2860560" y="5254560"/>
              <a:ext cx="1800" cy="208080"/>
            </a:xfrm>
            <a:prstGeom prst="line">
              <a:avLst/>
            </a:prstGeom>
            <a:ln cap="sq"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7"/>
            <p:cNvSpPr/>
            <p:nvPr/>
          </p:nvSpPr>
          <p:spPr>
            <a:xfrm>
              <a:off x="4454640" y="2319480"/>
              <a:ext cx="1497960" cy="839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4967280" y="2198880"/>
              <a:ext cx="542520" cy="4176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9"/>
            <p:cNvSpPr/>
            <p:nvPr/>
          </p:nvSpPr>
          <p:spPr>
            <a:xfrm>
              <a:off x="5731560" y="2662200"/>
              <a:ext cx="542160" cy="3700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>
              <a:off x="4894560" y="2963880"/>
              <a:ext cx="542520" cy="3747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4168440" y="2546280"/>
              <a:ext cx="542520" cy="3524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>
              <a:off x="5984640" y="2543760"/>
              <a:ext cx="33840" cy="6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 flipH="1">
              <a:off x="5468040" y="3141720"/>
              <a:ext cx="414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 flipH="1" flipV="1">
              <a:off x="4530600" y="2823840"/>
              <a:ext cx="1800" cy="33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4937760" y="2354400"/>
              <a:ext cx="2304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2783160" y="3500640"/>
              <a:ext cx="1497960" cy="8380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7"/>
            <p:cNvSpPr/>
            <p:nvPr/>
          </p:nvSpPr>
          <p:spPr>
            <a:xfrm>
              <a:off x="3295440" y="3380040"/>
              <a:ext cx="543960" cy="4158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8"/>
            <p:cNvSpPr/>
            <p:nvPr/>
          </p:nvSpPr>
          <p:spPr>
            <a:xfrm>
              <a:off x="4061160" y="3841920"/>
              <a:ext cx="542160" cy="3715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19"/>
            <p:cNvSpPr/>
            <p:nvPr/>
          </p:nvSpPr>
          <p:spPr>
            <a:xfrm>
              <a:off x="3224520" y="4143600"/>
              <a:ext cx="542520" cy="3762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20"/>
            <p:cNvSpPr/>
            <p:nvPr/>
          </p:nvSpPr>
          <p:spPr>
            <a:xfrm>
              <a:off x="2496960" y="3727440"/>
              <a:ext cx="543960" cy="3524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21"/>
            <p:cNvSpPr/>
            <p:nvPr/>
          </p:nvSpPr>
          <p:spPr>
            <a:xfrm>
              <a:off x="4312080" y="3724560"/>
              <a:ext cx="35640" cy="57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22"/>
            <p:cNvSpPr/>
            <p:nvPr/>
          </p:nvSpPr>
          <p:spPr>
            <a:xfrm flipH="1">
              <a:off x="3796200" y="4321440"/>
              <a:ext cx="4284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 flipH="1" flipV="1">
              <a:off x="2860200" y="4003920"/>
              <a:ext cx="1800" cy="33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>
              <a:off x="3267360" y="3533760"/>
              <a:ext cx="2304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25"/>
            <p:cNvSpPr/>
            <p:nvPr/>
          </p:nvSpPr>
          <p:spPr>
            <a:xfrm>
              <a:off x="1185480" y="4749840"/>
              <a:ext cx="1497960" cy="83844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1698120" y="4629240"/>
              <a:ext cx="543960" cy="4158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27"/>
            <p:cNvSpPr/>
            <p:nvPr/>
          </p:nvSpPr>
          <p:spPr>
            <a:xfrm>
              <a:off x="2462400" y="5092920"/>
              <a:ext cx="543600" cy="3697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28"/>
            <p:cNvSpPr/>
            <p:nvPr/>
          </p:nvSpPr>
          <p:spPr>
            <a:xfrm>
              <a:off x="1625400" y="5392800"/>
              <a:ext cx="543960" cy="3762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29"/>
            <p:cNvSpPr/>
            <p:nvPr/>
          </p:nvSpPr>
          <p:spPr>
            <a:xfrm>
              <a:off x="899640" y="4977000"/>
              <a:ext cx="542520" cy="3524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cffff"/>
                </a:gs>
                <a:gs pos="100000">
                  <a:srgbClr val="3399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30"/>
            <p:cNvSpPr/>
            <p:nvPr/>
          </p:nvSpPr>
          <p:spPr>
            <a:xfrm>
              <a:off x="2715480" y="4974480"/>
              <a:ext cx="33840" cy="6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H="1">
              <a:off x="2198880" y="5570640"/>
              <a:ext cx="4284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 flipV="1">
              <a:off x="1263240" y="5254200"/>
              <a:ext cx="0" cy="33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>
              <a:off x="1670040" y="4784760"/>
              <a:ext cx="21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34"/>
            <p:cNvSpPr/>
            <p:nvPr/>
          </p:nvSpPr>
          <p:spPr>
            <a:xfrm>
              <a:off x="826920" y="5878440"/>
              <a:ext cx="232452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3151440" y="4629240"/>
              <a:ext cx="1800" cy="1249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 flipV="1">
              <a:off x="6419160" y="2130120"/>
              <a:ext cx="1440" cy="1249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37"/>
            <p:cNvSpPr/>
            <p:nvPr/>
          </p:nvSpPr>
          <p:spPr>
            <a:xfrm flipV="1">
              <a:off x="4749120" y="3380040"/>
              <a:ext cx="1800" cy="1249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38"/>
            <p:cNvSpPr/>
            <p:nvPr/>
          </p:nvSpPr>
          <p:spPr>
            <a:xfrm>
              <a:off x="4749120" y="3380040"/>
              <a:ext cx="167004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>
              <a:off x="3151440" y="4629240"/>
              <a:ext cx="159732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 flipV="1">
              <a:off x="3224520" y="2545920"/>
              <a:ext cx="4284360" cy="3402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41"/>
            <p:cNvSpPr/>
            <p:nvPr/>
          </p:nvSpPr>
          <p:spPr>
            <a:xfrm>
              <a:off x="5266440" y="3754440"/>
              <a:ext cx="2759760" cy="22323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特　点：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00"/>
                  </a:solidFill>
                  <a:latin typeface="Arial"/>
                  <a:ea typeface="华文中宋"/>
                </a:rPr>
                <a:t>——</a:t>
              </a: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周而复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00"/>
                  </a:solidFill>
                  <a:latin typeface="Arial"/>
                  <a:ea typeface="华文中宋"/>
                </a:rPr>
                <a:t>——</a:t>
              </a:r>
              <a:r>
                <a:rPr b="1" lang="en-US" sz="2600" spc="-1" strike="noStrike">
                  <a:solidFill>
                    <a:srgbClr val="00b000"/>
                  </a:solidFill>
                  <a:latin typeface="华文中宋"/>
                  <a:ea typeface="华文中宋"/>
                </a:rPr>
                <a:t> </a:t>
              </a: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大环带小环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00"/>
                  </a:solidFill>
                  <a:latin typeface="Arial"/>
                  <a:ea typeface="华文中宋"/>
                </a:rPr>
                <a:t>——</a:t>
              </a:r>
              <a:r>
                <a:rPr b="1" lang="en-US" sz="2600" spc="-1" strike="noStrike">
                  <a:solidFill>
                    <a:srgbClr val="00b000"/>
                  </a:solidFill>
                  <a:latin typeface="华文中宋"/>
                  <a:ea typeface="华文中宋"/>
                </a:rPr>
                <a:t> </a:t>
              </a: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阶梯式上升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42"/>
            <p:cNvSpPr/>
            <p:nvPr/>
          </p:nvSpPr>
          <p:spPr>
            <a:xfrm>
              <a:off x="6419160" y="2130480"/>
              <a:ext cx="130788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43"/>
            <p:cNvSpPr/>
            <p:nvPr/>
          </p:nvSpPr>
          <p:spPr>
            <a:xfrm>
              <a:off x="972360" y="3240360"/>
              <a:ext cx="1016640" cy="763560"/>
            </a:xfrm>
            <a:prstGeom prst="wedgeEllipseCallout">
              <a:avLst>
                <a:gd name="adj1" fmla="val 96875"/>
                <a:gd name="adj2" fmla="val -1513"/>
              </a:avLst>
            </a:prstGeom>
            <a:solidFill>
              <a:srgbClr val="ffff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44"/>
            <p:cNvSpPr/>
            <p:nvPr/>
          </p:nvSpPr>
          <p:spPr>
            <a:xfrm>
              <a:off x="975600" y="3380040"/>
              <a:ext cx="1001880" cy="459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00"/>
                  </a:solidFill>
                  <a:latin typeface="Arial"/>
                </a:rPr>
                <a:t>推 进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45"/>
            <p:cNvSpPr/>
            <p:nvPr/>
          </p:nvSpPr>
          <p:spPr>
            <a:xfrm>
              <a:off x="2569680" y="2338560"/>
              <a:ext cx="1016640" cy="763560"/>
            </a:xfrm>
            <a:prstGeom prst="wedgeEllipseCallout">
              <a:avLst>
                <a:gd name="adj1" fmla="val 103569"/>
                <a:gd name="adj2" fmla="val -379"/>
              </a:avLst>
            </a:prstGeom>
            <a:solidFill>
              <a:srgbClr val="ffff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46"/>
            <p:cNvSpPr/>
            <p:nvPr/>
          </p:nvSpPr>
          <p:spPr>
            <a:xfrm>
              <a:off x="2495520" y="2421000"/>
              <a:ext cx="1330920" cy="459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00"/>
                  </a:solidFill>
                  <a:latin typeface="Arial"/>
                </a:rPr>
                <a:t>再推进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八、驱动工作到位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五种力量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050920" y="1700280"/>
            <a:ext cx="5546880" cy="57456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、驱动力来自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2050920" y="2565360"/>
            <a:ext cx="5546880" cy="57456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、驱动力来自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2050920" y="3429000"/>
            <a:ext cx="5546880" cy="57456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黑体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、驱动力来自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2050920" y="4292640"/>
            <a:ext cx="5546880" cy="57456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黑体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、驱动力来自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2050920" y="5157720"/>
            <a:ext cx="5546880" cy="57492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黑体"/>
              </a:rPr>
              <a:t>5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、驱动力来自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0000" y="260280"/>
            <a:ext cx="770436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一、工作到位的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三把标尺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847880" y="1916280"/>
            <a:ext cx="5388120" cy="70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101"/>
                </a:solidFill>
                <a:latin typeface="黑体"/>
                <a:ea typeface="黑体"/>
              </a:rPr>
              <a:t>（</a:t>
            </a:r>
            <a:r>
              <a:rPr b="0" lang="en-US" sz="4000" spc="-1" strike="noStrike">
                <a:solidFill>
                  <a:srgbClr val="ff0101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0101"/>
                </a:solidFill>
                <a:latin typeface="黑体"/>
                <a:ea typeface="黑体"/>
              </a:rPr>
              <a:t>）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833480" y="3030480"/>
            <a:ext cx="5400720" cy="70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101"/>
                </a:solidFill>
                <a:latin typeface="黑体"/>
                <a:ea typeface="黑体"/>
              </a:rPr>
              <a:t>（</a:t>
            </a:r>
            <a:r>
              <a:rPr b="0" lang="en-US" sz="4000" spc="-1" strike="noStrike">
                <a:solidFill>
                  <a:srgbClr val="ff0101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ff0101"/>
                </a:solidFill>
                <a:latin typeface="黑体"/>
                <a:ea typeface="黑体"/>
              </a:rPr>
              <a:t>）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814400" y="4167360"/>
            <a:ext cx="5415120" cy="70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101"/>
                </a:solidFill>
                <a:latin typeface="黑体"/>
                <a:ea typeface="黑体"/>
              </a:rPr>
              <a:t>（</a:t>
            </a:r>
            <a:r>
              <a:rPr b="0" lang="en-US" sz="4000" spc="-1" strike="noStrike">
                <a:solidFill>
                  <a:srgbClr val="ff0101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ff0101"/>
                </a:solidFill>
                <a:latin typeface="黑体"/>
                <a:ea typeface="黑体"/>
              </a:rPr>
              <a:t>）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546120"/>
            <a:ext cx="810108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二、工作到位的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两项修炼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6" name="Group 24"/>
          <p:cNvGrpSpPr/>
          <p:nvPr/>
        </p:nvGrpSpPr>
        <p:grpSpPr>
          <a:xfrm>
            <a:off x="2627280" y="1628640"/>
            <a:ext cx="1873440" cy="4176720"/>
            <a:chOff x="2627280" y="1628640"/>
            <a:chExt cx="1873440" cy="4176720"/>
          </a:xfrm>
        </p:grpSpPr>
        <p:sp>
          <p:nvSpPr>
            <p:cNvPr id="57" name="Oval 25"/>
            <p:cNvSpPr/>
            <p:nvPr/>
          </p:nvSpPr>
          <p:spPr>
            <a:xfrm>
              <a:off x="2627280" y="1628640"/>
              <a:ext cx="1873440" cy="4176720"/>
            </a:xfrm>
            <a:prstGeom prst="ellipse">
              <a:avLst/>
            </a:prstGeom>
            <a:solidFill>
              <a:srgbClr val="ffe701"/>
            </a:solidFill>
            <a:ln cap="sq" w="93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33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WordArt 26"/>
            <p:cNvSpPr txBox="1"/>
            <p:nvPr/>
          </p:nvSpPr>
          <p:spPr>
            <a:xfrm rot="5400000">
              <a:off x="1916640" y="3174120"/>
              <a:ext cx="3355920" cy="10713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  <a:latin typeface="黑体"/>
                </a:rPr>
                <a:t>左手做人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grpSp>
        <p:nvGrpSpPr>
          <p:cNvPr id="59" name="Group 27"/>
          <p:cNvGrpSpPr/>
          <p:nvPr/>
        </p:nvGrpSpPr>
        <p:grpSpPr>
          <a:xfrm>
            <a:off x="5075280" y="1628640"/>
            <a:ext cx="1873080" cy="4176720"/>
            <a:chOff x="5075280" y="1628640"/>
            <a:chExt cx="1873080" cy="4176720"/>
          </a:xfrm>
        </p:grpSpPr>
        <p:sp>
          <p:nvSpPr>
            <p:cNvPr id="60" name="Oval 28"/>
            <p:cNvSpPr/>
            <p:nvPr/>
          </p:nvSpPr>
          <p:spPr>
            <a:xfrm>
              <a:off x="5075280" y="1628640"/>
              <a:ext cx="1873080" cy="4176720"/>
            </a:xfrm>
            <a:prstGeom prst="ellipse">
              <a:avLst/>
            </a:prstGeom>
            <a:solidFill>
              <a:srgbClr val="ffe701"/>
            </a:solidFill>
            <a:ln cap="sq" w="93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33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WordArt 29"/>
            <p:cNvSpPr txBox="1"/>
            <p:nvPr/>
          </p:nvSpPr>
          <p:spPr>
            <a:xfrm rot="5400000">
              <a:off x="4364280" y="3173760"/>
              <a:ext cx="3355920" cy="10717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  <a:latin typeface="黑体"/>
                </a:rPr>
                <a:t>右手做事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p:transition spd="slow"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482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黑体"/>
              </a:rPr>
              <a:t>       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当我们梦想更大成功的时候，我们有没有更刻苦的准备？当我们梦想成为领袖的时候，我们有没有服务于人的谦恭？我们常常只希望改变别人，我们知道什么时候改变自己吗？当我们每天都在批评别人的时候，我们知道该怎样自我反省吗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912320FF7BDA68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054080"/>
            <a:ext cx="360036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8000" y="260280"/>
            <a:ext cx="7667640" cy="92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三、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态度到位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才能工作到位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5" name="Picture 3" descr="摆正心态干工作"/>
          <p:cNvPicPr/>
          <p:nvPr/>
        </p:nvPicPr>
        <p:blipFill>
          <a:blip r:embed="rId1"/>
          <a:stretch/>
        </p:blipFill>
        <p:spPr>
          <a:xfrm>
            <a:off x="3059280" y="1628640"/>
            <a:ext cx="3012840" cy="4175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7451640" cy="92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三、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态度到位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才能工作到位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74680" y="2060640"/>
            <a:ext cx="84740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领导（老板）其实不容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941840" y="3284640"/>
            <a:ext cx="5401440" cy="1677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领导是这个世界上最苦、最累、最孤独、最不容易的一群人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假如你当了领导，你就知道“领导”这两个字的真正含义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站在领导的角度想问题，你就是领导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525080" cy="92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三、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态度到位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才能工作到位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50920" y="1844640"/>
            <a:ext cx="87138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不主动，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很被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2852640"/>
            <a:ext cx="9144000" cy="2896920"/>
          </a:xfrm>
          <a:prstGeom prst="rect">
            <a:avLst/>
          </a:pr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　　我给你单位（公司）打工，你付我工资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　　工资给得多就多做一点，工资给得少就少做一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　　你出一分钱，我做一点工作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　　多一点工作我不干，多一份责任我不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189000"/>
            <a:ext cx="73803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三、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态度到位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才能工作到位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0920" y="1844640"/>
            <a:ext cx="87138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勇于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才能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214280" y="285264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负责任是一个人的“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”的体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216080" y="3860640"/>
            <a:ext cx="629136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你的“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”与“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”成正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四、确保工作到位的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五大作风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629080" y="1917720"/>
            <a:ext cx="4319280" cy="64764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629080" y="2709720"/>
            <a:ext cx="4319280" cy="64800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629080" y="3500280"/>
            <a:ext cx="4319280" cy="57492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黑体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629080" y="4294080"/>
            <a:ext cx="4319280" cy="57492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黑体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629080" y="5086440"/>
            <a:ext cx="4319280" cy="57456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黑体"/>
              </a:rPr>
              <a:t>5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7-10-20T13:09:03Z</dcterms:created>
  <dc:creator>SKYLZY</dc:creator>
  <dc:description/>
  <dc:language>en-US</dc:language>
  <cp:lastModifiedBy>Administrator</cp:lastModifiedBy>
  <dcterms:modified xsi:type="dcterms:W3CDTF">2015-09-11T06:10:15Z</dcterms:modified>
  <cp:revision>360</cp:revision>
  <dc:subject/>
  <dc:title>幻灯片 1</dc:title>
</cp:coreProperties>
</file>