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5F1-1930-42B4-B097-9DD27B02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EED-6369-479B-8014-C3340097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8FD-618F-4093-B488-1FD6ABE7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EF9-173E-4685-BB0D-F57C0595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609-9711-4BDA-B5E6-EB834F43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5AF-D802-41A3-B9F4-0CDDB479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739-8F2C-4E13-8F8C-D6F0385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089-C7B8-451A-A421-7F5894D2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E65-D80B-472D-B6E0-9C38BDB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8B5-D3EB-41E8-8B4A-845A78B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CF8-2D37-45CF-9356-83870AF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DCB-5D18-4521-989D-0C7186A3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C61D-50A5-441D-8A33-03D5D063EE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00080" y="350028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4000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组合 9" descr=""/>
          <p:cNvPicPr/>
          <p:nvPr/>
        </p:nvPicPr>
        <p:blipFill>
          <a:blip r:embed="rId2"/>
          <a:stretch/>
        </p:blipFill>
        <p:spPr>
          <a:xfrm>
            <a:off x="2803680" y="1420920"/>
            <a:ext cx="3921120" cy="871560"/>
          </a:xfrm>
          <a:prstGeom prst="rect">
            <a:avLst/>
          </a:prstGeom>
          <a:ln w="0">
            <a:noFill/>
          </a:ln>
        </p:spPr>
      </p:pic>
      <p:pic>
        <p:nvPicPr>
          <p:cNvPr id="50" name="组合 13" descr=""/>
          <p:cNvPicPr/>
          <p:nvPr/>
        </p:nvPicPr>
        <p:blipFill>
          <a:blip r:embed="rId3"/>
          <a:stretch/>
        </p:blipFill>
        <p:spPr>
          <a:xfrm>
            <a:off x="2792520" y="2352600"/>
            <a:ext cx="3913200" cy="871560"/>
          </a:xfrm>
          <a:prstGeom prst="rect">
            <a:avLst/>
          </a:prstGeom>
          <a:ln w="0">
            <a:noFill/>
          </a:ln>
        </p:spPr>
      </p:pic>
      <p:pic>
        <p:nvPicPr>
          <p:cNvPr id="51" name="组合 16" descr=""/>
          <p:cNvPicPr/>
          <p:nvPr/>
        </p:nvPicPr>
        <p:blipFill>
          <a:blip r:embed="rId4"/>
          <a:stretch/>
        </p:blipFill>
        <p:spPr>
          <a:xfrm>
            <a:off x="2803680" y="3279600"/>
            <a:ext cx="3921120" cy="871560"/>
          </a:xfrm>
          <a:prstGeom prst="rect">
            <a:avLst/>
          </a:prstGeom>
          <a:ln w="0">
            <a:noFill/>
          </a:ln>
        </p:spPr>
      </p:pic>
      <p:pic>
        <p:nvPicPr>
          <p:cNvPr id="52" name="组合 19" descr=""/>
          <p:cNvPicPr/>
          <p:nvPr/>
        </p:nvPicPr>
        <p:blipFill>
          <a:blip r:embed="rId5"/>
          <a:stretch/>
        </p:blipFill>
        <p:spPr>
          <a:xfrm>
            <a:off x="2803680" y="4206960"/>
            <a:ext cx="3921120" cy="871560"/>
          </a:xfrm>
          <a:prstGeom prst="rect">
            <a:avLst/>
          </a:prstGeom>
          <a:ln w="0">
            <a:noFill/>
          </a:ln>
        </p:spPr>
      </p:pic>
      <p:sp>
        <p:nvSpPr>
          <p:cNvPr id="53" name="矩形 20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497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5"/>
          <p:cNvSpPr/>
          <p:nvPr/>
        </p:nvSpPr>
        <p:spPr>
          <a:xfrm>
            <a:off x="1806480" y="1285920"/>
            <a:ext cx="180360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extBox 11" descr=""/>
          <p:cNvPicPr/>
          <p:nvPr/>
        </p:nvPicPr>
        <p:blipFill>
          <a:blip r:embed="rId1"/>
          <a:stretch/>
        </p:blipFill>
        <p:spPr>
          <a:xfrm>
            <a:off x="1006560" y="542880"/>
            <a:ext cx="34002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64" name="椭圆 12"/>
          <p:cNvGrpSpPr/>
          <p:nvPr/>
        </p:nvGrpSpPr>
        <p:grpSpPr>
          <a:xfrm>
            <a:off x="2610000" y="1566720"/>
            <a:ext cx="188640" cy="189000"/>
            <a:chOff x="2610000" y="1566720"/>
            <a:chExt cx="188640" cy="189000"/>
          </a:xfrm>
        </p:grpSpPr>
        <p:pic>
          <p:nvPicPr>
            <p:cNvPr id="65" name="椭圆 12" descr=""/>
            <p:cNvPicPr/>
            <p:nvPr/>
          </p:nvPicPr>
          <p:blipFill>
            <a:blip r:embed="rId2"/>
            <a:stretch/>
          </p:blipFill>
          <p:spPr>
            <a:xfrm>
              <a:off x="2610000" y="1566720"/>
              <a:ext cx="18864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649600" y="1606680"/>
              <a:ext cx="1112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 13"/>
          <p:cNvSpPr/>
          <p:nvPr/>
        </p:nvSpPr>
        <p:spPr>
          <a:xfrm>
            <a:off x="26780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389412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d17355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extBox 15" descr=""/>
          <p:cNvPicPr/>
          <p:nvPr/>
        </p:nvPicPr>
        <p:blipFill>
          <a:blip r:embed="rId3"/>
          <a:stretch/>
        </p:blipFill>
        <p:spPr>
          <a:xfrm>
            <a:off x="3097080" y="542880"/>
            <a:ext cx="3400560" cy="2786040"/>
          </a:xfrm>
          <a:prstGeom prst="rect">
            <a:avLst/>
          </a:prstGeom>
          <a:ln w="0">
            <a:noFill/>
          </a:ln>
        </p:spPr>
      </p:pic>
      <p:grpSp>
        <p:nvGrpSpPr>
          <p:cNvPr id="70" name="椭圆 16"/>
          <p:cNvGrpSpPr/>
          <p:nvPr/>
        </p:nvGrpSpPr>
        <p:grpSpPr>
          <a:xfrm>
            <a:off x="4370400" y="1566720"/>
            <a:ext cx="195120" cy="189000"/>
            <a:chOff x="4370400" y="1566720"/>
            <a:chExt cx="195120" cy="189000"/>
          </a:xfrm>
        </p:grpSpPr>
        <p:pic>
          <p:nvPicPr>
            <p:cNvPr id="71" name="椭圆 16" descr=""/>
            <p:cNvPicPr/>
            <p:nvPr/>
          </p:nvPicPr>
          <p:blipFill>
            <a:blip r:embed="rId4"/>
            <a:stretch/>
          </p:blipFill>
          <p:spPr>
            <a:xfrm>
              <a:off x="4370400" y="1566720"/>
              <a:ext cx="1951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413240" y="1606680"/>
              <a:ext cx="1094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7"/>
          <p:cNvSpPr/>
          <p:nvPr/>
        </p:nvSpPr>
        <p:spPr>
          <a:xfrm>
            <a:off x="444024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5"/>
          <p:cNvSpPr/>
          <p:nvPr/>
        </p:nvSpPr>
        <p:spPr>
          <a:xfrm>
            <a:off x="5981760" y="1285920"/>
            <a:ext cx="1805040" cy="4479840"/>
          </a:xfrm>
          <a:custGeom>
            <a:avLst/>
            <a:gdLst/>
            <a:ahLst/>
            <a:rect l="l" t="t" r="r" b="b"/>
            <a:pathLst>
              <a:path w="2088232" h="4968552">
                <a:moveTo>
                  <a:pt x="348046" y="0"/>
                </a:moveTo>
                <a:lnTo>
                  <a:pt x="1740186" y="0"/>
                </a:lnTo>
                <a:cubicBezTo>
                  <a:pt x="1932406" y="0"/>
                  <a:pt x="2088232" y="155826"/>
                  <a:pt x="2088232" y="348046"/>
                </a:cubicBezTo>
                <a:lnTo>
                  <a:pt x="2088232" y="4965280"/>
                </a:lnTo>
                <a:lnTo>
                  <a:pt x="2014428" y="4838031"/>
                </a:lnTo>
                <a:lnTo>
                  <a:pt x="1938726" y="4968552"/>
                </a:lnTo>
                <a:lnTo>
                  <a:pt x="1872033" y="4968552"/>
                </a:lnTo>
                <a:lnTo>
                  <a:pt x="1796331" y="4838031"/>
                </a:lnTo>
                <a:lnTo>
                  <a:pt x="1720629" y="4968552"/>
                </a:lnTo>
                <a:lnTo>
                  <a:pt x="1653936" y="4968552"/>
                </a:lnTo>
                <a:lnTo>
                  <a:pt x="1578234" y="4838031"/>
                </a:lnTo>
                <a:lnTo>
                  <a:pt x="1502532" y="4968552"/>
                </a:lnTo>
                <a:lnTo>
                  <a:pt x="1435839" y="4968552"/>
                </a:lnTo>
                <a:lnTo>
                  <a:pt x="1360137" y="4838031"/>
                </a:lnTo>
                <a:lnTo>
                  <a:pt x="1284435" y="4968552"/>
                </a:lnTo>
                <a:lnTo>
                  <a:pt x="1217742" y="4968552"/>
                </a:lnTo>
                <a:lnTo>
                  <a:pt x="1142040" y="4838031"/>
                </a:lnTo>
                <a:lnTo>
                  <a:pt x="1066338" y="4968552"/>
                </a:lnTo>
                <a:lnTo>
                  <a:pt x="999645" y="4968552"/>
                </a:lnTo>
                <a:lnTo>
                  <a:pt x="923943" y="4838031"/>
                </a:lnTo>
                <a:lnTo>
                  <a:pt x="848241" y="4968552"/>
                </a:lnTo>
                <a:lnTo>
                  <a:pt x="781548" y="4968552"/>
                </a:lnTo>
                <a:lnTo>
                  <a:pt x="705846" y="4838031"/>
                </a:lnTo>
                <a:lnTo>
                  <a:pt x="630144" y="4968552"/>
                </a:lnTo>
                <a:lnTo>
                  <a:pt x="563451" y="4968552"/>
                </a:lnTo>
                <a:lnTo>
                  <a:pt x="487749" y="4838031"/>
                </a:lnTo>
                <a:lnTo>
                  <a:pt x="412047" y="4968552"/>
                </a:lnTo>
                <a:lnTo>
                  <a:pt x="345354" y="4968552"/>
                </a:lnTo>
                <a:lnTo>
                  <a:pt x="269652" y="4838031"/>
                </a:lnTo>
                <a:lnTo>
                  <a:pt x="193950" y="4968552"/>
                </a:lnTo>
                <a:lnTo>
                  <a:pt x="127257" y="4968552"/>
                </a:lnTo>
                <a:lnTo>
                  <a:pt x="51555" y="4838031"/>
                </a:lnTo>
                <a:lnTo>
                  <a:pt x="0" y="4926919"/>
                </a:lnTo>
                <a:lnTo>
                  <a:pt x="0" y="348046"/>
                </a:lnTo>
                <a:cubicBezTo>
                  <a:pt x="0" y="155826"/>
                  <a:pt x="155826" y="0"/>
                  <a:pt x="348046" y="0"/>
                </a:cubicBezTo>
                <a:close/>
              </a:path>
            </a:pathLst>
          </a:custGeom>
          <a:solidFill>
            <a:srgbClr val="528138"/>
          </a:solidFill>
          <a:ln w="0">
            <a:noFill/>
          </a:ln>
          <a:effectLst>
            <a:outerShdw dist="76184" dir="11993435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extBox 19" descr=""/>
          <p:cNvPicPr/>
          <p:nvPr/>
        </p:nvPicPr>
        <p:blipFill>
          <a:blip r:embed="rId5"/>
          <a:stretch/>
        </p:blipFill>
        <p:spPr>
          <a:xfrm>
            <a:off x="5187960" y="542880"/>
            <a:ext cx="34020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76" name="椭圆 20"/>
          <p:cNvGrpSpPr/>
          <p:nvPr/>
        </p:nvGrpSpPr>
        <p:grpSpPr>
          <a:xfrm>
            <a:off x="6686640" y="1566720"/>
            <a:ext cx="195120" cy="189000"/>
            <a:chOff x="6686640" y="1566720"/>
            <a:chExt cx="195120" cy="189000"/>
          </a:xfrm>
        </p:grpSpPr>
        <p:pic>
          <p:nvPicPr>
            <p:cNvPr id="77" name="椭圆 20" descr=""/>
            <p:cNvPicPr/>
            <p:nvPr/>
          </p:nvPicPr>
          <p:blipFill>
            <a:blip r:embed="rId6"/>
            <a:stretch/>
          </p:blipFill>
          <p:spPr>
            <a:xfrm>
              <a:off x="6686640" y="1566720"/>
              <a:ext cx="19512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729480" y="1606680"/>
              <a:ext cx="1094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21"/>
          <p:cNvSpPr/>
          <p:nvPr/>
        </p:nvSpPr>
        <p:spPr>
          <a:xfrm>
            <a:off x="6756480" y="1285920"/>
            <a:ext cx="77760" cy="376200"/>
          </a:xfrm>
          <a:prstGeom prst="rect">
            <a:avLst/>
          </a:prstGeom>
          <a:gradFill rotWithShape="0">
            <a:gsLst>
              <a:gs pos="0">
                <a:srgbClr val="623f11"/>
              </a:gs>
              <a:gs pos="100000">
                <a:srgbClr val="ab71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2"/>
          <p:cNvSpPr/>
          <p:nvPr/>
        </p:nvSpPr>
        <p:spPr>
          <a:xfrm>
            <a:off x="22132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2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6356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平行四边形 6"/>
          <p:cNvSpPr/>
          <p:nvPr/>
        </p:nvSpPr>
        <p:spPr>
          <a:xfrm>
            <a:off x="1200240" y="1959120"/>
            <a:ext cx="1420560" cy="11872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平行四边形 7"/>
          <p:cNvSpPr/>
          <p:nvPr/>
        </p:nvSpPr>
        <p:spPr>
          <a:xfrm>
            <a:off x="1687680" y="2552760"/>
            <a:ext cx="1419120" cy="1187280"/>
          </a:xfrm>
          <a:prstGeom prst="parallelogram">
            <a:avLst>
              <a:gd name="adj" fmla="val 52254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8"/>
          <p:cNvSpPr/>
          <p:nvPr/>
        </p:nvSpPr>
        <p:spPr>
          <a:xfrm>
            <a:off x="2165400" y="3146400"/>
            <a:ext cx="1420920" cy="1189080"/>
          </a:xfrm>
          <a:prstGeom prst="parallelogram">
            <a:avLst>
              <a:gd name="adj" fmla="val 52252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平行四边形 9"/>
          <p:cNvSpPr/>
          <p:nvPr/>
        </p:nvSpPr>
        <p:spPr>
          <a:xfrm>
            <a:off x="2655720" y="3740040"/>
            <a:ext cx="1419480" cy="1189080"/>
          </a:xfrm>
          <a:prstGeom prst="parallelogram">
            <a:avLst>
              <a:gd name="adj" fmla="val 52260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571680" y="245736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644400" y="3052800"/>
            <a:ext cx="7791480" cy="9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rcRect l="7212" t="0" r="2768" b="57688"/>
          <a:stretch/>
        </p:blipFill>
        <p:spPr>
          <a:xfrm>
            <a:off x="1111320" y="2502000"/>
            <a:ext cx="2914560" cy="5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rcRect l="7212" t="0" r="2768" b="57688"/>
          <a:stretch/>
        </p:blipFill>
        <p:spPr>
          <a:xfrm>
            <a:off x="716040" y="3646440"/>
            <a:ext cx="7792920" cy="9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5"/>
          <a:srcRect l="7212" t="0" r="2768" b="57688"/>
          <a:stretch/>
        </p:blipFill>
        <p:spPr>
          <a:xfrm>
            <a:off x="500040" y="1863720"/>
            <a:ext cx="7792920" cy="9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6"/>
          <a:srcRect l="7212" t="0" r="2768" b="57688"/>
          <a:stretch/>
        </p:blipFill>
        <p:spPr>
          <a:xfrm>
            <a:off x="681120" y="1911240"/>
            <a:ext cx="2916000" cy="50760"/>
          </a:xfrm>
          <a:prstGeom prst="rect">
            <a:avLst/>
          </a:prstGeom>
          <a:ln w="0">
            <a:noFill/>
          </a:ln>
        </p:spPr>
      </p:pic>
      <p:sp>
        <p:nvSpPr>
          <p:cNvPr id="98" name="矩形 12"/>
          <p:cNvSpPr/>
          <p:nvPr/>
        </p:nvSpPr>
        <p:spPr>
          <a:xfrm>
            <a:off x="3140640" y="200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4926600" y="393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4426560" y="322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3711960" y="263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928800" y="1744560"/>
            <a:ext cx="2657520" cy="1967040"/>
          </a:xfrm>
          <a:prstGeom prst="downArrowCallout">
            <a:avLst>
              <a:gd name="adj1" fmla="val 49880"/>
              <a:gd name="adj2" fmla="val 24938"/>
              <a:gd name="adj3" fmla="val 15255"/>
              <a:gd name="adj4" fmla="val 84745"/>
            </a:avLst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1692360" y="4048200"/>
            <a:ext cx="1128600" cy="1133280"/>
          </a:xfrm>
          <a:prstGeom prst="ellipse">
            <a:avLst/>
          </a:pr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5602320" y="1714680"/>
            <a:ext cx="2657520" cy="1966680"/>
          </a:xfrm>
          <a:prstGeom prst="downArrowCallout">
            <a:avLst>
              <a:gd name="adj1" fmla="val 49889"/>
              <a:gd name="adj2" fmla="val 24942"/>
              <a:gd name="adj3" fmla="val 15255"/>
              <a:gd name="adj4" fmla="val 84745"/>
            </a:avLst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6365880" y="4017960"/>
            <a:ext cx="1128600" cy="1131840"/>
          </a:xfrm>
          <a:prstGeom prst="ellipse">
            <a:avLst/>
          </a:pr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569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7" descr=""/>
          <p:cNvPicPr/>
          <p:nvPr/>
        </p:nvPicPr>
        <p:blipFill>
          <a:blip r:embed="rId1"/>
          <a:stretch/>
        </p:blipFill>
        <p:spPr>
          <a:xfrm>
            <a:off x="100008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8"/>
          <p:cNvSpPr/>
          <p:nvPr/>
        </p:nvSpPr>
        <p:spPr>
          <a:xfrm>
            <a:off x="1020600" y="14828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7" descr=""/>
          <p:cNvPicPr/>
          <p:nvPr/>
        </p:nvPicPr>
        <p:blipFill>
          <a:blip r:embed="rId2"/>
          <a:stretch/>
        </p:blipFill>
        <p:spPr>
          <a:xfrm>
            <a:off x="1000080" y="37670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8"/>
          <p:cNvSpPr/>
          <p:nvPr/>
        </p:nvSpPr>
        <p:spPr>
          <a:xfrm>
            <a:off x="1020600" y="31352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7" descr=""/>
          <p:cNvPicPr/>
          <p:nvPr/>
        </p:nvPicPr>
        <p:blipFill>
          <a:blip r:embed="rId3"/>
          <a:stretch/>
        </p:blipFill>
        <p:spPr>
          <a:xfrm>
            <a:off x="1000080" y="5421240"/>
            <a:ext cx="2862360" cy="150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8"/>
          <p:cNvSpPr/>
          <p:nvPr/>
        </p:nvSpPr>
        <p:spPr>
          <a:xfrm>
            <a:off x="1020600" y="4789440"/>
            <a:ext cx="2791080" cy="717480"/>
          </a:xfrm>
          <a:prstGeom prst="roundRect">
            <a:avLst>
              <a:gd name="adj" fmla="val 5630"/>
            </a:avLst>
          </a:prstGeom>
          <a:solidFill>
            <a:srgbClr val="528138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7" descr=""/>
          <p:cNvPicPr/>
          <p:nvPr/>
        </p:nvPicPr>
        <p:blipFill>
          <a:blip r:embed="rId4"/>
          <a:stretch/>
        </p:blipFill>
        <p:spPr>
          <a:xfrm>
            <a:off x="5402160" y="2114640"/>
            <a:ext cx="2862360" cy="149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8"/>
          <p:cNvSpPr/>
          <p:nvPr/>
        </p:nvSpPr>
        <p:spPr>
          <a:xfrm>
            <a:off x="5421240" y="1482840"/>
            <a:ext cx="27925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7" descr=""/>
          <p:cNvPicPr/>
          <p:nvPr/>
        </p:nvPicPr>
        <p:blipFill>
          <a:blip r:embed="rId5"/>
          <a:stretch/>
        </p:blipFill>
        <p:spPr>
          <a:xfrm>
            <a:off x="5411880" y="37670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8"/>
          <p:cNvSpPr/>
          <p:nvPr/>
        </p:nvSpPr>
        <p:spPr>
          <a:xfrm>
            <a:off x="5432400" y="31352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7" descr=""/>
          <p:cNvPicPr/>
          <p:nvPr/>
        </p:nvPicPr>
        <p:blipFill>
          <a:blip r:embed="rId6"/>
          <a:stretch/>
        </p:blipFill>
        <p:spPr>
          <a:xfrm>
            <a:off x="5411880" y="5421240"/>
            <a:ext cx="2862000" cy="1508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8"/>
          <p:cNvSpPr/>
          <p:nvPr/>
        </p:nvSpPr>
        <p:spPr>
          <a:xfrm>
            <a:off x="5432400" y="4789440"/>
            <a:ext cx="2790720" cy="717480"/>
          </a:xfrm>
          <a:prstGeom prst="roundRect">
            <a:avLst>
              <a:gd name="adj" fmla="val 5630"/>
            </a:avLst>
          </a:prstGeom>
          <a:solidFill>
            <a:srgbClr val="d17355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直接箭头连接符 194"/>
          <p:cNvCxnSpPr>
            <a:stCxn id="119" idx="2"/>
            <a:endCxn id="121" idx="0"/>
          </p:cNvCxnSpPr>
          <p:nvPr/>
        </p:nvCxnSpPr>
        <p:spPr>
          <a:xfrm>
            <a:off x="2416320" y="21999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1" name="直接箭头连接符 198"/>
          <p:cNvCxnSpPr>
            <a:stCxn id="121" idx="2"/>
            <a:endCxn id="123" idx="0"/>
          </p:cNvCxnSpPr>
          <p:nvPr/>
        </p:nvCxnSpPr>
        <p:spPr>
          <a:xfrm>
            <a:off x="2416320" y="3854160"/>
            <a:ext cx="216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2" name="肘形连接符 200"/>
          <p:cNvCxnSpPr>
            <a:stCxn id="123" idx="3"/>
            <a:endCxn id="125" idx="1"/>
          </p:cNvCxnSpPr>
          <p:nvPr/>
        </p:nvCxnSpPr>
        <p:spPr>
          <a:xfrm flipV="1">
            <a:off x="3811320" y="1841040"/>
            <a:ext cx="1610280" cy="3307680"/>
          </a:xfrm>
          <a:prstGeom prst="bentConnector3">
            <a:avLst>
              <a:gd name="adj1" fmla="val 50000"/>
            </a:avLst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3" name="直接箭头连接符 202"/>
          <p:cNvCxnSpPr>
            <a:stCxn id="125" idx="2"/>
            <a:endCxn id="127" idx="0"/>
          </p:cNvCxnSpPr>
          <p:nvPr/>
        </p:nvCxnSpPr>
        <p:spPr>
          <a:xfrm>
            <a:off x="6816240" y="2199960"/>
            <a:ext cx="1188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34" name="直接箭头连接符 204"/>
          <p:cNvCxnSpPr>
            <a:stCxn id="127" idx="2"/>
            <a:endCxn id="129" idx="0"/>
          </p:cNvCxnSpPr>
          <p:nvPr/>
        </p:nvCxnSpPr>
        <p:spPr>
          <a:xfrm>
            <a:off x="6827400" y="3854160"/>
            <a:ext cx="1080" cy="935640"/>
          </a:xfrm>
          <a:prstGeom prst="straightConnector1">
            <a:avLst/>
          </a:prstGeom>
          <a:ln w="5724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135" name="矩形 12"/>
          <p:cNvSpPr/>
          <p:nvPr/>
        </p:nvSpPr>
        <p:spPr>
          <a:xfrm>
            <a:off x="1984680" y="3324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6342480" y="49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6342480" y="331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1984680" y="502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1913400" y="1681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6342480" y="160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梯形 6"/>
          <p:cNvSpPr/>
          <p:nvPr/>
        </p:nvSpPr>
        <p:spPr>
          <a:xfrm>
            <a:off x="1643040" y="1357200"/>
            <a:ext cx="3429000" cy="3929040"/>
          </a:xfrm>
          <a:custGeom>
            <a:avLst/>
            <a:gdLst>
              <a:gd name="textAreaLeft" fmla="*/ 571320 w 3429000"/>
              <a:gd name="textAreaRight" fmla="*/ 2857680 w 3429000"/>
              <a:gd name="textAreaTop" fmla="*/ 654840 h 3929040"/>
              <a:gd name="textAreaBottom" fmla="*/ 3929400 h 3929040"/>
            </a:gdLst>
            <a:ahLst/>
            <a:rect l="textAreaLeft" t="textAreaTop" r="textAreaRight" b="textAreaBottom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close/>
              </a:path>
            </a:pathLst>
          </a:custGeom>
          <a:solidFill>
            <a:srgbClr val="d17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梯形 7"/>
          <p:cNvSpPr/>
          <p:nvPr/>
        </p:nvSpPr>
        <p:spPr>
          <a:xfrm flipV="1">
            <a:off x="4357800" y="1356840"/>
            <a:ext cx="3429000" cy="3929040"/>
          </a:xfrm>
          <a:custGeom>
            <a:avLst/>
            <a:gdLst>
              <a:gd name="textAreaLeft" fmla="*/ 571320 w 3429000"/>
              <a:gd name="textAreaRight" fmla="*/ 2857680 w 3429000"/>
              <a:gd name="textAreaTop" fmla="*/ 654840 h 3929040"/>
              <a:gd name="textAreaBottom" fmla="*/ 3929400 h 3929040"/>
            </a:gdLst>
            <a:ahLst/>
            <a:rect l="textAreaLeft" t="textAreaTop" r="textAreaRight" b="textAreaBottom"/>
            <a:pathLst>
              <a:path w="3429000" h="3929062">
                <a:moveTo>
                  <a:pt x="0" y="3929062"/>
                </a:moveTo>
                <a:lnTo>
                  <a:pt x="857250" y="0"/>
                </a:lnTo>
                <a:lnTo>
                  <a:pt x="2571750" y="0"/>
                </a:lnTo>
                <a:lnTo>
                  <a:pt x="3429000" y="3929062"/>
                </a:lnTo>
                <a:close/>
              </a:path>
            </a:pathLst>
          </a:custGeom>
          <a:solidFill>
            <a:srgbClr val="5281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2997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6T00:37:08Z</dcterms:modified>
  <cp:revision>287</cp:revision>
  <dc:subject/>
  <dc:title>幻灯片 1</dc:title>
</cp:coreProperties>
</file>