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499-918A-4047-9571-09456F45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1E6-15FE-4413-9B1A-91FFB836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E07-F8D1-4C10-A5C8-C7ADD27C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FAB-A314-4367-9EDB-D5C3D566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F8F-5EC7-485D-96AD-BFBE5F53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0AC-16FA-4D25-BE5F-B40D90C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3E1-AB13-4E01-8C3B-E3DC9036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716-67E1-43FC-9DC1-60286DC8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C10F-63EC-428B-903B-54152FE3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557-15D9-4B62-87DB-F0CE364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979-E1CC-4BE0-A752-CAC624F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962-D9D8-4A58-95E8-B4DE94BF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81D4-E6EB-49D4-AA3E-AE3FF472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009540316232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友爱残疾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99080" y="38088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义务教育课程标准实验教科书三年级（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W020071230511189098274"/>
          <p:cNvPicPr/>
          <p:nvPr/>
        </p:nvPicPr>
        <p:blipFill>
          <a:blip r:embed="rId1"/>
          <a:stretch/>
        </p:blipFill>
        <p:spPr>
          <a:xfrm>
            <a:off x="2416320" y="304920"/>
            <a:ext cx="43653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2084827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Img214585453"/>
          <p:cNvPicPr/>
          <p:nvPr/>
        </p:nvPicPr>
        <p:blipFill>
          <a:blip r:embed="rId1"/>
          <a:stretch/>
        </p:blipFill>
        <p:spPr>
          <a:xfrm>
            <a:off x="685800" y="612720"/>
            <a:ext cx="784872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1376392_842869"/>
          <p:cNvPicPr/>
          <p:nvPr/>
        </p:nvPicPr>
        <p:blipFill>
          <a:blip r:embed="rId1"/>
          <a:stretch/>
        </p:blipFill>
        <p:spPr>
          <a:xfrm>
            <a:off x="762120" y="395280"/>
            <a:ext cx="761976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762120" y="22860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在你的生活中还有哪些对残疾人有帮助的设施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6c9131eec825be0962d09f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面对这些残疾人，你想对他们说些什么或做些什么呢？现在请拿起你手中的笔，写在爱心卡片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爱的奉献.mp3" descr=""/>
          <p:cNvPicPr/>
          <p:nvPr/>
        </p:nvPicPr>
        <p:blipFill>
          <a:blip r:embed="rId2"/>
          <a:stretch/>
        </p:blipFill>
        <p:spPr>
          <a:xfrm>
            <a:off x="457200" y="56386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6c9131eec825be0962d09f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面对这些残疾人，你想对他们说些什么或做些什么呢？现在请拿起你手中的笔，写在爱心卡片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90351227575872859"/>
          <p:cNvPicPr/>
          <p:nvPr/>
        </p:nvPicPr>
        <p:blipFill>
          <a:blip r:embed="rId1"/>
          <a:stretch/>
        </p:blipFill>
        <p:spPr>
          <a:xfrm>
            <a:off x="0" y="0"/>
            <a:ext cx="327672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486400" y="863640"/>
            <a:ext cx="36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张海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患脊髓病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她胸以下全部瘫痪。从那时起，张海迪开始了她独特的人生。虽然没有机会走进校门，却发愤学习，学完了小学、中学全部课程，自学了大学英语、日语、德语和世界语，并攻读了大学和硕士研究生的课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她先后翻译了数十万字的英语小说。她自学了十几种医学专著，她学会了针灸等医术，她为群众无偿治疗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万多人次。张海迪，她以残疾之躯，完成了许多健全人都无法做到的事情，因此她成为一代中国青年的楷模，被誉为“中国的‘保尔’”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F200910200852432890020820"/>
          <p:cNvPicPr/>
          <p:nvPr/>
        </p:nvPicPr>
        <p:blipFill>
          <a:blip r:embed="rId2"/>
          <a:stretch/>
        </p:blipFill>
        <p:spPr>
          <a:xfrm>
            <a:off x="2133720" y="2590920"/>
            <a:ext cx="3246480" cy="4267080"/>
          </a:xfrm>
          <a:prstGeom prst="rect">
            <a:avLst/>
          </a:prstGeom>
          <a:ln w="0">
            <a:noFill/>
          </a:ln>
        </p:spPr>
      </p:pic>
      <p:pic>
        <p:nvPicPr>
          <p:cNvPr id="88" name="班得瑞 - 童年(纯钢琴曲).mp3" descr=""/>
          <p:cNvPicPr/>
          <p:nvPr/>
        </p:nvPicPr>
        <p:blipFill>
          <a:blip r:embed="rId3"/>
          <a:stretch/>
        </p:blipFill>
        <p:spPr>
          <a:xfrm>
            <a:off x="-5335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b15ad09e46563288b38ca67ce478956d"/>
          <p:cNvPicPr/>
          <p:nvPr/>
        </p:nvPicPr>
        <p:blipFill>
          <a:blip r:embed="rId1"/>
          <a:stretch/>
        </p:blipFill>
        <p:spPr>
          <a:xfrm>
            <a:off x="3200400" y="0"/>
            <a:ext cx="316080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0080522_9caa08733182ce506153E384aVNrkhDJ"/>
          <p:cNvPicPr/>
          <p:nvPr/>
        </p:nvPicPr>
        <p:blipFill>
          <a:blip r:embed="rId2"/>
          <a:stretch/>
        </p:blipFill>
        <p:spPr>
          <a:xfrm>
            <a:off x="6485040" y="0"/>
            <a:ext cx="265896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3071520" y="4680000"/>
            <a:ext cx="3387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侯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时在一次意外中失去了左腿。他曾连续三届夺得残奥会田径金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初，他成为首位全球残奥大使。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的北京残奥会开幕式上，侯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依靠双手牵引自己和轮椅升至高空，点燃了奥会主火炬，其超越极限、克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万难的形象震撼大家的心灵。国际残奥委会主席克雷文这样评价：侯斌不仅是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骄傲，同时也是世界的骄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xin_30309050910216871956060"/>
          <p:cNvPicPr/>
          <p:nvPr/>
        </p:nvPicPr>
        <p:blipFill>
          <a:blip r:embed="rId3"/>
          <a:stretch/>
        </p:blipFill>
        <p:spPr>
          <a:xfrm>
            <a:off x="0" y="0"/>
            <a:ext cx="307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109616531374548"/>
          <p:cNvPicPr/>
          <p:nvPr/>
        </p:nvPicPr>
        <p:blipFill>
          <a:blip r:embed="rId1"/>
          <a:stretch/>
        </p:blipFill>
        <p:spPr>
          <a:xfrm>
            <a:off x="2819520" y="0"/>
            <a:ext cx="4286160" cy="4648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0101011200757692"/>
          <p:cNvPicPr/>
          <p:nvPr/>
        </p:nvPicPr>
        <p:blipFill>
          <a:blip r:embed="rId2"/>
          <a:stretch/>
        </p:blipFill>
        <p:spPr>
          <a:xfrm>
            <a:off x="0" y="0"/>
            <a:ext cx="2857680" cy="466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0994472_916539"/>
          <p:cNvPicPr/>
          <p:nvPr/>
        </p:nvPicPr>
        <p:blipFill>
          <a:blip r:embed="rId3"/>
          <a:stretch/>
        </p:blipFill>
        <p:spPr>
          <a:xfrm>
            <a:off x="5562720" y="0"/>
            <a:ext cx="3581280" cy="4594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363760" y="4724280"/>
            <a:ext cx="51087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刘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，“断臂钢琴师”、音乐人、第一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中国达人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总冠军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时因触电意外失去双臂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学习游泳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获得全国游泳冠军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习打字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岁自学钢琴，仅用一年即可弹奏出相当于手弹钢琴专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水平的钢琴曲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年，与刘德华共同为奥运加油，合作歌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天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他说：“我能像正常人一样生活，养活自己，虽然我体会不到拥抱别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幸福感，但我能够在琴声中感受到更多的幸福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00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9_100130062630_1_l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438280" y="1981080"/>
            <a:ext cx="618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10386524_655909"/>
          <p:cNvPicPr/>
          <p:nvPr/>
        </p:nvPicPr>
        <p:blipFill>
          <a:blip r:embed="rId1"/>
          <a:stretch/>
        </p:blipFill>
        <p:spPr>
          <a:xfrm>
            <a:off x="5257800" y="0"/>
            <a:ext cx="3657600" cy="35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0081008163435"/>
          <p:cNvPicPr/>
          <p:nvPr/>
        </p:nvPicPr>
        <p:blipFill>
          <a:blip r:embed="rId2"/>
          <a:stretch/>
        </p:blipFill>
        <p:spPr>
          <a:xfrm>
            <a:off x="457200" y="304920"/>
            <a:ext cx="3519360" cy="5029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5681009454951629496"/>
          <p:cNvPicPr/>
          <p:nvPr/>
        </p:nvPicPr>
        <p:blipFill>
          <a:blip r:embed="rId3"/>
          <a:stretch/>
        </p:blipFill>
        <p:spPr>
          <a:xfrm>
            <a:off x="3505320" y="3473280"/>
            <a:ext cx="51051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095310953834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3352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验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2984"/>
          <p:cNvPicPr/>
          <p:nvPr/>
        </p:nvPicPr>
        <p:blipFill>
          <a:blip r:embed="rId2"/>
          <a:stretch/>
        </p:blipFill>
        <p:spPr>
          <a:xfrm>
            <a:off x="76320" y="1522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432080" y="1219320"/>
            <a:ext cx="64926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单手穿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游戏规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只手背在背后，任何时候都               不允许动，另一只手可以自由活动，把    衣服穿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95310953834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验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2984"/>
          <p:cNvPicPr/>
          <p:nvPr/>
        </p:nvPicPr>
        <p:blipFill>
          <a:blip r:embed="rId2"/>
          <a:stretch/>
        </p:blipFill>
        <p:spPr>
          <a:xfrm>
            <a:off x="76320" y="152280"/>
            <a:ext cx="47448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143000" y="1447920"/>
            <a:ext cx="6629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盲人走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0095310953834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533520" y="2286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验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984"/>
          <p:cNvPicPr/>
          <p:nvPr/>
        </p:nvPicPr>
        <p:blipFill>
          <a:blip r:embed="rId2"/>
          <a:stretch/>
        </p:blipFill>
        <p:spPr>
          <a:xfrm>
            <a:off x="58680" y="152280"/>
            <a:ext cx="474840" cy="914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1600200" y="2133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应该怎样的去对待残疾人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1295280" y="106668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全国助残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每年五月的第三个星期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1676520" y="236124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们来看看为了残疾人行走方便，我们的社会为残疾人提供了哪些设施？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69960" y="403200"/>
            <a:ext cx="47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助残设施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200812111138762352b"/>
          <p:cNvPicPr/>
          <p:nvPr/>
        </p:nvPicPr>
        <p:blipFill>
          <a:blip r:embed="rId2"/>
          <a:stretch/>
        </p:blipFill>
        <p:spPr>
          <a:xfrm>
            <a:off x="2362320" y="609480"/>
            <a:ext cx="487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10-13T01:33:55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