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1.png" ContentType="image/png"/>
  <Override PartName="/ppt/media/image3.gif" ContentType="image/gif"/>
  <Override PartName="/ppt/media/image4.png" ContentType="image/png"/>
  <Override PartName="/ppt/media/image2.gif" ContentType="image/gif"/>
  <Override PartName="/ppt/media/image8.jpeg" ContentType="image/jpeg"/>
  <Override PartName="/ppt/media/image6.jpeg" ContentType="image/jpeg"/>
  <Override PartName="/ppt/media/image5.jpeg" ContentType="image/jpeg"/>
  <Override PartName="/ppt/media/image7.gif" ContentType="image/gif"/>
  <Override PartName="/ppt/media/image9.png" ContentType="image/png"/>
  <Override PartName="/ppt/media/image12.jpeg" ContentType="image/jpeg"/>
  <Override PartName="/ppt/media/image10.gif" ContentType="image/gif"/>
  <Override PartName="/ppt/media/clap.wav" ContentType="audio/x-wav"/>
  <Override PartName="/ppt/media/image13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F001-6890-4C94-B0E0-3F308DA0A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520C-A9A4-4ADF-BF6E-8C20EB7DB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gzsxw.net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港中数学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3A3D-A0AD-4A07-854D-6A0EE4A41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332C-AD76-49D7-BC85-089D9D0C3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1049-09B7-4132-8711-31FBD520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A56A-56F0-4EB8-87FB-7DCF648A9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7E1E-EA48-4A98-A7A5-F9D2165C9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90A9-C09D-4BA1-88B9-2A0F96F0A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E783-02EA-4D1E-A1E2-60298F5C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B461-D33E-4B25-848C-AB00DD4B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AC19-FE68-4EC0-A0B0-A2329221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1597-B70E-41D5-A826-AA1A6FDC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61FD-7DE3-4310-BF7A-8BC311BE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C176-8BFE-4CE0-AC10-7F04996E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0EB1-776C-46D6-B449-B9591E0F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3BB0-408C-45EF-BB1E-8A7485B0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D481-8572-47D1-B0BA-F718D948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68EC-8980-4E10-9A17-586BFEFC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A84F-2C20-462F-A47E-FE287A595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46B3-25C5-4697-B5A0-15C8FE722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0110-043C-4071-B804-5BED28B1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9A77-5298-4D2F-80C2-1B73F07A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3282-2D0F-4B55-A735-A31973AA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9D29-5EA4-47D5-98BE-44BCF771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50E2-1DE0-4C51-8B0C-1D61CB40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D432-A2A6-41EF-B916-68A2B282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0A59-42E6-4A9A-9384-A5AC24DA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5842-326C-49D5-9865-94D84D99312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D279-140E-4C1E-BDB1-5BC68B83691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26376;&#32771;.xls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75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image" Target="../media/image9.png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20998;&#29677;.xls" TargetMode="External"/><Relationship Id="rId2" Type="http://schemas.openxmlformats.org/officeDocument/2006/relationships/hyperlink" Target="file:///&#20998;&#29677;.xls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BJ_037"/>
          <p:cNvPicPr/>
          <p:nvPr/>
        </p:nvPicPr>
        <p:blipFill>
          <a:blip r:embed="rId1"/>
          <a:stretch/>
        </p:blipFill>
        <p:spPr>
          <a:xfrm>
            <a:off x="0" y="333360"/>
            <a:ext cx="5292720" cy="5400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welcome5"/>
          <p:cNvPicPr/>
          <p:nvPr/>
        </p:nvPicPr>
        <p:blipFill>
          <a:blip r:embed="rId2"/>
          <a:stretch/>
        </p:blipFill>
        <p:spPr>
          <a:xfrm>
            <a:off x="5435640" y="549360"/>
            <a:ext cx="2695680" cy="1352520"/>
          </a:xfrm>
          <a:prstGeom prst="rect">
            <a:avLst/>
          </a:prstGeom>
          <a:ln w="0">
            <a:noFill/>
          </a:ln>
        </p:spPr>
      </p:pic>
      <p:sp>
        <p:nvSpPr>
          <p:cNvPr id="160" name="WordArt 4"/>
          <p:cNvSpPr txBox="1"/>
          <p:nvPr/>
        </p:nvSpPr>
        <p:spPr>
          <a:xfrm>
            <a:off x="3995640" y="2637000"/>
            <a:ext cx="4572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56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关爱与监督</a:t>
            </a:r>
            <a:endParaRPr b="1" lang="en-US" sz="1800" spc="1" strike="noStrike">
              <a:ln w="9360">
                <a:solidFill>
                  <a:srgbClr val="33cc33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1" name="WordArt 5"/>
          <p:cNvSpPr txBox="1"/>
          <p:nvPr/>
        </p:nvSpPr>
        <p:spPr>
          <a:xfrm>
            <a:off x="1116000" y="5084640"/>
            <a:ext cx="6912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七年级七班家长会</a:t>
            </a:r>
            <a:endParaRPr b="1" lang="en-US" sz="18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0" y="1295280"/>
            <a:ext cx="5638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爱孩子的一切，不止是成绩！ 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6012000" y="2637000"/>
            <a:ext cx="1944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2585160" y="3049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、学生成绩给我的启示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457200" y="1066680"/>
            <a:ext cx="7772400" cy="2531160"/>
          </a:xfrm>
          <a:prstGeom prst="rect">
            <a:avLst/>
          </a:prstGeom>
          <a:solidFill>
            <a:srgbClr val="99ff99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班级管理的任务艰巨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学生人数多，学生参差不齐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学生年龄小，不懂事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要养成良好的行为习惯、学习习惯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要提高成绩，要从各个细节抓起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第一次学情检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428720" y="313992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测试后显露出的问题：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在这次测试后，我们发现很多同学的总分高不了，究其原因，偏科太厉害！尤其要引起重视的是英语、数学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尤其是数学这科拉的分数最多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.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但也不能忽视语文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.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由于各个方面的原因，很多同学都在这些科目中出现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瘸腿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现象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基础掌握不扎实。基础题失分太多或答不完全，不审题，做题马虎导致失分过多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老师反复强调的知识点没落实到位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成绩背后的问题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、个别同学上课自以为是，不够专心，甚至出现开小差、想心思，自己做自己的事情，完全不顾老师所讲的内容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2.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有些学生作业马虎，作业差错多，选择题乱猜，计算题只写一个答案；老师讲评过的练习部分学生始终没有养成及时订正的习惯，导致已做过的练习屡做屡错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3.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竞争意识不强，时间观念较差，迟到现象严重。尤其是中层的学生自我满足，部分学生成绩波动较大，偏科现象较突出。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4.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学习的效率不高，无法迅速进入学习的状态。放松学习，临考试才匆忙复习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,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行为懒散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5.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考试心理状态调整不好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6.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学习不扎实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不能落实到实处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成绩背后的问题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rcRect l="2501" t="4678" r="2501" b="524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3"/>
          <p:cNvSpPr/>
          <p:nvPr/>
        </p:nvSpPr>
        <p:spPr>
          <a:xfrm>
            <a:off x="2771640" y="1700280"/>
            <a:ext cx="43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部分：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195640" y="3213000"/>
            <a:ext cx="48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班级日常管理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54dd2f">
              <a:alpha val="50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我们要做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班的主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23520" y="1142640"/>
            <a:ext cx="6324840" cy="4419720"/>
          </a:xfrm>
          <a:prstGeom prst="rect">
            <a:avLst/>
          </a:prstGeom>
          <a:noFill/>
          <a:ln w="47520">
            <a:solidFill>
              <a:srgbClr val="99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Comic Sans MS"/>
                <a:ea typeface="PMingLiU"/>
              </a:rPr>
              <a:t>四学会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PMingLiU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PMingLiU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PMingLiU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PMingLiU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学会做人　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学会做事　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学会共处　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学会学习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Bar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1447920" cy="18288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班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54dd2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我们要做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班的主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2627280" y="1989000"/>
            <a:ext cx="1447920" cy="1557000"/>
          </a:xfrm>
          <a:prstGeom prst="rect">
            <a:avLst/>
          </a:prstGeom>
          <a:solidFill>
            <a:srgbClr val="ffff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华文行楷"/>
              </a:rPr>
              <a:t>静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5003640" y="1989000"/>
            <a:ext cx="1371600" cy="1557000"/>
          </a:xfrm>
          <a:prstGeom prst="rect">
            <a:avLst/>
          </a:prstGeom>
          <a:solidFill>
            <a:srgbClr val="ff00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华文行楷"/>
              </a:rPr>
              <a:t>净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3851280" y="3933720"/>
            <a:ext cx="1371600" cy="1557000"/>
          </a:xfrm>
          <a:prstGeom prst="rect">
            <a:avLst/>
          </a:prstGeom>
          <a:solidFill>
            <a:srgbClr val="54dd2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华文行楷"/>
              </a:rPr>
              <a:t>竞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1692360" y="3933720"/>
            <a:ext cx="1371600" cy="1557000"/>
          </a:xfrm>
          <a:prstGeom prst="rect">
            <a:avLst/>
          </a:prstGeom>
          <a:solidFill>
            <a:srgbClr val="ff66cc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华文行楷"/>
              </a:rPr>
              <a:t>敬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5940360" y="3933720"/>
            <a:ext cx="1447920" cy="15112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omic Sans MS"/>
              </a:rPr>
              <a:t>进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Bar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3162240" y="1218600"/>
            <a:ext cx="341424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一、班级管理目标：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目     标：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一个核心、两个重点、四个要求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一个核心：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以学习为核心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  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两个重点：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纪律和卫生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四个要求：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会做人、会处事、会共处、会学习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5105520" y="5562720"/>
            <a:ext cx="3352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b200"/>
                </a:solidFill>
                <a:uFillTx/>
                <a:latin typeface="Arial"/>
                <a:ea typeface="黑体"/>
                <a:hlinkClick r:id="rId1" action="ppaction://hlinksldjump"/>
              </a:rPr>
              <a:t>班级规章制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2050920" y="228600"/>
            <a:ext cx="56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班级规章制度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609480" y="4648320"/>
            <a:ext cx="807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希望家长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  <a:ea typeface="黑体"/>
              </a:rPr>
              <a:t>了解上学、回家的时间，时刻了解孩子的动向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配合班主任的工作，督促孩子按时上学，因为一切都是为了孩子们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685800" y="196416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一）出勤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不迟到，不早退，不旷课。上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前到校，中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4: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前到校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有事必须提前请假，由家长按规定写好请假条，交班主任。如果有急事或急病，必须由家长打电话，要说清请假的理由和时间。（事假事先请，病假事后补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7315200" y="5943600"/>
            <a:ext cx="1066680" cy="647280"/>
          </a:xfrm>
          <a:prstGeom prst="rect">
            <a:avLst/>
          </a:prstGeom>
          <a:solidFill>
            <a:srgbClr val="54dd2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b200"/>
                </a:solidFill>
                <a:uFillTx/>
                <a:latin typeface="Arial"/>
                <a:ea typeface="华文行楷"/>
                <a:hlinkClick r:id="rId1" action="ppaction://hlinksldjump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457200" y="3562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7467480" y="1314360"/>
            <a:ext cx="1006560" cy="92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79280" y="333360"/>
            <a:ext cx="59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尊敬的各位家长：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304920" y="15238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首先感谢您们在百忙之中抽空来参加今天的家长会，协助并参与我们的教育教学工作。教育是双向的，必须家庭和学校积极配合才可能取得成效。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在此</a:t>
            </a:r>
            <a:r>
              <a:rPr b="1" lang="en-US" sz="3600" spc="-1" strike="noStrike">
                <a:solidFill>
                  <a:srgbClr val="0000ff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我代表初一（</a:t>
            </a:r>
            <a:r>
              <a:rPr b="1" lang="en-US" sz="3600" spc="-1" strike="noStrike">
                <a:solidFill>
                  <a:srgbClr val="0000ff"/>
                </a:solidFill>
                <a:latin typeface="隶书"/>
                <a:ea typeface="隶书"/>
              </a:rPr>
              <a:t>7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）班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所有的学生和任课老师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对在座的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家长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表示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感谢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感谢您们对我们工作的支持与关心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152280" y="1600920"/>
            <a:ext cx="8229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二）纪律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  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每位同学都应做到尊敬师长、团结同学、礼貌待人，不顶撞老师、不与同学发生冲突、不用不雅语言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  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同学之间要团结友爱、互相尊重、互相帮助，不准骂人，不准打架，有矛盾要找老师解决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上课要认真听讲，不准在课堂上讲话、做小动作、睡觉、看无关的书、做其它科作业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不准带手机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mp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mp4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等电子产品进教室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  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服装整洁，不穿奇装异服，不准穿拖鞋、留长发、染发、带项链耳环等首饰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7315200" y="5943600"/>
            <a:ext cx="1066680" cy="647280"/>
          </a:xfrm>
          <a:prstGeom prst="rect">
            <a:avLst/>
          </a:prstGeom>
          <a:solidFill>
            <a:srgbClr val="54dd2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b200"/>
                </a:solidFill>
                <a:uFillTx/>
                <a:latin typeface="Arial"/>
                <a:ea typeface="华文行楷"/>
                <a:hlinkClick r:id="rId1" action="ppaction://hlinksldjump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687096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omic Sans MS"/>
              </a:rPr>
              <a:t>安全工作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学生伤害事故主要类型：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溺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交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自然灾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打架斗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校园周边安全生产事故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rcRect l="2501" t="4678" r="2501" b="524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3"/>
          <p:cNvSpPr/>
          <p:nvPr/>
        </p:nvSpPr>
        <p:spPr>
          <a:xfrm>
            <a:off x="2771640" y="1700280"/>
            <a:ext cx="43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三部分：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2843280" y="321300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家庭教育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985680" y="115920"/>
            <a:ext cx="256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一、问卷调查：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3435120" y="1697040"/>
            <a:ext cx="80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你是否经常与孩子沟通谈话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3843000" y="2276640"/>
            <a:ext cx="80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你是否经常与孩子的班主任沟通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3435120" y="2852640"/>
            <a:ext cx="80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你是否经常督促孩子的学习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4047120" y="3429000"/>
            <a:ext cx="80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你是否了解孩子平时在学校的表现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2373480" y="83808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你对你的子女了解有多少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3953880" y="4005360"/>
            <a:ext cx="98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你是否知道孩子的梦想、兴趣爱好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914400" y="464832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你是否了解孩子最喜欢的和最不喜欢的科目是什么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3997080" y="5715000"/>
            <a:ext cx="802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你是否知道孩子与哪些朋友交往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3704400" y="22860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二、中学生喜欢的父母类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1009800" y="129528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理解尊重子女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2441880" y="20383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不摆家长架子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983240" y="275760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家庭和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1983240" y="354960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赏识自己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2441880" y="428940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真正关心子女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3818520" y="502920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对子女的期望值要合乎实际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Bar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2041560" y="1620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609480" y="76212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教育孩子要有责任心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的同学虽然成绩不是很突出，但只要有强烈的责任感，今后照样能做出一番事业。责任感教育应该是本着从孩子自己到他人，从家庭到学校，从小事到大事，从少到多的原则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日常生活的具体事情当中，让孩子为自己去尝试承担一定的责任；要求孩子为自己的学习负责，认真完成作业，自己检查作业；要求孩子做一些力所能及的家务；洗自己的衣物，洗碗筷，倒垃圾等等，孩子在学校，父母别忘了教导他做值日生、班干部应尽职尽责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3578400" y="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三、对各位家长的几点建议：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304920" y="2286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多与孩子沟通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量保证每天与孩子的及时沟通，多了解子女在校的各方面表现，不要只关心学习成绩，而要关心子女的进步、成长。家长也要注重言传身教，给孩子树立良好的榜样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380880" y="312408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多表扬鼓励学生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生做对了、做好了要及时表扬，遇到挫折要多鼓励。学生做错的事情要让他（她）自己承担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万不能太宠爱孩子。要养成良好的行为习惯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Bar dir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380880" y="533520"/>
            <a:ext cx="7925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努力帮助孩子尽快适应初中生活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安排好作息时间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督促孩子按时完成老师布置的任务工作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有选择地看课外书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引导孩子掌握良好的学习方法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380880" y="285264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尊重、理解老师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380880" y="34290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师一个人面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学生，不可能兼顾每一位学生，父母是两个人面对一个孩子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468360" y="450864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理智爱子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Bar dir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4" name="Picture 4" descr="图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5"/>
          <p:cNvSpPr/>
          <p:nvPr/>
        </p:nvSpPr>
        <p:spPr>
          <a:xfrm>
            <a:off x="1619280" y="40464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对家长的希望：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6" name="Picture 6" descr="边框05"/>
          <p:cNvPicPr/>
          <p:nvPr/>
        </p:nvPicPr>
        <p:blipFill>
          <a:blip r:embed="rId2"/>
          <a:stretch/>
        </p:blipFill>
        <p:spPr>
          <a:xfrm>
            <a:off x="1187280" y="1601640"/>
            <a:ext cx="5545440" cy="525636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7"/>
          <p:cNvSpPr/>
          <p:nvPr/>
        </p:nvSpPr>
        <p:spPr>
          <a:xfrm>
            <a:off x="1949400" y="2192400"/>
            <a:ext cx="3559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一、重视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二、了解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三、关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四、鼓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五、督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六、配合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8" name="Picture 8" descr="birddance"/>
          <p:cNvPicPr/>
          <p:nvPr/>
        </p:nvPicPr>
        <p:blipFill>
          <a:blip r:embed="rId3"/>
          <a:stretch/>
        </p:blipFill>
        <p:spPr>
          <a:xfrm>
            <a:off x="6172200" y="4149720"/>
            <a:ext cx="29718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179280" y="692280"/>
            <a:ext cx="9360000" cy="43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ahoma"/>
              </a:rPr>
              <a:t>         </a:t>
            </a:r>
            <a:r>
              <a:rPr b="1" lang="zh-CN" sz="3600" spc="-1" strike="noStrike">
                <a:solidFill>
                  <a:srgbClr val="ff0066"/>
                </a:solidFill>
                <a:latin typeface="Tahoma"/>
              </a:rPr>
              <a:t>对孩子要做到十留心：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ahoma"/>
              </a:rPr>
              <a:t>、在外留宿          </a:t>
            </a: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ahoma"/>
              </a:rPr>
              <a:t>、回家很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Tahoma"/>
              </a:rPr>
              <a:t>、带同学住宿       </a:t>
            </a: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Tahoma"/>
              </a:rPr>
              <a:t>、受伤回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Tahoma"/>
              </a:rPr>
              <a:t>、超高消费           </a:t>
            </a: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6</a:t>
            </a:r>
            <a:r>
              <a:rPr b="1" lang="zh-CN" sz="3600" spc="-1" strike="noStrike">
                <a:solidFill>
                  <a:srgbClr val="0000ff"/>
                </a:solidFill>
                <a:latin typeface="Tahoma"/>
              </a:rPr>
              <a:t>、超出友谊交往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7</a:t>
            </a:r>
            <a:r>
              <a:rPr b="1" lang="zh-CN" sz="3600" spc="-1" strike="noStrike">
                <a:solidFill>
                  <a:srgbClr val="0000ff"/>
                </a:solidFill>
                <a:latin typeface="Tahoma"/>
              </a:rPr>
              <a:t>、成绩突然下降    </a:t>
            </a: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8</a:t>
            </a:r>
            <a:r>
              <a:rPr b="1" lang="zh-CN" sz="3600" spc="-1" strike="noStrike">
                <a:solidFill>
                  <a:srgbClr val="0000ff"/>
                </a:solidFill>
                <a:latin typeface="Tahoma"/>
              </a:rPr>
              <a:t>、爱玩电脑游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9 </a:t>
            </a:r>
            <a:r>
              <a:rPr b="1" lang="zh-CN" sz="3600" spc="-1" strike="noStrike">
                <a:solidFill>
                  <a:srgbClr val="0000ff"/>
                </a:solidFill>
                <a:latin typeface="Tahoma"/>
              </a:rPr>
              <a:t>、打电话时间长，次数多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ahoma"/>
              </a:rPr>
              <a:t>10 </a:t>
            </a:r>
            <a:r>
              <a:rPr b="1" lang="zh-CN" sz="3600" spc="-1" strike="noStrike">
                <a:solidFill>
                  <a:srgbClr val="0000ff"/>
                </a:solidFill>
                <a:latin typeface="Tahoma"/>
              </a:rPr>
              <a:t>、穿奇装异服，爱好打扮，或沉默寡言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2268360" y="58053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21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Comic Sans MS"/>
              </a:rPr>
              <a:t>班主任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ransition spd="slow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请在座的父母记住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Comic Sans MS"/>
              </a:rPr>
              <a:t>你可以不是天才， 但你可以成为天才的父母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WordArt 2"/>
          <p:cNvSpPr txBox="1"/>
          <p:nvPr/>
        </p:nvSpPr>
        <p:spPr>
          <a:xfrm>
            <a:off x="1763640" y="2133720"/>
            <a:ext cx="482436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四  家教忌讳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 advTm="5000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748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、一味堵压不如疏导。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比如，一点不让看电视是不现实的，而是引导他们怎样正确分配时间，珍惜时间，做时间的主人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omic Sans MS"/>
              </a:rPr>
              <a:t>             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2  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、 不负责任的放任，不管不问。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有的家长以为给了小孩吃穿，给了孩子钱就完成了任务。尊敬的家长先生们，教育孩子不是任务。孩子是我们全部的希望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Comic Sans MS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        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、 盲目的严管型。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让孩子怕得见父母如见老虎，绝不是好事，让孩子说出自己的心里话，跟父母平等而理性的交流，那才是做父母的成功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20000">
    <p:randomBar dir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"/>
          <p:cNvPicPr/>
          <p:nvPr/>
        </p:nvPicPr>
        <p:blipFill>
          <a:blip r:embed="rId1"/>
          <a:srcRect l="2501" t="4678" r="2501" b="524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3"/>
          <p:cNvSpPr/>
          <p:nvPr/>
        </p:nvSpPr>
        <p:spPr>
          <a:xfrm>
            <a:off x="2771640" y="1700280"/>
            <a:ext cx="43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五部分：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2209680" y="3048120"/>
            <a:ext cx="501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家长个别交流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BJ3057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68000" y="4756320"/>
            <a:ext cx="6551640" cy="210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让我们携起手来，共创孩子的美好明天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0" name="明天会更好1.mp3" descr=""/>
          <p:cNvPicPr/>
          <p:nvPr/>
        </p:nvPicPr>
        <p:blipFill>
          <a:blip r:embed="rId2"/>
          <a:stretch/>
        </p:blipFill>
        <p:spPr>
          <a:xfrm>
            <a:off x="611280" y="538956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271" name="WordArt 5"/>
          <p:cNvSpPr txBox="1"/>
          <p:nvPr/>
        </p:nvSpPr>
        <p:spPr>
          <a:xfrm>
            <a:off x="1403280" y="333360"/>
            <a:ext cx="68580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祝全家幸福万事如意</a:t>
            </a:r>
            <a:endParaRPr b="0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272" name="Picture 6" descr="ZW_015"/>
          <p:cNvPicPr/>
          <p:nvPr/>
        </p:nvPicPr>
        <p:blipFill>
          <a:blip r:embed="rId3"/>
          <a:stretch/>
        </p:blipFill>
        <p:spPr>
          <a:xfrm>
            <a:off x="0" y="3789360"/>
            <a:ext cx="2136600" cy="2819520"/>
          </a:xfrm>
          <a:prstGeom prst="rect">
            <a:avLst/>
          </a:prstGeom>
          <a:ln w="0">
            <a:noFill/>
          </a:ln>
        </p:spPr>
      </p:pic>
      <p:pic>
        <p:nvPicPr>
          <p:cNvPr id="273" name="感恩的心.mp3" descr=""/>
          <p:cNvPicPr/>
          <p:nvPr/>
        </p:nvPicPr>
        <p:blipFill>
          <a:blip r:embed="rId4"/>
          <a:stretch/>
        </p:blipFill>
        <p:spPr>
          <a:xfrm>
            <a:off x="802800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237663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289536" fill="hold"/>
                                        <p:tgtEl>
                                          <p:spTgt spid="2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Object 2"/>
          <p:cNvGraphicFramePr/>
          <p:nvPr/>
        </p:nvGraphicFramePr>
        <p:xfrm>
          <a:off x="0" y="0"/>
          <a:ext cx="2251080" cy="29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25108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Text Box 3"/>
          <p:cNvSpPr/>
          <p:nvPr/>
        </p:nvSpPr>
        <p:spPr>
          <a:xfrm>
            <a:off x="1295280" y="3007440"/>
            <a:ext cx="5410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3638160" y="762120"/>
            <a:ext cx="2375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omic Sans MS"/>
                <a:ea typeface="黑体"/>
              </a:rPr>
              <a:t>祝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黑体"/>
              </a:rPr>
              <a:t>各位家长：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黑体"/>
              </a:rPr>
              <a:t>家庭幸福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  <a:ea typeface="黑体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黑体"/>
              </a:rPr>
              <a:t>事业兴旺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  <a:ea typeface="黑体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1219320" y="4724280"/>
            <a:ext cx="71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谢谢各位家长的支持与配合！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再见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3043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-1035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5"/>
          <p:cNvPicPr/>
          <p:nvPr/>
        </p:nvPicPr>
        <p:blipFill>
          <a:blip r:embed="rId2"/>
          <a:stretch/>
        </p:blipFill>
        <p:spPr>
          <a:xfrm>
            <a:off x="755640" y="4365720"/>
            <a:ext cx="3738600" cy="1052280"/>
          </a:xfrm>
          <a:prstGeom prst="rect">
            <a:avLst/>
          </a:prstGeom>
          <a:ln w="0">
            <a:noFill/>
          </a:ln>
        </p:spPr>
      </p:pic>
      <p:sp>
        <p:nvSpPr>
          <p:cNvPr id="281" name="WordArt 4"/>
          <p:cNvSpPr txBox="1"/>
          <p:nvPr/>
        </p:nvSpPr>
        <p:spPr>
          <a:xfrm>
            <a:off x="468360" y="2205000"/>
            <a:ext cx="8229600" cy="10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各位老师的联系方式：</a:t>
            </a:r>
            <a:endParaRPr b="0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304920" y="1550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前苏联教育家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苏霍姆林斯基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说：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两个教育者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学校和家庭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不仅要一致行动，要向孩子提出同样的要求，而且要志同道合，抱着一致的信念，始终从同一原则出发，无论在教育的目的上、过程上，还是手段上，都不要发生分歧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3" descr="图片22"/>
          <p:cNvPicPr/>
          <p:nvPr/>
        </p:nvPicPr>
        <p:blipFill>
          <a:blip r:embed="rId1"/>
          <a:stretch/>
        </p:blipFill>
        <p:spPr>
          <a:xfrm>
            <a:off x="1371600" y="5273640"/>
            <a:ext cx="7772400" cy="15843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228600" y="4417920"/>
            <a:ext cx="8381880" cy="70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我们的努力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＋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华文行楷"/>
              </a:rPr>
              <a:t>您的关爱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＝孩子的成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3121560" y="228600"/>
            <a:ext cx="30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初一（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）班基本情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457200" y="14479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全班共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人，男生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人，女生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人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533520" y="243828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大部分学生比较活跃，但不能够完全安静下来学习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533520" y="39625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我的教育理念：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尊重学生、平等对待学生、严格要求学生，教学生学会做人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rcRect l="2501" t="4678" r="2501" b="524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3"/>
          <p:cNvSpPr/>
          <p:nvPr/>
        </p:nvSpPr>
        <p:spPr>
          <a:xfrm>
            <a:off x="2771640" y="1700280"/>
            <a:ext cx="43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一部分：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042920" y="3200400"/>
            <a:ext cx="712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入学考试及月考成绩分析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3585960" y="0"/>
            <a:ext cx="40071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入学考试成绩分析</a:t>
            </a:r>
            <a:r>
              <a:rPr b="0" lang="zh-CN" sz="4000" spc="-1" strike="noStrike" u="sng">
                <a:solidFill>
                  <a:srgbClr val="00b200"/>
                </a:solidFill>
                <a:uFillTx/>
                <a:latin typeface="黑体"/>
                <a:ea typeface="黑体"/>
                <a:hlinkClick r:id="rId1"/>
              </a:rPr>
              <a:t>分班</a:t>
            </a:r>
            <a:r>
              <a:rPr b="0" lang="en-US" sz="4000" spc="-1" strike="noStrike" u="sng">
                <a:solidFill>
                  <a:srgbClr val="00b200"/>
                </a:solidFill>
                <a:uFillTx/>
                <a:latin typeface="黑体"/>
                <a:ea typeface="黑体"/>
                <a:hlinkClick r:id="rId2"/>
              </a:rPr>
              <a:t>.xl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609480" y="13716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考试科目：语文、数学、英语  为小学所学的内容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609480" y="2514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分值：各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，总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1717560" y="7621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、基本情况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380880" y="32004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二、学生成绩分析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609480" y="38862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没有特别突出的尖子，但也没有特别低分的学生，比较平均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609480" y="4952880"/>
            <a:ext cx="784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数学试卷比较简单，语文英语难度中等，所以要合理看待题目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2585160" y="3049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、学生成绩给我的启示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304920" y="1143000"/>
            <a:ext cx="8153280" cy="2531160"/>
          </a:xfrm>
          <a:prstGeom prst="rect">
            <a:avLst/>
          </a:prstGeom>
          <a:solidFill>
            <a:srgbClr val="99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纪律性不强，玩心太重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上课不认真听讲，说话、开小差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个别学生课后不做作业，贪玩，早晨回校抄作业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缺乏阅读课外书的习惯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希望：家长在家督促孩子安静学习，常与科任老师交流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2585160" y="3049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、学生成绩给我的启示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457200" y="1066680"/>
            <a:ext cx="7772400" cy="2043720"/>
          </a:xfrm>
          <a:prstGeom prst="rect">
            <a:avLst/>
          </a:prstGeom>
          <a:solidFill>
            <a:srgbClr val="99ff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轻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卷看似简单，但要拿高分甚至满分是很困难的，细节决定成败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希望：多与孩子谈心，了解其心理变化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0T07:13:24Z</dcterms:created>
  <dc:creator>USER</dc:creator>
  <dc:description/>
  <dc:language>en-US</dc:language>
  <cp:lastModifiedBy>clf2015</cp:lastModifiedBy>
  <dcterms:modified xsi:type="dcterms:W3CDTF">2015-10-19T06:51:47Z</dcterms:modified>
  <cp:revision>180</cp:revision>
  <dc:subject/>
  <dc:title>热烈欢迎各位家长</dc:title>
</cp:coreProperties>
</file>