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image6.jpeg" ContentType="image/jpeg"/>
  <Override PartName="/ppt/media/image8.png" ContentType="image/png"/>
  <Override PartName="/ppt/media/image12.wmf" ContentType="image/x-wmf"/>
  <Override PartName="/ppt/media/image4.jpeg" ContentType="image/jpeg"/>
  <Override PartName="/ppt/media/image5.jpeg" ContentType="image/jpe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3111-F4F6-4C31-B4E2-E29A8235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5C6F-4146-4D90-86CE-06AA4C64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572C-F43B-4757-B54C-77C203A6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69E9-7774-4508-94C5-B99ECD457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998D-ADB1-4984-A747-64101FD2D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1D12-B366-4917-AE8F-2A2AA365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8BAB-A737-4127-B84B-55C8EE6C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F973-DA87-42AF-AD08-169B5634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6B22-E12F-4A5F-AEF0-F7585110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7B48-060D-4FBA-8F08-C7AB6091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E1BA-1F07-4F51-AC93-2DBEA5BB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D3B0-41BD-4491-825B-6E16D0A2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A999-EB0C-4B59-AF02-338ADFC3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855C-365B-47B5-A0E3-3E1E1F73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247E-6501-4E48-8D35-FC242503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16B4-F891-4D4C-88C3-B1FBC6FF4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5C43-3875-46BF-BCE9-7D8C44B8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7269-D57B-4FB5-BC1E-E777CC5B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3BF7-027E-485A-A424-FB54241D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F890-719A-4AB5-A7F4-BBE05E3D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08A5-3D49-4686-9210-8FE9D7B8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F98B-611A-4389-A2FF-5C489F35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021D-8A02-4AF6-B84E-74DA6F89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0829-76C7-40DD-9EB6-6EF38CC0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07EF-FB09-4BD7-845D-0A5FFB6263E7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8032-A3D4-44F5-B579-F650F668F979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image" Target="../media/image12.wmf"/><Relationship Id="rId10" Type="http://schemas.openxmlformats.org/officeDocument/2006/relationships/image" Target="../media/image12.wmf"/><Relationship Id="rId11" Type="http://schemas.openxmlformats.org/officeDocument/2006/relationships/image" Target="../media/image12.wmf"/><Relationship Id="rId12" Type="http://schemas.openxmlformats.org/officeDocument/2006/relationships/image" Target="../media/image12.wmf"/><Relationship Id="rId13" Type="http://schemas.openxmlformats.org/officeDocument/2006/relationships/image" Target="../media/image12.wmf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0"/>
            <a:ext cx="7162920" cy="56386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90920" y="2133720"/>
            <a:ext cx="4724280" cy="2227320"/>
          </a:xfrm>
          <a:prstGeom prst="rect">
            <a:avLst/>
          </a:prstGeom>
          <a:gradFill rotWithShape="0">
            <a:gsLst>
              <a:gs pos="0">
                <a:srgbClr val="6f89f7"/>
              </a:gs>
              <a:gs pos="50000">
                <a:srgbClr val="ffffff"/>
              </a:gs>
              <a:gs pos="100000">
                <a:srgbClr val="6f89f7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隶书"/>
                <a:ea typeface="隶书"/>
              </a:rPr>
              <a:t>观 沧 海</a:t>
            </a:r>
            <a:r>
              <a:rPr b="0" lang="zh-CN" sz="6000" spc="-1" strike="noStrike">
                <a:solidFill>
                  <a:srgbClr val="40458c"/>
                </a:solidFill>
                <a:latin typeface="隶书"/>
                <a:ea typeface="隶书"/>
              </a:rPr>
              <a:t>   </a:t>
            </a:r>
            <a:r>
              <a:rPr b="0" lang="zh-CN" sz="4000" spc="-1" strike="noStrike">
                <a:solidFill>
                  <a:srgbClr val="40458c"/>
                </a:solidFill>
                <a:latin typeface="华文行楷"/>
                <a:ea typeface="华文行楷"/>
              </a:rPr>
              <a:t> </a:t>
            </a:r>
            <a:r>
              <a:rPr b="0" lang="zh-CN" sz="6000" spc="-1" strike="noStrike">
                <a:solidFill>
                  <a:srgbClr val="40458c"/>
                </a:solidFill>
                <a:latin typeface="隶书"/>
                <a:ea typeface="隶书"/>
              </a:rPr>
              <a:t>        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228600"/>
            <a:ext cx="2514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初中语文第一册课文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76520" y="5867280"/>
            <a:ext cx="594360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>
            <a:lum bright="36000"/>
          </a:blip>
          <a:srcRect l="0" t="43213" r="0" b="0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9360">
            <a:solidFill>
              <a:srgbClr val="ecd882"/>
            </a:solidFill>
            <a:miter/>
          </a:ln>
        </p:spPr>
      </p:pic>
      <p:grpSp>
        <p:nvGrpSpPr>
          <p:cNvPr id="214" name=""/>
          <p:cNvGrpSpPr/>
          <p:nvPr/>
        </p:nvGrpSpPr>
        <p:grpSpPr>
          <a:xfrm>
            <a:off x="3276720" y="0"/>
            <a:ext cx="4647960" cy="1828800"/>
            <a:chOff x="3276720" y="0"/>
            <a:chExt cx="4647960" cy="1828800"/>
          </a:xfrm>
        </p:grpSpPr>
        <p:sp>
          <p:nvSpPr>
            <p:cNvPr id="215" name=""/>
            <p:cNvSpPr/>
            <p:nvPr/>
          </p:nvSpPr>
          <p:spPr>
            <a:xfrm>
              <a:off x="3276720" y="0"/>
              <a:ext cx="3657600" cy="1828800"/>
            </a:xfrm>
            <a:custGeom>
              <a:avLst/>
              <a:gdLst>
                <a:gd name="textAreaLeft" fmla="*/ 1146600 w 3657600"/>
                <a:gd name="textAreaRight" fmla="*/ 2511000 w 3657600"/>
                <a:gd name="textAreaTop" fmla="*/ 573480 h 1828800"/>
                <a:gd name="textAreaBottom" fmla="*/ 125532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6773" y="6773"/>
                  </a:lnTo>
                  <a:lnTo>
                    <a:pt x="10800" y="0"/>
                  </a:lnTo>
                  <a:lnTo>
                    <a:pt x="14827" y="6773"/>
                  </a:lnTo>
                  <a:lnTo>
                    <a:pt x="21600" y="10800"/>
                  </a:lnTo>
                  <a:lnTo>
                    <a:pt x="14827" y="14827"/>
                  </a:lnTo>
                  <a:lnTo>
                    <a:pt x="10800" y="21600"/>
                  </a:lnTo>
                  <a:lnTo>
                    <a:pt x="6773" y="14827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7ff876"/>
                </a:gs>
                <a:gs pos="50000">
                  <a:srgbClr val="ffffff"/>
                </a:gs>
                <a:gs pos="100000">
                  <a:srgbClr val="7ff876"/>
                </a:gs>
              </a:gsLst>
              <a:lin ang="8100000"/>
            </a:grad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91120" y="577800"/>
              <a:ext cx="3733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00"/>
                  </a:solidFill>
                  <a:latin typeface="Times New Roman"/>
                  <a:ea typeface="华文新魏"/>
                </a:rPr>
                <a:t>作者简介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1219320" y="169056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曹操  字孟德，东汉末年政治家、军事家、诗人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581280" y="2438280"/>
            <a:ext cx="3657600" cy="1295640"/>
            <a:chOff x="3581280" y="2438280"/>
            <a:chExt cx="3657600" cy="1295640"/>
          </a:xfrm>
        </p:grpSpPr>
        <p:sp>
          <p:nvSpPr>
            <p:cNvPr id="219" name=""/>
            <p:cNvSpPr/>
            <p:nvPr/>
          </p:nvSpPr>
          <p:spPr>
            <a:xfrm>
              <a:off x="3581280" y="2438280"/>
              <a:ext cx="3505320" cy="1295640"/>
            </a:xfrm>
            <a:custGeom>
              <a:avLst/>
              <a:gdLst>
                <a:gd name="textAreaLeft" fmla="*/ 876240 w 3505320"/>
                <a:gd name="textAreaRight" fmla="*/ 2629080 w 3505320"/>
                <a:gd name="textAreaTop" fmla="*/ 38160 h 1295640"/>
                <a:gd name="textAreaBottom" fmla="*/ 97200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arcTo wR="21600" hR="20153" stAng="-7304956" swAng="976834"/>
                  <a:lnTo>
                    <a:pt x="5400" y="640"/>
                  </a:lnTo>
                  <a:arcTo wR="21600" hR="20153" stAng="-6328122" swAng="1856244"/>
                  <a:lnTo>
                    <a:pt x="16200" y="3340"/>
                  </a:lnTo>
                  <a:arcTo wR="21600" hR="20153" stAng="-4471878" swAng="976834"/>
                  <a:lnTo>
                    <a:pt x="18900" y="12271"/>
                  </a:lnTo>
                  <a:lnTo>
                    <a:pt x="21600" y="21600"/>
                  </a:lnTo>
                  <a:lnTo>
                    <a:pt x="21600" y="21600"/>
                  </a:lnTo>
                  <a:arcTo wR="21600" hR="20153" stAng="-3495044" swAng="-1443536"/>
                  <a:lnTo>
                    <a:pt x="13500" y="16358"/>
                  </a:lnTo>
                  <a:arcTo wR="21600" hR="20153" stAng="-4938580" swAng="-922840"/>
                  <a:lnTo>
                    <a:pt x="8100" y="19058"/>
                  </a:lnTo>
                  <a:arcTo wR="21600" hR="20153" stAng="-5861420" swAng="-1443536"/>
                  <a:lnTo>
                    <a:pt x="2700" y="12271"/>
                  </a:lnTo>
                  <a:close/>
                </a:path>
                <a:path fill="none" w="21600" h="21600">
                  <a:moveTo>
                    <a:pt x="8100" y="16358"/>
                  </a:moveTo>
                  <a:arcTo wR="21600" hR="20153" stAng="-5861420" swAng="-466702"/>
                  <a:lnTo>
                    <a:pt x="8100" y="19058"/>
                  </a:lnTo>
                </a:path>
                <a:path fill="none" w="21600" h="21600">
                  <a:moveTo>
                    <a:pt x="13500" y="16358"/>
                  </a:moveTo>
                  <a:arcTo wR="21600" hR="20153" stAng="-4938580" swAng="466702"/>
                  <a:lnTo>
                    <a:pt x="13500" y="19058"/>
                  </a:lnTo>
                </a:path>
                <a:path fill="none" w="21600" h="21600">
                  <a:moveTo>
                    <a:pt x="5400" y="3340"/>
                  </a:moveTo>
                  <a:lnTo>
                    <a:pt x="5400" y="16840"/>
                  </a:lnTo>
                </a:path>
                <a:path fill="none" w="21600" h="21600">
                  <a:moveTo>
                    <a:pt x="16200" y="3340"/>
                  </a:moveTo>
                  <a:lnTo>
                    <a:pt x="16200" y="1684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cap="sq"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343400" y="2590920"/>
              <a:ext cx="289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00"/>
                  </a:solidFill>
                  <a:latin typeface="Tahoma"/>
                  <a:ea typeface="华文新魏"/>
                </a:rPr>
                <a:t>写作背景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447920" y="36702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观沧海》是曹操的名篇，是他北征乌桓时所作。公元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207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年，曹操亲率大军北上，追歼袁绍残部，五月誓师北伐，七月出卢龙寨，临碣石山。他跃马扬鞭，登山观海，面对洪波涌起的大海，触景生情，写下了这首壮丽的诗篇，透过它，我们可以看到诗人自己的胸怀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 rot="5400000">
            <a:off x="6705360" y="1447560"/>
            <a:ext cx="297180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ffffff"/>
                  </a:solidFill>
                  <a:miter/>
                </a:ln>
                <a:solidFill>
                  <a:srgbClr val="04c866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观沧海</a:t>
            </a:r>
            <a:endParaRPr b="0" lang="en-US" sz="2400" spc="1" strike="noStrike">
              <a:ln cap="sq" w="9360">
                <a:solidFill>
                  <a:srgbClr val="ffffff"/>
                </a:solidFill>
                <a:miter/>
              </a:ln>
              <a:solidFill>
                <a:srgbClr val="04c866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rcRect l="0" t="3281" r="8944" b="0"/>
          <a:stretch/>
        </p:blipFill>
        <p:spPr>
          <a:xfrm>
            <a:off x="0" y="4114800"/>
            <a:ext cx="9144000" cy="27432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155200" y="76320"/>
            <a:ext cx="1155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东临碣石，以观沧海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728240" y="76320"/>
            <a:ext cx="667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水何澹澹，山岛竦峙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9800" y="76320"/>
            <a:ext cx="667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树木丛生，百草丰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51720" y="152280"/>
            <a:ext cx="6678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秋风萧瑟，洪波涌起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37320" y="0"/>
            <a:ext cx="667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日月之行，若出其中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11800" y="76320"/>
            <a:ext cx="11552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星汉灿烂，若出其里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0800" y="76320"/>
            <a:ext cx="6678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幸甚至哉，歌以咏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志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 rot="5400000">
            <a:off x="6286320" y="2095560"/>
            <a:ext cx="144792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曹操</a:t>
            </a:r>
            <a:endParaRPr b="0" lang="en-US" sz="2400" spc="1" strike="noStrike">
              <a:ln cap="sq"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4"/>
          <a:srcRect l="0" t="4370" r="5369" b="0"/>
          <a:stretch/>
        </p:blipFill>
        <p:spPr>
          <a:xfrm>
            <a:off x="0" y="4114800"/>
            <a:ext cx="9144000" cy="27432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5"/>
          <a:srcRect l="0" t="3281" r="7162" b="0"/>
          <a:stretch/>
        </p:blipFill>
        <p:spPr>
          <a:xfrm>
            <a:off x="0" y="4114800"/>
            <a:ext cx="9144000" cy="278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500"/>
                            </p:stCondLst>
                            <p:childTnLst>
                              <p:par>
                                <p:cTn id="61" nodeType="after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000"/>
                            </p:stCondLst>
                            <p:childTnLst>
                              <p:par>
                                <p:cTn id="65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500"/>
                            </p:stCondLst>
                            <p:childTnLst>
                              <p:par>
                                <p:cTn id="6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2500"/>
                            </p:stCondLst>
                            <p:childTnLst>
                              <p:par>
                                <p:cTn id="77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500"/>
                            </p:stCondLst>
                            <p:childTnLst>
                              <p:par>
                                <p:cTn id="8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752480" y="5867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壮 丽景象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62520" y="57913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开阔胸襟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240" y="0"/>
            <a:ext cx="9326520" cy="5791320"/>
            <a:chOff x="3240" y="0"/>
            <a:chExt cx="9326520" cy="579132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1066680" y="0"/>
              <a:ext cx="64008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7310520" y="304920"/>
              <a:ext cx="2019240" cy="34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华文新魏"/>
                </a:rPr>
                <a:t>   </a:t>
              </a: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  <a:ea typeface="华文新魏"/>
                </a:rPr>
                <a:t>水  何  澹</a:t>
              </a:r>
              <a:r>
                <a:rPr b="0" lang="zh-CN" sz="3600" spc="-1" strike="noStrike">
                  <a:solidFill>
                    <a:srgbClr val="ff3300"/>
                  </a:solidFill>
                  <a:latin typeface="Times New Roman"/>
                  <a:ea typeface="华文新魏"/>
                </a:rPr>
                <a:t>  </a:t>
              </a: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  <a:ea typeface="华文新魏"/>
                </a:rPr>
                <a:t>澹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华文新魏"/>
                </a:rPr>
                <a:t> 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华文新魏"/>
                </a:rPr>
                <a:t>   </a:t>
              </a: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  <a:ea typeface="华文新魏"/>
                </a:rPr>
                <a:t>山  岛  竦  峙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40" y="0"/>
              <a:ext cx="1003320" cy="57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3300"/>
                  </a:solidFill>
                  <a:latin typeface="Times New Roman"/>
                  <a:ea typeface="华文行楷"/>
                </a:rPr>
                <a:t>欣赏诗景诗意</a:t>
              </a:r>
              <a:endParaRPr b="0" lang="en-US" sz="5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90720" y="1066680"/>
            <a:ext cx="777240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4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5104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2"/>
            <a:stretch/>
          </p:blipFill>
          <p:spPr>
            <a:xfrm>
              <a:off x="1066680" y="0"/>
              <a:ext cx="91440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3"/>
            <a:stretch/>
          </p:blipFill>
          <p:spPr>
            <a:xfrm>
              <a:off x="0" y="1143000"/>
              <a:ext cx="85104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4"/>
            <a:stretch/>
          </p:blipFill>
          <p:spPr>
            <a:xfrm>
              <a:off x="0" y="2362320"/>
              <a:ext cx="85104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5"/>
            <a:stretch/>
          </p:blipFill>
          <p:spPr>
            <a:xfrm>
              <a:off x="2286000" y="0"/>
              <a:ext cx="85104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6"/>
            <a:stretch/>
          </p:blipFill>
          <p:spPr>
            <a:xfrm>
              <a:off x="3505320" y="0"/>
              <a:ext cx="85068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7"/>
            <a:stretch/>
          </p:blipFill>
          <p:spPr>
            <a:xfrm>
              <a:off x="4724280" y="0"/>
              <a:ext cx="85104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8"/>
            <a:stretch/>
          </p:blipFill>
          <p:spPr>
            <a:xfrm>
              <a:off x="5931000" y="0"/>
              <a:ext cx="85068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9"/>
            <a:stretch/>
          </p:blipFill>
          <p:spPr>
            <a:xfrm>
              <a:off x="7162920" y="0"/>
              <a:ext cx="85068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10"/>
            <a:stretch/>
          </p:blipFill>
          <p:spPr>
            <a:xfrm>
              <a:off x="8292960" y="0"/>
              <a:ext cx="85104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11"/>
            <a:stretch/>
          </p:blipFill>
          <p:spPr>
            <a:xfrm>
              <a:off x="0" y="3581280"/>
              <a:ext cx="85104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12"/>
            <a:stretch/>
          </p:blipFill>
          <p:spPr>
            <a:xfrm>
              <a:off x="0" y="4724280"/>
              <a:ext cx="85104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13"/>
            <a:stretch/>
          </p:blipFill>
          <p:spPr>
            <a:xfrm>
              <a:off x="0" y="5905440"/>
              <a:ext cx="851040" cy="95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"/>
          <p:cNvSpPr/>
          <p:nvPr/>
        </p:nvSpPr>
        <p:spPr>
          <a:xfrm>
            <a:off x="1523880" y="34290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25448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c866"/>
                </a:solidFill>
                <a:latin typeface="Times New Roman"/>
                <a:ea typeface="隶书"/>
              </a:rPr>
              <a:t>状貌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38098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c866"/>
                </a:solidFill>
                <a:latin typeface="Times New Roman"/>
                <a:ea typeface="隶书"/>
              </a:rPr>
              <a:t>声势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90920" y="49831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c866"/>
                </a:solidFill>
                <a:latin typeface="Times New Roman"/>
                <a:ea typeface="隶书"/>
              </a:rPr>
              <a:t>想象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57600" y="21477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水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 澹澹 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山</a:t>
            </a:r>
            <a:r>
              <a:rPr b="0" lang="zh-CN" sz="2800" spc="-1" strike="noStrike">
                <a:solidFill>
                  <a:srgbClr val="b2b2b2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竦峙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657600" y="29862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树</a:t>
            </a:r>
            <a:r>
              <a:rPr b="0" lang="zh-CN" sz="2800" spc="-1" strike="noStrike">
                <a:solidFill>
                  <a:srgbClr val="b2b2b2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丛生 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草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丰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3809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秋风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萧瑟 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洪波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涌起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42400" y="3200400"/>
            <a:ext cx="1399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c866"/>
                </a:solidFill>
                <a:latin typeface="Times New Roman"/>
                <a:ea typeface="隶书"/>
              </a:rPr>
              <a:t>观沧海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81280" y="45720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日月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若出其中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657600" y="5500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星汉</a:t>
            </a:r>
            <a:r>
              <a:rPr b="0" lang="zh-CN" sz="2800" spc="-1" strike="noStrike">
                <a:solidFill>
                  <a:srgbClr val="b2b2b2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若出其里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0" y="2895480"/>
            <a:ext cx="152280" cy="2514600"/>
          </a:xfrm>
          <a:custGeom>
            <a:avLst/>
            <a:gdLst>
              <a:gd name="textAreaLeft" fmla="*/ 97200 w 152280"/>
              <a:gd name="textAreaRight" fmla="*/ 152640 w 15228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81280" y="2362320"/>
            <a:ext cx="76320" cy="99036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81280" y="4876920"/>
            <a:ext cx="76320" cy="99036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81680" y="2895480"/>
            <a:ext cx="381240" cy="2514600"/>
          </a:xfrm>
          <a:custGeom>
            <a:avLst/>
            <a:gdLst>
              <a:gd name="textAreaLeft" fmla="*/ 0 w 381240"/>
              <a:gd name="textAreaRight" fmla="*/ 137520 w 38124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69440" y="3352680"/>
            <a:ext cx="11552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c866"/>
                </a:solidFill>
                <a:latin typeface="Times New Roman"/>
                <a:ea typeface="隶书"/>
              </a:rPr>
              <a:t>博大胸怀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302960" y="3352680"/>
            <a:ext cx="11552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c866"/>
                </a:solidFill>
                <a:latin typeface="Times New Roman"/>
                <a:ea typeface="隶书"/>
              </a:rPr>
              <a:t>建功立业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4T08:43:52Z</dcterms:created>
  <dc:creator>jjy</dc:creator>
  <dc:description/>
  <dc:language>en-US</dc:language>
  <cp:lastModifiedBy>Administrators</cp:lastModifiedBy>
  <dcterms:modified xsi:type="dcterms:W3CDTF">2006-10-20T02:37:01Z</dcterms:modified>
  <cp:revision>19</cp:revision>
  <dc:subject/>
  <dc:title>PowerPoint 演示文稿</dc:title>
</cp:coreProperties>
</file>