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372-414C-4D07-AB7C-68CB3C76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5E6-BFD5-4E8F-8595-63069B0E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F8EBC-3870-4CA7-86F1-E0BB3DCD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C5668-36B7-4E45-A7FF-50BB8207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33A8E-66D5-4DBB-9B46-9C4E15F7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165E3-0106-490F-8203-5A648B78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48FB-DC30-40F4-86F4-477B9D7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9C169-BBF1-4B84-BFC5-498C26B3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5823F-1F70-48FD-B16C-03E526E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B7EC8-7CAD-4391-84A7-68DAA03D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A21FB-0CD1-4560-BD5F-913854FE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78C4B-1EE9-49A4-BAA5-3A91B730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860-1210-48A7-85EA-B8C563A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EE529-BCAF-4FDC-9A91-AEE2F77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E7DA7-3FC5-4B19-9C31-86390E61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94459-C9D9-472D-B2B3-572FF35E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70ECD-FB6C-4D19-8A94-29AE7A4A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274AD-845B-4F2E-AFA8-1F5CB94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1DECF-E050-4890-8258-EBE72B0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6E648-2A14-44A3-99DC-FF0C8B3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51F88-465F-45F9-A167-7A2D44A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EBBA7-C09D-47C5-8D8E-DE2BA694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08BA0-D736-4854-A1B2-F9EA075D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F1E-B27B-4181-B7FE-0EC9F5B9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BDAE6-79EB-4989-9DF3-09BC54F2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D76E4-98B2-4A24-978A-E921246F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18E66-827D-42F5-AEB4-AA5BA4D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71423-EECF-4705-99A4-4D13864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6D844-0518-476B-858E-F8898DC6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3D572-B364-4DBD-B2B2-F091FEC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91A55-8E30-467E-B1BE-99079A7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5F017-68ED-4042-AFB9-4C0C7A0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305EE-0F36-493B-B420-B4DB35F0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AC2CB-6A48-477D-BF6B-B6FEA2DA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63DC-E045-4BAD-9664-2EAD65E6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9584E-7766-4A91-8C29-3E12CA0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61F42-ADED-4BF6-9207-C875A80F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C0AF-53AC-4EF6-99A6-E06A14DA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EAC17-ECBE-4A52-A755-A3AD1582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0F01C-8F29-4D2B-9F28-8D20E3A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9CA37-6224-42F0-BE6D-3D3A79F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8CE8F-BDB8-4D5F-AD37-A5E12EDF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FDBAA-B673-411F-B337-E1919D12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E6933-A468-4E7A-867C-E754E70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634C1-338B-4526-A41F-5D00FAB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2814-D313-4A01-8B39-4726B4C4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16990-55C3-4181-9883-6A185320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CA846-E935-435C-A0E4-DE6A143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20ADB-37CD-4268-86B3-060D636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4CB8F-3955-40D8-A741-9C4C2FA1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1B37D-5B0C-40DB-86F9-19B554CD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F381-5B78-4253-AF40-019F7F24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E7B0-BEF3-4107-ADDB-1CFB7284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343-D342-4F0B-902A-8705590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0543-C2F3-42D1-AB90-03802467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4169-7C2F-48C3-8379-8E601B7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709-43A3-4D81-868B-E0EC084E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E424-E7E9-4A3F-9C2D-CD9C78FD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A79A-E341-412A-8C7F-8DB3A6F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494-F68D-4DCD-8C2C-ABE9906B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943E-F3BD-496D-825E-435BE18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B76F-0965-48EA-8086-7FE93293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7E92-B81D-4809-AAD2-16B05660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A6E3-2746-4CE0-A868-EC1C183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4B68-0F02-462E-8743-1C30F216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0B81-B6F3-4FEB-B3B5-1C6C13CD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0025-C350-4294-85BE-53D2FC3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10A-86C2-4DB0-AD40-684C8889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5E01-8ADA-49ED-82F2-163F0BD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A73E-3999-4572-8596-549D3FC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79B2-1DB4-42D8-95E9-2C5E2C02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18E5-A5CC-4A3E-860B-4FDC9946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FE7C-5A8B-4CB8-ABE9-A0E053F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234B7-C90B-4168-A744-CE114F2E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8520-9725-4D2D-B6BD-F3F02A14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4EDF-F330-4164-8617-3ED99250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9CD2-ABF9-49B4-9B24-C4F44D77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2627-4547-469A-92AD-1C893ACA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0FD-AE30-42AC-BDAC-6E6537CA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8524-DBC0-4478-8B47-FF41B274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CCF0-D095-48AA-BAFE-D448FAE5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8B36-AD34-4EE2-A764-EF57519D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6626-4B0D-4B3C-945C-ACD9989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9E82-6004-4219-A603-38898F6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3651-6E31-4CC3-8C6E-1FA9B426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5733-F49F-4072-99F5-BE823FE1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2825-E4EB-4A6C-A6A3-0AD0FF19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70D8-24F3-4156-814D-9698B2D4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5B2BA-10EE-4B63-9301-FF825AA2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58A-A1F6-4F28-9959-726C8F2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E733-401F-4B6B-A252-012A4B2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266A-909E-490D-9B26-009CD4C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7018-A36D-438F-AE47-811B150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B90F-4200-4418-87F7-F53ABFE6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B586-7064-4A5A-88A6-9DBB4E84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9CCD-5B35-4D72-95C2-13DC5906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CF4E-22D5-49AC-B9DE-059520E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92138-E5FD-4B6D-91D1-757B0EE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0FC1B-CB29-4D20-9141-5B881A26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DFDD-C3C3-44B6-B123-D6B48224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340-ECB2-406C-A62B-E2099218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A9DD-E5F9-433B-850B-369C20C2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67A5-05AC-465B-928E-4ABE657B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9B422-FCB8-46A5-AA60-4D181FCC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8054-8099-4C44-BC73-A4E2B15E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33AE-04A1-46AD-BDFE-5C754E4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74B3-B320-4022-A959-B0F48591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32CB-D013-48BF-A325-9050E73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23BD8-C8E3-48B7-95C7-6C6D2C0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07B4-7836-40CC-B566-3D544034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FBA73-6BB6-4160-8D20-FA920F9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51C-2D89-43F5-807E-088B3634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91C4-7E0C-4FB4-94C9-60A3BF32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C129-F26C-4DBF-984C-1B43E050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34B57-4AAD-472F-A000-2E8CBCAD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02EDB-CBE7-41E8-88C5-70DA6034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ECA29-A6BF-4074-91DB-7715F832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3669-1975-429C-A14A-B83DCA0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70BC4-C558-4088-9338-9897C511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530E-7B32-40C5-A25C-D148BF72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EAC1-9513-4879-9FBC-0DBED28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48D07-AB1C-4711-96B6-EAFA2A9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39B-6F1D-4C18-A832-73A02C2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2273-61A0-4D3E-9CA4-C6476E58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4448-2C2E-4895-A29C-4627E9E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5DD1B-34AB-4E7E-8A6D-82F3B19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9195A-0DAC-4B81-B5D0-0C505BD8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D621-D580-4864-A28B-87E86046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096D-641F-4D8D-9E7F-A88E4E2F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A234D-FF24-4F24-97C3-87C0760F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224A3-4C25-4E5D-B883-C2C91613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9DD31-2ECD-4D1C-A5A4-909AED18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CC62-E118-4F20-B78C-62DC5BE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DD7-B39A-4835-8EE5-90BCC06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2685-5766-43B9-B740-620C9CA9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415BA-4AA6-45A7-AE36-7B1CD6D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5B287-63D3-4FAE-85DC-01A272B7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3D28C-4899-4DA6-86E9-13574EB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8D35-2FA4-48B7-A477-20BFD07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CD034-2945-407A-8F10-691BCA9E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7DBDC-0883-48DA-9AD7-2AFC3DA2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DA900-B154-4E71-9EC6-92A5BCD3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B54DC-8FC8-45B2-B007-2B4D707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06ABC-CDA4-408A-81DD-EA59B12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14F-C8A9-4C77-886A-F4AA11FD36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561-D8BB-4542-8BD5-7EF0C60B3B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0C32-447F-4C43-B9C7-4797D440F6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F2B6-6FCF-473E-8E7E-5FDC7D4E4E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BAFD-1E05-486A-8C77-E94E13468D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5AD-A636-4601-BD0A-4D0A270C9B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F624-EC2D-45A3-9CB1-913278942E8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F4B9-4FC7-4207-88E0-F22BEEF952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F9B-7C59-41E1-BCEC-2E9EB0FDE0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CD0D-F4D4-4B51-85BD-0C16B9F461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BDE2-8274-4A46-A82C-3EC2579670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A7F6-1D07-4FB1-8E7A-FFAD571A0D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F69-89F8-4BA0-8F55-580675E669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995F-FC8D-4BCA-9B2B-616E363BE3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C1BD-3440-4F0F-861E-8D90C90F6B3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2041-6B6F-4F04-A3E6-14660BEDFB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AE6A-8BDF-4B94-A362-6566C89DEA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E65-780C-40A1-BFEA-8F65264751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F771-B462-41DC-AF2E-D42611696CB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BB1-7441-49DE-AA97-B202343B6B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9AE-B5C7-40E5-B1C8-4B3B53ABF3A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412-C5D5-4F50-BCE7-56B6C0B3A9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C1E6-F78A-490B-84C8-EBBD350C916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68F-ED9A-4C14-83AD-6E759B28F0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6480" y="-6480"/>
            <a:ext cx="9139320" cy="5139000"/>
          </a:xfrm>
          <a:prstGeom prst="rect">
            <a:avLst/>
          </a:prstGeom>
          <a:ln w="0">
            <a:noFill/>
          </a:ln>
        </p:spPr>
      </p:pic>
      <p:sp>
        <p:nvSpPr>
          <p:cNvPr id="494" name="矩形 3"/>
          <p:cNvSpPr/>
          <p:nvPr/>
        </p:nvSpPr>
        <p:spPr>
          <a:xfrm>
            <a:off x="0" y="3948120"/>
            <a:ext cx="9144000" cy="6984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4567320" y="25606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女人城 光棍节活动策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http://pic24.nipic.com/20120925/5955207_093635342000_2.jpg"/>
          <p:cNvPicPr/>
          <p:nvPr/>
        </p:nvPicPr>
        <p:blipFill>
          <a:blip r:embed="rId1"/>
          <a:srcRect l="0" t="2644" r="0" b="735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8" name="矩形 7"/>
          <p:cNvSpPr/>
          <p:nvPr/>
        </p:nvSpPr>
        <p:spPr>
          <a:xfrm>
            <a:off x="0" y="1233360"/>
            <a:ext cx="9144000" cy="23004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116160" y="1903320"/>
            <a:ext cx="28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5" descr=""/>
          <p:cNvPicPr/>
          <p:nvPr/>
        </p:nvPicPr>
        <p:blipFill>
          <a:blip r:embed="rId1"/>
          <a:srcRect l="0" t="5049" r="0" b="10581"/>
          <a:stretch/>
        </p:blipFill>
        <p:spPr>
          <a:xfrm>
            <a:off x="1116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8" name="矩形 9"/>
          <p:cNvSpPr/>
          <p:nvPr/>
        </p:nvSpPr>
        <p:spPr>
          <a:xfrm>
            <a:off x="0" y="546120"/>
            <a:ext cx="9144000" cy="892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"/>
          <p:cNvSpPr/>
          <p:nvPr/>
        </p:nvSpPr>
        <p:spPr>
          <a:xfrm>
            <a:off x="465120" y="596880"/>
            <a:ext cx="82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ef9"/>
                </a:solidFill>
                <a:latin typeface="Arial"/>
              </a:rPr>
              <a:t>吸引人的节日一向是企业开展多向营销的绝佳时间点，对于女人城来说，更是具有双向意义</a:t>
            </a:r>
            <a:r>
              <a:rPr b="1" lang="zh-CN" sz="2400" spc="-1" strike="noStrike">
                <a:solidFill>
                  <a:srgbClr val="4f81bd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1177920" y="1574640"/>
            <a:ext cx="8078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一、对于品牌的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1ef9"/>
                </a:solidFill>
                <a:latin typeface="Arial"/>
              </a:rPr>
              <a:t>是一次宣扬女人城文化及提升知名度的一次绝佳传播机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2867040" y="2435400"/>
            <a:ext cx="8134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二、对于销售的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1ef9"/>
                </a:solidFill>
                <a:latin typeface="Arial"/>
              </a:rPr>
              <a:t>是一次提升销售业绩加速完成销售指标的绝佳的销售机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57520"/>
          </a:xfrm>
          <a:prstGeom prst="rect">
            <a:avLst/>
          </a:prstGeom>
          <a:ln w="0">
            <a:noFill/>
          </a:ln>
        </p:spPr>
      </p:pic>
      <p:sp>
        <p:nvSpPr>
          <p:cNvPr id="504" name="矩形 2"/>
          <p:cNvSpPr/>
          <p:nvPr/>
        </p:nvSpPr>
        <p:spPr>
          <a:xfrm>
            <a:off x="0" y="3948120"/>
            <a:ext cx="9144000" cy="6984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3"/>
          <p:cNvSpPr/>
          <p:nvPr/>
        </p:nvSpPr>
        <p:spPr>
          <a:xfrm>
            <a:off x="476280" y="4000680"/>
            <a:ext cx="83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微软雅黑"/>
                <a:ea typeface="微软雅黑"/>
              </a:rPr>
              <a:t>因此，女人城的光棍节营销发力点在两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76280" y="1573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ef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131ef9"/>
                </a:solidFill>
                <a:latin typeface="Arial"/>
              </a:rPr>
              <a:t>提升知名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155600" y="554040"/>
            <a:ext cx="39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ef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131ef9"/>
                </a:solidFill>
                <a:latin typeface="Arial"/>
              </a:rPr>
              <a:t>提升商场销售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"/>
          <p:cNvPicPr/>
          <p:nvPr/>
        </p:nvPicPr>
        <p:blipFill>
          <a:blip r:embed="rId1"/>
          <a:srcRect l="0" t="0" r="5669" b="0"/>
          <a:stretch/>
        </p:blipFill>
        <p:spPr>
          <a:xfrm>
            <a:off x="57240" y="-6480"/>
            <a:ext cx="9144000" cy="5139000"/>
          </a:xfrm>
          <a:prstGeom prst="rect">
            <a:avLst/>
          </a:prstGeom>
          <a:ln w="0">
            <a:noFill/>
          </a:ln>
        </p:spPr>
      </p:pic>
      <p:sp>
        <p:nvSpPr>
          <p:cNvPr id="510" name="矩形 2"/>
          <p:cNvSpPr/>
          <p:nvPr/>
        </p:nvSpPr>
        <p:spPr>
          <a:xfrm>
            <a:off x="6261120" y="-39600"/>
            <a:ext cx="2779560" cy="4591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6346800" y="171360"/>
            <a:ext cx="2763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精准</a:t>
            </a:r>
            <a:r>
              <a:rPr b="1" lang="zh-CN" sz="2400" spc="-1" strike="noStrike">
                <a:solidFill>
                  <a:srgbClr val="131ef9"/>
                </a:solidFill>
                <a:latin typeface="Arial"/>
              </a:rPr>
              <a:t>的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ef9"/>
                </a:solidFill>
                <a:latin typeface="Arial"/>
              </a:rPr>
              <a:t>需要解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对谁说</a:t>
            </a: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8089920" y="181764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消费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7337520" y="18176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6546240" y="1787400"/>
            <a:ext cx="4546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合作商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1"/>
          <a:srcRect l="0" t="14337" r="0" b="643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7" name="矩形 2"/>
          <p:cNvSpPr/>
          <p:nvPr/>
        </p:nvSpPr>
        <p:spPr>
          <a:xfrm>
            <a:off x="5460840" y="136440"/>
            <a:ext cx="3672000" cy="50072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5586480" y="304920"/>
            <a:ext cx="3444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对消费者说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情感沟通，提升女人城知名度与好感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5619600" y="144936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对员工说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升员工认可度，增强企业凝聚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518080" y="2639880"/>
            <a:ext cx="34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对合作商户说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加强合作商户信心，加强协作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" descr=""/>
          <p:cNvPicPr/>
          <p:nvPr/>
        </p:nvPicPr>
        <p:blipFill>
          <a:blip r:embed="rId1"/>
          <a:srcRect l="0" t="0" r="12152" b="0"/>
          <a:stretch/>
        </p:blipFill>
        <p:spPr>
          <a:xfrm>
            <a:off x="0" y="0"/>
            <a:ext cx="6750000" cy="5143680"/>
          </a:xfrm>
          <a:prstGeom prst="rect">
            <a:avLst/>
          </a:prstGeom>
          <a:ln w="0">
            <a:noFill/>
          </a:ln>
        </p:spPr>
      </p:pic>
      <p:sp>
        <p:nvSpPr>
          <p:cNvPr id="523" name="矩形 2"/>
          <p:cNvSpPr/>
          <p:nvPr/>
        </p:nvSpPr>
        <p:spPr>
          <a:xfrm>
            <a:off x="6119640" y="-6480"/>
            <a:ext cx="3002040" cy="5139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051960" y="1579680"/>
            <a:ext cx="66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6797520" y="763560"/>
            <a:ext cx="227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企业宣传推广多走温情路线，以情感沟通为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此，我们建议奠定宣传的温情基调，以情感沟通为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0" r="0" b="707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8" name="矩形 2"/>
          <p:cNvSpPr/>
          <p:nvPr/>
        </p:nvSpPr>
        <p:spPr>
          <a:xfrm>
            <a:off x="6075360" y="-17640"/>
            <a:ext cx="2370240" cy="3448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6039000" y="442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活动的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6119640" y="103032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棍节不孤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6084720" y="1720800"/>
            <a:ext cx="22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他，你还有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927080" y="3821040"/>
            <a:ext cx="684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这次的活动宣传，除了硬广宣传之外，还将加入更多互动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运用更多公关手段，将宣传主题贯穿于整合营销中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1ef9"/>
                </a:solidFill>
                <a:latin typeface="Arial"/>
              </a:rPr>
              <a:t>把消费者、合作商户、员工共同参与到活动中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"/>
          <p:cNvPicPr/>
          <p:nvPr/>
        </p:nvPicPr>
        <p:blipFill>
          <a:blip r:embed="rId1"/>
          <a:srcRect l="19342" t="0" r="10313" b="0"/>
          <a:stretch/>
        </p:blipFill>
        <p:spPr>
          <a:xfrm>
            <a:off x="11160" y="-6480"/>
            <a:ext cx="9144000" cy="5139000"/>
          </a:xfrm>
          <a:prstGeom prst="rect">
            <a:avLst/>
          </a:prstGeom>
          <a:ln w="0">
            <a:noFill/>
          </a:ln>
        </p:spPr>
      </p:pic>
      <p:sp>
        <p:nvSpPr>
          <p:cNvPr id="535" name="矩形 2"/>
          <p:cNvSpPr/>
          <p:nvPr/>
        </p:nvSpPr>
        <p:spPr>
          <a:xfrm>
            <a:off x="0" y="1620720"/>
            <a:ext cx="6753240" cy="3011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133200" y="1733400"/>
            <a:ext cx="54612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ef9"/>
                </a:solidFill>
                <a:latin typeface="Arial"/>
              </a:rPr>
              <a:t>活动档期划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70040" y="1733400"/>
            <a:ext cx="58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前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）：活动前期宣传招募，物料准备。（腾讯房产阜阳站网络宣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人城海报派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826920" y="2503440"/>
            <a:ext cx="54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）：活动进行时（采取一组控制活动进行，另一组到街道现场访问等形式吸引人气，以达到人气吸引最大值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849240" y="3591000"/>
            <a:ext cx="56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之后）：后期传播上“炒冷饭”，回顾活动，进行二度传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"/>
          <p:cNvPicPr/>
          <p:nvPr/>
        </p:nvPicPr>
        <p:blipFill>
          <a:blip r:embed="rId1"/>
          <a:srcRect l="3170" t="0" r="4180" b="0"/>
          <a:stretch/>
        </p:blipFill>
        <p:spPr>
          <a:xfrm>
            <a:off x="0" y="31428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42" name="矩形 2"/>
          <p:cNvSpPr/>
          <p:nvPr/>
        </p:nvSpPr>
        <p:spPr>
          <a:xfrm>
            <a:off x="0" y="2743200"/>
            <a:ext cx="9347040" cy="9874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76120" y="2924280"/>
            <a:ext cx="457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3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具体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BainBulletsConfiguration" hidden="1"/>
          <p:cNvSpPr/>
          <p:nvPr/>
        </p:nvSpPr>
        <p:spPr>
          <a:xfrm>
            <a:off x="12600" y="12600"/>
            <a:ext cx="889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4327560" y="73080"/>
            <a:ext cx="478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1ef9"/>
                </a:solidFill>
                <a:latin typeface="Arial"/>
              </a:rPr>
              <a:t>活动参与者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女性（须带上其闺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1ef9"/>
                </a:solidFill>
                <a:latin typeface="Arial"/>
              </a:rPr>
              <a:t>活动具体内容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与者（一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）在女人城任意商铺选择衣服，来组成搭配，来装扮自己的闺蜜。然后由评委（从围观者中随机抽取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），搭配最佳者将从自己所选的搭配衣服任意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件。其他参与者则送小礼品。活动不可重复参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1ef9"/>
                </a:solidFill>
                <a:latin typeface="Arial"/>
              </a:rPr>
              <a:t>活动方式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场评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784680" y="3008160"/>
            <a:ext cx="52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1ef9"/>
                </a:solidFill>
                <a:latin typeface="Arial"/>
              </a:rPr>
              <a:t>其他优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凡是当天活动参与者，在女人城消费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，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送电影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（可选热门电影，如《雷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凡是当天活动参与者，在女人城消费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，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元送电影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张（可选热门电影，如《雷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21:53:00Z</dcterms:created>
  <dc:creator>admin</dc:creator>
  <dc:description/>
  <cp:keywords/>
  <dc:language>en-US</dc:language>
  <cp:lastModifiedBy>Administrator</cp:lastModifiedBy>
  <dcterms:modified xsi:type="dcterms:W3CDTF">2015-10-26T03:09:26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2</vt:lpwstr>
  </property>
</Properties>
</file>