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DFA-AEB1-4400-8391-4D0D640A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E0C-4324-4F81-A2BC-3ED68DA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E59-3492-4328-A73C-5E028A0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FFF-5BCA-46E0-81C9-39CE5E5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FBF-7C38-4561-B95E-0A085D7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37-07AA-423A-92DF-0C3D51B2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664-6D21-49C4-AA0D-B0AC358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9E6-D186-4608-B4BB-E76F3EE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7AD-AC01-4FD3-9777-37D3637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748-21CF-4E73-83FB-1538FD9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985-E26C-40D4-94A7-2CB936B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018-806F-4C26-ABD7-C882E4B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1E17-E5E7-4526-B213-BC983811C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8000" y="3284640"/>
            <a:ext cx="543888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万圣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547640" y="765000"/>
            <a:ext cx="6264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Felix Titling"/>
              </a:rPr>
              <a:t>Hallowee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Felix Titling"/>
              <a:ea typeface="Felix Titl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079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 flipH="1" flipV="1">
            <a:off x="4361760" y="349308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6" descr=""/>
          <p:cNvPicPr/>
          <p:nvPr/>
        </p:nvPicPr>
        <p:blipFill>
          <a:blip r:embed="rId2"/>
          <a:stretch/>
        </p:blipFill>
        <p:spPr>
          <a:xfrm>
            <a:off x="244440" y="1908000"/>
            <a:ext cx="8613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古代苏格兰人与爱尔兰人因害怕万圣节的来临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害怕自己的身体被死去的鬼魂所占据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所以他们想要把鬼魂吓走最好的方式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就是将自己打扮成更恐怖的幽灵或吸血鬼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然后在南瓜上刻着可怕的鬼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好吓走那些死去的孤魂野鬼。于是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当时代越来越进步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鬼魂的传说越来越渺不可及的时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万圣节反而成为一个相当好玩的庆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大家可以想尽办法自娱娱人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将最恐怖最惊惧的打扮展现出来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达到玩乐的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2484360" y="260280"/>
            <a:ext cx="410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万圣节的由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84360" y="-3558240"/>
            <a:ext cx="50328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圣节是国际性节日庆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。万圣节的活动包括糖果、鬼怪旅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篝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化装舞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参观闹鬼的景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雕刻火焰般双眼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lanterns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阅读和看恐怖片的可怕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lloween is an international holiday celebrated on October 31. Halloween activities include trick-or-treating, ghost tours, bonfires, costume parties, visiting haunted attractions, carving Jack-o'-lanterns, reading scary stories and watching horror mov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484360" y="0"/>
            <a:ext cx="4392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万圣节的活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说到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Trick Or Treat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就是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"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不招待我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我就会戏弄你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"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大家会扮演许多巫婆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鬼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骷髅的身影来四处吓人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或到邻居的家中要糖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所以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Trick Or Treat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不给糖就捣蛋的活动也成为万圣节不可缺少的经典活动之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有一种更严肃的说法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就是万圣节一词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(Halloween)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本来由二个字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allow-Eve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演变而成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每年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日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是罗马天主教将之定为诸圣或万圣节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用以纪念所有以死的圣徒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可是许多信奉邪教的人却在这圣日的前一天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放肆的到处作乱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破坏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所以有部分的教徒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甚至认为这是魔鬼的节日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而对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reat Or Trick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的活动深恶痛绝哩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1526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716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908000" y="836640"/>
            <a:ext cx="5328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关于万圣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一些单词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572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llowee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圣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k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kin pa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瓜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ve the pumpk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雕刻南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ck-o‘-lan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瓜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tu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戏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tume pa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妆舞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mpir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血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tc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巫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蝙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ck c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蜘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ight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恐、害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o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幽灵般的，令人毛骨悚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u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骷髅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elet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骷髅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unted ho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鬼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ick-or-Tre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给糖，就捣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ppy Hallowee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圣节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a great Hallo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愿你有个很棒的万圣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514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395280" y="1341360"/>
            <a:ext cx="82296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万圣节的诡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甜品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（图片欣赏）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U7657P~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T011E3~1"/>
          <p:cNvPicPr/>
          <p:nvPr/>
        </p:nvPicPr>
        <p:blipFill>
          <a:blip r:embed="rId3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T013F5~1"/>
          <p:cNvPicPr/>
          <p:nvPr/>
        </p:nvPicPr>
        <p:blipFill>
          <a:blip r:embed="rId4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T01947~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T013D2~1"/>
          <p:cNvPicPr/>
          <p:nvPr/>
        </p:nvPicPr>
        <p:blipFill>
          <a:blip r:embed="rId6"/>
          <a:stretch/>
        </p:blipFill>
        <p:spPr>
          <a:xfrm>
            <a:off x="611280" y="0"/>
            <a:ext cx="7956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1:44:51Z</dcterms:created>
  <dc:creator>TOSHIBA</dc:creator>
  <dc:description/>
  <dc:language>en-US</dc:language>
  <cp:lastModifiedBy>Sky123.Org</cp:lastModifiedBy>
  <dcterms:modified xsi:type="dcterms:W3CDTF">2015-08-06T09:53:33Z</dcterms:modified>
  <cp:revision>3</cp:revision>
  <dc:subject/>
  <dc:title>幻灯片 1</dc:title>
</cp:coreProperties>
</file>