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BD23-305E-472E-AA3B-4217F577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800" y="3854880"/>
            <a:ext cx="6858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2565-4816-4492-B850-EF64B3B6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800" y="385488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3120" y="385488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940D-C4B8-4422-B915-F50B52B3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220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47560" y="1371240"/>
            <a:ext cx="220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65960" y="1371240"/>
            <a:ext cx="220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800" y="3854880"/>
            <a:ext cx="220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47560" y="3854880"/>
            <a:ext cx="220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65960" y="3854880"/>
            <a:ext cx="220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2B1-03A8-4087-9749-0A723205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8ECB-7692-4151-B351-CC3552AB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28800" y="1371240"/>
            <a:ext cx="6858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24CB-C456-4EBF-8AF7-E7495CB51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2A03-E7B0-4253-8C5D-61AA8E98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3C82-E342-4595-8EA1-EDF2EFF6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69EA-D9DA-44BB-802E-664B6AA6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274320"/>
            <a:ext cx="68580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5099-0141-4D7B-8BEF-04805D1E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28800" y="385488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EEBB-76A2-4A18-8687-992D5535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800" y="1371240"/>
            <a:ext cx="6858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F637-D55D-4FD7-9725-3369EBB0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3120" y="385488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4320-EE9F-4506-9C99-79284617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28800" y="3854880"/>
            <a:ext cx="6858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7961-32DD-4A88-8E18-558F394F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28800" y="3854880"/>
            <a:ext cx="6858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C4C0-AA73-40D3-90F8-E395507D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28800" y="385488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3120" y="385488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3D52-F4D2-45E7-BA80-9098C262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220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47560" y="1371240"/>
            <a:ext cx="220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65960" y="1371240"/>
            <a:ext cx="220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28800" y="3854880"/>
            <a:ext cx="220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47560" y="3854880"/>
            <a:ext cx="220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65960" y="3854880"/>
            <a:ext cx="220788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D346-1C27-4A8E-AB65-EA844C077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4D8B-0F5B-428F-BC98-B608038F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345F-C283-4B64-AE7D-9FFB84E1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AFC5-313C-4215-91DC-D8800179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274320"/>
            <a:ext cx="68580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76C6-9605-4635-8A7B-978F9C16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800" y="385488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9B1C-DB8D-40F5-99C3-5315263F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3120" y="385488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44DA-12D0-4B44-A118-2ED23226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3120" y="1371240"/>
            <a:ext cx="33465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3854880"/>
            <a:ext cx="6858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6B00-36DA-4887-9D1E-385D8F7F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371240"/>
            <a:ext cx="6858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8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82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82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82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438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82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4382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82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4382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82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82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82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8108-6C24-4688-A711-FAE320C3A264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28800" y="1371240"/>
            <a:ext cx="6858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8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82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4382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82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438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82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4382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82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4382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82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82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82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E424-BA60-49BB-80CD-C6F8F0937B05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2133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240" y="320004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824"/>
                </a:solidFill>
                <a:latin typeface="Arial"/>
                <a:ea typeface="PMingLiU"/>
              </a:rPr>
              <a:t>www.</a:t>
            </a:r>
            <a:r>
              <a:rPr b="0" lang="zh-CN" sz="2800" spc="-1" strike="noStrike">
                <a:solidFill>
                  <a:srgbClr val="343824"/>
                </a:solidFill>
                <a:latin typeface="Arial"/>
                <a:ea typeface="宋体"/>
              </a:rPr>
              <a:t>cr173</a:t>
            </a:r>
            <a:r>
              <a:rPr b="0" lang="en-US" sz="2800" spc="-1" strike="noStrike">
                <a:solidFill>
                  <a:srgbClr val="343824"/>
                </a:solidFill>
                <a:latin typeface="Arial"/>
                <a:ea typeface="PMingLiU"/>
              </a:rPr>
              <a:t>.com</a:t>
            </a: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Your Topic Goes He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438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43824"/>
                </a:solidFill>
                <a:latin typeface="Arial"/>
                <a:ea typeface="PMingLiU"/>
              </a:rPr>
              <a:t>Your Subtopics Go Here</a:t>
            </a: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6858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Your Topic Goes He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6858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Your Subtopics Go Here</a:t>
            </a:r>
            <a:endParaRPr b="0" lang="en-US" sz="2800" spc="-1" strike="noStrike">
              <a:solidFill>
                <a:srgbClr val="343824"/>
              </a:solidFill>
              <a:latin typeface="Arial"/>
            </a:endParaRPr>
          </a:p>
        </p:txBody>
      </p:sp>
      <p:pic>
        <p:nvPicPr>
          <p:cNvPr id="88" name="Picture 4" descr="man_house_construction_md_wht"/>
          <p:cNvPicPr/>
          <p:nvPr/>
        </p:nvPicPr>
        <p:blipFill>
          <a:blip r:embed="rId2"/>
          <a:stretch/>
        </p:blipFill>
        <p:spPr>
          <a:xfrm>
            <a:off x="1943280" y="5562720"/>
            <a:ext cx="1333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Transitiona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PMingLiU"/>
              </a:rPr>
              <a:t>el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split_foyer_prt"/>
          <p:cNvPicPr/>
          <p:nvPr/>
        </p:nvPicPr>
        <p:blipFill>
          <a:blip r:embed="rId1"/>
          <a:stretch/>
        </p:blipFill>
        <p:spPr>
          <a:xfrm>
            <a:off x="5562720" y="4019400"/>
            <a:ext cx="3200400" cy="2400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2" name="Picture 7" descr="split_foyer_qx"/>
          <p:cNvPicPr/>
          <p:nvPr/>
        </p:nvPicPr>
        <p:blipFill>
          <a:blip r:embed="rId2"/>
          <a:stretch/>
        </p:blipFill>
        <p:spPr>
          <a:xfrm>
            <a:off x="1828800" y="1143000"/>
            <a:ext cx="3200400" cy="2400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3" name="Picture 8" descr="split_foyer_sld"/>
          <p:cNvPicPr/>
          <p:nvPr/>
        </p:nvPicPr>
        <p:blipFill>
          <a:blip r:embed="rId3"/>
          <a:stretch/>
        </p:blipFill>
        <p:spPr>
          <a:xfrm>
            <a:off x="1828800" y="4038480"/>
            <a:ext cx="3200400" cy="2400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4" name="Picture 9" descr="split_foyer_trs"/>
          <p:cNvPicPr/>
          <p:nvPr/>
        </p:nvPicPr>
        <p:blipFill>
          <a:blip r:embed="rId4"/>
          <a:stretch/>
        </p:blipFill>
        <p:spPr>
          <a:xfrm>
            <a:off x="5562720" y="1143000"/>
            <a:ext cx="3200400" cy="2400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5" name="Picture 10" descr="man_house_construction_md_wht"/>
          <p:cNvPicPr/>
          <p:nvPr/>
        </p:nvPicPr>
        <p:blipFill>
          <a:blip r:embed="rId5"/>
          <a:stretch/>
        </p:blipFill>
        <p:spPr>
          <a:xfrm>
            <a:off x="266760" y="2362320"/>
            <a:ext cx="1333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01:16:30Z</dcterms:created>
  <dc:creator>Sunny </dc:creator>
  <dc:description/>
  <dc:language>en-US</dc:language>
  <cp:lastModifiedBy>jccook</cp:lastModifiedBy>
  <dcterms:modified xsi:type="dcterms:W3CDTF">2015-07-30T09:20:47Z</dcterms:modified>
  <cp:revision>4</cp:revision>
  <dc:subject/>
  <dc:title>SPLIT FOY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