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5F7-6591-46C8-83C2-91CE467F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93F-7196-421B-BA96-44D40C5A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997-D748-482B-ADBD-95709448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562-06F4-43AD-909F-347646F3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ABBA-06B4-4146-9D5E-481DA2C4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DADB-7667-47E4-8883-6C9B9B35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152A-2FB4-4587-8958-5184C1B0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2BB1-4292-4F15-B642-14C8183D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E469-4F9B-4244-93DC-A11027C3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4F35-003A-4390-8291-366E3ED9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3E7F-BCE8-4DCE-90C1-C8B4938C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3BF-5475-441C-ADAA-F577AC10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424E-D113-44F1-99C8-E5C973F7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41A0-9857-4455-96DF-F00476B0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C998-CD89-47A1-9EC8-B5695D7D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FE98-E96F-4AA4-AEC4-957B495A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9590-D31B-4A36-97A2-3E1D6D71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BF95-3405-4BE4-94E2-7E9160FE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AFC0-9DB6-4A86-8DB0-FA65B715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1DF8-0884-4264-B713-5900F440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FE8A-D112-4057-9BD5-3FA12731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4E846-0AC9-456B-A25F-CFCC714C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E10-CC38-4348-BD35-B3C1931B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2A69-FB27-4EEE-97EC-7D7D616C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74C6-DFA1-4EF8-9DCA-0F0B9CBD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D57D-8C17-4975-84C2-1269F252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F1B9-D445-4407-BE9F-2AB3602C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887C-8CC0-493E-9B3D-B64934EB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476C-6040-4DA6-BC3B-C448BF10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536D-0A3B-4E91-BB4D-B53E0FD4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16E-48B3-4F3F-98AC-32E396A3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8D0-37E5-479A-BF75-E026431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04D-672A-4E8E-B884-EF5A1263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B3D-184A-46E6-B9F8-7EC1C4B2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7EC-2D39-4EF6-AA2D-1D9888B3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183-1112-4500-8BAE-45733C02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7760" y="5285880"/>
            <a:ext cx="1641240" cy="1482480"/>
            <a:chOff x="77760" y="5285880"/>
            <a:chExt cx="1641240" cy="1482480"/>
          </a:xfrm>
        </p:grpSpPr>
        <p:grpSp>
          <p:nvGrpSpPr>
            <p:cNvPr id="1" name="Group 3"/>
            <p:cNvGrpSpPr/>
            <p:nvPr/>
          </p:nvGrpSpPr>
          <p:grpSpPr>
            <a:xfrm>
              <a:off x="570240" y="5892840"/>
              <a:ext cx="172800" cy="191520"/>
              <a:chOff x="570240" y="5892840"/>
              <a:chExt cx="172800" cy="191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621000" y="5916600"/>
                <a:ext cx="122040" cy="167760"/>
                <a:chOff x="621000" y="5916600"/>
                <a:chExt cx="122040" cy="167760"/>
              </a:xfrm>
            </p:grpSpPr>
            <p:sp>
              <p:nvSpPr>
                <p:cNvPr id="3" name="未知"/>
                <p:cNvSpPr/>
                <p:nvPr/>
              </p:nvSpPr>
              <p:spPr>
                <a:xfrm flipH="1" flipV="1" rot="1471200">
                  <a:off x="633960" y="599868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未知"/>
                <p:cNvSpPr/>
                <p:nvPr/>
              </p:nvSpPr>
              <p:spPr>
                <a:xfrm flipH="1" flipV="1" rot="19629600">
                  <a:off x="670680" y="5968800"/>
                  <a:ext cx="55440" cy="770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未知"/>
                <p:cNvSpPr/>
                <p:nvPr/>
              </p:nvSpPr>
              <p:spPr>
                <a:xfrm flipH="1" rot="1471200">
                  <a:off x="667440" y="592452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570240" y="5892840"/>
                <a:ext cx="119520" cy="167040"/>
                <a:chOff x="570240" y="5892840"/>
                <a:chExt cx="119520" cy="167040"/>
              </a:xfrm>
            </p:grpSpPr>
            <p:sp>
              <p:nvSpPr>
                <p:cNvPr id="7" name="未知"/>
                <p:cNvSpPr/>
                <p:nvPr/>
              </p:nvSpPr>
              <p:spPr>
                <a:xfrm flipV="1" rot="1568400">
                  <a:off x="584280" y="597456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未知"/>
                <p:cNvSpPr/>
                <p:nvPr/>
              </p:nvSpPr>
              <p:spPr>
                <a:xfrm flipV="1" rot="5010000">
                  <a:off x="583920" y="5926680"/>
                  <a:ext cx="55440" cy="77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未知"/>
                <p:cNvSpPr/>
                <p:nvPr/>
              </p:nvSpPr>
              <p:spPr>
                <a:xfrm rot="1568400">
                  <a:off x="619200" y="590112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" name="Group 12"/>
            <p:cNvGrpSpPr/>
            <p:nvPr/>
          </p:nvGrpSpPr>
          <p:grpSpPr>
            <a:xfrm>
              <a:off x="486360" y="5285880"/>
              <a:ext cx="229680" cy="253440"/>
              <a:chOff x="486360" y="5285880"/>
              <a:chExt cx="229680" cy="25344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554760" y="5318280"/>
                <a:ext cx="161280" cy="221040"/>
                <a:chOff x="554760" y="5318280"/>
                <a:chExt cx="161280" cy="221040"/>
              </a:xfrm>
            </p:grpSpPr>
            <p:sp>
              <p:nvSpPr>
                <p:cNvPr id="12" name="未知"/>
                <p:cNvSpPr/>
                <p:nvPr/>
              </p:nvSpPr>
              <p:spPr>
                <a:xfrm flipH="1" flipV="1" rot="1471200">
                  <a:off x="572040" y="5427000"/>
                  <a:ext cx="74520" cy="10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未知"/>
                <p:cNvSpPr/>
                <p:nvPr/>
              </p:nvSpPr>
              <p:spPr>
                <a:xfrm flipH="1" flipV="1" rot="19629600">
                  <a:off x="620640" y="5387040"/>
                  <a:ext cx="72720" cy="102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未知"/>
                <p:cNvSpPr/>
                <p:nvPr/>
              </p:nvSpPr>
              <p:spPr>
                <a:xfrm flipH="1" rot="1471200">
                  <a:off x="617040" y="5329080"/>
                  <a:ext cx="74520" cy="10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Group 17"/>
              <p:cNvGrpSpPr/>
              <p:nvPr/>
            </p:nvGrpSpPr>
            <p:grpSpPr>
              <a:xfrm>
                <a:off x="486360" y="5285880"/>
                <a:ext cx="158760" cy="220680"/>
                <a:chOff x="486360" y="5285880"/>
                <a:chExt cx="158760" cy="220680"/>
              </a:xfrm>
            </p:grpSpPr>
            <p:sp>
              <p:nvSpPr>
                <p:cNvPr id="16" name="未知"/>
                <p:cNvSpPr/>
                <p:nvPr/>
              </p:nvSpPr>
              <p:spPr>
                <a:xfrm flipV="1" rot="1568400">
                  <a:off x="504360" y="5394600"/>
                  <a:ext cx="74520" cy="10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flipV="1" rot="5010000">
                  <a:off x="505440" y="5331240"/>
                  <a:ext cx="73080" cy="102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 rot="1568400">
                  <a:off x="551880" y="5297040"/>
                  <a:ext cx="74520" cy="10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" name="Group 21"/>
            <p:cNvGrpSpPr/>
            <p:nvPr/>
          </p:nvGrpSpPr>
          <p:grpSpPr>
            <a:xfrm>
              <a:off x="77760" y="5385960"/>
              <a:ext cx="673920" cy="699840"/>
              <a:chOff x="77760" y="5385960"/>
              <a:chExt cx="673920" cy="699840"/>
            </a:xfrm>
          </p:grpSpPr>
          <p:grpSp>
            <p:nvGrpSpPr>
              <p:cNvPr id="20" name="Group 22"/>
              <p:cNvGrpSpPr/>
              <p:nvPr/>
            </p:nvGrpSpPr>
            <p:grpSpPr>
              <a:xfrm>
                <a:off x="236160" y="5385960"/>
                <a:ext cx="515520" cy="577800"/>
                <a:chOff x="236160" y="5385960"/>
                <a:chExt cx="515520" cy="577800"/>
              </a:xfrm>
            </p:grpSpPr>
            <p:sp>
              <p:nvSpPr>
                <p:cNvPr id="21" name="未知"/>
                <p:cNvSpPr/>
                <p:nvPr/>
              </p:nvSpPr>
              <p:spPr>
                <a:xfrm flipH="1" flipV="1" rot="19290000">
                  <a:off x="483480" y="565308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 flipH="1" flipV="1" rot="15848400">
                  <a:off x="448560" y="5482800"/>
                  <a:ext cx="200880" cy="28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未知"/>
                <p:cNvSpPr/>
                <p:nvPr/>
              </p:nvSpPr>
              <p:spPr>
                <a:xfrm flipH="1" rot="19290000">
                  <a:off x="299880" y="541908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" name="Group 26"/>
              <p:cNvGrpSpPr/>
              <p:nvPr/>
            </p:nvGrpSpPr>
            <p:grpSpPr>
              <a:xfrm>
                <a:off x="77760" y="5505480"/>
                <a:ext cx="509760" cy="580320"/>
                <a:chOff x="77760" y="5505480"/>
                <a:chExt cx="509760" cy="580320"/>
              </a:xfrm>
            </p:grpSpPr>
            <p:sp>
              <p:nvSpPr>
                <p:cNvPr id="25" name="未知"/>
                <p:cNvSpPr/>
                <p:nvPr/>
              </p:nvSpPr>
              <p:spPr>
                <a:xfrm flipV="1" rot="19387200">
                  <a:off x="320400" y="577512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未知"/>
                <p:cNvSpPr/>
                <p:nvPr/>
              </p:nvSpPr>
              <p:spPr>
                <a:xfrm flipV="1" rot="1228800">
                  <a:off x="167760" y="5695920"/>
                  <a:ext cx="200880" cy="28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未知"/>
                <p:cNvSpPr/>
                <p:nvPr/>
              </p:nvSpPr>
              <p:spPr>
                <a:xfrm rot="19387800">
                  <a:off x="140040" y="553896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" name="Group 30"/>
            <p:cNvGrpSpPr/>
            <p:nvPr/>
          </p:nvGrpSpPr>
          <p:grpSpPr>
            <a:xfrm>
              <a:off x="1014480" y="5422320"/>
              <a:ext cx="185760" cy="175320"/>
              <a:chOff x="1014480" y="5422320"/>
              <a:chExt cx="185760" cy="175320"/>
            </a:xfrm>
          </p:grpSpPr>
          <p:grpSp>
            <p:nvGrpSpPr>
              <p:cNvPr id="29" name="Group 31"/>
              <p:cNvGrpSpPr/>
              <p:nvPr/>
            </p:nvGrpSpPr>
            <p:grpSpPr>
              <a:xfrm>
                <a:off x="1034280" y="5422320"/>
                <a:ext cx="165960" cy="117000"/>
                <a:chOff x="1034280" y="5422320"/>
                <a:chExt cx="165960" cy="117000"/>
              </a:xfrm>
            </p:grpSpPr>
            <p:sp>
              <p:nvSpPr>
                <p:cNvPr id="30" name="未知"/>
                <p:cNvSpPr/>
                <p:nvPr/>
              </p:nvSpPr>
              <p:spPr>
                <a:xfrm flipH="1" flipV="1" rot="17395800">
                  <a:off x="1127160" y="5462640"/>
                  <a:ext cx="55080" cy="752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 flipH="1" flipV="1" rot="13953600">
                  <a:off x="1094760" y="5428440"/>
                  <a:ext cx="54720" cy="763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 flipH="1" rot="17395200">
                  <a:off x="1051200" y="5434560"/>
                  <a:ext cx="55080" cy="752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35"/>
              <p:cNvGrpSpPr/>
              <p:nvPr/>
            </p:nvGrpSpPr>
            <p:grpSpPr>
              <a:xfrm>
                <a:off x="1014480" y="5482440"/>
                <a:ext cx="166320" cy="115200"/>
                <a:chOff x="1014480" y="5482440"/>
                <a:chExt cx="166320" cy="115200"/>
              </a:xfrm>
            </p:grpSpPr>
            <p:sp>
              <p:nvSpPr>
                <p:cNvPr id="34" name="未知"/>
                <p:cNvSpPr/>
                <p:nvPr/>
              </p:nvSpPr>
              <p:spPr>
                <a:xfrm flipV="1" rot="17492400">
                  <a:off x="1107720" y="5513400"/>
                  <a:ext cx="55080" cy="75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未知"/>
                <p:cNvSpPr/>
                <p:nvPr/>
              </p:nvSpPr>
              <p:spPr>
                <a:xfrm flipV="1" rot="20934000">
                  <a:off x="1061280" y="5517000"/>
                  <a:ext cx="54720" cy="75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未知"/>
                <p:cNvSpPr/>
                <p:nvPr/>
              </p:nvSpPr>
              <p:spPr>
                <a:xfrm rot="17493000">
                  <a:off x="1032120" y="5483880"/>
                  <a:ext cx="55080" cy="75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1172160" y="5481720"/>
              <a:ext cx="438840" cy="390240"/>
              <a:chOff x="1172160" y="5481720"/>
              <a:chExt cx="438840" cy="39024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1172160" y="5481720"/>
                <a:ext cx="438840" cy="390240"/>
                <a:chOff x="1172160" y="5481720"/>
                <a:chExt cx="438840" cy="390240"/>
              </a:xfrm>
            </p:grpSpPr>
            <p:grpSp>
              <p:nvGrpSpPr>
                <p:cNvPr id="39" name="Group 41"/>
                <p:cNvGrpSpPr/>
                <p:nvPr/>
              </p:nvGrpSpPr>
              <p:grpSpPr>
                <a:xfrm>
                  <a:off x="1390320" y="5481720"/>
                  <a:ext cx="220680" cy="381240"/>
                  <a:chOff x="1390320" y="5481720"/>
                  <a:chExt cx="220680" cy="38124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21555000">
                    <a:off x="1391400" y="548244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3396600">
                    <a:off x="1434960" y="5587560"/>
                    <a:ext cx="132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未知"/>
                  <p:cNvSpPr/>
                  <p:nvPr/>
                </p:nvSpPr>
                <p:spPr>
                  <a:xfrm flipH="1" flipV="1" rot="21555000">
                    <a:off x="1394640" y="567864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" name="Group 45"/>
                <p:cNvGrpSpPr/>
                <p:nvPr/>
              </p:nvGrpSpPr>
              <p:grpSpPr>
                <a:xfrm>
                  <a:off x="1172160" y="5488560"/>
                  <a:ext cx="222840" cy="383400"/>
                  <a:chOff x="1172160" y="5488560"/>
                  <a:chExt cx="222840" cy="383400"/>
                </a:xfrm>
              </p:grpSpPr>
              <p:sp>
                <p:nvSpPr>
                  <p:cNvPr id="44" name="未知"/>
                  <p:cNvSpPr/>
                  <p:nvPr/>
                </p:nvSpPr>
                <p:spPr>
                  <a:xfrm rot="21495000">
                    <a:off x="1261080" y="549036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未知"/>
                  <p:cNvSpPr/>
                  <p:nvPr/>
                </p:nvSpPr>
                <p:spPr>
                  <a:xfrm rot="18053400">
                    <a:off x="1213920" y="5598000"/>
                    <a:ext cx="132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未知"/>
                  <p:cNvSpPr/>
                  <p:nvPr/>
                </p:nvSpPr>
                <p:spPr>
                  <a:xfrm flipV="1" rot="21495000">
                    <a:off x="1266480" y="568656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" name="Group 49"/>
              <p:cNvGrpSpPr/>
              <p:nvPr/>
            </p:nvGrpSpPr>
            <p:grpSpPr>
              <a:xfrm>
                <a:off x="1263960" y="5535360"/>
                <a:ext cx="254160" cy="281880"/>
                <a:chOff x="1263960" y="5535360"/>
                <a:chExt cx="254160" cy="281880"/>
              </a:xfrm>
            </p:grpSpPr>
            <p:grpSp>
              <p:nvGrpSpPr>
                <p:cNvPr id="48" name="Group 50"/>
                <p:cNvGrpSpPr/>
                <p:nvPr/>
              </p:nvGrpSpPr>
              <p:grpSpPr>
                <a:xfrm>
                  <a:off x="1335960" y="5570280"/>
                  <a:ext cx="182160" cy="246960"/>
                  <a:chOff x="1335960" y="5570280"/>
                  <a:chExt cx="182160" cy="2469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1704600">
                    <a:off x="1416600" y="558180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5146200">
                    <a:off x="1410480" y="5654520"/>
                    <a:ext cx="831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未知"/>
                  <p:cNvSpPr/>
                  <p:nvPr/>
                </p:nvSpPr>
                <p:spPr>
                  <a:xfrm flipH="1" flipV="1" rot="1705200">
                    <a:off x="1358280" y="569052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Group 54"/>
                <p:cNvGrpSpPr/>
                <p:nvPr/>
              </p:nvGrpSpPr>
              <p:grpSpPr>
                <a:xfrm>
                  <a:off x="1263960" y="5535360"/>
                  <a:ext cx="180000" cy="246960"/>
                  <a:chOff x="1263960" y="5535360"/>
                  <a:chExt cx="180000" cy="246960"/>
                </a:xfrm>
              </p:grpSpPr>
              <p:sp>
                <p:nvSpPr>
                  <p:cNvPr id="53" name="未知"/>
                  <p:cNvSpPr/>
                  <p:nvPr/>
                </p:nvSpPr>
                <p:spPr>
                  <a:xfrm rot="1645200">
                    <a:off x="1343160" y="554688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未知"/>
                  <p:cNvSpPr/>
                  <p:nvPr/>
                </p:nvSpPr>
                <p:spPr>
                  <a:xfrm rot="19803600">
                    <a:off x="1285560" y="5592240"/>
                    <a:ext cx="831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未知"/>
                  <p:cNvSpPr/>
                  <p:nvPr/>
                </p:nvSpPr>
                <p:spPr>
                  <a:xfrm flipV="1" rot="1644600">
                    <a:off x="1285560" y="565560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" name="Group 58"/>
            <p:cNvGrpSpPr/>
            <p:nvPr/>
          </p:nvGrpSpPr>
          <p:grpSpPr>
            <a:xfrm>
              <a:off x="797040" y="5763240"/>
              <a:ext cx="921960" cy="1005120"/>
              <a:chOff x="797040" y="5763240"/>
              <a:chExt cx="921960" cy="1005120"/>
            </a:xfrm>
          </p:grpSpPr>
          <p:grpSp>
            <p:nvGrpSpPr>
              <p:cNvPr id="57" name="Group 59"/>
              <p:cNvGrpSpPr/>
              <p:nvPr/>
            </p:nvGrpSpPr>
            <p:grpSpPr>
              <a:xfrm>
                <a:off x="797040" y="5763240"/>
                <a:ext cx="921960" cy="1005120"/>
                <a:chOff x="797040" y="5763240"/>
                <a:chExt cx="921960" cy="1005120"/>
              </a:xfrm>
            </p:grpSpPr>
            <p:grpSp>
              <p:nvGrpSpPr>
                <p:cNvPr id="58" name="Group 60"/>
                <p:cNvGrpSpPr/>
                <p:nvPr/>
              </p:nvGrpSpPr>
              <p:grpSpPr>
                <a:xfrm>
                  <a:off x="1072080" y="5763240"/>
                  <a:ext cx="646920" cy="876960"/>
                  <a:chOff x="1072080" y="5763240"/>
                  <a:chExt cx="646920" cy="876960"/>
                </a:xfrm>
              </p:grpSpPr>
              <p:sp>
                <p:nvSpPr>
                  <p:cNvPr id="59" name="未知"/>
                  <p:cNvSpPr/>
                  <p:nvPr/>
                </p:nvSpPr>
                <p:spPr>
                  <a:xfrm flipH="1" rot="20092200">
                    <a:off x="1142640" y="580716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未知"/>
                  <p:cNvSpPr/>
                  <p:nvPr/>
                </p:nvSpPr>
                <p:spPr>
                  <a:xfrm flipH="1" rot="1933800">
                    <a:off x="1341000" y="5956560"/>
                    <a:ext cx="29052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未知"/>
                  <p:cNvSpPr/>
                  <p:nvPr/>
                </p:nvSpPr>
                <p:spPr>
                  <a:xfrm flipH="1" flipV="1" rot="20092800">
                    <a:off x="1328400" y="619524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64"/>
                <p:cNvGrpSpPr/>
                <p:nvPr/>
              </p:nvGrpSpPr>
              <p:grpSpPr>
                <a:xfrm>
                  <a:off x="797040" y="5890320"/>
                  <a:ext cx="630720" cy="878040"/>
                  <a:chOff x="797040" y="5890320"/>
                  <a:chExt cx="630720" cy="878040"/>
                </a:xfrm>
              </p:grpSpPr>
              <p:sp>
                <p:nvSpPr>
                  <p:cNvPr id="63" name="未知"/>
                  <p:cNvSpPr/>
                  <p:nvPr/>
                </p:nvSpPr>
                <p:spPr>
                  <a:xfrm rot="20032200">
                    <a:off x="870120" y="593532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未知"/>
                  <p:cNvSpPr/>
                  <p:nvPr/>
                </p:nvSpPr>
                <p:spPr>
                  <a:xfrm rot="16590600">
                    <a:off x="871560" y="6179040"/>
                    <a:ext cx="29052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V="1" rot="20032200">
                    <a:off x="1056960" y="632304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" name="Group 68"/>
              <p:cNvGrpSpPr/>
              <p:nvPr/>
            </p:nvGrpSpPr>
            <p:grpSpPr>
              <a:xfrm>
                <a:off x="926280" y="5994360"/>
                <a:ext cx="638640" cy="542880"/>
                <a:chOff x="926280" y="5994360"/>
                <a:chExt cx="638640" cy="542880"/>
              </a:xfrm>
            </p:grpSpPr>
            <p:grpSp>
              <p:nvGrpSpPr>
                <p:cNvPr id="67" name="Group 69"/>
                <p:cNvGrpSpPr/>
                <p:nvPr/>
              </p:nvGrpSpPr>
              <p:grpSpPr>
                <a:xfrm>
                  <a:off x="1229760" y="6006240"/>
                  <a:ext cx="335160" cy="531000"/>
                  <a:chOff x="1229760" y="6006240"/>
                  <a:chExt cx="335160" cy="531000"/>
                </a:xfrm>
              </p:grpSpPr>
              <p:sp>
                <p:nvSpPr>
                  <p:cNvPr id="68" name="未知"/>
                  <p:cNvSpPr/>
                  <p:nvPr/>
                </p:nvSpPr>
                <p:spPr>
                  <a:xfrm flipH="1" rot="241800">
                    <a:off x="1255320" y="601200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未知"/>
                  <p:cNvSpPr/>
                  <p:nvPr/>
                </p:nvSpPr>
                <p:spPr>
                  <a:xfrm flipH="1" rot="3683400">
                    <a:off x="1317600" y="6152400"/>
                    <a:ext cx="18180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未知"/>
                  <p:cNvSpPr/>
                  <p:nvPr/>
                </p:nvSpPr>
                <p:spPr>
                  <a:xfrm flipH="1" flipV="1" rot="241800">
                    <a:off x="1238040" y="628056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73"/>
                <p:cNvGrpSpPr/>
                <p:nvPr/>
              </p:nvGrpSpPr>
              <p:grpSpPr>
                <a:xfrm>
                  <a:off x="926280" y="5994360"/>
                  <a:ext cx="334080" cy="527760"/>
                  <a:chOff x="926280" y="5994360"/>
                  <a:chExt cx="334080" cy="527760"/>
                </a:xfrm>
              </p:grpSpPr>
              <p:sp>
                <p:nvSpPr>
                  <p:cNvPr id="72" name="未知"/>
                  <p:cNvSpPr/>
                  <p:nvPr/>
                </p:nvSpPr>
                <p:spPr>
                  <a:xfrm rot="181800">
                    <a:off x="1067400" y="599904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未知"/>
                  <p:cNvSpPr/>
                  <p:nvPr/>
                </p:nvSpPr>
                <p:spPr>
                  <a:xfrm rot="18340800">
                    <a:off x="992520" y="6131160"/>
                    <a:ext cx="18180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flipV="1" rot="181800">
                    <a:off x="1051560" y="626652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" name="Group 77"/>
            <p:cNvGrpSpPr/>
            <p:nvPr/>
          </p:nvGrpSpPr>
          <p:grpSpPr>
            <a:xfrm>
              <a:off x="747000" y="5563080"/>
              <a:ext cx="393120" cy="429120"/>
              <a:chOff x="747000" y="5563080"/>
              <a:chExt cx="393120" cy="429120"/>
            </a:xfrm>
          </p:grpSpPr>
          <p:grpSp>
            <p:nvGrpSpPr>
              <p:cNvPr id="76" name="Group 78"/>
              <p:cNvGrpSpPr/>
              <p:nvPr/>
            </p:nvGrpSpPr>
            <p:grpSpPr>
              <a:xfrm>
                <a:off x="747000" y="5563080"/>
                <a:ext cx="393120" cy="429120"/>
                <a:chOff x="747000" y="5563080"/>
                <a:chExt cx="393120" cy="429120"/>
              </a:xfrm>
            </p:grpSpPr>
            <p:grpSp>
              <p:nvGrpSpPr>
                <p:cNvPr id="77" name="Group 79"/>
                <p:cNvGrpSpPr/>
                <p:nvPr/>
              </p:nvGrpSpPr>
              <p:grpSpPr>
                <a:xfrm>
                  <a:off x="864000" y="5563080"/>
                  <a:ext cx="276120" cy="374400"/>
                  <a:chOff x="864000" y="5563080"/>
                  <a:chExt cx="276120" cy="374400"/>
                </a:xfrm>
              </p:grpSpPr>
              <p:sp>
                <p:nvSpPr>
                  <p:cNvPr id="78" name="未知"/>
                  <p:cNvSpPr/>
                  <p:nvPr/>
                </p:nvSpPr>
                <p:spPr>
                  <a:xfrm flipH="1" rot="20092200">
                    <a:off x="893520" y="5581800"/>
                    <a:ext cx="1270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未知"/>
                  <p:cNvSpPr/>
                  <p:nvPr/>
                </p:nvSpPr>
                <p:spPr>
                  <a:xfrm flipH="1" rot="1933800">
                    <a:off x="978120" y="5645520"/>
                    <a:ext cx="1242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未知"/>
                  <p:cNvSpPr/>
                  <p:nvPr/>
                </p:nvSpPr>
                <p:spPr>
                  <a:xfrm flipH="1" flipV="1" rot="20092800">
                    <a:off x="973440" y="5747400"/>
                    <a:ext cx="1270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Group 83"/>
                <p:cNvGrpSpPr/>
                <p:nvPr/>
              </p:nvGrpSpPr>
              <p:grpSpPr>
                <a:xfrm>
                  <a:off x="747000" y="5617440"/>
                  <a:ext cx="269280" cy="374760"/>
                  <a:chOff x="747000" y="5617440"/>
                  <a:chExt cx="269280" cy="374760"/>
                </a:xfrm>
              </p:grpSpPr>
              <p:sp>
                <p:nvSpPr>
                  <p:cNvPr id="82" name="未知"/>
                  <p:cNvSpPr/>
                  <p:nvPr/>
                </p:nvSpPr>
                <p:spPr>
                  <a:xfrm rot="20032200">
                    <a:off x="778320" y="5636520"/>
                    <a:ext cx="12672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未知"/>
                  <p:cNvSpPr/>
                  <p:nvPr/>
                </p:nvSpPr>
                <p:spPr>
                  <a:xfrm rot="16590600">
                    <a:off x="778320" y="5740560"/>
                    <a:ext cx="1242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未知"/>
                  <p:cNvSpPr/>
                  <p:nvPr/>
                </p:nvSpPr>
                <p:spPr>
                  <a:xfrm flipV="1" rot="20032200">
                    <a:off x="858240" y="5801760"/>
                    <a:ext cx="12672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" name="Group 87"/>
              <p:cNvGrpSpPr/>
              <p:nvPr/>
            </p:nvGrpSpPr>
            <p:grpSpPr>
              <a:xfrm>
                <a:off x="802800" y="5661720"/>
                <a:ext cx="271800" cy="231840"/>
                <a:chOff x="802800" y="5661720"/>
                <a:chExt cx="271800" cy="231840"/>
              </a:xfrm>
            </p:grpSpPr>
            <p:grpSp>
              <p:nvGrpSpPr>
                <p:cNvPr id="86" name="Group 88"/>
                <p:cNvGrpSpPr/>
                <p:nvPr/>
              </p:nvGrpSpPr>
              <p:grpSpPr>
                <a:xfrm>
                  <a:off x="932040" y="5667120"/>
                  <a:ext cx="142560" cy="226440"/>
                  <a:chOff x="932040" y="5667120"/>
                  <a:chExt cx="142560" cy="22644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flipH="1" rot="241800">
                    <a:off x="942480" y="566964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flipH="1" rot="3683400">
                    <a:off x="969120" y="5728680"/>
                    <a:ext cx="774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未知"/>
                  <p:cNvSpPr/>
                  <p:nvPr/>
                </p:nvSpPr>
                <p:spPr>
                  <a:xfrm flipH="1" flipV="1" rot="241800">
                    <a:off x="935280" y="578376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Group 92"/>
                <p:cNvGrpSpPr/>
                <p:nvPr/>
              </p:nvGrpSpPr>
              <p:grpSpPr>
                <a:xfrm>
                  <a:off x="802800" y="5661720"/>
                  <a:ext cx="142200" cy="225000"/>
                  <a:chOff x="802800" y="5661720"/>
                  <a:chExt cx="142200" cy="225000"/>
                </a:xfrm>
              </p:grpSpPr>
              <p:sp>
                <p:nvSpPr>
                  <p:cNvPr id="91" name="未知"/>
                  <p:cNvSpPr/>
                  <p:nvPr/>
                </p:nvSpPr>
                <p:spPr>
                  <a:xfrm rot="181800">
                    <a:off x="862200" y="566352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未知"/>
                  <p:cNvSpPr/>
                  <p:nvPr/>
                </p:nvSpPr>
                <p:spPr>
                  <a:xfrm rot="18340800">
                    <a:off x="830880" y="5719680"/>
                    <a:ext cx="774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未知"/>
                  <p:cNvSpPr/>
                  <p:nvPr/>
                </p:nvSpPr>
                <p:spPr>
                  <a:xfrm flipV="1" rot="181800">
                    <a:off x="855720" y="577764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2F56-BD72-4A30-9A43-04017C69DA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9ED1-4EDC-475E-A23F-5A85110663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858720" y="4351680"/>
            <a:ext cx="1547640" cy="1400040"/>
            <a:chOff x="6858720" y="4351680"/>
            <a:chExt cx="1547640" cy="1400040"/>
          </a:xfrm>
        </p:grpSpPr>
        <p:grpSp>
          <p:nvGrpSpPr>
            <p:cNvPr id="177" name="Group 3"/>
            <p:cNvGrpSpPr/>
            <p:nvPr/>
          </p:nvGrpSpPr>
          <p:grpSpPr>
            <a:xfrm>
              <a:off x="7323480" y="4924800"/>
              <a:ext cx="162360" cy="181080"/>
              <a:chOff x="7323480" y="4924800"/>
              <a:chExt cx="162360" cy="181080"/>
            </a:xfrm>
          </p:grpSpPr>
          <p:grpSp>
            <p:nvGrpSpPr>
              <p:cNvPr id="178" name="Group 4"/>
              <p:cNvGrpSpPr/>
              <p:nvPr/>
            </p:nvGrpSpPr>
            <p:grpSpPr>
              <a:xfrm>
                <a:off x="7371000" y="4947480"/>
                <a:ext cx="114840" cy="158400"/>
                <a:chOff x="7371000" y="4947480"/>
                <a:chExt cx="114840" cy="158400"/>
              </a:xfrm>
            </p:grpSpPr>
            <p:sp>
              <p:nvSpPr>
                <p:cNvPr id="179" name="未知"/>
                <p:cNvSpPr/>
                <p:nvPr/>
              </p:nvSpPr>
              <p:spPr>
                <a:xfrm flipH="1" flipV="1" rot="1471200">
                  <a:off x="7382880" y="502560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未知"/>
                <p:cNvSpPr/>
                <p:nvPr/>
              </p:nvSpPr>
              <p:spPr>
                <a:xfrm flipH="1" flipV="1" rot="19629600">
                  <a:off x="7417800" y="4996080"/>
                  <a:ext cx="5256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未知"/>
                <p:cNvSpPr/>
                <p:nvPr/>
              </p:nvSpPr>
              <p:spPr>
                <a:xfrm flipH="1" rot="1471200">
                  <a:off x="7415280" y="495504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8"/>
              <p:cNvGrpSpPr/>
              <p:nvPr/>
            </p:nvGrpSpPr>
            <p:grpSpPr>
              <a:xfrm>
                <a:off x="7323480" y="4924800"/>
                <a:ext cx="113040" cy="158040"/>
                <a:chOff x="7323480" y="4924800"/>
                <a:chExt cx="113040" cy="158040"/>
              </a:xfrm>
            </p:grpSpPr>
            <p:sp>
              <p:nvSpPr>
                <p:cNvPr id="183" name="未知"/>
                <p:cNvSpPr/>
                <p:nvPr/>
              </p:nvSpPr>
              <p:spPr>
                <a:xfrm flipV="1" rot="1568400">
                  <a:off x="7336800" y="500220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未知"/>
                <p:cNvSpPr/>
                <p:nvPr/>
              </p:nvSpPr>
              <p:spPr>
                <a:xfrm flipV="1" rot="5010000">
                  <a:off x="7336440" y="4957560"/>
                  <a:ext cx="5256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未知"/>
                <p:cNvSpPr/>
                <p:nvPr/>
              </p:nvSpPr>
              <p:spPr>
                <a:xfrm rot="1568400">
                  <a:off x="7369920" y="493272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12"/>
            <p:cNvGrpSpPr/>
            <p:nvPr/>
          </p:nvGrpSpPr>
          <p:grpSpPr>
            <a:xfrm>
              <a:off x="7244640" y="4351680"/>
              <a:ext cx="216360" cy="239040"/>
              <a:chOff x="7244640" y="4351680"/>
              <a:chExt cx="216360" cy="23904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7308000" y="4381920"/>
                <a:ext cx="153000" cy="208800"/>
                <a:chOff x="7308000" y="4381920"/>
                <a:chExt cx="153000" cy="208800"/>
              </a:xfrm>
            </p:grpSpPr>
            <p:sp>
              <p:nvSpPr>
                <p:cNvPr id="188" name="未知"/>
                <p:cNvSpPr/>
                <p:nvPr/>
              </p:nvSpPr>
              <p:spPr>
                <a:xfrm flipH="1" flipV="1" rot="1471200">
                  <a:off x="7324200" y="448488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未知"/>
                <p:cNvSpPr/>
                <p:nvPr/>
              </p:nvSpPr>
              <p:spPr>
                <a:xfrm flipH="1" flipV="1" rot="19629600">
                  <a:off x="7370640" y="444672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未知"/>
                <p:cNvSpPr/>
                <p:nvPr/>
              </p:nvSpPr>
              <p:spPr>
                <a:xfrm flipH="1" rot="1471200">
                  <a:off x="7367040" y="439200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17"/>
              <p:cNvGrpSpPr/>
              <p:nvPr/>
            </p:nvGrpSpPr>
            <p:grpSpPr>
              <a:xfrm>
                <a:off x="7244640" y="4351680"/>
                <a:ext cx="149040" cy="208800"/>
                <a:chOff x="7244640" y="4351680"/>
                <a:chExt cx="149040" cy="208800"/>
              </a:xfrm>
            </p:grpSpPr>
            <p:sp>
              <p:nvSpPr>
                <p:cNvPr id="192" name="未知"/>
                <p:cNvSpPr/>
                <p:nvPr/>
              </p:nvSpPr>
              <p:spPr>
                <a:xfrm flipV="1" rot="1568400">
                  <a:off x="7261920" y="445428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未知"/>
                <p:cNvSpPr/>
                <p:nvPr/>
              </p:nvSpPr>
              <p:spPr>
                <a:xfrm flipV="1" rot="5010000">
                  <a:off x="7261920" y="439380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未知"/>
                <p:cNvSpPr/>
                <p:nvPr/>
              </p:nvSpPr>
              <p:spPr>
                <a:xfrm rot="1568400">
                  <a:off x="7305840" y="436212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21"/>
            <p:cNvGrpSpPr/>
            <p:nvPr/>
          </p:nvGrpSpPr>
          <p:grpSpPr>
            <a:xfrm>
              <a:off x="6858720" y="4446360"/>
              <a:ext cx="635760" cy="660600"/>
              <a:chOff x="6858720" y="4446360"/>
              <a:chExt cx="635760" cy="660600"/>
            </a:xfrm>
          </p:grpSpPr>
          <p:grpSp>
            <p:nvGrpSpPr>
              <p:cNvPr id="196" name="Group 22"/>
              <p:cNvGrpSpPr/>
              <p:nvPr/>
            </p:nvGrpSpPr>
            <p:grpSpPr>
              <a:xfrm>
                <a:off x="7007400" y="4446360"/>
                <a:ext cx="487080" cy="545040"/>
                <a:chOff x="7007400" y="4446360"/>
                <a:chExt cx="487080" cy="545040"/>
              </a:xfrm>
            </p:grpSpPr>
            <p:sp>
              <p:nvSpPr>
                <p:cNvPr id="197" name="未知"/>
                <p:cNvSpPr/>
                <p:nvPr/>
              </p:nvSpPr>
              <p:spPr>
                <a:xfrm flipH="1" flipV="1" rot="19290000">
                  <a:off x="7241760" y="469800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未知"/>
                <p:cNvSpPr/>
                <p:nvPr/>
              </p:nvSpPr>
              <p:spPr>
                <a:xfrm flipH="1" flipV="1" rot="15848400">
                  <a:off x="7208280" y="4538520"/>
                  <a:ext cx="189720" cy="264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未知"/>
                <p:cNvSpPr/>
                <p:nvPr/>
              </p:nvSpPr>
              <p:spPr>
                <a:xfrm flipH="1" rot="19290000">
                  <a:off x="7067520" y="447768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26"/>
              <p:cNvGrpSpPr/>
              <p:nvPr/>
            </p:nvGrpSpPr>
            <p:grpSpPr>
              <a:xfrm>
                <a:off x="6858720" y="4558680"/>
                <a:ext cx="480600" cy="548280"/>
                <a:chOff x="6858720" y="4558680"/>
                <a:chExt cx="480600" cy="548280"/>
              </a:xfrm>
            </p:grpSpPr>
            <p:sp>
              <p:nvSpPr>
                <p:cNvPr id="201" name="未知"/>
                <p:cNvSpPr/>
                <p:nvPr/>
              </p:nvSpPr>
              <p:spPr>
                <a:xfrm flipV="1" rot="19387200">
                  <a:off x="7087680" y="481356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未知"/>
                <p:cNvSpPr/>
                <p:nvPr/>
              </p:nvSpPr>
              <p:spPr>
                <a:xfrm flipV="1" rot="1228800">
                  <a:off x="6944400" y="4738680"/>
                  <a:ext cx="189720" cy="264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未知"/>
                <p:cNvSpPr/>
                <p:nvPr/>
              </p:nvSpPr>
              <p:spPr>
                <a:xfrm rot="19387800">
                  <a:off x="6917760" y="459000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30"/>
            <p:cNvGrpSpPr/>
            <p:nvPr/>
          </p:nvGrpSpPr>
          <p:grpSpPr>
            <a:xfrm>
              <a:off x="7742520" y="4481640"/>
              <a:ext cx="174960" cy="165240"/>
              <a:chOff x="7742520" y="4481640"/>
              <a:chExt cx="174960" cy="165240"/>
            </a:xfrm>
          </p:grpSpPr>
          <p:grpSp>
            <p:nvGrpSpPr>
              <p:cNvPr id="205" name="Group 31"/>
              <p:cNvGrpSpPr/>
              <p:nvPr/>
            </p:nvGrpSpPr>
            <p:grpSpPr>
              <a:xfrm>
                <a:off x="7760880" y="4481640"/>
                <a:ext cx="156600" cy="110160"/>
                <a:chOff x="7760880" y="4481640"/>
                <a:chExt cx="156600" cy="110160"/>
              </a:xfrm>
            </p:grpSpPr>
            <p:sp>
              <p:nvSpPr>
                <p:cNvPr id="206" name="未知"/>
                <p:cNvSpPr/>
                <p:nvPr/>
              </p:nvSpPr>
              <p:spPr>
                <a:xfrm flipH="1" flipV="1" rot="17395800">
                  <a:off x="7848720" y="451908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未知"/>
                <p:cNvSpPr/>
                <p:nvPr/>
              </p:nvSpPr>
              <p:spPr>
                <a:xfrm flipH="1" flipV="1" rot="13953600">
                  <a:off x="7817760" y="4488120"/>
                  <a:ext cx="5184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未知"/>
                <p:cNvSpPr/>
                <p:nvPr/>
              </p:nvSpPr>
              <p:spPr>
                <a:xfrm flipH="1" rot="17395200">
                  <a:off x="7776720" y="449316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35"/>
              <p:cNvGrpSpPr/>
              <p:nvPr/>
            </p:nvGrpSpPr>
            <p:grpSpPr>
              <a:xfrm>
                <a:off x="7742520" y="4538160"/>
                <a:ext cx="156600" cy="108720"/>
                <a:chOff x="7742520" y="4538160"/>
                <a:chExt cx="156600" cy="108720"/>
              </a:xfrm>
            </p:grpSpPr>
            <p:sp>
              <p:nvSpPr>
                <p:cNvPr id="210" name="未知"/>
                <p:cNvSpPr/>
                <p:nvPr/>
              </p:nvSpPr>
              <p:spPr>
                <a:xfrm flipV="1" rot="17492400">
                  <a:off x="7830360" y="456660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未知"/>
                <p:cNvSpPr/>
                <p:nvPr/>
              </p:nvSpPr>
              <p:spPr>
                <a:xfrm flipV="1" rot="20934000">
                  <a:off x="7786800" y="4570560"/>
                  <a:ext cx="5148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未知"/>
                <p:cNvSpPr/>
                <p:nvPr/>
              </p:nvSpPr>
              <p:spPr>
                <a:xfrm rot="17493000">
                  <a:off x="7759080" y="453960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Group 39"/>
            <p:cNvGrpSpPr/>
            <p:nvPr/>
          </p:nvGrpSpPr>
          <p:grpSpPr>
            <a:xfrm>
              <a:off x="7890120" y="4536360"/>
              <a:ext cx="413640" cy="368640"/>
              <a:chOff x="7890120" y="4536360"/>
              <a:chExt cx="413640" cy="368640"/>
            </a:xfrm>
          </p:grpSpPr>
          <p:grpSp>
            <p:nvGrpSpPr>
              <p:cNvPr id="214" name="Group 40"/>
              <p:cNvGrpSpPr/>
              <p:nvPr/>
            </p:nvGrpSpPr>
            <p:grpSpPr>
              <a:xfrm>
                <a:off x="7890120" y="4536360"/>
                <a:ext cx="413640" cy="368640"/>
                <a:chOff x="7890120" y="4536360"/>
                <a:chExt cx="413640" cy="368640"/>
              </a:xfrm>
            </p:grpSpPr>
            <p:grpSp>
              <p:nvGrpSpPr>
                <p:cNvPr id="215" name="Group 41"/>
                <p:cNvGrpSpPr/>
                <p:nvPr/>
              </p:nvGrpSpPr>
              <p:grpSpPr>
                <a:xfrm>
                  <a:off x="8095320" y="4536360"/>
                  <a:ext cx="208440" cy="360360"/>
                  <a:chOff x="8095320" y="4536360"/>
                  <a:chExt cx="208440" cy="360360"/>
                </a:xfrm>
              </p:grpSpPr>
              <p:sp>
                <p:nvSpPr>
                  <p:cNvPr id="216" name="未知"/>
                  <p:cNvSpPr/>
                  <p:nvPr/>
                </p:nvSpPr>
                <p:spPr>
                  <a:xfrm flipH="1" rot="21555000">
                    <a:off x="8096040" y="453708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未知"/>
                  <p:cNvSpPr/>
                  <p:nvPr/>
                </p:nvSpPr>
                <p:spPr>
                  <a:xfrm flipH="1" rot="3396600">
                    <a:off x="8137800" y="4637520"/>
                    <a:ext cx="1252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未知"/>
                  <p:cNvSpPr/>
                  <p:nvPr/>
                </p:nvSpPr>
                <p:spPr>
                  <a:xfrm flipH="1" flipV="1" rot="21555000">
                    <a:off x="8100000" y="47228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45"/>
                <p:cNvGrpSpPr/>
                <p:nvPr/>
              </p:nvGrpSpPr>
              <p:grpSpPr>
                <a:xfrm>
                  <a:off x="7890120" y="4542840"/>
                  <a:ext cx="209520" cy="362160"/>
                  <a:chOff x="7890120" y="4542840"/>
                  <a:chExt cx="209520" cy="362160"/>
                </a:xfrm>
              </p:grpSpPr>
              <p:sp>
                <p:nvSpPr>
                  <p:cNvPr id="220" name="未知"/>
                  <p:cNvSpPr/>
                  <p:nvPr/>
                </p:nvSpPr>
                <p:spPr>
                  <a:xfrm rot="21495000">
                    <a:off x="7974360" y="454428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未知"/>
                  <p:cNvSpPr/>
                  <p:nvPr/>
                </p:nvSpPr>
                <p:spPr>
                  <a:xfrm rot="18053400">
                    <a:off x="7929360" y="4647240"/>
                    <a:ext cx="12528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未知"/>
                  <p:cNvSpPr/>
                  <p:nvPr/>
                </p:nvSpPr>
                <p:spPr>
                  <a:xfrm flipV="1" rot="21495000">
                    <a:off x="7978680" y="47300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" name="Group 49"/>
              <p:cNvGrpSpPr/>
              <p:nvPr/>
            </p:nvGrpSpPr>
            <p:grpSpPr>
              <a:xfrm>
                <a:off x="7976520" y="4587480"/>
                <a:ext cx="240120" cy="266400"/>
                <a:chOff x="7976520" y="4587480"/>
                <a:chExt cx="240120" cy="266400"/>
              </a:xfrm>
            </p:grpSpPr>
            <p:grpSp>
              <p:nvGrpSpPr>
                <p:cNvPr id="224" name="Group 50"/>
                <p:cNvGrpSpPr/>
                <p:nvPr/>
              </p:nvGrpSpPr>
              <p:grpSpPr>
                <a:xfrm>
                  <a:off x="8045280" y="4620240"/>
                  <a:ext cx="171360" cy="233640"/>
                  <a:chOff x="8045280" y="4620240"/>
                  <a:chExt cx="171360" cy="233640"/>
                </a:xfrm>
              </p:grpSpPr>
              <p:sp>
                <p:nvSpPr>
                  <p:cNvPr id="225" name="未知"/>
                  <p:cNvSpPr/>
                  <p:nvPr/>
                </p:nvSpPr>
                <p:spPr>
                  <a:xfrm flipH="1" rot="1704600">
                    <a:off x="8121240" y="463104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未知"/>
                  <p:cNvSpPr/>
                  <p:nvPr/>
                </p:nvSpPr>
                <p:spPr>
                  <a:xfrm flipH="1" rot="5146200">
                    <a:off x="8114040" y="469980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未知"/>
                  <p:cNvSpPr/>
                  <p:nvPr/>
                </p:nvSpPr>
                <p:spPr>
                  <a:xfrm flipH="1" flipV="1" rot="1705200">
                    <a:off x="8066160" y="473364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54"/>
                <p:cNvGrpSpPr/>
                <p:nvPr/>
              </p:nvGrpSpPr>
              <p:grpSpPr>
                <a:xfrm>
                  <a:off x="7976520" y="4587480"/>
                  <a:ext cx="169920" cy="232920"/>
                  <a:chOff x="7976520" y="4587480"/>
                  <a:chExt cx="169920" cy="232920"/>
                </a:xfrm>
              </p:grpSpPr>
              <p:sp>
                <p:nvSpPr>
                  <p:cNvPr id="229" name="未知"/>
                  <p:cNvSpPr/>
                  <p:nvPr/>
                </p:nvSpPr>
                <p:spPr>
                  <a:xfrm rot="1645200">
                    <a:off x="8051400" y="459828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未知"/>
                  <p:cNvSpPr/>
                  <p:nvPr/>
                </p:nvSpPr>
                <p:spPr>
                  <a:xfrm rot="19803600">
                    <a:off x="7996680" y="464148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未知"/>
                  <p:cNvSpPr/>
                  <p:nvPr/>
                </p:nvSpPr>
                <p:spPr>
                  <a:xfrm flipV="1" rot="1644600">
                    <a:off x="7997040" y="470088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Group 58"/>
            <p:cNvGrpSpPr/>
            <p:nvPr/>
          </p:nvGrpSpPr>
          <p:grpSpPr>
            <a:xfrm>
              <a:off x="7536960" y="4802400"/>
              <a:ext cx="869400" cy="949320"/>
              <a:chOff x="7536960" y="4802400"/>
              <a:chExt cx="869400" cy="949320"/>
            </a:xfrm>
          </p:grpSpPr>
          <p:grpSp>
            <p:nvGrpSpPr>
              <p:cNvPr id="233" name="Group 59"/>
              <p:cNvGrpSpPr/>
              <p:nvPr/>
            </p:nvGrpSpPr>
            <p:grpSpPr>
              <a:xfrm>
                <a:off x="7536960" y="4802400"/>
                <a:ext cx="869400" cy="949320"/>
                <a:chOff x="7536960" y="4802400"/>
                <a:chExt cx="869400" cy="949320"/>
              </a:xfrm>
            </p:grpSpPr>
            <p:grpSp>
              <p:nvGrpSpPr>
                <p:cNvPr id="234" name="Group 60"/>
                <p:cNvGrpSpPr/>
                <p:nvPr/>
              </p:nvGrpSpPr>
              <p:grpSpPr>
                <a:xfrm>
                  <a:off x="7795800" y="4802400"/>
                  <a:ext cx="610560" cy="828000"/>
                  <a:chOff x="7795800" y="4802400"/>
                  <a:chExt cx="610560" cy="828000"/>
                </a:xfrm>
              </p:grpSpPr>
              <p:sp>
                <p:nvSpPr>
                  <p:cNvPr id="235" name="未知"/>
                  <p:cNvSpPr/>
                  <p:nvPr/>
                </p:nvSpPr>
                <p:spPr>
                  <a:xfrm flipH="1" rot="20092200">
                    <a:off x="7862400" y="484380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未知"/>
                  <p:cNvSpPr/>
                  <p:nvPr/>
                </p:nvSpPr>
                <p:spPr>
                  <a:xfrm flipH="1" rot="1933800">
                    <a:off x="8049960" y="498564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未知"/>
                  <p:cNvSpPr/>
                  <p:nvPr/>
                </p:nvSpPr>
                <p:spPr>
                  <a:xfrm flipH="1" flipV="1" rot="20092800">
                    <a:off x="8037000" y="521028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64"/>
                <p:cNvGrpSpPr/>
                <p:nvPr/>
              </p:nvGrpSpPr>
              <p:grpSpPr>
                <a:xfrm>
                  <a:off x="7536960" y="4922640"/>
                  <a:ext cx="594720" cy="829080"/>
                  <a:chOff x="7536960" y="4922640"/>
                  <a:chExt cx="594720" cy="829080"/>
                </a:xfrm>
              </p:grpSpPr>
              <p:sp>
                <p:nvSpPr>
                  <p:cNvPr id="239" name="未知"/>
                  <p:cNvSpPr/>
                  <p:nvPr/>
                </p:nvSpPr>
                <p:spPr>
                  <a:xfrm rot="20032200">
                    <a:off x="7605720" y="496512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未知"/>
                  <p:cNvSpPr/>
                  <p:nvPr/>
                </p:nvSpPr>
                <p:spPr>
                  <a:xfrm rot="16590600">
                    <a:off x="7606800" y="519624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未知"/>
                  <p:cNvSpPr/>
                  <p:nvPr/>
                </p:nvSpPr>
                <p:spPr>
                  <a:xfrm flipV="1" rot="20032200">
                    <a:off x="7782840" y="533088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Group 68"/>
              <p:cNvGrpSpPr/>
              <p:nvPr/>
            </p:nvGrpSpPr>
            <p:grpSpPr>
              <a:xfrm>
                <a:off x="7658640" y="5021280"/>
                <a:ext cx="601560" cy="513000"/>
                <a:chOff x="7658640" y="5021280"/>
                <a:chExt cx="601560" cy="513000"/>
              </a:xfrm>
            </p:grpSpPr>
            <p:grpSp>
              <p:nvGrpSpPr>
                <p:cNvPr id="243" name="Group 69"/>
                <p:cNvGrpSpPr/>
                <p:nvPr/>
              </p:nvGrpSpPr>
              <p:grpSpPr>
                <a:xfrm>
                  <a:off x="7944840" y="5032080"/>
                  <a:ext cx="315360" cy="502200"/>
                  <a:chOff x="7944840" y="5032080"/>
                  <a:chExt cx="315360" cy="502200"/>
                </a:xfrm>
              </p:grpSpPr>
              <p:sp>
                <p:nvSpPr>
                  <p:cNvPr id="244" name="未知"/>
                  <p:cNvSpPr/>
                  <p:nvPr/>
                </p:nvSpPr>
                <p:spPr>
                  <a:xfrm flipH="1" rot="241800">
                    <a:off x="7968600" y="503784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未知"/>
                  <p:cNvSpPr/>
                  <p:nvPr/>
                </p:nvSpPr>
                <p:spPr>
                  <a:xfrm flipH="1" rot="3683400">
                    <a:off x="8026920" y="517068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未知"/>
                  <p:cNvSpPr/>
                  <p:nvPr/>
                </p:nvSpPr>
                <p:spPr>
                  <a:xfrm flipH="1" flipV="1" rot="241800">
                    <a:off x="7952400" y="529164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73"/>
                <p:cNvGrpSpPr/>
                <p:nvPr/>
              </p:nvGrpSpPr>
              <p:grpSpPr>
                <a:xfrm>
                  <a:off x="7658640" y="5021280"/>
                  <a:ext cx="314640" cy="498600"/>
                  <a:chOff x="7658640" y="5021280"/>
                  <a:chExt cx="314640" cy="498600"/>
                </a:xfrm>
              </p:grpSpPr>
              <p:sp>
                <p:nvSpPr>
                  <p:cNvPr id="248" name="未知"/>
                  <p:cNvSpPr/>
                  <p:nvPr/>
                </p:nvSpPr>
                <p:spPr>
                  <a:xfrm rot="181800">
                    <a:off x="7791480" y="502560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未知"/>
                  <p:cNvSpPr/>
                  <p:nvPr/>
                </p:nvSpPr>
                <p:spPr>
                  <a:xfrm rot="18340800">
                    <a:off x="7720920" y="515016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 flipV="1" rot="181800">
                    <a:off x="7776720" y="527868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1" name="Group 77"/>
            <p:cNvGrpSpPr/>
            <p:nvPr/>
          </p:nvGrpSpPr>
          <p:grpSpPr>
            <a:xfrm>
              <a:off x="7489800" y="4613400"/>
              <a:ext cx="370800" cy="405360"/>
              <a:chOff x="7489800" y="4613400"/>
              <a:chExt cx="370800" cy="405360"/>
            </a:xfrm>
          </p:grpSpPr>
          <p:grpSp>
            <p:nvGrpSpPr>
              <p:cNvPr id="252" name="Group 78"/>
              <p:cNvGrpSpPr/>
              <p:nvPr/>
            </p:nvGrpSpPr>
            <p:grpSpPr>
              <a:xfrm>
                <a:off x="7489800" y="4613400"/>
                <a:ext cx="370800" cy="405360"/>
                <a:chOff x="7489800" y="4613400"/>
                <a:chExt cx="370800" cy="405360"/>
              </a:xfrm>
            </p:grpSpPr>
            <p:grpSp>
              <p:nvGrpSpPr>
                <p:cNvPr id="253" name="Group 79"/>
                <p:cNvGrpSpPr/>
                <p:nvPr/>
              </p:nvGrpSpPr>
              <p:grpSpPr>
                <a:xfrm>
                  <a:off x="7599960" y="4613400"/>
                  <a:ext cx="260640" cy="353520"/>
                  <a:chOff x="7599960" y="4613400"/>
                  <a:chExt cx="260640" cy="353520"/>
                </a:xfrm>
              </p:grpSpPr>
              <p:sp>
                <p:nvSpPr>
                  <p:cNvPr id="254" name="未知"/>
                  <p:cNvSpPr/>
                  <p:nvPr/>
                </p:nvSpPr>
                <p:spPr>
                  <a:xfrm flipH="1" rot="20092200">
                    <a:off x="7628040" y="463104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未知"/>
                  <p:cNvSpPr/>
                  <p:nvPr/>
                </p:nvSpPr>
                <p:spPr>
                  <a:xfrm flipH="1" rot="1933800">
                    <a:off x="7708320" y="4691880"/>
                    <a:ext cx="1173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未知"/>
                  <p:cNvSpPr/>
                  <p:nvPr/>
                </p:nvSpPr>
                <p:spPr>
                  <a:xfrm flipH="1" flipV="1" rot="20092800">
                    <a:off x="7702920" y="478728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83"/>
                <p:cNvGrpSpPr/>
                <p:nvPr/>
              </p:nvGrpSpPr>
              <p:grpSpPr>
                <a:xfrm>
                  <a:off x="7489800" y="4665240"/>
                  <a:ext cx="253800" cy="353520"/>
                  <a:chOff x="7489800" y="4665240"/>
                  <a:chExt cx="253800" cy="353520"/>
                </a:xfrm>
              </p:grpSpPr>
              <p:sp>
                <p:nvSpPr>
                  <p:cNvPr id="258" name="未知"/>
                  <p:cNvSpPr/>
                  <p:nvPr/>
                </p:nvSpPr>
                <p:spPr>
                  <a:xfrm rot="20032200">
                    <a:off x="7518960" y="468288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未知"/>
                  <p:cNvSpPr/>
                  <p:nvPr/>
                </p:nvSpPr>
                <p:spPr>
                  <a:xfrm rot="16590600">
                    <a:off x="7519680" y="4781880"/>
                    <a:ext cx="11736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未知"/>
                  <p:cNvSpPr/>
                  <p:nvPr/>
                </p:nvSpPr>
                <p:spPr>
                  <a:xfrm flipV="1" rot="20032200">
                    <a:off x="7594560" y="483876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1" name="Group 87"/>
              <p:cNvGrpSpPr/>
              <p:nvPr/>
            </p:nvGrpSpPr>
            <p:grpSpPr>
              <a:xfrm>
                <a:off x="7542000" y="4707000"/>
                <a:ext cx="256320" cy="218880"/>
                <a:chOff x="7542000" y="4707000"/>
                <a:chExt cx="256320" cy="218880"/>
              </a:xfrm>
            </p:grpSpPr>
            <p:grpSp>
              <p:nvGrpSpPr>
                <p:cNvPr id="262" name="Group 88"/>
                <p:cNvGrpSpPr/>
                <p:nvPr/>
              </p:nvGrpSpPr>
              <p:grpSpPr>
                <a:xfrm>
                  <a:off x="7664040" y="4711320"/>
                  <a:ext cx="134280" cy="214560"/>
                  <a:chOff x="7664040" y="4711320"/>
                  <a:chExt cx="134280" cy="214560"/>
                </a:xfrm>
              </p:grpSpPr>
              <p:sp>
                <p:nvSpPr>
                  <p:cNvPr id="263" name="未知"/>
                  <p:cNvSpPr/>
                  <p:nvPr/>
                </p:nvSpPr>
                <p:spPr>
                  <a:xfrm flipH="1" rot="241800">
                    <a:off x="7673760" y="471384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未知"/>
                  <p:cNvSpPr/>
                  <p:nvPr/>
                </p:nvSpPr>
                <p:spPr>
                  <a:xfrm flipH="1" rot="3683400">
                    <a:off x="7698240" y="477072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未知"/>
                  <p:cNvSpPr/>
                  <p:nvPr/>
                </p:nvSpPr>
                <p:spPr>
                  <a:xfrm flipH="1" flipV="1" rot="241800">
                    <a:off x="7666920" y="482148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92"/>
                <p:cNvGrpSpPr/>
                <p:nvPr/>
              </p:nvGrpSpPr>
              <p:grpSpPr>
                <a:xfrm>
                  <a:off x="7542000" y="4707000"/>
                  <a:ext cx="134280" cy="213120"/>
                  <a:chOff x="7542000" y="4707000"/>
                  <a:chExt cx="134280" cy="213120"/>
                </a:xfrm>
              </p:grpSpPr>
              <p:sp>
                <p:nvSpPr>
                  <p:cNvPr id="267" name="未知"/>
                  <p:cNvSpPr/>
                  <p:nvPr/>
                </p:nvSpPr>
                <p:spPr>
                  <a:xfrm rot="181800">
                    <a:off x="7598520" y="470880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未知"/>
                  <p:cNvSpPr/>
                  <p:nvPr/>
                </p:nvSpPr>
                <p:spPr>
                  <a:xfrm rot="18340800">
                    <a:off x="7568640" y="476244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未知"/>
                  <p:cNvSpPr/>
                  <p:nvPr/>
                </p:nvSpPr>
                <p:spPr>
                  <a:xfrm flipV="1" rot="181800">
                    <a:off x="7592400" y="481680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4860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17B1-F4AB-4DC6-9230-973C152F5B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7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7.wmf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7.wmf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7.wmf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7.wmf"/><Relationship Id="rId20" Type="http://schemas.openxmlformats.org/officeDocument/2006/relationships/image" Target="../media/image14.png"/><Relationship Id="rId21" Type="http://schemas.openxmlformats.org/officeDocument/2006/relationships/image" Target="../media/image18.png"/><Relationship Id="rId22" Type="http://schemas.openxmlformats.org/officeDocument/2006/relationships/image" Target="../media/image7.wmf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6000" y="3212640"/>
            <a:ext cx="6696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2340000" y="4028400"/>
            <a:ext cx="51847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51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3"/>
          <p:cNvSpPr/>
          <p:nvPr/>
        </p:nvSpPr>
        <p:spPr>
          <a:xfrm rot="692400">
            <a:off x="3800160" y="2521080"/>
            <a:ext cx="1382760" cy="1074600"/>
          </a:xfrm>
          <a:custGeom>
            <a:avLst/>
            <a:gdLst/>
            <a:ahLst/>
            <a:rect l="l" t="t" r="r" b="b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2666880" y="5772240"/>
            <a:ext cx="3581280" cy="914400"/>
            <a:chOff x="2666880" y="5772240"/>
            <a:chExt cx="3581280" cy="914400"/>
          </a:xfrm>
        </p:grpSpPr>
        <p:pic>
          <p:nvPicPr>
            <p:cNvPr id="316" name="Picture 5" descr="shadow_1_m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2666880" y="635832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Group 6"/>
            <p:cNvGrpSpPr/>
            <p:nvPr/>
          </p:nvGrpSpPr>
          <p:grpSpPr>
            <a:xfrm>
              <a:off x="2668320" y="5772240"/>
              <a:ext cx="3554640" cy="787320"/>
              <a:chOff x="2668320" y="5772240"/>
              <a:chExt cx="3554640" cy="787320"/>
            </a:xfrm>
          </p:grpSpPr>
          <p:sp>
            <p:nvSpPr>
              <p:cNvPr id="318" name="Oval 7"/>
              <p:cNvSpPr/>
              <p:nvPr/>
            </p:nvSpPr>
            <p:spPr>
              <a:xfrm>
                <a:off x="2679120" y="5772240"/>
                <a:ext cx="3543840" cy="787320"/>
              </a:xfrm>
              <a:prstGeom prst="ellipse">
                <a:avLst/>
              </a:prstGeom>
              <a:gradFill rotWithShape="0">
                <a:gsLst>
                  <a:gs pos="0">
                    <a:srgbClr val="7a7a7a"/>
                  </a:gs>
                  <a:gs pos="50000">
                    <a:srgbClr val="c0c0c0"/>
                  </a:gs>
                  <a:gs pos="100000">
                    <a:srgbClr val="7a7a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8"/>
              <p:cNvSpPr/>
              <p:nvPr/>
            </p:nvSpPr>
            <p:spPr>
              <a:xfrm>
                <a:off x="2668320" y="577224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未知"/>
          <p:cNvSpPr/>
          <p:nvPr/>
        </p:nvSpPr>
        <p:spPr>
          <a:xfrm>
            <a:off x="3505320" y="1428840"/>
            <a:ext cx="220032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889cd"/>
              </a:gs>
              <a:gs pos="100000">
                <a:srgbClr val="734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3324240" y="2190600"/>
            <a:ext cx="409680" cy="393840"/>
            <a:chOff x="3324240" y="2190600"/>
            <a:chExt cx="409680" cy="393840"/>
          </a:xfrm>
        </p:grpSpPr>
        <p:pic>
          <p:nvPicPr>
            <p:cNvPr id="322" name="Picture 11" descr="circuler_1"/>
            <p:cNvPicPr/>
            <p:nvPr/>
          </p:nvPicPr>
          <p:blipFill>
            <a:blip r:embed="rId2"/>
            <a:stretch/>
          </p:blipFill>
          <p:spPr>
            <a:xfrm>
              <a:off x="3326400" y="2192760"/>
              <a:ext cx="407520" cy="3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Oval 12"/>
            <p:cNvGrpSpPr/>
            <p:nvPr/>
          </p:nvGrpSpPr>
          <p:grpSpPr>
            <a:xfrm>
              <a:off x="3324240" y="2190600"/>
              <a:ext cx="406440" cy="393840"/>
              <a:chOff x="3324240" y="2190600"/>
              <a:chExt cx="406440" cy="393840"/>
            </a:xfrm>
          </p:grpSpPr>
          <p:pic>
            <p:nvPicPr>
              <p:cNvPr id="324" name="Oval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4240" y="2190600"/>
                <a:ext cx="4064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>
                <a:off x="3385440" y="2250000"/>
                <a:ext cx="2865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6" name="Picture 13" descr="Picture2"/>
            <p:cNvPicPr/>
            <p:nvPr/>
          </p:nvPicPr>
          <p:blipFill>
            <a:blip r:embed="rId4"/>
            <a:stretch/>
          </p:blipFill>
          <p:spPr>
            <a:xfrm>
              <a:off x="3366360" y="2197080"/>
              <a:ext cx="321840" cy="13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Group 14"/>
          <p:cNvGrpSpPr/>
          <p:nvPr/>
        </p:nvGrpSpPr>
        <p:grpSpPr>
          <a:xfrm>
            <a:off x="5305320" y="2620800"/>
            <a:ext cx="333360" cy="320760"/>
            <a:chOff x="5305320" y="2620800"/>
            <a:chExt cx="333360" cy="320760"/>
          </a:xfrm>
        </p:grpSpPr>
        <p:pic>
          <p:nvPicPr>
            <p:cNvPr id="328" name="Picture 15" descr="circuler_1"/>
            <p:cNvPicPr/>
            <p:nvPr/>
          </p:nvPicPr>
          <p:blipFill>
            <a:blip r:embed="rId5"/>
            <a:stretch/>
          </p:blipFill>
          <p:spPr>
            <a:xfrm>
              <a:off x="5307480" y="2620800"/>
              <a:ext cx="33084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Oval 16"/>
            <p:cNvGrpSpPr/>
            <p:nvPr/>
          </p:nvGrpSpPr>
          <p:grpSpPr>
            <a:xfrm>
              <a:off x="5305320" y="2620800"/>
              <a:ext cx="333360" cy="320760"/>
              <a:chOff x="5305320" y="2620800"/>
              <a:chExt cx="333360" cy="320760"/>
            </a:xfrm>
          </p:grpSpPr>
          <p:pic>
            <p:nvPicPr>
              <p:cNvPr id="330" name="Oval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5305320" y="2620800"/>
                <a:ext cx="333360" cy="32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5355360" y="2666880"/>
                <a:ext cx="2329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2" name="Picture 17" descr="Picture2"/>
            <p:cNvPicPr/>
            <p:nvPr/>
          </p:nvPicPr>
          <p:blipFill>
            <a:blip r:embed="rId7"/>
            <a:stretch/>
          </p:blipFill>
          <p:spPr>
            <a:xfrm>
              <a:off x="5340600" y="2624040"/>
              <a:ext cx="261360" cy="11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Group 18"/>
          <p:cNvGrpSpPr/>
          <p:nvPr/>
        </p:nvGrpSpPr>
        <p:grpSpPr>
          <a:xfrm>
            <a:off x="6084720" y="3262680"/>
            <a:ext cx="1071360" cy="1042920"/>
            <a:chOff x="6084720" y="3262680"/>
            <a:chExt cx="1071360" cy="1042920"/>
          </a:xfrm>
        </p:grpSpPr>
        <p:pic>
          <p:nvPicPr>
            <p:cNvPr id="334" name="Picture 19" descr="circuler_1"/>
            <p:cNvPicPr/>
            <p:nvPr/>
          </p:nvPicPr>
          <p:blipFill>
            <a:blip r:embed="rId8"/>
            <a:stretch/>
          </p:blipFill>
          <p:spPr>
            <a:xfrm rot="692400">
              <a:off x="6163200" y="3345120"/>
              <a:ext cx="914040" cy="87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Oval 20"/>
            <p:cNvGrpSpPr/>
            <p:nvPr/>
          </p:nvGrpSpPr>
          <p:grpSpPr>
            <a:xfrm>
              <a:off x="6162840" y="3342600"/>
              <a:ext cx="907560" cy="885600"/>
              <a:chOff x="6162840" y="3342600"/>
              <a:chExt cx="907560" cy="885600"/>
            </a:xfrm>
          </p:grpSpPr>
          <p:pic>
            <p:nvPicPr>
              <p:cNvPr id="336" name="Oval 20" descr=""/>
              <p:cNvPicPr/>
              <p:nvPr/>
            </p:nvPicPr>
            <p:blipFill>
              <a:blip r:embed="rId9"/>
              <a:stretch/>
            </p:blipFill>
            <p:spPr>
              <a:xfrm rot="21599400">
                <a:off x="6162840" y="3342240"/>
                <a:ext cx="90756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691800">
                <a:off x="6294960" y="3473280"/>
                <a:ext cx="641520" cy="62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8" name="Picture 21" descr="Picture2"/>
            <p:cNvPicPr/>
            <p:nvPr/>
          </p:nvPicPr>
          <p:blipFill>
            <a:blip r:embed="rId10"/>
            <a:stretch/>
          </p:blipFill>
          <p:spPr>
            <a:xfrm rot="692400">
              <a:off x="6308280" y="3357720"/>
              <a:ext cx="72288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22"/>
          <p:cNvGrpSpPr/>
          <p:nvPr/>
        </p:nvGrpSpPr>
        <p:grpSpPr>
          <a:xfrm>
            <a:off x="1762200" y="2278080"/>
            <a:ext cx="983880" cy="951840"/>
            <a:chOff x="1762200" y="2278080"/>
            <a:chExt cx="983880" cy="951840"/>
          </a:xfrm>
        </p:grpSpPr>
        <p:pic>
          <p:nvPicPr>
            <p:cNvPr id="340" name="Picture 23" descr="circuler_1"/>
            <p:cNvPicPr/>
            <p:nvPr/>
          </p:nvPicPr>
          <p:blipFill>
            <a:blip r:embed="rId11"/>
            <a:stretch/>
          </p:blipFill>
          <p:spPr>
            <a:xfrm>
              <a:off x="1762200" y="2278080"/>
              <a:ext cx="97452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Oval 24"/>
            <p:cNvGrpSpPr/>
            <p:nvPr/>
          </p:nvGrpSpPr>
          <p:grpSpPr>
            <a:xfrm>
              <a:off x="1762200" y="2279880"/>
              <a:ext cx="983880" cy="950040"/>
              <a:chOff x="1762200" y="2279880"/>
              <a:chExt cx="983880" cy="950040"/>
            </a:xfrm>
          </p:grpSpPr>
          <p:pic>
            <p:nvPicPr>
              <p:cNvPr id="342" name="Oval 24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62200" y="2279880"/>
                <a:ext cx="983880" cy="95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1906200" y="2417400"/>
                <a:ext cx="6933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4" name="Picture 25" descr="Picture2"/>
            <p:cNvPicPr/>
            <p:nvPr/>
          </p:nvPicPr>
          <p:blipFill>
            <a:blip r:embed="rId13"/>
            <a:stretch/>
          </p:blipFill>
          <p:spPr>
            <a:xfrm>
              <a:off x="1859760" y="2287080"/>
              <a:ext cx="78192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26"/>
          <p:cNvGrpSpPr/>
          <p:nvPr/>
        </p:nvGrpSpPr>
        <p:grpSpPr>
          <a:xfrm>
            <a:off x="2147760" y="3551400"/>
            <a:ext cx="660600" cy="631800"/>
            <a:chOff x="2147760" y="3551400"/>
            <a:chExt cx="660600" cy="631800"/>
          </a:xfrm>
        </p:grpSpPr>
        <p:pic>
          <p:nvPicPr>
            <p:cNvPr id="346" name="Picture 27" descr="circuler_1"/>
            <p:cNvPicPr/>
            <p:nvPr/>
          </p:nvPicPr>
          <p:blipFill>
            <a:blip r:embed="rId14"/>
            <a:stretch/>
          </p:blipFill>
          <p:spPr>
            <a:xfrm>
              <a:off x="2150280" y="3551400"/>
              <a:ext cx="658080" cy="63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Oval 28"/>
            <p:cNvGrpSpPr/>
            <p:nvPr/>
          </p:nvGrpSpPr>
          <p:grpSpPr>
            <a:xfrm>
              <a:off x="2147760" y="3553920"/>
              <a:ext cx="655560" cy="629280"/>
              <a:chOff x="2147760" y="3553920"/>
              <a:chExt cx="655560" cy="629280"/>
            </a:xfrm>
          </p:grpSpPr>
          <p:pic>
            <p:nvPicPr>
              <p:cNvPr id="348" name="Oval 2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147760" y="3553920"/>
                <a:ext cx="655560" cy="62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2245320" y="3643920"/>
                <a:ext cx="4615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0" name="Picture 29" descr="Picture2"/>
            <p:cNvPicPr/>
            <p:nvPr/>
          </p:nvPicPr>
          <p:blipFill>
            <a:blip r:embed="rId16"/>
            <a:stretch/>
          </p:blipFill>
          <p:spPr>
            <a:xfrm>
              <a:off x="2216160" y="3557520"/>
              <a:ext cx="519840" cy="2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Group 30"/>
          <p:cNvGrpSpPr/>
          <p:nvPr/>
        </p:nvGrpSpPr>
        <p:grpSpPr>
          <a:xfrm>
            <a:off x="3427560" y="3911760"/>
            <a:ext cx="1262880" cy="1221840"/>
            <a:chOff x="3427560" y="3911760"/>
            <a:chExt cx="1262880" cy="1221840"/>
          </a:xfrm>
        </p:grpSpPr>
        <p:pic>
          <p:nvPicPr>
            <p:cNvPr id="352" name="Picture 31" descr="circuler_1"/>
            <p:cNvPicPr/>
            <p:nvPr/>
          </p:nvPicPr>
          <p:blipFill>
            <a:blip r:embed="rId17"/>
            <a:stretch/>
          </p:blipFill>
          <p:spPr>
            <a:xfrm>
              <a:off x="3429000" y="3911760"/>
              <a:ext cx="1261440" cy="122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3" name="Oval 32"/>
            <p:cNvGrpSpPr/>
            <p:nvPr/>
          </p:nvGrpSpPr>
          <p:grpSpPr>
            <a:xfrm>
              <a:off x="3427560" y="3913560"/>
              <a:ext cx="1253520" cy="1220040"/>
              <a:chOff x="3427560" y="3913560"/>
              <a:chExt cx="1253520" cy="1220040"/>
            </a:xfrm>
          </p:grpSpPr>
          <p:pic>
            <p:nvPicPr>
              <p:cNvPr id="354" name="Oval 32" descr=""/>
              <p:cNvPicPr/>
              <p:nvPr/>
            </p:nvPicPr>
            <p:blipFill>
              <a:blip r:embed="rId18"/>
              <a:stretch/>
            </p:blipFill>
            <p:spPr>
              <a:xfrm>
                <a:off x="3427560" y="3913560"/>
                <a:ext cx="1253520" cy="122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3612600" y="4090680"/>
                <a:ext cx="886320" cy="86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33" descr="Picture2"/>
            <p:cNvPicPr/>
            <p:nvPr/>
          </p:nvPicPr>
          <p:blipFill>
            <a:blip r:embed="rId19"/>
            <a:stretch/>
          </p:blipFill>
          <p:spPr>
            <a:xfrm>
              <a:off x="3554280" y="3923280"/>
              <a:ext cx="99756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34"/>
          <p:cNvGrpSpPr/>
          <p:nvPr/>
        </p:nvGrpSpPr>
        <p:grpSpPr>
          <a:xfrm>
            <a:off x="5454720" y="4313160"/>
            <a:ext cx="660240" cy="635040"/>
            <a:chOff x="5454720" y="4313160"/>
            <a:chExt cx="660240" cy="635040"/>
          </a:xfrm>
        </p:grpSpPr>
        <p:pic>
          <p:nvPicPr>
            <p:cNvPr id="358" name="Picture 35" descr="circuler_1"/>
            <p:cNvPicPr/>
            <p:nvPr/>
          </p:nvPicPr>
          <p:blipFill>
            <a:blip r:embed="rId20"/>
            <a:stretch/>
          </p:blipFill>
          <p:spPr>
            <a:xfrm>
              <a:off x="5454720" y="4313160"/>
              <a:ext cx="660240" cy="63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Oval 36"/>
            <p:cNvGrpSpPr/>
            <p:nvPr/>
          </p:nvGrpSpPr>
          <p:grpSpPr>
            <a:xfrm>
              <a:off x="5455800" y="4315680"/>
              <a:ext cx="651600" cy="632520"/>
              <a:chOff x="5455800" y="4315680"/>
              <a:chExt cx="651600" cy="632520"/>
            </a:xfrm>
          </p:grpSpPr>
          <p:pic>
            <p:nvPicPr>
              <p:cNvPr id="360" name="Oval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5455800" y="4315680"/>
                <a:ext cx="651600" cy="63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5550120" y="4405680"/>
                <a:ext cx="4629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37" descr="Picture2"/>
            <p:cNvPicPr/>
            <p:nvPr/>
          </p:nvPicPr>
          <p:blipFill>
            <a:blip r:embed="rId22"/>
            <a:stretch/>
          </p:blipFill>
          <p:spPr>
            <a:xfrm>
              <a:off x="5520600" y="4319280"/>
              <a:ext cx="521640" cy="2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Arc 38"/>
          <p:cNvSpPr/>
          <p:nvPr/>
        </p:nvSpPr>
        <p:spPr>
          <a:xfrm rot="692400">
            <a:off x="4431960" y="2849040"/>
            <a:ext cx="1950840" cy="933480"/>
          </a:xfrm>
          <a:custGeom>
            <a:avLst/>
            <a:gdLst/>
            <a:ahLst/>
            <a:rect l="l" t="t" r="r" b="b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rc 39"/>
          <p:cNvSpPr/>
          <p:nvPr/>
        </p:nvSpPr>
        <p:spPr>
          <a:xfrm rot="692400">
            <a:off x="4277880" y="3754080"/>
            <a:ext cx="2328840" cy="657360"/>
          </a:xfrm>
          <a:custGeom>
            <a:avLst/>
            <a:gdLst/>
            <a:ahLst/>
            <a:rect l="l" t="t" r="r" b="b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rc 40"/>
          <p:cNvSpPr/>
          <p:nvPr/>
        </p:nvSpPr>
        <p:spPr>
          <a:xfrm rot="692400">
            <a:off x="4240080" y="3683160"/>
            <a:ext cx="1309680" cy="1047600"/>
          </a:xfrm>
          <a:custGeom>
            <a:avLst/>
            <a:gdLst/>
            <a:ahLst/>
            <a:rect l="l" t="t" r="r" b="b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rc 41"/>
          <p:cNvSpPr/>
          <p:nvPr/>
        </p:nvSpPr>
        <p:spPr>
          <a:xfrm rot="692400">
            <a:off x="2776680" y="3386160"/>
            <a:ext cx="1503360" cy="1009800"/>
          </a:xfrm>
          <a:custGeom>
            <a:avLst/>
            <a:gdLst/>
            <a:ahLst/>
            <a:rect l="l" t="t" r="r" b="b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rc 42"/>
          <p:cNvSpPr/>
          <p:nvPr/>
        </p:nvSpPr>
        <p:spPr>
          <a:xfrm rot="692400">
            <a:off x="1977840" y="3184200"/>
            <a:ext cx="2331720" cy="604800"/>
          </a:xfrm>
          <a:custGeom>
            <a:avLst/>
            <a:gdLst/>
            <a:ahLst/>
            <a:rect l="l" t="t" r="r" b="b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rc 43"/>
          <p:cNvSpPr/>
          <p:nvPr/>
        </p:nvSpPr>
        <p:spPr>
          <a:xfrm rot="692400">
            <a:off x="2631960" y="2465280"/>
            <a:ext cx="1808280" cy="903240"/>
          </a:xfrm>
          <a:custGeom>
            <a:avLst/>
            <a:gdLst/>
            <a:ahLst/>
            <a:rect l="l" t="t" r="r" b="b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4"/>
          <p:cNvSpPr/>
          <p:nvPr/>
        </p:nvSpPr>
        <p:spPr>
          <a:xfrm>
            <a:off x="1899720" y="256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5"/>
          <p:cNvSpPr/>
          <p:nvPr/>
        </p:nvSpPr>
        <p:spPr>
          <a:xfrm>
            <a:off x="3640320" y="4327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6"/>
          <p:cNvSpPr/>
          <p:nvPr/>
        </p:nvSpPr>
        <p:spPr>
          <a:xfrm>
            <a:off x="6282720" y="359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47"/>
          <p:cNvSpPr/>
          <p:nvPr/>
        </p:nvSpPr>
        <p:spPr>
          <a:xfrm>
            <a:off x="7086600" y="2712960"/>
            <a:ext cx="1898640" cy="544680"/>
          </a:xfrm>
          <a:noFill/>
          <a:ln w="9360">
            <a:solidFill>
              <a:srgbClr val="80c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ab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8"/>
          <p:cNvSpPr/>
          <p:nvPr/>
        </p:nvSpPr>
        <p:spPr>
          <a:xfrm>
            <a:off x="5029200" y="5151600"/>
            <a:ext cx="2371680" cy="544320"/>
          </a:xfrm>
          <a:noFill/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afd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9"/>
          <p:cNvSpPr/>
          <p:nvPr/>
        </p:nvSpPr>
        <p:spPr>
          <a:xfrm>
            <a:off x="152280" y="1809720"/>
            <a:ext cx="1791000" cy="544680"/>
          </a:xfrm>
          <a:noFill/>
          <a:ln w="9360">
            <a:solidFill>
              <a:srgbClr val="e587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879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1093680" y="3755880"/>
            <a:ext cx="7276680" cy="329760"/>
            <a:chOff x="1093680" y="3755880"/>
            <a:chExt cx="7276680" cy="329760"/>
          </a:xfrm>
        </p:grpSpPr>
        <p:sp>
          <p:nvSpPr>
            <p:cNvPr id="376" name="Text Box 3"/>
            <p:cNvSpPr/>
            <p:nvPr/>
          </p:nvSpPr>
          <p:spPr>
            <a:xfrm>
              <a:off x="1204200" y="3817080"/>
              <a:ext cx="70102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"/>
            <p:cNvSpPr/>
            <p:nvPr/>
          </p:nvSpPr>
          <p:spPr>
            <a:xfrm>
              <a:off x="1093680" y="375588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3:26:50Z</dcterms:created>
  <dc:creator/>
  <dc:description/>
  <cp:keywords/>
  <dc:language>en-US</dc:language>
  <cp:lastModifiedBy>Sky123.Org</cp:lastModifiedBy>
  <cp:lastPrinted>1899-12-30T00:00:00Z</cp:lastPrinted>
  <dcterms:modified xsi:type="dcterms:W3CDTF">2015-07-09T09:23:37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