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FD6-26E0-4835-AB58-7349FE97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E0B-6DF4-4EDE-B601-C8D3239D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9F684-2131-4082-812D-052C057E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5C96B-8580-4A92-ABE3-8E037CB0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08D72-B922-4976-B04C-67E4942C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89B20-ED55-4710-A6C5-8E0ABC4B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2B93C-0400-47E8-B6CF-96E40BA0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D601C-36E6-45BF-8D01-35160CFB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BEEC4-0E43-4D82-9072-FB0EB84E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9DA64-8E6C-4023-AC60-C10CA004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571BC-B782-4630-B65E-E582BEFF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59F5C-155F-4A05-BE37-A8A3C3E3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EFB-C6DE-49F9-ADEE-9B5FEC85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21D59-7335-4574-9710-EA065106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C992B-4360-431D-89BC-2987B324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AA57C-7120-428E-AD64-4E8CA6A4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D0C53-F9D6-44F8-ADB0-1750D589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79F39-E9CC-4616-BDC9-667B334F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5069E-FA8F-426B-957F-EA75D2B4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B0DA6-7162-4F57-BF27-3830C42E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69066-4AE8-434C-8FA5-EAA115CC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98C38-ACFB-4278-99E3-867B1D30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BA1AC-7294-46FB-8827-7C7E0307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E6F-D84F-4586-B904-5F5B1906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27E5E-49A1-4231-99FE-E944E03A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7FCB9-78D7-4733-A698-E64007AD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9CDC4-BA94-4640-8A1A-B8368723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F2D79-6F9D-4905-922E-0ECB8FD9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69A4F-5803-41E9-9125-19B86725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75C91-631E-4491-B465-99792BA3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A629F-C666-491C-BBCA-54244BF4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61028-7997-4F8B-AED5-8AB667F1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DFF64-C3BE-424F-BB71-BE033D92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A7E34-3A28-480E-806D-49E4CD2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292B-01A7-45D2-8D81-FE01C606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F6EEA-E483-4B39-AC5D-AD7625E1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51F5F-8753-4033-AC15-CA14A6B5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F4364-04C7-44EB-9B53-0A7A59BC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0509A-419D-492F-8D63-40FF9350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02254-A0C7-4F96-923B-ECCB7675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561C8-3553-4F6E-BFFB-0DCEC089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7BAFF-C47F-42DD-813D-69122566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C2A9C-0833-4BA2-961B-0B2172E0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F0141-B4C7-4F41-9413-DBFDBA75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E3A73-1C31-42C0-8DE3-56AF2F16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4DF5-33B7-403C-84A3-FC76F46D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351D3-0621-4F70-9586-CDFDE523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53CA0-425A-4289-885F-3ED3EAC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6903C-7059-495F-8C94-25576C4F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DC255-78F9-45E2-B3C0-2EC07284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A78E1-4D3C-49C4-BCDE-284732B2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5568-E1FD-4579-943D-3AA16FC1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D0CD-2D4C-4CA6-8CB5-D9F52BEB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7E06-F766-4652-848F-6AEC8783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E164-D9C7-4D49-A9A9-EE9D466F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D345-5965-4627-AEB6-2DF77EE7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8BB-3699-459C-8752-6135850B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FB64-9AB2-40A6-9E4A-8201DE24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10BA-2C5F-43DC-B369-377AB667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391E-010A-4A23-8145-31A4D4A1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4F6E-186D-4583-BE59-8ED1A40C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0600-1B49-44F7-9795-71335830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48AB-5252-456C-82D8-57A0192A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C0F2-7774-41B0-BAC3-73A8FE33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D0E4-8FC8-400D-B9D6-E2BA8389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90DEA-FE9D-4E59-BFF4-7765F51F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4D73-C160-4D08-AD63-100622C7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DDD-224E-4A27-B93F-ABFB178B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689D9-5A84-4165-8C52-A7CFB694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4AB9-9DA3-4BA3-9AAC-79E264B5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3843A-EB8F-4092-AA42-335EB842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3AFB3-E4F9-4840-A6E2-D5859042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F8E42-76A0-4101-9724-980F9A1A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F045-1E09-480A-9768-7739C11C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3DB52-E7D2-4F21-ADF8-3B3D8B3A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9077-C268-4D05-ACFF-15ECE27A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0D6E9-4B8E-4D60-92A9-34B7C946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8262-51DD-44B6-A0F2-66A70834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02A-DEBD-4D41-A225-9F1FE9D2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13905-8A47-4134-A06E-48C37708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FB2D7-CCE9-42E4-9B33-CE92FFC0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A00A-6CC1-4226-AED1-BC8238BC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85CAF-F465-4238-89DF-2AE574DE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09D97-452A-4BDA-8599-134299D5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C9E11-1BA3-44BB-A32E-D464AA60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07167-4421-4CF1-A461-ADBA5EB6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4A973-5923-499F-B6C5-FD8A93D0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C12F-F968-4008-B6CD-FF01EFD5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710E8-748E-47AF-A4A7-029C0B97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FD3-059F-4D6D-9124-99FFF967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0BDFD-77B7-4958-8113-686B60C3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1D38-AEA9-42B3-8AD0-2275E1F4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72A81-C8E9-404E-B12E-59830F33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943FB-4447-40F4-9ECC-BD54B522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C746A-A8AE-4B39-880A-6F21A980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81188-6C23-4C30-B03C-DBE0A81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3D3EA-D185-4C4D-B740-3329C1DE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66FDD-CEF0-4597-A37D-1779EF5E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9F69-E5C1-44E2-9C70-170DB92F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6A35B-B093-4000-B30B-31C44BA9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E6AC-8838-465C-916E-490D3A75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4F867-5183-406D-BC7A-76D76DF2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7356A-42C5-4F6C-8838-0F082DA9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70C4D-D911-4544-A6F8-10E1864B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9698B-51F3-4D37-A4BA-C7CA0D8D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8878A-4AB7-426F-BC24-D537BE10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B774B-4356-4795-AA72-722249CC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6D585-0186-4F95-AA18-F87F2D06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F02A7-B849-440E-A8FD-A53858CE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6A600-37F1-4799-B932-89CE0969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AE50-5906-462E-A653-2747745A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EF1-DE3B-4EA1-999F-7F9C6D0D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706CF-61C5-4042-9FD5-008E0012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3E96C-D5D4-40D9-AB99-2CA622FF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EF91-DAD6-47D9-AEAD-DE6E1CD6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0DE7F-AB5E-47DE-9333-CF01C4E7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1DB7A-D7E4-4253-AF50-4E08D271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94DFE-90B2-4294-9519-8F913F52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EADDE-EC1C-4E15-A3DE-C3F03DE6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7B3D0-EF5A-48AE-BCA5-437A11D0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8D28F-0926-4D57-AE24-0DBDED8B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F486-E511-488E-ADFA-96DA9F4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20C-DFD1-49E8-B128-ABF795A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D7033-0C5B-443B-8C44-927D927F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E8A4E-D930-448B-8A86-01734B5E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26D54-BCFC-499D-9279-CBB0E559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731A9-1283-44F3-A1EB-289189A3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F7F08-968E-43DB-B119-FEDC8322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FBF67-5CEF-4942-80E0-CCE74648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03B53-A575-495B-9F04-F4EC80A8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13788-77B4-4B65-8F7A-C4DA58DA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3BABE-C17E-45FC-A374-EEE68457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10732-FDE4-49DA-8B7E-F897B06C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EE8-9BE5-443C-9947-FD235948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3835E-F259-439A-9627-0E2E534E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B9A51-39C2-44C6-ABBB-DBB88F27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BAAEE-2CCB-438E-9AC5-9B363180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D783B-0038-4078-9E3A-D576C17D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37BA4-CA0A-465A-9F2B-303D9830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9731E-F0D2-48D6-AEE6-9A0B2F82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F801F-2F84-425B-8C86-DDB98DE0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2EEB0-3A40-4C75-9F26-8C3294E7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DC2F1-D8D0-4EB8-B6A8-B647100D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FA640-1170-447C-954F-91843004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6B10-8F53-418D-99D9-5346902C79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80F3-2A3C-4502-8B4F-CA3CC3B754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E33C-3B9C-48E3-A33C-E40DE69766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D401-467D-41C8-BA90-701AE5D6095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76BB-7403-46E0-9E4A-751C9C62F8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BAB7-E9AD-4310-B9DC-73AC4EA19D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CF0A-CB57-4708-9D87-1623EBA2CF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B3A2-4678-4C2A-96F9-8164A54D0D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1B48-AD77-4883-AD95-CB0B5374F0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33F6-40C2-4249-8B49-E571B42099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5753-A890-475B-A0CF-EFAE69C726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9AC1-2E19-4764-BA92-467CC66CECF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孙子兵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2"/>
          <p:cNvSpPr/>
          <p:nvPr/>
        </p:nvSpPr>
        <p:spPr>
          <a:xfrm>
            <a:off x="346680" y="651996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Picture 2" descr="孙子兵法1"/>
          <p:cNvPicPr/>
          <p:nvPr/>
        </p:nvPicPr>
        <p:blipFill>
          <a:blip r:embed="rId2"/>
          <a:stretch/>
        </p:blipFill>
        <p:spPr>
          <a:xfrm>
            <a:off x="-33480" y="0"/>
            <a:ext cx="91774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Picture 2" descr="孙子兵法23"/>
          <p:cNvPicPr/>
          <p:nvPr/>
        </p:nvPicPr>
        <p:blipFill>
          <a:blip r:embed="rId1"/>
          <a:stretch/>
        </p:blipFill>
        <p:spPr>
          <a:xfrm>
            <a:off x="1440" y="-23760"/>
            <a:ext cx="91411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23:01:04Z</dcterms:created>
  <dc:creator>陈亮</dc:creator>
  <dc:description/>
  <dc:language>en-US</dc:language>
  <cp:lastModifiedBy>Administrator</cp:lastModifiedBy>
  <cp:lastPrinted>1899-12-30T00:00:00Z</cp:lastPrinted>
  <dcterms:modified xsi:type="dcterms:W3CDTF">2015-07-04T03:33:58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88</vt:lpwstr>
  </property>
</Properties>
</file>