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36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05D-EFA5-42EA-B100-7D6B6823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18E-78EE-4EFB-BD79-371D3229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B8E-9091-4AEB-B139-500D4E3A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22E-E910-4DFE-88B8-1A5FF9D4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6C3E-541C-498C-957B-891AE980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A93B-76AD-488B-8003-9108F7F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2E32-CE9A-4CCE-B43A-5058756E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194F-A851-4414-BE72-57A449B1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4E31-E140-4020-BE6A-697E8C1F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2F5B-BAAF-4BF1-B50A-508AEEDF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35ED-73D1-49E5-AF6D-BCF725C3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E7B-047B-4C11-AE9C-9FB6CCB4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A4B-279C-4473-A0F3-59166D9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42F-E777-4F84-A562-B7B10B1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93E2-2FE5-41D3-B794-1A00264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88A0-CA60-466B-9249-53CE4747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D600-BCA7-42A6-88FE-55CA9463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F92-11FB-40F8-95AF-9D37639B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B2A-87EA-4481-8C88-14991B07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EC0-DFC5-4027-82D5-7EDF9A53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FB3-52A7-4C2E-AFAB-B65DEA1C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8C4-1984-458E-B9A5-37231914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155-F461-4732-8233-792D17D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6AA-577F-429E-ADE6-DF0C2045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EF0-8D70-466F-8655-033DF773F46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未知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未知"/>
              <p:cNvSpPr/>
              <p:nvPr/>
            </p:nvSpPr>
            <p:spPr>
              <a:xfrm>
                <a:off x="647640" y="4776840"/>
                <a:ext cx="7416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144756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085760" y="4300560"/>
                <a:ext cx="7416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2037960" y="4083120"/>
                <a:ext cx="236160" cy="66528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1809360" y="3863880"/>
                <a:ext cx="26496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1504800" y="3673440"/>
                <a:ext cx="17892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780920" y="4092480"/>
                <a:ext cx="10440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1495080" y="4245120"/>
                <a:ext cx="25524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1169640" y="4386240"/>
                <a:ext cx="11556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990360" y="4586400"/>
                <a:ext cx="1872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78084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693360" y="4805280"/>
                <a:ext cx="45684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1314360" y="4767480"/>
                <a:ext cx="104400" cy="17136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580680" y="4938840"/>
                <a:ext cx="12204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790200" y="50245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1333440" y="463392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86652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847440" y="4672080"/>
                <a:ext cx="4716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857160" y="482436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1271520" y="4256280"/>
                <a:ext cx="340920" cy="34272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850680" y="4302360"/>
                <a:ext cx="336240" cy="28404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1645920" y="4141800"/>
                <a:ext cx="101160" cy="12564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1376280" y="3922920"/>
                <a:ext cx="217080" cy="32832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129672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729F-59C7-40A6-9DCC-C2E33FCD799F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古尔邦节来源小故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穆斯林群众为什么要过“古尔邦”节呢？相传，伊斯兰教的一位古代先知——易卜拉欣，在一天晚上，梦见安拉命令他宰杀自己的儿子，以祭献安拉，考验他对安拉的忠诚。易卜拉欣尊从安拉的旨意，安拉很受感动。第二天宰杀自己的儿子时，安拉派天仙背来一只黑头绵羊代替易卜拉欣的儿子作祭物。从那以后，穆罕默德就把伊斯兰教历１２月１０日开始的３天定为“宰牲节”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在过古尔邦节的时候每户穆斯林都得至少宰杀一只羊，有的还宰牛、骆驼、马，萨克族与柯尔克孜族，家里实在太穷的也得宰杀一只鸡。但是受到各种条件的限制，现在的城市穆斯林只好在市场上购买宰杀好的牛羊肉了。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401760" y="0"/>
            <a:ext cx="9545760" cy="7029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131760"/>
            <a:ext cx="9144000" cy="7124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124000" y="909720"/>
            <a:ext cx="49690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艾提尕的欢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还没有亮，月亮刚斜到天边，艾提尕清真寺的顶楼就传来了阿訇悠长的呼唤，穆斯林们疾步走出了家门。一时间，喀什的大街小巷涌满了人流。他们像潮水一样涌向艾提尕清真寺，涌向这个在全世界伊斯兰国家有着深远影响的古老的宗教圣地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祈祷完毕后，清真寺门楼的平台上骤然响起了鼓声和唢呐声，格拉纳鼓是清脆而响亮的，和着唢呐的长腔，把古尔邦节的舞曲演奏得明快而矫健。人群激动起来，即使是百岁老人，也动作苍劲地跳起了萨玛舞。这种舞蹈是畅快淋漓的，那是男性的、雄壮的舞蹈，往往能够持续两三天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3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245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8360" y="652320"/>
            <a:ext cx="7667280" cy="555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621560" cy="5602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557440" y="12574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古尔邦节的习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00000"/>
                </a:solidFill>
                <a:latin typeface="Verdana"/>
              </a:rPr>
              <a:t>临近古尔邦节的时候，家家户户的主妇就忙碌起来了，她们要制作大量的油炸馓子和各种精美点心，为节日期间来家里贺节的亲朋好友和远方的来客准备好充足的美食。盛大的节日也是主妇们的手艺与持家德行的大展示和大竞赛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Verdana"/>
              </a:rPr>
              <a:t>　　古尔邦节期间大家都要相互串门贺节，每到一户，主人必会为客人端上来一盘清炖大块羊肉，而客人即吃得再饱，也得尝尝主人家的羊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156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20960" y="18194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Verdana"/>
              </a:rPr>
              <a:t>亲朋好友相聚，视歌舞为饭食的新疆各民族人民，就会弹起琴，唱起歌，跳起舞，到处是一派欢乐的景象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0"/>
            <a:ext cx="3384360" cy="4046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节日前的准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314280" y="44280"/>
            <a:ext cx="9207360" cy="6769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4360" y="1557360"/>
            <a:ext cx="7778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古尔邦节的习俗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为有此渊源，在过古尔邦节的时候每户穆斯林都得至少宰杀一只羊，有的还宰牛、骆驼、马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萨克族与柯尔克孜族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家里实在太穷的也得宰杀一只鸡。但是受到各种条件的限制，现在的城市穆斯林有时也在市场上购买宰杀好的牛羊肉了。 有条件的穆斯林都要宰牲献祭。按照规定一人宰一只羊，七人宰一头牛或一峰骆驼。而且要挑选健壮和体型美观的牛羊充当牺牲品。宰杀的牛羊肉分成三份，一份自己用；一份送亲友邻居；一份散济给穷人。增进大家之间的互助团结友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-4365720"/>
            <a:ext cx="9144000" cy="11223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咱可爱的小朋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94136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孩子们则趁着节日的喜气，缠着阿娜给他们买一碗可口的酸辣凉粉或冒着热气的羊杂碎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 rot="2205600">
            <a:off x="7308360" y="1844640"/>
            <a:ext cx="1081080" cy="115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ff"/>
                </a:solidFill>
                <a:latin typeface="Verdana"/>
              </a:rPr>
              <a:t>嗯，真好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492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28720" y="333360"/>
            <a:ext cx="6553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到巴扎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古尔邦节的前两天，是大大小小的巴扎一年中最兴盛的时候。喀什的东门巴扎每天的客流量能达到十余万人。头巾、花帽、器皿和羯羊，都是人们采购的对象。尤其是维吾尔族的姑娘们，几乎个个都是“香妃”，身上不知涂撒了什么香料，走过你的面前总能带来一阵幽香，久久不散。她们嬉笑着，拿着卖帽人的镜子，试戴新款的紫羔皮帽或者银狐皮帽，或者选一条艳丽的纱巾，系在发间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主妇们最关心的是家里节日要用的盘盘盏盏。去年买的瓷器已经过时了，你瞧，今年新上市的玻璃器皿多么晶莹剔透，像水晶一样高贵迷人，家里准备了几十样干鲜果品、糕点小吃，要是拿玻璃盏盛上，该多诱人！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84720" y="5950080"/>
            <a:ext cx="2159280" cy="358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多么的</a:t>
            </a:r>
            <a:r>
              <a:rPr b="0" lang="zh-CN" sz="2400" spc="-1" strike="noStrike">
                <a:solidFill>
                  <a:srgbClr val="000099"/>
                </a:solidFill>
                <a:latin typeface="Verdana"/>
              </a:rPr>
              <a:t>虔诚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</a:rPr>
              <a:t>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:\新建文件夹\P2140201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772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H:\新建文件夹\2240714_091514008_2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11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H:\新建文件夹\P7190399.jpg"/>
          <p:cNvPicPr/>
          <p:nvPr/>
        </p:nvPicPr>
        <p:blipFill>
          <a:blip r:embed="rId3"/>
          <a:stretch/>
        </p:blipFill>
        <p:spPr>
          <a:xfrm>
            <a:off x="0" y="3505320"/>
            <a:ext cx="4495680" cy="361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:\新建文件夹\P2130193.jpg"/>
          <p:cNvPicPr/>
          <p:nvPr/>
        </p:nvPicPr>
        <p:blipFill>
          <a:blip r:embed="rId4"/>
          <a:stretch/>
        </p:blipFill>
        <p:spPr>
          <a:xfrm>
            <a:off x="4495680" y="3505320"/>
            <a:ext cx="4648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H:\新建文件夹\1982969_020456132186_2.jpg"/>
          <p:cNvPicPr/>
          <p:nvPr/>
        </p:nvPicPr>
        <p:blipFill>
          <a:blip r:embed="rId1"/>
          <a:stretch/>
        </p:blipFill>
        <p:spPr>
          <a:xfrm>
            <a:off x="1692360" y="3789360"/>
            <a:ext cx="2057400" cy="304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:\新建文件夹\1012022019e436cdb9e39c9ccc.jpg"/>
          <p:cNvPicPr/>
          <p:nvPr/>
        </p:nvPicPr>
        <p:blipFill>
          <a:blip r:embed="rId2"/>
          <a:stretch/>
        </p:blipFill>
        <p:spPr>
          <a:xfrm>
            <a:off x="34920" y="3789360"/>
            <a:ext cx="1676520" cy="304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:\新建文件夹\768.jpg"/>
          <p:cNvPicPr/>
          <p:nvPr/>
        </p:nvPicPr>
        <p:blipFill>
          <a:blip r:embed="rId3"/>
          <a:stretch/>
        </p:blipFill>
        <p:spPr>
          <a:xfrm>
            <a:off x="-27000" y="0"/>
            <a:ext cx="3876840" cy="3809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新建文件夹\300000928390128218306095852_950.jpg"/>
          <p:cNvPicPr/>
          <p:nvPr/>
        </p:nvPicPr>
        <p:blipFill>
          <a:blip r:embed="rId4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396360" cy="637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14680" y="1595520"/>
            <a:ext cx="5715000" cy="3666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节日盛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同开斋节一样，节日那天的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左右，清真寺传出清脆的梆子声。穆斯林群众头戴白帽，衣冠整齐，来到清真寺，举行节日会礼。伊麻日宣讲瓦尔兹（劝诫），最后穆斯林互相问好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节日里除了炸油香 摆撒子外，有条件的穆斯林都要宰牲献祭。按照规定一人宰一只羊，七人宰一头牛或一峰骆驼。而且要挑选健壮和体型美观的牛羊充当牺牲品。宰杀的牛羊肉分成三份，一份自己用；一份送亲友邻居；一份散济给穷人。穆斯林之间的互助团结友谊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肉孜节和古尔邦节的来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维吾尔、哈萨克、回、柯尔克孜、塔吉克、乌孜别克和塔塔尔等少数民族，每年都要过肉孜节和古尔邦节这两个传统节日。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  　 肉孜节是波斯语“斋戒”的意思。相传古时侯，有一次大灾荒，孩子们由于饥饿啼哭不止，母亲无奈把拳头大的卵石放在锅里煮，哄孩子们说，妈妈给你们做包谷面疙瘩汤，并不时戳一戳给孩子们看，让他们相信还没有熟，太硬不能吃。一次又一次，孩子们再也无法忍受，闹着非吃不可，母亲没有别的办法，又一次揭开锅用木棍戳时，一下子竟戳了进去，母亲很惊奇，仔细一瞧，锅里的卵石变成了蔓菁，人们以为是神仙显灵了，奔走相告。以后人们用各种娱乐活动感谢神灵的恩典，这一节日相延成习，流传至今。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160" y="47520"/>
            <a:ext cx="900108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肉孜节和古尔邦节怎么过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        </a:t>
            </a:r>
            <a:r>
              <a:rPr b="1" lang="zh-CN" sz="2000" spc="-1" strike="noStrike">
                <a:solidFill>
                  <a:srgbClr val="cc3300"/>
                </a:solidFill>
                <a:latin typeface="Verdana"/>
              </a:rPr>
              <a:t>对维吾尔族而言肉孜节是小节，古尔邦节是大节；对回族来讲肉孜节是大节，古尔邦节是小节；从时间上讲，无论是哪个民族都是先过肉孜节再过古尔邦节。 作为一个盛大的传统节日，在节日到来之前，人们就进行各种各样的准备活动，把房子院落整修一新、打扫干净，要赶制节日盛装，宰羊，妇女们还要炸馓子、做点心、熬果酱，准备各种水果和干果，为节日期间来家里贺节的亲朋好友和远方来客准备好充足的美食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       </a:t>
            </a:r>
            <a:r>
              <a:rPr b="1" lang="zh-CN" sz="2000" spc="-1" strike="noStrike">
                <a:solidFill>
                  <a:srgbClr val="cc3300"/>
                </a:solidFill>
                <a:latin typeface="Verdana"/>
              </a:rPr>
              <a:t>节日期间人们将不计过去的摩擦，而会握手言和，你来我往，兴高采烈地互拜互访串门贺节，每到一户，主人会为客人端上来一盘清炖大块羊肉，请客人们吃，而客人即使吃得再饱，也得尝尝主人家的羊肉。亲朋好友相聚，大家就会弹起琴，唱起歌，跳起舞，到处是一派欢乐的景象。每逢佳节倍思亲，节日期间还有一个重要的内容，即各家各户都要去墓地祈祷，怀念过世的亲人。 过古尔邦节时，无论城市或农村，维吾尔族都要举行盛大的麦西来甫歌舞盛会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,</a:t>
            </a:r>
            <a:r>
              <a:rPr b="1" lang="zh-CN" sz="2000" spc="-1" strike="noStrike">
                <a:solidFill>
                  <a:srgbClr val="cc3300"/>
                </a:solidFill>
                <a:latin typeface="Verdana"/>
              </a:rPr>
              <a:t>敲起纳格拉鼓，吹起苏奈依，男子们跳起热情奔放的萨玛舞，。哈萨克、柯尔克孜、塔吉克、乌孜别克等民族，节日期间还举行刁羊、赛马、摔跤、阿肯歌唱等比赛活动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050920" y="1343160"/>
            <a:ext cx="540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穆斯林群众为什么要过“古尔邦”节呢？相传，伊斯兰教的一位古代先知——易卜拉欣，在一天晚上，梦见安拉命令他宰杀自己的儿子，以祭献安拉，考验他对安拉的忠诚。易卜拉欣尊从安拉的旨意，安拉很受感动。第二天宰杀自己的儿子时，安拉派天仙背来一只黑头绵羊代替易卜拉欣的儿子作祭物。从那以后，穆罕默德就把伊斯兰教历１２月１０日开始的３天定为“宰牲节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25560" y="0"/>
            <a:ext cx="92077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7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440" y="1663560"/>
            <a:ext cx="7226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82556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25560" y="-15840"/>
            <a:ext cx="916956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-314280" y="44280"/>
            <a:ext cx="9207360" cy="6769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9080" y="1557360"/>
            <a:ext cx="6697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古尔邦节的习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古尔邦节这一天清晨的礼拜，是一年中规模最大的一次礼拜，所有的成年男人都得去当地的礼拜寺参加聚礼，场面蔚为壮观。最著名的有喀什艾提尕尔清真大寺前的大聚礼，聚礼之后，乐师们登上艾提尕尔清真大寺的门顶，敲起纳格拉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铁壳鼓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吹起苏奈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唢呐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大寺前广场上的男子们就跳起了热情奔放的萨满舞。</a:t>
            </a:r>
            <a:r>
              <a:rPr b="1" lang="zh-CN" sz="2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3:59:41Z</dcterms:created>
  <dc:creator>User</dc:creator>
  <dc:description/>
  <dc:language>en-US</dc:language>
  <cp:lastModifiedBy>USER</cp:lastModifiedBy>
  <dcterms:modified xsi:type="dcterms:W3CDTF">2014-05-08T09:24:20Z</dcterms:modified>
  <cp:revision>14</cp:revision>
  <dc:subject/>
  <dc:title>古尔邦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