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9E5B-E253-4F91-8BF3-2AB2884C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58D-1268-4D6C-8F36-89779968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A09-F25E-46CB-A46F-ED8FBBFF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59C-38FB-4771-9861-05C8FD8B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5ED-80C4-4945-9D47-594AA73E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9D8E-8F2B-404C-8594-745702F7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70A9-DE6A-465C-A7DC-5BC71A3D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820-4B1B-4019-B783-5DC53F5F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63B7-869C-4A7C-B86E-EA910342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2716-A84B-4094-B4A1-2DDEB1E0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419-EDF3-42F6-833C-86634E97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87D5-4D1E-487D-8F23-D57DB22C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8BB9-7736-4CF5-8BF4-F43AA465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1FEC-4A57-4424-8F6D-F9A57606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0622-BE99-44FF-B4C6-F3C7A745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3D27-710F-4686-AC11-4227D4B1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84B9-93D6-434D-B410-D1D42829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912D-2D7B-4001-A0EE-9BDA8083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9AB-13B7-45EE-96F9-63A800A6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743-5278-419F-930E-7F776A08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CEF-2199-41E8-A542-00B33E15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25A-CE79-4D83-B6ED-45A7049B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9E0-F620-4F2D-B18E-C23B8DF1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F89-E766-4CDD-8998-D36F57C0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45FE-AE1A-4A28-9E0B-CCE84DA03689}" type="slidenum"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3694-FC21-4AF1-B68F-7B08385BA20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-138240" y="-27000"/>
            <a:ext cx="9282240" cy="6645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twist"/>
          <p:cNvPicPr/>
          <p:nvPr/>
        </p:nvPicPr>
        <p:blipFill>
          <a:blip r:embed="rId2"/>
          <a:stretch/>
        </p:blipFill>
        <p:spPr>
          <a:xfrm>
            <a:off x="1440" y="1854360"/>
            <a:ext cx="9142560" cy="3149280"/>
          </a:xfrm>
          <a:prstGeom prst="rect">
            <a:avLst/>
          </a:prstGeom>
          <a:ln w="0">
            <a:noFill/>
          </a:ln>
        </p:spPr>
      </p:pic>
      <p:sp>
        <p:nvSpPr>
          <p:cNvPr id="162" name="WordArt 4"/>
          <p:cNvSpPr txBox="1"/>
          <p:nvPr/>
        </p:nvSpPr>
        <p:spPr>
          <a:xfrm>
            <a:off x="2889360" y="2997360"/>
            <a:ext cx="33652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419640" y="361332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微软雅黑"/>
                <a:ea typeface="微软雅黑"/>
              </a:rPr>
              <a:t>GUI</a:t>
            </a:r>
            <a:r>
              <a:rPr b="1" lang="zh-CN" sz="1800" spc="-1" strike="noStrike">
                <a:solidFill>
                  <a:srgbClr val="ffcc00"/>
                </a:solidFill>
                <a:latin typeface="微软雅黑"/>
                <a:ea typeface="微软雅黑"/>
              </a:rPr>
              <a:t>设计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star"/>
          <p:cNvPicPr/>
          <p:nvPr/>
        </p:nvPicPr>
        <p:blipFill>
          <a:blip r:embed="rId3"/>
          <a:stretch/>
        </p:blipFill>
        <p:spPr>
          <a:xfrm>
            <a:off x="2482920" y="202896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star"/>
          <p:cNvPicPr/>
          <p:nvPr/>
        </p:nvPicPr>
        <p:blipFill>
          <a:blip r:embed="rId4"/>
          <a:stretch/>
        </p:blipFill>
        <p:spPr>
          <a:xfrm rot="2940000">
            <a:off x="4611240" y="23490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menu_b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1908000" y="299736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什么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特点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范围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别细分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范例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menu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2771640" y="3149640"/>
            <a:ext cx="35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什么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5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ontents_bg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460520" y="69228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33"/>
                </a:solidFill>
                <a:latin typeface="微软雅黑"/>
                <a:ea typeface="微软雅黑"/>
              </a:rPr>
              <a:t>GUI</a:t>
            </a:r>
            <a:r>
              <a:rPr b="1" lang="zh-CN" sz="1800" spc="-1" strike="noStrike">
                <a:solidFill>
                  <a:srgbClr val="996633"/>
                </a:solidFill>
                <a:latin typeface="微软雅黑"/>
                <a:ea typeface="微软雅黑"/>
              </a:rPr>
              <a:t>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460520" y="1413000"/>
            <a:ext cx="6208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由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Xerox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施乐）首先发明，如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以“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tel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”方式操作的，因为你可以用鼠标来点击按钮来进行操作，很直观。而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S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不具备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所以他只能输入命令。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S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这种界面叫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 (Command line User Interface )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命令行模式的人机接口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raphical User Interface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简称，即图形用户界面，通常人机交互图形化用户界面设计经常读做“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o-ee”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确来说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屏幕产品的视觉体验和互动操作部分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一种结合计算机科学、美学、心理学、行为学，及各商业领域需求分析的人机系统工程，强调人—机—环境三者作为一个系统进行总体设计。这种面向客户的系统工程设计其目的是优化产品的性能，使操作更人性化，减轻使用者的认知负担，使其更适合用户的操作需求，直接提升产品的市场竞争力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twist"/>
          <p:cNvPicPr/>
          <p:nvPr/>
        </p:nvPicPr>
        <p:blipFill>
          <a:blip r:embed="rId2"/>
          <a:stretch/>
        </p:blipFill>
        <p:spPr>
          <a:xfrm>
            <a:off x="0" y="1854360"/>
            <a:ext cx="9144000" cy="3149280"/>
          </a:xfrm>
          <a:prstGeom prst="rect">
            <a:avLst/>
          </a:prstGeom>
          <a:ln w="0">
            <a:noFill/>
          </a:ln>
        </p:spPr>
      </p:pic>
      <p:sp>
        <p:nvSpPr>
          <p:cNvPr id="178" name="WordArt 4"/>
          <p:cNvSpPr txBox="1"/>
          <p:nvPr/>
        </p:nvSpPr>
        <p:spPr>
          <a:xfrm>
            <a:off x="2889360" y="2997360"/>
            <a:ext cx="33652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419640" y="361332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微软雅黑"/>
                <a:ea typeface="微软雅黑"/>
              </a:rPr>
              <a:t>感谢观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star"/>
          <p:cNvPicPr/>
          <p:nvPr/>
        </p:nvPicPr>
        <p:blipFill>
          <a:blip r:embed="rId3"/>
          <a:stretch/>
        </p:blipFill>
        <p:spPr>
          <a:xfrm>
            <a:off x="2627280" y="234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star"/>
          <p:cNvPicPr/>
          <p:nvPr/>
        </p:nvPicPr>
        <p:blipFill>
          <a:blip r:embed="rId4"/>
          <a:stretch/>
        </p:blipFill>
        <p:spPr>
          <a:xfrm rot="2940000">
            <a:off x="5004000" y="204444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mor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054080" y="3286080"/>
            <a:ext cx="70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里可以显示更多的内容（三级内容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5-08-19T00:53:29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