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A996-4A88-41D5-9714-116B2725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2611-D5A0-439E-8BF3-529227DEF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我一直想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0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但是听说质量不太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是的，前期的质量有一些不稳定，但现在已经全面改善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EB77-0BE2-4749-87DA-CD01748E4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科健是国产的牌子，质量不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科健是中国第一家生产手机的厂家，现在已经具备了自主研发的能力，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0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10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光外观漂亮，而且质量稳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5D6F-807B-4B8B-8249-575B5160B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我想买一部便宜点的手机，二手的有没有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手机还是要看质量，二手机便宜但如果坏了，修的费用也很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4F97-875F-4FDE-A254-FDA046CC9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你看现在大家用的都是翻盖型的手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D27A-4AFD-4684-B875-C0C1A2EA2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BC69-F1F8-4543-B3C0-75971D687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8E99-0081-408C-89BB-7EE1197CE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微笑是一种愉快的心情反应，也是一种礼貌和涵养的表现。不仅仅在柜台上展示微笑，在生活中处处都应有微笑，在工作岗位上只要把顾客当作自己的朋友，当作一个人来尊重，你就会很自然地向他发出会心的微笑。因此，这种微笑不用靠行政命令强迫，而是作为一个有修养、有礼貌的自觉自愿发出的。唯有这种笑才是顾客需要的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D9B-1E83-4912-90F1-F720BC99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413-FEB2-4D60-B0CE-B747E75F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0B0-91BE-4490-89F3-FF8BAE01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3D7-35DB-46A5-84DD-22B5D3DD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EB36-A551-45E2-B4A8-744F66F2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D233-35DA-4844-8725-572D67DF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96E9-16E7-4D8B-9150-F8CBC089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4939-0EFE-4A2A-A47D-5250C6AA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2828-24B3-4304-9A65-E02E2DF9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F175-B7D6-483B-A296-998EEC2F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F41C-81DF-4E03-B268-D271C03A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B34-0873-4660-BD30-7FE79A34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25A7-5651-4187-986E-77EC05BF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D13B-23B2-48C0-BD9E-F8C1FB1E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5937-F6E4-40BD-9FB9-7760D7DB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1731-8A1D-4BAD-9542-3A83A29B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FE58-35E8-47D0-825E-D14CCA0C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57A-156E-4FCF-9E06-066A2138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C8D-1F2C-41FC-ACC6-9BCE58C7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241-AF83-4F43-B601-0D298614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2C7-FEBA-4F48-9DAD-8D7ED9A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477-1E1A-40D3-8EC7-981FECE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E7E-F686-4A2B-BBF3-1ED3B81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57D-9C80-4858-A758-509A447C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23760" y="1763640"/>
            <a:ext cx="6899400" cy="17136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98360" y="152280"/>
            <a:ext cx="716040" cy="6400800"/>
          </a:xfrm>
          <a:custGeom>
            <a:avLst/>
            <a:gdLst>
              <a:gd name="textAreaLeft" fmla="*/ 0 w 716040"/>
              <a:gd name="textAreaRight" fmla="*/ 716400 w 71604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24000" y="1157400"/>
            <a:ext cx="152280" cy="914400"/>
          </a:xfrm>
          <a:custGeom>
            <a:avLst/>
            <a:gdLst>
              <a:gd name="textAreaLeft" fmla="*/ 0 w 152280"/>
              <a:gd name="textAreaRight" fmla="*/ 152640 w 152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340E-F142-4A58-A08D-188CFD9DA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Freeform 3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360 h 8564400"/>
                <a:gd name="textAreaBottom" fmla="*/ 8565120 h 8564400"/>
              </a:gdLst>
              <a:ahLst/>
              <a:rect l="textAreaLeft" t="textAreaTop" r="textAreaRight" b="textAreaBottom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Group 5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Freeform 6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>
                    <a:gd name="textAreaLeft" fmla="*/ 0 w 1123200"/>
                    <a:gd name="textAreaRight" fmla="*/ 1123560 w 1123200"/>
                    <a:gd name="textAreaTop" fmla="*/ 0 h 272520"/>
                    <a:gd name="textAreaBottom" fmla="*/ 272880 h 272520"/>
                  </a:gdLst>
                  <a:ahLst/>
                  <a:rect l="textAreaLeft" t="textAreaTop" r="textAreaRight" b="textAreaBottom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7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>
                    <a:gd name="textAreaLeft" fmla="*/ 0 w 1216800"/>
                    <a:gd name="textAreaRight" fmla="*/ 1217160 w 1216800"/>
                    <a:gd name="textAreaTop" fmla="*/ 0 h 348840"/>
                    <a:gd name="textAreaBottom" fmla="*/ 349200 h 348840"/>
                  </a:gdLst>
                  <a:ahLst/>
                  <a:rect l="textAreaLeft" t="textAreaTop" r="textAreaRight" b="textAreaBottom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" name="Freeform 8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>
                  <a:gd name="textAreaLeft" fmla="*/ 0 w 466560"/>
                  <a:gd name="textAreaRight" fmla="*/ 466920 w 46656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>
                  <a:gd name="textAreaLeft" fmla="*/ 0 w 81360"/>
                  <a:gd name="textAreaRight" fmla="*/ 81360 w 813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>
                  <a:gd name="textAreaLeft" fmla="*/ 0 w 419760"/>
                  <a:gd name="textAreaRight" fmla="*/ 420120 w 4197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B0D8-E275-4C64-AEF4-D87B4B7C8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35576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顾客类型及心理把握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73B2-2C84-4B23-919C-5F641A0ECF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5800" y="99036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实用型客户</a:t>
            </a:r>
            <a:r>
              <a:rPr b="1" lang="zh-CN" sz="4300" spc="-1" strike="noStrike">
                <a:solidFill>
                  <a:srgbClr val="00cc00"/>
                </a:solidFill>
                <a:latin typeface="Comic Sans MS"/>
                <a:ea typeface="文鼎弹簧体"/>
              </a:rPr>
              <a:t>心理分析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及处理办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咨询的客户分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有购买欲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直接成交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有新奇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有地位有权利的人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有了解欲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理智型的消费者（有消费实力的人）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无聊、无目的的消费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口碑、免费宣传者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1CAD-0455-4018-9EC0-5229630A6D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5800" y="99036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实用型客户</a:t>
            </a:r>
            <a:r>
              <a:rPr b="1" lang="zh-CN" sz="4300" spc="-1" strike="noStrike">
                <a:solidFill>
                  <a:srgbClr val="00cc00"/>
                </a:solidFill>
                <a:latin typeface="Comic Sans MS"/>
                <a:ea typeface="文鼎弹簧体"/>
              </a:rPr>
              <a:t>心理分析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及处理办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上门购买者类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随意勾起的兴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跟进可促进购买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受人之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探子或实权人物的助手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想了解（约见上门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能直接购买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结伴而来的客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其中一人能直接购买，必须使另一人站在我们一方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直接购买的客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留住信息，跟进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8744-E4AA-4207-A167-01D07A7FAB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5800" y="99036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处理客户对产品</a:t>
            </a:r>
            <a:r>
              <a:rPr b="1" lang="zh-CN" sz="4300" spc="-1" strike="noStrike">
                <a:solidFill>
                  <a:srgbClr val="892d5b"/>
                </a:solidFill>
                <a:latin typeface="Comic Sans MS"/>
                <a:ea typeface="文鼎弹簧体"/>
              </a:rPr>
              <a:t>反对意见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的方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是，但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在回答顾客异议时，一方面表示同意顾客的意见，另一方面又解释了顾客产生意见的原因及顾客看法的片面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170E-90DB-4697-8839-CAA94CCA7A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5800" y="99036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处理客户对产品</a:t>
            </a:r>
            <a:r>
              <a:rPr b="1" lang="zh-CN" sz="4300" spc="-1" strike="noStrike">
                <a:solidFill>
                  <a:srgbClr val="892d5b"/>
                </a:solidFill>
                <a:latin typeface="Comic Sans MS"/>
                <a:ea typeface="文鼎弹簧体"/>
              </a:rPr>
              <a:t>反对意见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的方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高视角，全方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顾客可能提出商品某个方面的缺点，信息处理员就要强调商品的突出优点，以弱化顾客提出的缺点。当顾客提出的异议基于事实根据时，可采用此方法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2F60-C77A-4549-B826-AA4857846F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5800" y="99036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处理客户对产品</a:t>
            </a:r>
            <a:r>
              <a:rPr b="1" lang="zh-CN" sz="4300" spc="-1" strike="noStrike">
                <a:solidFill>
                  <a:srgbClr val="892d5b"/>
                </a:solidFill>
                <a:latin typeface="Comic Sans MS"/>
                <a:ea typeface="文鼎弹簧体"/>
              </a:rPr>
              <a:t>反对意见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的方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问题引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有时可能通过向顾客提问题的方法引导顾客，让顾客自己排除疑虑，自己找出答案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6419-0558-4FE1-9316-CDF1E90D5C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5800" y="99036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处理客户对产品</a:t>
            </a:r>
            <a:r>
              <a:rPr b="1" lang="zh-CN" sz="4300" spc="-1" strike="noStrike">
                <a:solidFill>
                  <a:srgbClr val="892d5b"/>
                </a:solidFill>
                <a:latin typeface="Comic Sans MS"/>
                <a:ea typeface="文鼎弹簧体"/>
              </a:rPr>
              <a:t>反对意见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的方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展示流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这种方法就是通过揭示当今商品流行趋势，劝说顾客改变自己的观点，从而接受推荐。这种方法一般适用于年轻顾客的说服上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6B14-C313-4366-969D-5ECA8321D0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5800" y="99036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处理客户对产品</a:t>
            </a:r>
            <a:r>
              <a:rPr b="1" lang="zh-CN" sz="4300" spc="-1" strike="noStrike">
                <a:solidFill>
                  <a:srgbClr val="892d5b"/>
                </a:solidFill>
                <a:latin typeface="Comic Sans MS"/>
                <a:ea typeface="文鼎弹簧体"/>
              </a:rPr>
              <a:t>反对意见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的方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直接否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当顾客的异议来自不真实的信息和误解时，可以使用直接否定法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由于直接否定法直接驳斥顾客的意见，只有在必要时才能使用，而且采用此法说服顾客时，一定要注意语气要柔和、婉转，要让顾客觉得你是为了帮助他才反驳他，而绝不是有意要和他辩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4C7D-0B64-434F-862A-CB44637BDE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52120" y="457200"/>
            <a:ext cx="85964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应对方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慢性型（耐心选择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耐心倾听，具有自信地推介，协助选择最合适商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不要催促作决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C:\WINDOWS\Application Data\Microsoft\Media Catalog\Downloaded Clips\cl73\j0288994.wmf"/>
          <p:cNvPicPr/>
          <p:nvPr/>
        </p:nvPicPr>
        <p:blipFill>
          <a:blip r:embed="rId3"/>
          <a:stretch/>
        </p:blipFill>
        <p:spPr>
          <a:xfrm>
            <a:off x="6248520" y="4191120"/>
            <a:ext cx="12175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2375-D712-4CD5-8240-E6FE9853E5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52120" y="792000"/>
            <a:ext cx="85964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应对方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急性型（容易发脾气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注意语言和态度的亲切、温和、谦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注意动作机敏、不要让客户等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C:\WINDOWS\Application Data\Microsoft\Media Catalog\Downloaded Clips\cl73\j0288967.wmf"/>
          <p:cNvPicPr/>
          <p:nvPr/>
        </p:nvPicPr>
        <p:blipFill>
          <a:blip r:embed="rId3"/>
          <a:stretch/>
        </p:blipFill>
        <p:spPr>
          <a:xfrm>
            <a:off x="6019920" y="4343400"/>
            <a:ext cx="19857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0A88-AD49-41EC-B21B-B76D5A120D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52120" y="792000"/>
            <a:ext cx="85964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应对方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沉默型（不表露意见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从顾客的表情和动作察知其喜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通过具体的提问来诱导，协助选择商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C:\WINDOWS\Application Data\Microsoft\Media Catalog\Downloaded Clips\cl73\j0288976.wmf"/>
          <p:cNvPicPr/>
          <p:nvPr/>
        </p:nvPicPr>
        <p:blipFill>
          <a:blip r:embed="rId3"/>
          <a:stretch/>
        </p:blipFill>
        <p:spPr>
          <a:xfrm>
            <a:off x="4952880" y="4572000"/>
            <a:ext cx="26481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7C2D-C7FB-4CF7-8D69-F9FBDC83D3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9583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顾客的购物</a:t>
            </a:r>
            <a:r>
              <a:rPr b="1" lang="zh-CN" sz="4300" spc="-1" strike="noStrike">
                <a:solidFill>
                  <a:srgbClr val="ff0066"/>
                </a:solidFill>
                <a:latin typeface="Comic Sans MS"/>
                <a:ea typeface="文鼎弹簧体"/>
              </a:rPr>
              <a:t>目的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分类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探价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积极对待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购买特卖品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用好的情绪感染顾客，使他们成为长期客户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替人跑腿的客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不管顾客的身份如何，应该一致对待，养成购买习惯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带孩子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借助孩子搞好与顾客系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F566-3383-4DB2-A9DD-8672E190E4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52120" y="792000"/>
            <a:ext cx="85964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应对方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饶舌型（喜欢多说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不要打断说话，耐心地倾听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善于发现时机，将话题引导回商谈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C:\WINDOWS\Application Data\Microsoft\Media Catalog\Downloaded Clips\cl73\j0288974.wmf"/>
          <p:cNvPicPr/>
          <p:nvPr/>
        </p:nvPicPr>
        <p:blipFill>
          <a:blip r:embed="rId3"/>
          <a:stretch/>
        </p:blipFill>
        <p:spPr>
          <a:xfrm>
            <a:off x="5486400" y="4572000"/>
            <a:ext cx="25527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4AE1-C6B7-4347-A3F6-F20683A914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2120" y="792000"/>
            <a:ext cx="85964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应对方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博识型（知识丰富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要善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您知道得可真多呀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这类占赞美语言打招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发现其喜好进行相应推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C:\WINDOWS\Application Data\Microsoft\Media Catalog\Downloaded Clips\cl73\j0288995.wmf"/>
          <p:cNvPicPr/>
          <p:nvPr/>
        </p:nvPicPr>
        <p:blipFill>
          <a:blip r:embed="rId3"/>
          <a:stretch/>
        </p:blipFill>
        <p:spPr>
          <a:xfrm>
            <a:off x="6858000" y="2971800"/>
            <a:ext cx="2076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462B-DCFD-4567-8660-23AA16CE9D4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52120" y="792000"/>
            <a:ext cx="85964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应对方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权威型（自尊心很强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要特别注意态度和语气的谦逊和温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要在赞美顾客的携带物品等上面下功夫来进行商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C:\WINDOWS\Application Data\Microsoft\Media Catalog\Downloaded Clips\cl73\j0288998.wmf"/>
          <p:cNvPicPr/>
          <p:nvPr/>
        </p:nvPicPr>
        <p:blipFill>
          <a:blip r:embed="rId3"/>
          <a:stretch/>
        </p:blipFill>
        <p:spPr>
          <a:xfrm>
            <a:off x="6858000" y="4343400"/>
            <a:ext cx="723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1C16-B02C-4064-A094-26302FF9B1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2120" y="792000"/>
            <a:ext cx="85964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应对方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猜疑型（不容易信任人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通过提问来把握顾客的疑问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清楚地说明理由和根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C:\WINDOWS\Application Data\Microsoft\Media Catalog\Downloaded Clips\cl73\j0288992.wmf"/>
          <p:cNvPicPr/>
          <p:nvPr/>
        </p:nvPicPr>
        <p:blipFill>
          <a:blip r:embed="rId3"/>
          <a:stretch/>
        </p:blipFill>
        <p:spPr>
          <a:xfrm>
            <a:off x="6553080" y="3886200"/>
            <a:ext cx="15512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227E-8195-4113-A780-E1AB25C438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2120" y="792000"/>
            <a:ext cx="85964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应对方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优柔寡断型（欠缺决断力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商品说明要强调和比较有利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通过一种充分的理由，劝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这个很合适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，以协助决意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C:\WINDOWS\Application Data\Microsoft\Media Catalog\Downloaded Clips\cl73\j0288999.wmf"/>
          <p:cNvPicPr/>
          <p:nvPr/>
        </p:nvPicPr>
        <p:blipFill>
          <a:blip r:embed="rId3"/>
          <a:stretch/>
        </p:blipFill>
        <p:spPr>
          <a:xfrm>
            <a:off x="5867280" y="4495680"/>
            <a:ext cx="21322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8DB-EB87-4BC7-8628-350A8C74FA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52120" y="792000"/>
            <a:ext cx="85964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应对方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懦弱型（易受影响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用宁静沉着的态度接近顾客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推介要让顾客感到适合自己想法，同时也要使他感到自信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C:\WINDOWS\Application Data\Microsoft\Media Catalog\Downloaded Clips\cl73\j0288990.wmf"/>
          <p:cNvPicPr/>
          <p:nvPr/>
        </p:nvPicPr>
        <p:blipFill>
          <a:blip r:embed="rId3"/>
          <a:stretch/>
        </p:blipFill>
        <p:spPr>
          <a:xfrm>
            <a:off x="5638680" y="4648320"/>
            <a:ext cx="239400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6E1E-B87B-4195-A75A-F79F3E6337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52120" y="792000"/>
            <a:ext cx="859644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应对方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主见型（自己拿主意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尊重顾客的心情和意见来推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如果顾客请求参考意见，要有自信地推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C:\WINDOWS\Application Data\Microsoft\Media Catalog\Downloaded Clips\cl73\j0288986.wmf"/>
          <p:cNvPicPr/>
          <p:nvPr/>
        </p:nvPicPr>
        <p:blipFill>
          <a:blip r:embed="rId3"/>
          <a:stretch/>
        </p:blipFill>
        <p:spPr>
          <a:xfrm>
            <a:off x="6248520" y="4309920"/>
            <a:ext cx="162864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B23E-625C-4BD2-8354-0DFCDA29A4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52120" y="457200"/>
            <a:ext cx="85964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应对方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理论型（重视理论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说明要做到条例清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要做到要点简介，根据明确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C:\WINDOWS\Application Data\Microsoft\Media Catalog\Downloaded Clips\cl73\j0289002.wmf"/>
          <p:cNvPicPr/>
          <p:nvPr/>
        </p:nvPicPr>
        <p:blipFill>
          <a:blip r:embed="rId3"/>
          <a:stretch/>
        </p:blipFill>
        <p:spPr>
          <a:xfrm>
            <a:off x="6248520" y="4419720"/>
            <a:ext cx="16905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9DAA-4E91-4A14-902B-5BF7C1CF05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52120" y="457200"/>
            <a:ext cx="85964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针对个性不同的顾客的区别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应对方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冷讽型（喜欢讽刺的顾客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用沉着冷静的心情应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您真会开玩笑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来演化掉热嘲冷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C:\WINDOWS\Application Data\Microsoft\Media Catalog\Downloaded Clips\cl73\j0288979.wmf"/>
          <p:cNvPicPr/>
          <p:nvPr/>
        </p:nvPicPr>
        <p:blipFill>
          <a:blip r:embed="rId3"/>
          <a:stretch/>
        </p:blipFill>
        <p:spPr>
          <a:xfrm>
            <a:off x="5029200" y="4419720"/>
            <a:ext cx="27766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1322-51A9-4380-8534-58FAD01F6D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服务用语的基本原则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不夸大其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决不能对顾客无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不使用粗俗语言和方言土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D:\mumu\my pic\CLIPART\CDBONUS\SINGINGC.WMF"/>
          <p:cNvPicPr/>
          <p:nvPr/>
        </p:nvPicPr>
        <p:blipFill>
          <a:blip r:embed="rId4"/>
          <a:stretch/>
        </p:blipFill>
        <p:spPr>
          <a:xfrm>
            <a:off x="6248520" y="2133720"/>
            <a:ext cx="2359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0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504C-F1EB-4F8C-93E3-08BE9207D1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9583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顾客的购物</a:t>
            </a:r>
            <a:r>
              <a:rPr b="1" lang="zh-CN" sz="4300" spc="-1" strike="noStrike">
                <a:solidFill>
                  <a:srgbClr val="ff0066"/>
                </a:solidFill>
                <a:latin typeface="Comic Sans MS"/>
                <a:ea typeface="文鼎弹簧体"/>
              </a:rPr>
              <a:t>目的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分类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杀价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“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是，但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法，实行言不二价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退货、换货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真正满足是维系客户的纽带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结伴同行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设法使不购买的顾客站在我们一方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喜欢赠品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纪念品有趣味，市面少见，有收藏价值和使用价值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1F3C-8A91-4199-95E1-0A4272EB42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100440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服务技巧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微笑服务的魅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对服务行业来说，至关重要的是微笑服务。美国的一家百货商店的人事经理曾经说过，她宁愿雇用一个没上完小学但却拥有愉快笑容的女孩子，也不愿雇佣一个神情忧郁的哲学博士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4E20-6B06-4E8A-88FD-FB25A0D73F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5800" y="100440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怎样给顾客提供一流的微笑服务？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要有发自内心的微笑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要排除烦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要与顾客有感情上的沟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4" descr="D:\mumu\my pic\Downloaded Clips\cl1\PE03868_.wmf"/>
          <p:cNvPicPr/>
          <p:nvPr/>
        </p:nvPicPr>
        <p:blipFill>
          <a:blip r:embed="rId4"/>
          <a:stretch/>
        </p:blipFill>
        <p:spPr>
          <a:xfrm>
            <a:off x="6400800" y="3581280"/>
            <a:ext cx="23763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5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C25C-7BD4-4AF7-9D65-8C4F4C5C11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  <a:ea typeface="文鼎圆立体"/>
              </a:rPr>
              <a:t>知己知彼，百战不殆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4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3048120" y="213372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CD6F-F59D-45D6-B7D4-62C3573E03A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9583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顾客的购物</a:t>
            </a:r>
            <a:r>
              <a:rPr b="1" lang="zh-CN" sz="4300" spc="-1" strike="noStrike">
                <a:solidFill>
                  <a:srgbClr val="c6cb65"/>
                </a:solidFill>
                <a:latin typeface="Comic Sans MS"/>
                <a:ea typeface="文鼎弹簧体"/>
              </a:rPr>
              <a:t>性格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分类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见多识广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用优于他们的商业知识以正确、易懂、有感情的谈吐向他们解说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慕名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“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爱得深，恨得也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，一定不能使顾客对我们的服务绝望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未成年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不是我们的现行客户，但优质的服务会培养我们的顾客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6985-A4D7-4DE3-9836-ED6111CC17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9583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顾客的购物</a:t>
            </a:r>
            <a:r>
              <a:rPr b="1" lang="zh-CN" sz="4300" spc="-1" strike="noStrike">
                <a:solidFill>
                  <a:srgbClr val="c6cb65"/>
                </a:solidFill>
                <a:latin typeface="Comic Sans MS"/>
                <a:ea typeface="文鼎弹簧体"/>
              </a:rPr>
              <a:t>性格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分类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亲昵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熟客得罪不得，口碑效应的发源地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犹豫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有选择的缩小顾客选择物品的范围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商量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做出合理的推荐，适当地提出建议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慎重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慎重的顾客是大客户，要理智，不可太热心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D4F9-6628-4BF5-9CAD-6D11705094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9583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顾客的购物</a:t>
            </a:r>
            <a:r>
              <a:rPr b="1" lang="zh-CN" sz="4300" spc="-1" strike="noStrike">
                <a:solidFill>
                  <a:srgbClr val="c6cb65"/>
                </a:solidFill>
                <a:latin typeface="Comic Sans MS"/>
                <a:ea typeface="文鼎弹簧体"/>
              </a:rPr>
              <a:t>性格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分类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沉默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顾客没有初步决定之前，不可贸然前往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聊天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聊天</a:t>
            </a:r>
            <a:r>
              <a:rPr b="0" lang="en-US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变成听众</a:t>
            </a:r>
            <a:r>
              <a:rPr b="0" lang="en-US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介绍和使用产品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爽快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小心维护，维系长久关系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好讲道理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有自信的话题，不能对不明白的话题做出解答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6585-2C3A-4486-B8B0-15BFE1647E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9583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顾客的购物</a:t>
            </a:r>
            <a:r>
              <a:rPr b="1" lang="zh-CN" sz="4300" spc="-1" strike="noStrike">
                <a:solidFill>
                  <a:srgbClr val="c6cb65"/>
                </a:solidFill>
                <a:latin typeface="Comic Sans MS"/>
                <a:ea typeface="文鼎弹簧体"/>
              </a:rPr>
              <a:t>性格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分类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爽朗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爽快地给足这类客户面子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谦虚型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不论消费金额多少，都一律视为上宾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腼腆型的顾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避免目光的直视，多介绍产品的功能和优点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科健信息科技有限公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B54C-F3E7-4AAC-98B1-7F66B42633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5800" y="100440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ff"/>
                </a:solidFill>
                <a:latin typeface="Comic Sans MS"/>
                <a:ea typeface="文鼎弹簧体"/>
              </a:rPr>
              <a:t>杀价型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顾客的形式和对付方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温柔一刀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委屈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没有办法了，只好选这个了，能给我便宜一些吗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动之以情，赠送小礼品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当头棒喝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怎样，你打算打几折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是，但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施恩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我特地跑那么远来，难道不能便宜一吗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赠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笑里藏刀型：不降价没关系，大不了不买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立场不动摇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A62-BD10-4E97-A90C-B9090C6ADB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5800" y="1004400"/>
            <a:ext cx="85964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ff"/>
                </a:solidFill>
                <a:latin typeface="Comic Sans MS"/>
                <a:ea typeface="文鼎弹簧体"/>
              </a:rPr>
              <a:t>杀价型</a:t>
            </a:r>
            <a:r>
              <a:rPr b="1" lang="zh-CN" sz="4300" spc="-1" strike="noStrike">
                <a:solidFill>
                  <a:srgbClr val="000000"/>
                </a:solidFill>
                <a:latin typeface="Comic Sans MS"/>
                <a:ea typeface="文鼎弹簧体"/>
              </a:rPr>
              <a:t>顾客的形式和对付方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软硬兼施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我其他商店都没去，就冲你们商店来应该少算一些吧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是，但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理智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这东西的成本我非常了解，没有理由卖这个价格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产品的价格和附加价值的理解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倚老卖老型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我做生意那么长时了。我清楚这里的利润有多少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水柱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方正水柱简体"/>
              </a:rPr>
              <a:t>动之以理，生意场上的利润分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09:36:39Z</dcterms:created>
  <dc:creator>max</dc:creator>
  <dc:description/>
  <dc:language>en-US</dc:language>
  <cp:lastModifiedBy>Administrator</cp:lastModifiedBy>
  <dcterms:modified xsi:type="dcterms:W3CDTF">2015-09-10T07:40:07Z</dcterms:modified>
  <cp:revision>22</cp:revision>
  <dc:subject/>
  <dc:title>顾客类型及心理把握</dc:title>
</cp:coreProperties>
</file>