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A01-BCB0-4768-B840-01D13D12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EC7-3168-4E13-BEB7-800D5E2C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0A7-6B1A-460C-B8F6-48EB11FE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C56-01F3-43FA-850E-ACE20130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C7C-7747-400E-A736-A5FD12D5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537-9FBD-4549-BB3E-94AF0AB5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210A-69D2-4DF2-8EED-0C892F10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EF70-2641-4B9C-B3E9-ABC9876C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825-F739-4B8C-AC5D-968B0C23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012-116D-4018-80E2-14640A23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9A6A-85C1-476E-8A57-8A26DDD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B4E-7E15-41A3-8AF4-F9F8E9DF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5FD-0A71-42F2-8B87-6F137B9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9057-9C15-4033-915A-D5AA456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23AF-F5CA-4143-8682-26DC0079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931-E071-4D59-B4A0-15C9590B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1D5F-08AB-444D-A55D-0D3377B0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3D319-71D9-4B1F-95D8-5C50B0BACD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8544E-51E7-4EA4-A66D-313FF621D6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52391-71CD-4770-8B48-8F33BA38FB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B05ED-6B47-41A2-B71B-6BD1808E82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D1EFA-376B-4788-95E7-23C0F2DF2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62A-47FD-440A-B2B9-3A24402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DBD2F-C541-433D-8C14-8BAABE03DE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C918A-49E9-4C4A-AC43-4A2326FF27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B509E-1986-47AF-8C8E-C8F5663903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7A24D-01AB-405E-A6E1-BB8487C070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822E7-2244-47CD-986F-B55DBBA5E2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A4342-0934-430C-90BB-6ECA35560B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F4769-5129-49AD-8D98-B16160252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80F-9229-445B-AB41-A81E280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5E5-15B0-48C3-B373-71D2E00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1A2-B30F-4946-AF3E-AB59F816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B7F-8156-4521-BE24-E56BAF5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0B4-7A59-4929-A5EB-AE9EF6E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CB1-A5E5-4C05-B71D-74058DD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E6D6-3CCF-455A-ADA2-897741510D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951F-B0DB-4E0D-9A95-076C4517D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FBC-EDC8-493B-A2CC-F9C0C6CCC2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0A23-52D9-447D-8DD8-850A176483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6784-09FD-4855-A72C-670DBD1DF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280" y="4068720"/>
            <a:ext cx="53247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4c5f"/>
                </a:solidFill>
                <a:latin typeface="幼圆"/>
                <a:ea typeface="幼圆"/>
              </a:rPr>
              <a:t>最美不外乎六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131640" y="4933440"/>
            <a:ext cx="532476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aa31"/>
                </a:solidFill>
                <a:latin typeface="幼圆"/>
                <a:ea typeface="幼圆"/>
              </a:rPr>
              <a:t>——</a:t>
            </a:r>
            <a:r>
              <a:rPr b="0" lang="zh-CN" sz="2800" spc="-1" strike="noStrike">
                <a:solidFill>
                  <a:srgbClr val="f3aa31"/>
                </a:solidFill>
                <a:latin typeface="幼圆"/>
                <a:ea typeface="幼圆"/>
              </a:rPr>
              <a:t>将童年定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 rot="21240000">
            <a:off x="4128480" y="823320"/>
            <a:ext cx="47797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Curlz MT"/>
                <a:ea typeface="宋体"/>
              </a:rPr>
              <a:t>Happy</a:t>
            </a:r>
            <a:r>
              <a:rPr b="1" lang="zh-CN" sz="6000" spc="-1" strike="noStrike">
                <a:solidFill>
                  <a:srgbClr val="ffffff"/>
                </a:solidFill>
                <a:latin typeface="BrockScript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ppendix3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Curlz MT"/>
                <a:ea typeface="宋体"/>
              </a:rPr>
              <a:t>      </a:t>
            </a:r>
            <a:r>
              <a:rPr b="0" lang="zh-CN" sz="4400" spc="-1" strike="noStrike">
                <a:solidFill>
                  <a:srgbClr val="ff9933"/>
                </a:solidFill>
                <a:latin typeface="Curlz MT"/>
                <a:ea typeface="宋体"/>
              </a:rPr>
              <a:t>Children`s</a:t>
            </a:r>
            <a:r>
              <a:rPr b="1" lang="zh-CN" sz="3200" spc="-1" strike="noStrike">
                <a:solidFill>
                  <a:srgbClr val="ff9933"/>
                </a:solidFill>
                <a:latin typeface="Appendix3"/>
                <a:ea typeface="宋体"/>
              </a:rPr>
              <a:t>  </a:t>
            </a:r>
            <a:r>
              <a:rPr b="1" lang="zh-CN" sz="6600" spc="-1" strike="noStrike">
                <a:solidFill>
                  <a:srgbClr val="99cc00"/>
                </a:solidFill>
                <a:latin typeface="Curlz MT"/>
                <a:ea typeface="宋体"/>
              </a:rPr>
              <a:t>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Kids (3)"/>
          <p:cNvPicPr/>
          <p:nvPr/>
        </p:nvPicPr>
        <p:blipFill>
          <a:blip r:embed="rId10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2009880" y="258120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541520" y="1589040"/>
            <a:ext cx="936720" cy="865080"/>
          </a:xfrm>
          <a:prstGeom prst="hexagon">
            <a:avLst>
              <a:gd name="adj" fmla="val 27070"/>
              <a:gd name="vf" fmla="val 115470"/>
            </a:avLst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幼圆"/>
                <a:ea typeface="幼圆"/>
              </a:rPr>
              <a:t>儿童版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355840" y="46980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Eras Medium ITC"/>
                <a:ea typeface="宋体"/>
              </a:rPr>
              <a:t>Children`s </a:t>
            </a:r>
            <a:r>
              <a:rPr b="1" lang="zh-CN" sz="1800" spc="-1" strike="noStrike">
                <a:solidFill>
                  <a:srgbClr val="99cc00"/>
                </a:solidFill>
                <a:latin typeface="Eras Medium ITC"/>
                <a:ea typeface="宋体"/>
              </a:rPr>
              <a:t>Day</a:t>
            </a:r>
            <a:r>
              <a:rPr b="1" lang="zh-CN" sz="1800" spc="-1" strike="noStrike">
                <a:solidFill>
                  <a:srgbClr val="0099cc"/>
                </a:solidFill>
                <a:latin typeface="Eras Medium ITC"/>
                <a:ea typeface="宋体"/>
              </a:rPr>
              <a:t>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6480" y="118728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1"/>
          <p:cNvPicPr/>
          <p:nvPr/>
        </p:nvPicPr>
        <p:blipFill>
          <a:blip r:embed="rId1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1"/>
          <p:cNvPicPr/>
          <p:nvPr/>
        </p:nvPicPr>
        <p:blipFill>
          <a:blip r:embed="rId2"/>
          <a:stretch/>
        </p:blipFill>
        <p:spPr>
          <a:xfrm>
            <a:off x="1679400" y="1666800"/>
            <a:ext cx="676440" cy="71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2"/>
          <p:cNvPicPr/>
          <p:nvPr/>
        </p:nvPicPr>
        <p:blipFill>
          <a:blip r:embed="rId3"/>
          <a:stretch/>
        </p:blipFill>
        <p:spPr>
          <a:xfrm>
            <a:off x="2133720" y="2725560"/>
            <a:ext cx="717480" cy="546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1"/>
          <p:cNvSpPr/>
          <p:nvPr/>
        </p:nvSpPr>
        <p:spPr>
          <a:xfrm>
            <a:off x="2484360" y="3571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33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3"/>
          <p:cNvPicPr/>
          <p:nvPr/>
        </p:nvPicPr>
        <p:blipFill>
          <a:blip r:embed="rId4"/>
          <a:stretch/>
        </p:blipFill>
        <p:spPr>
          <a:xfrm>
            <a:off x="2749680" y="3659040"/>
            <a:ext cx="444240" cy="746280"/>
          </a:xfrm>
          <a:prstGeom prst="rect">
            <a:avLst/>
          </a:prstGeom>
          <a:ln w="0">
            <a:noFill/>
          </a:ln>
        </p:spPr>
      </p:pic>
      <p:sp>
        <p:nvSpPr>
          <p:cNvPr id="141" name="Line 13"/>
          <p:cNvSpPr/>
          <p:nvPr/>
        </p:nvSpPr>
        <p:spPr>
          <a:xfrm>
            <a:off x="2484360" y="2031840"/>
            <a:ext cx="709560" cy="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3193920" y="1893960"/>
            <a:ext cx="3467160" cy="2887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8432"/>
                </a:solidFill>
                <a:latin typeface="幼圆"/>
                <a:ea typeface="幼圆"/>
              </a:rPr>
              <a:t>儿童节的由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952720" y="3016080"/>
            <a:ext cx="708120" cy="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3668760" y="28782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cd532"/>
                </a:solidFill>
                <a:latin typeface="幼圆"/>
                <a:ea typeface="幼圆"/>
              </a:rPr>
              <a:t>儿童节各国的习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400560" y="4010040"/>
            <a:ext cx="709560" cy="1440"/>
          </a:xfrm>
          <a:prstGeom prst="line">
            <a:avLst/>
          </a:prstGeom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4124160" y="38736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acfe"/>
                </a:solidFill>
                <a:latin typeface="幼圆"/>
                <a:ea typeface="幼圆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4c5f"/>
                </a:solidFill>
                <a:latin typeface="幼圆"/>
                <a:ea typeface="幼圆"/>
              </a:rPr>
              <a:t>儿童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757575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国际儿童节（又称儿童节，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International Children's Day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）定于每年的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1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日。为了悼念利迪策惨案和全世界所有在战争中死难的儿童，反对虐杀和毒害儿童，以及保障儿童权利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757575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1949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年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11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月，国际民主妇女联合会在莫斯科举行理事会议，中国和各国代表愤怒地揭露了帝国主义分子和各国反动派残杀、毒害儿童的罪行。会议决定以每年的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1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日为国际儿童节。它是为了保障世界各国儿童的生存权、保健权和受教育权，抚养权，为了改善儿童的生活，为了反对虐杀儿童和毒害儿童而设立的节日。目前世界上许多国家都将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1</a:t>
            </a:r>
            <a:r>
              <a:rPr b="0" lang="zh-CN" sz="1600" spc="-1" strike="noStrike">
                <a:solidFill>
                  <a:srgbClr val="757575"/>
                </a:solidFill>
                <a:latin typeface="幼圆"/>
                <a:ea typeface="幼圆"/>
              </a:rPr>
              <a:t>日定为儿童的节日</a:t>
            </a:r>
            <a:r>
              <a:rPr b="0" lang="zh-CN" sz="1800" spc="-1" strike="noStrike">
                <a:solidFill>
                  <a:srgbClr val="757575"/>
                </a:solidFill>
                <a:latin typeface="幼圆"/>
                <a:ea typeface="幼圆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4c5f"/>
                </a:solidFill>
                <a:latin typeface="幼圆"/>
                <a:ea typeface="幼圆"/>
              </a:rPr>
              <a:t>儿童节各国的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26960"/>
            <a:ext cx="82296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5a59a6"/>
              </a:buClr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a59a6"/>
                </a:solidFill>
                <a:latin typeface="幼圆"/>
                <a:ea typeface="幼圆"/>
              </a:rPr>
              <a:t>日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3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3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a0592f"/>
              </a:buClr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0592f"/>
                </a:solidFill>
                <a:latin typeface="幼圆"/>
                <a:ea typeface="幼圆"/>
              </a:rPr>
              <a:t>韩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韩国的儿童节于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1923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年，从“男孩节”演变过来的。也是韩国的公众假日，每年的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5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5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4c5f"/>
                </a:solidFill>
                <a:latin typeface="幼圆"/>
                <a:ea typeface="幼圆"/>
              </a:rPr>
              <a:t>儿童节各国的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26960"/>
            <a:ext cx="82296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1ce1c"/>
              </a:buClr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4d11d"/>
                </a:solidFill>
                <a:latin typeface="幼圆"/>
                <a:ea typeface="幼圆"/>
              </a:rPr>
              <a:t>哥伦比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哥伦比亚将每年的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7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4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8c2f4"/>
              </a:buClr>
              <a:buFont typeface="Wingdings 2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8c2f4"/>
                </a:solidFill>
                <a:latin typeface="幼圆"/>
                <a:ea typeface="幼圆"/>
              </a:rPr>
              <a:t>巴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巴西的儿童节在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8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15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日，这一天正好也是巴西的“全国防疫日”。所以，每到这个日子，各地的医生们都要为孩子们看病，还要给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5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岁以下的儿童注射预防小儿麻痹症的疫苗，表明政府十分关心儿童的健康。另外，巴西的“圣母显灵日”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10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月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日也往往作为儿童节，有一些庆祝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dminh</cp:lastModifiedBy>
  <dcterms:modified xsi:type="dcterms:W3CDTF">2015-05-27T02:36:58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  <property fmtid="{D5CDD505-2E9C-101B-9397-08002B2CF9AE}" pid="3" name="fileid">
    <vt:lpwstr>565846</vt:lpwstr>
  </property>
  <property fmtid="{D5CDD505-2E9C-101B-9397-08002B2CF9AE}" pid="4" name="name">
    <vt:lpwstr>A000520150525A20KOFW.ppt</vt:lpwstr>
  </property>
</Properties>
</file>