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B93-BA4F-4A25-B8E6-C2F0E9B6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152-ABBB-47FA-8D9B-57DBD185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0A5-829A-4E80-979F-B24CB971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278-6681-4720-ACB9-163B54E2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10D-2F47-4021-8A7E-8E0390A1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1A1-AC0E-433C-8FD6-7342BB8D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E58-ECA1-4099-BBC4-1930D92B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55D-B275-4B9D-A253-372CE95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B95-B239-4DCC-8C21-1372E309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D23-CF25-4243-BDD0-9F93264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3D9-3086-4555-A1E7-F396970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ED0-4AAA-48A3-BB5A-8841E5C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B280-462C-4D23-AE7A-292E53DC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aike.baidu.com/view/115789.htm" TargetMode="External"/><Relationship Id="rId3" Type="http://schemas.openxmlformats.org/officeDocument/2006/relationships/hyperlink" Target="http://baike.baidu.com/view/1044.htm" TargetMode="External"/><Relationship Id="rId4" Type="http://schemas.openxmlformats.org/officeDocument/2006/relationships/hyperlink" Target="http://baike.baidu.com/view/181899.htm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698060.htm" TargetMode="External"/><Relationship Id="rId2" Type="http://schemas.openxmlformats.org/officeDocument/2006/relationships/hyperlink" Target="http://baike.baidu.com/view/42994.htm" TargetMode="External"/><Relationship Id="rId3" Type="http://schemas.openxmlformats.org/officeDocument/2006/relationships/hyperlink" Target="http://baike.baidu.com/view/96341.htm" TargetMode="External"/><Relationship Id="rId4" Type="http://schemas.openxmlformats.org/officeDocument/2006/relationships/hyperlink" Target="http://baike.baidu.com/view/22280.htm" TargetMode="External"/><Relationship Id="rId5" Type="http://schemas.openxmlformats.org/officeDocument/2006/relationships/hyperlink" Target="http://baike.baidu.com/view/77761.htm" TargetMode="External"/><Relationship Id="rId6" Type="http://schemas.openxmlformats.org/officeDocument/2006/relationships/hyperlink" Target="http://baike.baidu.com/view/440285.htm" TargetMode="External"/><Relationship Id="rId7" Type="http://schemas.openxmlformats.org/officeDocument/2006/relationships/hyperlink" Target="http://baike.baidu.com/view/425383.htm" TargetMode="External"/><Relationship Id="rId8" Type="http://schemas.openxmlformats.org/officeDocument/2006/relationships/hyperlink" Target="http://baike.baidu.com/view/1242219.htm" TargetMode="External"/><Relationship Id="rId9" Type="http://schemas.openxmlformats.org/officeDocument/2006/relationships/hyperlink" Target="http://baike.baidu.com/view/246991.htm" TargetMode="External"/><Relationship Id="rId10" Type="http://schemas.openxmlformats.org/officeDocument/2006/relationships/hyperlink" Target="http://baike.baidu.com/view/46879.htm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0360" y="549360"/>
            <a:ext cx="53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国庆旅游计划：杭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859280" y="0"/>
            <a:ext cx="4284720" cy="6858000"/>
            <a:chOff x="4859280" y="0"/>
            <a:chExt cx="428472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0" t="13883" r="0" b="13883"/>
            <a:stretch/>
          </p:blipFill>
          <p:spPr>
            <a:xfrm>
              <a:off x="4859280" y="0"/>
              <a:ext cx="428472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859280" y="4581360"/>
              <a:ext cx="4284720" cy="22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4859280" y="2276640"/>
              <a:ext cx="4284720" cy="23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82692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杭州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0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杭州旅游资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06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计划杭州游览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40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国庆期间杭州天气情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484280"/>
            <a:ext cx="71280" cy="2881440"/>
          </a:xfrm>
          <a:custGeom>
            <a:avLst/>
            <a:gdLst>
              <a:gd name="textAreaLeft" fmla="*/ 45720 w 71280"/>
              <a:gd name="textAreaRight" fmla="*/ 71640 w 7128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4000" y="333360"/>
            <a:ext cx="2333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杭州介绍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665440"/>
            <a:ext cx="3241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cc"/>
                </a:solidFill>
                <a:latin typeface="Arial"/>
                <a:ea typeface="仿宋_GB2312"/>
              </a:rPr>
              <a:t>杭州位于中国东南沿海北部，是浙江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2"/>
              </a:rPr>
              <a:t>省会</a:t>
            </a:r>
            <a:r>
              <a:rPr b="1" lang="zh-CN" sz="2000" spc="-1" strike="noStrike">
                <a:solidFill>
                  <a:srgbClr val="9900cc"/>
                </a:solidFill>
                <a:latin typeface="Arial"/>
                <a:ea typeface="仿宋_GB2312"/>
              </a:rPr>
              <a:t>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3"/>
              </a:rPr>
              <a:t>副省级城市</a:t>
            </a:r>
            <a:r>
              <a:rPr b="1" lang="zh-CN" sz="2000" spc="-1" strike="noStrike">
                <a:solidFill>
                  <a:srgbClr val="9900cc"/>
                </a:solidFill>
                <a:latin typeface="Arial"/>
                <a:ea typeface="仿宋_GB2312"/>
              </a:rPr>
              <a:t>，也是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/>
              </a:rPr>
              <a:t>长三角</a:t>
            </a:r>
            <a:r>
              <a:rPr b="1" lang="zh-CN" sz="2000" spc="-1" strike="noStrike">
                <a:solidFill>
                  <a:srgbClr val="9900cc"/>
                </a:solidFill>
                <a:latin typeface="Arial"/>
                <a:ea typeface="仿宋_GB2312"/>
              </a:rPr>
              <a:t>第二大经济城市，南翼经济、金融、物流、文化中心。浙江省政治、经济、文化中心，中国东南重要交通枢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51280" y="3213000"/>
            <a:ext cx="5003640" cy="343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788000" y="333360"/>
            <a:ext cx="3384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524400"/>
            <a:ext cx="7993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杭州拥有两个国家级风景名胜区—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西湖风景名胜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“两江一湖”（富春江—新安江—千岛湖）风景名胜区；两个国家级自然保护区—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天目山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清凉峰自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雷锋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保护区；六个国家森林公园—千岛湖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大奇山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午潮山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4"/>
              </a:rPr>
              <a:t>富春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5"/>
              </a:rPr>
              <a:t>青山湖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和瑶琳森林公园；一个国家级旅游度假区—之江国家旅游度假区；全国首个国家级湿地—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6"/>
              </a:rPr>
              <a:t>西溪国家湿地公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杭州还有全国重点文物保护单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、国家级博物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。全市拥有年接待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万人次以上的各类旅游景区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7"/>
              </a:rPr>
              <a:t>景点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余处。目前杭州正在以“三江四湖一山一河一溪三址”为重点发展观光游，以把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8"/>
              </a:rPr>
              <a:t>西博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打造成世界级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9"/>
              </a:rPr>
              <a:t>会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品牌为目标发展会展游，以举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0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10"/>
              </a:rPr>
              <a:t>世界休闲博览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契机发展休闲游，形成观光游、会展游、休闲游“三位一体”的新格局，合力打响“游在杭州”品牌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333360"/>
            <a:ext cx="2333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杭州旅游资源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1"/>
          <a:srcRect l="0" t="8900" r="0" b="15739"/>
          <a:stretch/>
        </p:blipFill>
        <p:spPr>
          <a:xfrm>
            <a:off x="4067280" y="189000"/>
            <a:ext cx="3816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260280"/>
            <a:ext cx="24476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计划杭州游览地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48085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苏堤春晓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位于西湖西侧，南北两端衔接南山路和北山路，全长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8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里。它是北宋诗人苏东坡于北宋元佑四年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元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89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任杭州知州时，疏浚西湖，用湖中的淤泥堆筑而成的。堤上有六座石拱桥，自南而北分别是央波桥、锁澜桥、望山桥、压堤桥、东浦桥、跨虹桥。苏堤是为纪念苏东坡而命名的，又名苏公堤，堤的南端建有“苏东坡纪念馆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曲院风荷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南宋时称“曲院荷风”。“曲院”原是指一家酿制官酒的作坊，在今天的九里松东、洪春桥一带。当时，金沙涧水在此流入西湖，曲院取金沙涧水酿酒，并在湖中种植荷花。花开时节，清香四溢，风景优美，令人陶醉。随着岁月流逝，旧址无人查考。到了清康熙年间，为迎皇帝巡游，特地在苏堤跨虹桥畔的岳湖里引种荷花。康熙书名立碑，改“曲院”为“曲院”，正“荷风”为“风荷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6168"/>
          <a:stretch/>
        </p:blipFill>
        <p:spPr>
          <a:xfrm>
            <a:off x="5508720" y="333360"/>
            <a:ext cx="3240000" cy="259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655640" cy="1398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843280" y="1268280"/>
            <a:ext cx="244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西湖。。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23680"/>
            <a:ext cx="6696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平湖秋月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位于白堤西端，成为白堤的起点。其三面临水，背倚孤山。唐代在这里建有望湖亭，明代改建为龙王祠。至清康熙三十八年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元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699)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改建为御书楼，并在楼前筑起三面临湖的低平月台，平台向南伸出水面，视线低平，视野广阔，成了临湖赏月有好地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断桥残雪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断桥位于白堤东端，一说起自平湖秋月的白堤至此而断，故称断桥。宋代叫宝佑桥。元代因桥畔住着一对以酿酒为生的段姓夫妇，故又称为段家桥。现在的断桥为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14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改建，桥东有“云水光中”水榭和“断桥残雪”碑亭。神话故事《白蛇传》中，把断桥作为白素贞与许仙相会的地方，更给断桥增添了神秘浪漫色彩。 断桥残雪是西湖难得的景观。“西湖这胜，晴湖不如雨湖，雨湖不如月湖，月湖不如雪湖”。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657"/>
          <a:stretch/>
        </p:blipFill>
        <p:spPr>
          <a:xfrm>
            <a:off x="250920" y="4005360"/>
            <a:ext cx="4066920" cy="263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879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87136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花港观鱼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位于苏堤南端，北倚西山，它是西湖风景区内规模最大的一级公园。其来历据志书记载，从前在西山大麦岭后的花家山麓，有一条清澈的小溪流经此处注入西湖，因名“花港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南屏晚钟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位于西湖西南南屏山下的净慈寺内。净慈寺初建时就设钟楼一座。明代洪武十一年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元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78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嫌旧钟太小，重铸一口重达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吨的巨钟，因钟声洪亮，再加上寺后南屏山多空穴，所以晚钟敲响，钟声更是穿穴回荡，传播山谷，远飘大半个杭城，故有“南屏晚钟”景致。自宋代至清代，净慈寺时有兴废，原来的钟也被废了。现青铜大梵钟是在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86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由杭州制氧机厂铸造的，重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余吨、高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，钟上铸有赵朴初等人书写的《妙法莲华经》文，计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8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余字。日本曹洞宗佛教徒在每年的除夕之夜都要来净慈寺撞钟，辞旧迎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773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443640" y="4797360"/>
            <a:ext cx="225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06028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双峰插云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观赏点位于灵隐路上的洪帮桥边，“双峰插云”御碑亭所在之处。立足订前沿正南和正西方向远眺，可以望见南高峰和北高峰，两峰遥相对峙，相距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余里。其实南高峰海拔仅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4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，北高峰海拔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14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，只因湖西近处群山低缓处得“高峰”之名。 双峰插云景名由来，据前人考察认为，每当山雨欲来之时，远眺双峰，云山雾海，双峰的峰尖若隐若现插入云端，但见：云海浩茫茫，峰尖隐隐现。“双峰插云”便由此得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雷峰夕照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为西湖十景中重建的景点。地处西湖南岸南屏山支脉的夕照山上，旧有一座八面五层的砖塔，系公元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75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吴越王钱弘亻叔为庆贺妃子黄氏得子而建，俗称黄妃塔。因塔在西关外，也叫西关砖塔。后人又因塔在名为雷峰的小山上，改称“雷峰塔”。夕阳西照时，塔影横空，金碧辉煌，“雷峰夕照”由此得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5490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柳浪闻莺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位于西湖东南岸，南山路涌金门至清坡门滨湖地带。南宋时是宋孝宗为奉养宋高宗而建的京城最大御花园</a:t>
            </a: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聚景园。春日，黄莺在柳荫啼呜，“柳浪闻莺”就此得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924360" y="260280"/>
            <a:ext cx="4897440" cy="4392720"/>
            <a:chOff x="3924360" y="260280"/>
            <a:chExt cx="4897440" cy="43927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0" t="0" r="0" b="10649"/>
            <a:stretch/>
          </p:blipFill>
          <p:spPr>
            <a:xfrm>
              <a:off x="5724720" y="260280"/>
              <a:ext cx="309708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924360" y="765000"/>
              <a:ext cx="15127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rcRect l="0" t="0" r="7281" b="17231"/>
            <a:stretch/>
          </p:blipFill>
          <p:spPr>
            <a:xfrm>
              <a:off x="4284720" y="2708280"/>
              <a:ext cx="3960720" cy="194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4000" y="260280"/>
            <a:ext cx="259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国庆期间杭州天气情况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84696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目前的气象资料分析，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前，杭州天气较好，气温偏高，后期受冷空气南下影响，会有一次阵雨过程。这个“十一”黄金周，杭州天气总体不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根据杭州市气象台的分析，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到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受副热带高压减弱和地面偏东气流的影响，杭州将有一次云量增多的过程，最高气温在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℃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左右。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到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副热带高压系统增强控制，北方冷空气活动又偏北，天空中云系减少，日照增强，杭城总体以多云或晴到多云天气为主，气温升高，最高气温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1-33℃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东到东南风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级，白天大家会感觉有点闷热。从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起，副热带高压有所减退，又有冷空气南下逼近，杭城上空云量增多。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前后起，由于冷空气渗透影响，将出现降雨和降温天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7489" t="4529" r="0" b="23056"/>
          <a:stretch/>
        </p:blipFill>
        <p:spPr>
          <a:xfrm>
            <a:off x="4211640" y="260280"/>
            <a:ext cx="3600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8:09:10Z</dcterms:created>
  <dc:creator>微软用户</dc:creator>
  <dc:description/>
  <dc:language>en-US</dc:language>
  <cp:lastModifiedBy>user</cp:lastModifiedBy>
  <dcterms:modified xsi:type="dcterms:W3CDTF">2015-09-09T07:35:1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