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A800-B87F-4160-922E-C2B67A524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E4E4-B6BD-4124-8F2E-E89122550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E8D7-ED82-4444-8C5E-ADC5BD2D8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E17C-3354-4925-B8A7-8ECE20286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2986-BDD6-425A-A954-837E2CADA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A039-52BF-4D8F-B546-19E67FFFD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B8DA-916F-48A7-BC2A-6F344B977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2D8C-DA7E-4ED0-AA13-4A97E5DB7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3939-DD98-4AA6-AD86-CEE3BF6C2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8897-0E8D-4D27-B155-02D7F8EF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87B-2F60-4E68-8052-009B75DE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105-3BC5-43A5-A5D7-2FA28969F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AA5-0FDB-4236-B3EB-E65381B6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928C-F744-4574-9ED6-D6392DC6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4031-9587-438C-BAD1-F39A1ED3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466E-7A7C-4E00-AD31-EFCE4723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00D9-0F28-4E55-B9C1-109034A7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C427-2F09-4544-A1D5-D08ACFC6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C27D-419D-431E-866B-B55B7BF1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73C1-2DF1-43F1-9AE5-BF87F36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6A8-322E-4ECD-A992-B59B30E4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C6CC-27C9-4A82-AD23-FAD392D6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B7B8-AA8F-4DC4-BAB8-03AB7BC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77AA-129C-4DAE-930B-449BDA02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9F2E-70AA-4AB6-91B9-59AC5235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B2EA-FF43-4C6C-9138-232BB61D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40B-EAAF-4279-B9E1-7CD35414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23D3-A0D7-4D4C-B61F-634152B9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4CE-6000-4F97-B44E-06CD4571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BE2-4B4F-49E5-B880-2D3347F4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133-0271-4D26-A819-313483AF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3DB-BA7B-442D-9E8D-16A7DBEA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527-1B2A-4953-B40E-9E8B4553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BE81-E4B8-4705-8E27-4043C67A6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7BD4-43A8-4875-BAD5-5218895D9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971640" y="620640"/>
            <a:ext cx="7056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弘扬爱国主义思想，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0" name="WordArt 3"/>
          <p:cNvSpPr txBox="1"/>
          <p:nvPr/>
        </p:nvSpPr>
        <p:spPr>
          <a:xfrm>
            <a:off x="2771640" y="2637000"/>
            <a:ext cx="5904000" cy="174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做新时代有为青年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780000" y="4941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高一</a:t>
            </a:r>
            <a:r>
              <a:rPr b="1" lang="en-US" sz="3600" spc="-1" strike="noStrike">
                <a:solidFill>
                  <a:srgbClr val="0066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班主题班会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08360" y="58770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教师：邓秀艳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航天员成功返回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57200" y="45720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95280" y="54936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自由发言</a:t>
            </a: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1628640"/>
            <a:ext cx="7543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主持人：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同学们，看完了神舟七号发射上天的精彩镜头，现在，你们有何感想？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39640" y="3357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39640" y="393372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请谈谈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神舟七号发射成功的意义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42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标志着我国已经初步具有进行太空防卫战的能力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舟七号飞船产业价值惊人。据粗略估算，目前，通过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五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”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六</a:t>
            </a:r>
            <a:r>
              <a:rPr b="1" lang="zh-CN" sz="2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”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带来的产业价值已经超过</a:t>
            </a:r>
            <a:r>
              <a:rPr b="1" lang="en-US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200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舟七号发射成功对于增强国民凝聚力和自豪感有重要的意义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</a:t>
            </a:r>
            <a:r>
              <a:rPr b="1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神七的上天和太空漫步的成功，对于提高我国的大国地位，增强世界影响力，应对复杂多变的国际局势有着重要意义。</a:t>
            </a:r>
            <a:r>
              <a:rPr b="0" lang="zh-CN" sz="2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4865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42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神舟七号发射成功，神七的顺利上天及其后续的出舱行走成功，将在航天领域、国防领域、经济领域、政治领域以及外交领域具有十分重要的历史意义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航天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上天具有里程碑的重大意义。神舟七号是我国载人航天工程三步走战略的第二步中的第一步，是为我国建立宇宙空间站打好前哨战，在我国航天事业三部曲中属于承上启下重要作用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国防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标志着我国已经初步具有进行太空防卫战的能力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经济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飞船产业价值惊人。据粗略估算，目前，通过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五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六</a:t>
            </a:r>
            <a:r>
              <a:rPr b="1" lang="zh-CN" sz="2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带来的产业价值已经超过</a:t>
            </a:r>
            <a:r>
              <a:rPr b="1" lang="en-US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00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亿元。航天经济的产业链堪称各个经济类别中最长的，几乎无所不包。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政治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舟七号发射成功对于增强国民凝聚力和自豪感有重要的意义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外交领域方面，</a:t>
            </a:r>
            <a:r>
              <a:rPr b="1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神七的上天和太空漫步的成功，对于提高我国的大国地位，增强世界影响力，应对复杂多变的国际局势有着重要意义。</a:t>
            </a:r>
            <a:r>
              <a:rPr b="0" lang="zh-CN" sz="2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55640" y="234936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国庆谈爱国</a:t>
            </a:r>
            <a:endParaRPr b="1" lang="en-US" sz="6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826920" y="378936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</a:rPr>
              <a:t>交流：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同学们知道今年的国庆是第几个周年吗？也请大家说说自己在国庆节期间都做过什么有意义的事情、有什么特别的感想，并谈谈自己对国庆与爱国的理解和体会。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684360" y="476280"/>
            <a:ext cx="349236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二环节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comb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测测你爱国的程度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对以下句子的认同程度能否测出一个人是否爱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爱我自己的国家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为自己是一个中国人自豪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中国人挺了不起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在某种程度上，我的情感与国家紧密相连，受国家大事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5.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会唱中华人民共和国国歌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我认为升旗是一件很神圣的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7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7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7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7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7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7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7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0" i="1" lang="zh-CN" sz="4000" spc="-1" strike="noStrike" u="sng">
                <a:solidFill>
                  <a:srgbClr val="6600cc"/>
                </a:solidFill>
                <a:uFillTx/>
                <a:latin typeface="Times New Roman"/>
                <a:ea typeface="华文行楷"/>
              </a:rPr>
              <a:t>你能想到哪些爱国名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破则家亡，国兴则家昌、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家兴亡、匹夫有责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死国生，我死犹荣，身虽死精神长生，成功成仁，实现大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赵博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你的，我的祖国！都是你的，我的这心、这灵魂；假如我不爱你，我的祖国，我能爱哪一个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裴多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锦城虽乐，不如回故乡；乐园虽好，非久留之地。归去来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华罗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是中国人民的儿子。我深情地爱着我的祖国和人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邓小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755640" y="3645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请同学们朗诵下列关于爱国的诗歌</a:t>
            </a:r>
            <a:r>
              <a:rPr b="1" i="1" lang="en-US" sz="4800" spc="-1" strike="noStrike">
                <a:solidFill>
                  <a:srgbClr val="006600"/>
                </a:solidFill>
                <a:latin typeface="Times New Roman"/>
                <a:ea typeface="华文新魏"/>
              </a:rPr>
              <a:t>----</a:t>
            </a: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324000" y="260280"/>
            <a:ext cx="316836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三环节</a:t>
            </a:r>
            <a:endParaRPr b="1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348000" y="1413000"/>
            <a:ext cx="5400720" cy="19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隶书"/>
              </a:rPr>
              <a:t>深情朗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95280" y="333360"/>
            <a:ext cx="39146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祖国啊 我亲爱的祖国 </a:t>
            </a:r>
            <a:br>
              <a:rPr sz="2800"/>
            </a:b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（舒婷） </a:t>
            </a:r>
            <a:br>
              <a:rPr sz="2800"/>
            </a:b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河边上破旧的老水车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数百年来纺着疲惫的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额上熏黑的矿灯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照你在历史的隧洞里蜗行摸索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干瘪的稻穗；是失修的路基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淤滩上的驳船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把纤绳深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勒进你的肩膊 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——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祖国啊！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贫困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悲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祖祖辈辈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痛苦的希望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“飞天”袖间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千百年来未落到地面的花朵 </a:t>
            </a:r>
            <a:br>
              <a:rPr sz="1800"/>
            </a:br>
            <a:endParaRPr b="1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003640" y="1125360"/>
            <a:ext cx="3915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——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簇新的理想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刚从神话的蛛网里挣脱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雪被下古莲的胚芽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挂着眼泪的笑窝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新刷出的雪白的起跑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绯红的黎明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正在喷薄 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——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是你十亿分之一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是你九百六十万平方的总和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你以伤痕累累的乳房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喂养了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迷惘的我，深思的我，沸腾的我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那就从我的血肉之躯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去取得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你的富饶，你的荣光，你的自由 </a:t>
            </a:r>
            <a:br>
              <a:rPr sz="1800"/>
            </a:b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——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祖国啊 </a:t>
            </a:r>
            <a:br>
              <a:rPr sz="1800"/>
            </a:b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我亲爱的祖国 </a:t>
            </a:r>
            <a:endParaRPr b="1" lang="en-US" sz="1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95280" y="804960"/>
            <a:ext cx="849780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华文新魏"/>
                <a:ea typeface="华文新魏"/>
              </a:rPr>
              <a:t>我的祖国</a:t>
            </a:r>
            <a:r>
              <a:rPr b="1" lang="zh-CN" sz="48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的祖国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昂首高吭的雄鸡</a:t>
            </a: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唤醒拂晓的沉默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冲天腾飞的巨龙</a:t>
            </a: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叱咤时代的风云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威风凛凛的雄狮</a:t>
            </a: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舞动神州的雄风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是人类智慧的起源</a:t>
            </a:r>
            <a:r>
              <a:rPr b="1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-----</a:t>
            </a: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点燃文明的星火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有一个神圣的名字，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！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那就是中国啊，我的祖国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我深深爱恋的祖国。 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076720" y="260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9933"/>
                </a:solidFill>
                <a:latin typeface="Times New Roman"/>
                <a:ea typeface="方正姚体"/>
              </a:rPr>
              <a:t>关于爱国的诗歌</a:t>
            </a:r>
            <a:endParaRPr b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班会流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一环节：神舟七号发射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二环节：国庆中畅谈爱国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三环节：深情朗诵爱国诗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四环节：爱国典范的展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五环节：中学生要如何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第六环节：演唱爱国歌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结束班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6920" y="836640"/>
            <a:ext cx="26636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爱国典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3" descr="5"/>
          <p:cNvPicPr/>
          <p:nvPr/>
        </p:nvPicPr>
        <p:blipFill>
          <a:blip r:embed="rId1"/>
          <a:stretch/>
        </p:blipFill>
        <p:spPr>
          <a:xfrm>
            <a:off x="179280" y="0"/>
            <a:ext cx="1884600" cy="2637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1"/>
          <p:cNvPicPr/>
          <p:nvPr/>
        </p:nvPicPr>
        <p:blipFill>
          <a:blip r:embed="rId2"/>
          <a:stretch/>
        </p:blipFill>
        <p:spPr>
          <a:xfrm>
            <a:off x="179280" y="2505240"/>
            <a:ext cx="3953160" cy="4352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2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1415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"/>
          <p:cNvPicPr/>
          <p:nvPr/>
        </p:nvPicPr>
        <p:blipFill>
          <a:blip r:embed="rId4"/>
          <a:stretch/>
        </p:blipFill>
        <p:spPr>
          <a:xfrm>
            <a:off x="4133880" y="1428840"/>
            <a:ext cx="5010120" cy="5429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4"/>
          <p:cNvPicPr/>
          <p:nvPr/>
        </p:nvPicPr>
        <p:blipFill>
          <a:blip r:embed="rId5"/>
          <a:stretch/>
        </p:blipFill>
        <p:spPr>
          <a:xfrm>
            <a:off x="2124000" y="44280"/>
            <a:ext cx="1859040" cy="24750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"/>
          <p:cNvSpPr txBox="1"/>
          <p:nvPr/>
        </p:nvSpPr>
        <p:spPr>
          <a:xfrm>
            <a:off x="4211640" y="-27000"/>
            <a:ext cx="23763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四环节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影片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下面请同学们欣赏董存瑞舍身炸堡碉的电影片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84360" y="2565360"/>
            <a:ext cx="7924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讨论：</a:t>
            </a:r>
            <a:endParaRPr b="1" lang="en-US" sz="4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	</a:t>
            </a:r>
            <a:r>
              <a:rPr b="1" i="1" lang="zh-CN" sz="44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在日常生活中，我们中学生该如何爱国呢？</a:t>
            </a:r>
            <a:endParaRPr b="1" lang="en-US" sz="4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WordArt 3"/>
          <p:cNvSpPr txBox="1"/>
          <p:nvPr/>
        </p:nvSpPr>
        <p:spPr>
          <a:xfrm>
            <a:off x="395280" y="476280"/>
            <a:ext cx="3672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第五环节</a:t>
            </a:r>
            <a:endParaRPr b="1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2987640" y="2060640"/>
            <a:ext cx="532944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中学生如何爱国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395280" y="2492280"/>
            <a:ext cx="8317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最重要的是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努力用功读书，充实自己，以后为国尽力。</a:t>
            </a: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	</a:t>
            </a:r>
            <a:r>
              <a:rPr b="0" lang="zh-CN" sz="4000" spc="-1" strike="noStrike">
                <a:solidFill>
                  <a:srgbClr val="ff9933"/>
                </a:solidFill>
                <a:latin typeface="华文新魏"/>
                <a:ea typeface="华文新魏"/>
              </a:rPr>
              <a:t>其次是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遵守校规，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做对国家有害的事情，以后到了社会，也将是一个守法的好国民。 </a:t>
            </a:r>
            <a:br>
              <a:rPr sz="3600"/>
            </a:br>
            <a:endParaRPr b="1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2195640" y="692280"/>
            <a:ext cx="48974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国家兴亡，匹夫有责</a:t>
            </a:r>
            <a:endParaRPr b="1" i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WordArt 2" descr=""/>
          <p:cNvPicPr/>
          <p:nvPr/>
        </p:nvPicPr>
        <p:blipFill>
          <a:blip r:embed="rId1"/>
          <a:stretch/>
        </p:blipFill>
        <p:spPr>
          <a:xfrm>
            <a:off x="1322280" y="695160"/>
            <a:ext cx="6967800" cy="105444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"/>
          <p:cNvSpPr txBox="1"/>
          <p:nvPr/>
        </p:nvSpPr>
        <p:spPr>
          <a:xfrm>
            <a:off x="971640" y="2924280"/>
            <a:ext cx="7416720" cy="21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守法，爱国，知礼，诚信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演唱爱国歌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主持人：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下面请几位同学为我们展示自己的精彩才艺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—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演唱一首爱国主题歌曲，让我们在激荡人心的歌声中结束我们这次的主题班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下面有几首歌曲可供选择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龙的传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爱我中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324000" y="260280"/>
            <a:ext cx="251928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第六环节</a:t>
            </a:r>
            <a:endParaRPr b="1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我的中国心（张明敏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河山只在我梦里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祖国已多年未亲近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是不管怎样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洋装虽然穿在身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心依然是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祖先早已把我的一切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烙上中国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＊＊＊＊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江 长城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山 黄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我胸中重千斤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时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论何地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心中一样亲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流在心里的血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着中华的声音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算生在他乡也改变不了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中国心 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156360" y="609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524720" y="609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下一页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龙的传人（王力宏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381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长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遥远的东方有一条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黄河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看见长江美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梦里常神游长江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虽不曾听见黄河壮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澎湃汹涌在梦里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条龙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的名字就叫中国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572000" y="1268280"/>
            <a:ext cx="41767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古老的东方有一群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他们全都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脚底下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眼睛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黑头发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黄皮肤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年前宁静的一个夜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全家人到纽约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野火呀娆不尽在心间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每夜每天对家的思念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别人士地上我成长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长成以后是龙的传人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巨龙巨龙你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永永远远的擦亮眼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516720" y="616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524720" y="61498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下一页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爱我中华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(</a:t>
            </a: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宋祖英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歌手：宋祖英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    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专辑：大地飞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爱我中华 健儿奋起步伐 爱我中华 建设我们的国家 爱我中华 中华雄姿英发 爱我中华 五十六族兄弟姐妹 五十六种语言汇成一句话 爱我中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赛罗赛 赛罗赛 赛罗赛罗赛 爱我中华 嗨 嗨罗嗨罗嗨 嗨 嗨罗嗨罗嗨 嗨 嗨罗嗨罗 爱我中华 五十六个星座 五十六只花 五十六族兄弟姐妹是一家 五十六种语言汇成一句话 爱我中华 爱我中华 爱我中华 嗨 依罗依罗嗨 嗨 依罗嗨罗嗨 嗨 依罗嗨罗 依罗嗨罗 爱我中华 五十六个星座 五十六只花 五十六族兄弟姐妹是一家 五十六种语言汇成一句话 爱我中华 爱我中华 爱我中华 爱我中华 健儿奋起步伐 爱我中华 建设我们的国家 爱我中华 中华雄姿英发 爱我中华 五十六族兄弟姐妹 五十六种语言汇成一句话 爱我中华 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516720" y="630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524720" y="62946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下一页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2484360" y="3141720"/>
            <a:ext cx="39607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新魏"/>
              </a:rPr>
              <a:t>谢谢</a:t>
            </a:r>
            <a:endParaRPr b="1" i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4" name="WordArt 3"/>
          <p:cNvSpPr txBox="1"/>
          <p:nvPr/>
        </p:nvSpPr>
        <p:spPr>
          <a:xfrm>
            <a:off x="1547640" y="1700280"/>
            <a:ext cx="5904000" cy="196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班会结束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提问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时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地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舟七号发射上天的过程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下面让我们一起来看看我国的神舟七号卫星是怎样发射上天的</a:t>
            </a:r>
            <a:r>
              <a:rPr b="1" lang="en-US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==</a:t>
            </a:r>
            <a:r>
              <a:rPr b="1" lang="en-US" sz="32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539640" y="404640"/>
            <a:ext cx="44640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第一环节</a:t>
            </a:r>
            <a:endParaRPr b="1" i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发射！0"/>
          <p:cNvPicPr/>
          <p:nvPr/>
        </p:nvPicPr>
        <p:blipFill>
          <a:blip r:embed="rId1"/>
          <a:stretch/>
        </p:blipFill>
        <p:spPr>
          <a:xfrm>
            <a:off x="324000" y="1700280"/>
            <a:ext cx="6984720" cy="4647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7462800" y="981000"/>
            <a:ext cx="10335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08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年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月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日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分发射成功</a:t>
            </a:r>
            <a:endParaRPr b="1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发射！1"/>
          <p:cNvPicPr/>
          <p:nvPr/>
        </p:nvPicPr>
        <p:blipFill>
          <a:blip r:embed="rId1"/>
          <a:stretch/>
        </p:blipFill>
        <p:spPr>
          <a:xfrm>
            <a:off x="0" y="0"/>
            <a:ext cx="10260000" cy="682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发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发射！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航天员出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航天员出仓0"/>
          <p:cNvPicPr/>
          <p:nvPr/>
        </p:nvPicPr>
        <p:blipFill>
          <a:blip r:embed="rId1"/>
          <a:stretch/>
        </p:blipFill>
        <p:spPr>
          <a:xfrm>
            <a:off x="395280" y="2133720"/>
            <a:ext cx="5029200" cy="3767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420880" y="1844640"/>
            <a:ext cx="34722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神舟七号于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00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分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04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秒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988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毫秒从酒泉卫星发射中心起飞，航天员包括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翟志刚、刘伯明、景海鹏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三名宇航员，他们中的一人将在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日下午进行中国第一次出舱活动，取回实验样本，出舱活动进行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分钟左右，这是一个很大的进步。 </a:t>
            </a:r>
            <a:endParaRPr b="1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太空行走"/>
          <p:cNvPicPr/>
          <p:nvPr/>
        </p:nvPicPr>
        <p:blipFill>
          <a:blip r:embed="rId1"/>
          <a:stretch/>
        </p:blipFill>
        <p:spPr>
          <a:xfrm>
            <a:off x="0" y="-7452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太空行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航天员成功返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航天员成功返回"/>
          <p:cNvPicPr/>
          <p:nvPr/>
        </p:nvPicPr>
        <p:blipFill>
          <a:blip r:embed="rId1"/>
          <a:stretch/>
        </p:blipFill>
        <p:spPr>
          <a:xfrm>
            <a:off x="0" y="906480"/>
            <a:ext cx="8459640" cy="595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5:03:38Z</dcterms:created>
  <dc:creator>flz</dc:creator>
  <dc:description/>
  <dc:language>en-US</dc:language>
  <cp:lastModifiedBy>Sky123.Org</cp:lastModifiedBy>
  <dcterms:modified xsi:type="dcterms:W3CDTF">2015-08-24T09:18:49Z</dcterms:modified>
  <cp:revision>50</cp:revision>
  <dc:subject/>
  <dc:title>PowerPoint 演示文稿</dc:title>
</cp:coreProperties>
</file>