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543-1784-4C78-A424-12F26D4C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22D-6F79-41F6-BA54-3DADA46C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89A-8353-4130-AE37-16782F6A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E5A-B853-4F36-9316-616AC1E9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8FE-8492-45EC-9525-FE08785B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76A-58DA-4408-AA85-4439F86E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6C8-9FA7-4CFF-BB0D-97F916AF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9FB-B892-415E-AB21-79264C7E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56F-A587-49C1-923F-C5A23187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945-B0C0-43BA-A931-C96ADD70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430-0EEA-4753-932E-2F8B6A52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1E3-9EB4-415B-B148-1F879CD2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E0F0-789C-4997-A679-9DE1ABAC6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jbh1005110951d8945005d7bbd9d8_副本"/>
          <p:cNvPicPr/>
          <p:nvPr/>
        </p:nvPicPr>
        <p:blipFill>
          <a:blip r:embed="rId1"/>
          <a:stretch/>
        </p:blipFill>
        <p:spPr>
          <a:xfrm>
            <a:off x="5029200" y="2057400"/>
            <a:ext cx="1219320" cy="41911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533520" y="380880"/>
            <a:ext cx="4038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3" name="Picture 12" descr="0170050225"/>
          <p:cNvPicPr/>
          <p:nvPr/>
        </p:nvPicPr>
        <p:blipFill>
          <a:blip r:embed="rId2"/>
          <a:stretch/>
        </p:blipFill>
        <p:spPr>
          <a:xfrm>
            <a:off x="6154560" y="2209680"/>
            <a:ext cx="2989440" cy="403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155755377_副本"/>
          <p:cNvPicPr/>
          <p:nvPr/>
        </p:nvPicPr>
        <p:blipFill>
          <a:blip r:embed="rId3"/>
          <a:stretch/>
        </p:blipFill>
        <p:spPr>
          <a:xfrm>
            <a:off x="0" y="3886200"/>
            <a:ext cx="510552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6"/>
          <p:cNvSpPr/>
          <p:nvPr/>
        </p:nvSpPr>
        <p:spPr>
          <a:xfrm>
            <a:off x="228600" y="4419720"/>
            <a:ext cx="685800" cy="220968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7"/>
          <p:cNvSpPr/>
          <p:nvPr/>
        </p:nvSpPr>
        <p:spPr>
          <a:xfrm>
            <a:off x="3962520" y="0"/>
            <a:ext cx="761760" cy="335268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8"/>
          <p:cNvSpPr/>
          <p:nvPr/>
        </p:nvSpPr>
        <p:spPr>
          <a:xfrm>
            <a:off x="5105520" y="0"/>
            <a:ext cx="4038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9"/>
          <p:cNvSpPr/>
          <p:nvPr/>
        </p:nvSpPr>
        <p:spPr>
          <a:xfrm>
            <a:off x="1295280" y="4648320"/>
            <a:ext cx="403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6553080" y="25909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4" descr="E:\手抄报\gu\20090923200017-1797272642.jpg"/>
          <p:cNvPicPr/>
          <p:nvPr/>
        </p:nvPicPr>
        <p:blipFill>
          <a:blip r:embed="rId4"/>
          <a:stretch/>
        </p:blipFill>
        <p:spPr>
          <a:xfrm>
            <a:off x="0" y="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51" name="矩形 16" descr=""/>
          <p:cNvPicPr/>
          <p:nvPr/>
        </p:nvPicPr>
        <p:blipFill>
          <a:blip r:embed="rId5"/>
          <a:stretch/>
        </p:blipFill>
        <p:spPr>
          <a:xfrm>
            <a:off x="304920" y="609480"/>
            <a:ext cx="4206600" cy="933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5400000">
            <a:off x="2804760" y="1414440"/>
            <a:ext cx="302904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国庆节的来历</a:t>
            </a:r>
            <a:endParaRPr b="1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/>
          <p:cNvSpPr txBox="1"/>
          <p:nvPr/>
        </p:nvSpPr>
        <p:spPr>
          <a:xfrm rot="5400000">
            <a:off x="-443160" y="5243400"/>
            <a:ext cx="20289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黑体"/>
              </a:rPr>
              <a:t>为中国喝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黑体"/>
              <a:ea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6161040" y="57913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班级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s</cp:lastModifiedBy>
  <dcterms:modified xsi:type="dcterms:W3CDTF">2014-09-19T00:34:2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