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4.jpeg" ContentType="image/jpeg"/>
  <Override PartName="/ppt/media/image25.jpeg" ContentType="image/jpeg"/>
  <Override PartName="/ppt/media/image19.jpeg" ContentType="image/jpe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wmf" ContentType="image/x-wmf"/>
  <Override PartName="/ppt/media/image22.jpeg" ContentType="image/jpeg"/>
  <Override PartName="/ppt/media/image14.wmf" ContentType="image/x-wmf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FFD3-6759-4BB2-B57E-996E3A545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6551-E0CE-4BEA-A628-388E333B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8AF1-9A00-47D9-B8F5-5ADA76259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F860-5FB4-46D8-B7B4-795170525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5856-9E15-4752-9380-05B8FA38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2A2E-3686-4EE2-BFC7-65874980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72FB-708C-4F6B-BA85-769875B8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8D44-7301-452D-BECC-FC672252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29B0-D6DD-442D-A19A-EFBDCFAF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7576-9D5B-4DF1-9F96-5BC7B59F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683B-2D58-467F-ADE8-1A399B2E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F324-D8A7-478B-A11B-1A97A6E1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A72A4-39AE-4EAB-A2A4-24FF7F44F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garden.2118.com.cn/Hongri/jiayi/biane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B02101_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457200"/>
            <a:ext cx="54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隶书"/>
                <a:ea typeface="隶书"/>
              </a:rPr>
              <a:t> </a:t>
            </a:r>
            <a:r>
              <a:rPr b="1" lang="zh-CN" sz="9600" spc="-1" strike="noStrike">
                <a:solidFill>
                  <a:srgbClr val="cc0000"/>
                </a:solidFill>
                <a:latin typeface="方正姚体"/>
                <a:ea typeface="隶书"/>
              </a:rPr>
              <a:t>过 秦 论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09680" y="365760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ff"/>
                </a:solidFill>
                <a:latin typeface="Times New Roman"/>
                <a:ea typeface="隶书"/>
              </a:rPr>
              <a:t>   </a:t>
            </a:r>
            <a:r>
              <a:rPr b="1" lang="zh-CN" sz="6000" spc="-1" strike="noStrike">
                <a:solidFill>
                  <a:srgbClr val="00ccff"/>
                </a:solidFill>
                <a:latin typeface="Times New Roman"/>
                <a:ea typeface="华文行楷"/>
              </a:rPr>
              <a:t>贾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32160" y="67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clip_image0033" descr=""/>
          <p:cNvPicPr/>
          <p:nvPr/>
        </p:nvPicPr>
        <p:blipFill>
          <a:blip r:embed="rId2"/>
          <a:stretch/>
        </p:blipFill>
        <p:spPr>
          <a:xfrm>
            <a:off x="6400800" y="0"/>
            <a:ext cx="27432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5e6c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AN00932_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343400" cy="1523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04920" y="1828800"/>
            <a:ext cx="8839080" cy="132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隶书"/>
              </a:rPr>
              <a:t>过秦：指出秦的过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隶书"/>
              </a:rPr>
              <a:t>论，表明文体是一篇议论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00400"/>
            <a:ext cx="8839080" cy="5814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cc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Times New Roman"/>
                <a:ea typeface="隶书"/>
              </a:rPr>
              <a:t>　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  <a:ea typeface="隶书"/>
              </a:rPr>
              <a:t>　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秦始皇统一天下之后，为了帝王享受而横征暴敛；为了修城造宫而滥征民力；为了钳制思想而焚书坑儒；为了防止人民反抗而实行严酷的刑罚，终于导致农民大起义，秦朝迅速灭亡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J0099176" descr=""/>
          <p:cNvPicPr/>
          <p:nvPr/>
        </p:nvPicPr>
        <p:blipFill>
          <a:blip r:embed="rId2"/>
          <a:stretch/>
        </p:blipFill>
        <p:spPr>
          <a:xfrm>
            <a:off x="0" y="6019920"/>
            <a:ext cx="91440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66680" y="762120"/>
            <a:ext cx="7467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533520"/>
            <a:ext cx="78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隶书"/>
                <a:ea typeface="隶书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J0099176" descr="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382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57200"/>
            <a:ext cx="9144000" cy="43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　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　西汉初期，经历了春秋战乱到楚汉战争，社会经济遭到了极大的破坏，土地荒芜，人民流亡，人口减少，经济凋敝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0880" y="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Times New Roman"/>
                <a:ea typeface="隶书"/>
              </a:rPr>
              <a:t>　　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贾谊的《过秦论》正是针对这种现实而写。他希望汉统治者能吸取秦灭亡的教训，推行“仁政”以求经济发展，社会安定。即所谓“前事不忘后事之师”也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07732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594640" y="4876920"/>
            <a:ext cx="5493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71840" y="0"/>
            <a:ext cx="2191320" cy="6858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imes New Roman"/>
                <a:ea typeface="黑体"/>
              </a:rPr>
              <a:t>封建制度的形成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-22896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808000"/>
                </a:solidFill>
                <a:latin typeface="Times New Roman"/>
              </a:rPr>
              <a:t>一、历史回顾总结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-193680" y="838080"/>
            <a:ext cx="933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１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春秋战国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群雄争霸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战乱纷争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71280" y="1600200"/>
            <a:ext cx="624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争地以战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,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杀人盈野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;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争城以战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,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杀人盈城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71400" y="2133720"/>
            <a:ext cx="97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春秋五霸、战国七雄分别鼎足而立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17600" y="2743200"/>
            <a:ext cx="663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秦国变法兴盛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六国合纵抗秦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82840" y="342900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天下大事分久必合</a:t>
            </a:r>
            <a:r>
              <a:rPr b="1" i="1" lang="zh-CN" sz="4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6680" y="4114800"/>
            <a:ext cx="557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秦始皇灭六国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统一天下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始称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1040" y="4724280"/>
            <a:ext cx="826992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陈胜起义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秦朝二世而亡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i="1" lang="zh-CN" sz="6600" spc="-1" strike="noStrike" u="sng">
                <a:solidFill>
                  <a:srgbClr val="000000"/>
                </a:solidFill>
                <a:uFillTx/>
                <a:latin typeface="Times New Roman"/>
              </a:rPr>
              <a:t>为什么</a:t>
            </a:r>
            <a:r>
              <a:rPr b="1" i="1" lang="en-US" sz="8000" spc="-1" strike="noStrike" u="sng">
                <a:solidFill>
                  <a:srgbClr val="000000"/>
                </a:solidFill>
                <a:uFillTx/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dur="indefinite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dur="indefinite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500"/>
                            </p:stCondLst>
                            <p:childTnLst>
                              <p:par>
                                <p:cTn id="97" dur="indefinite" nodeType="afterEffect" fill="hold" presetClass="entr" presetID="17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2" dur="indefinite" nodeType="afterEffect" fill="hold" presetClass="entr" presetID="5" presetSubtype="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6" dur="indefinite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0" dur="indefinite" nodeType="after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5" dur="indefinite" nodeType="afterEffect" fill="hold" presetClass="entr" presetID="23" presetSubtype="3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59120" y="79200"/>
            <a:ext cx="373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黑体"/>
              </a:rPr>
              <a:t>学习目标</a:t>
            </a: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1280" y="1447920"/>
            <a:ext cx="482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、反复诵读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扫清文字障碍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逐步深入理解文章的内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4880" y="4038480"/>
            <a:ext cx="2209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、积累文中出现的文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现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战国七雄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238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秦灭六国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2120" y="1752480"/>
            <a:ext cx="7619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75248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Times New Roman"/>
                <a:ea typeface="隶书"/>
              </a:rPr>
              <a:t> 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0"/>
            <a:ext cx="579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  <a:ea typeface="幼圆"/>
              </a:rPr>
              <a:t>2.</a:t>
            </a: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幼圆"/>
              </a:rPr>
              <a:t>理清全文思路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1447920"/>
            <a:ext cx="533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Times New Roman"/>
                <a:ea typeface="幼圆"/>
              </a:rPr>
              <a:t>①</a:t>
            </a:r>
            <a:r>
              <a:rPr b="1" lang="zh-CN" sz="4400" spc="-1" strike="noStrike">
                <a:solidFill>
                  <a:srgbClr val="cc6600"/>
                </a:solidFill>
                <a:latin typeface="Times New Roman"/>
                <a:ea typeface="幼圆"/>
              </a:rPr>
              <a:t>秦创业</a:t>
            </a:r>
            <a:r>
              <a:rPr b="1" lang="en-US" sz="4400" spc="-1" strike="noStrike">
                <a:solidFill>
                  <a:srgbClr val="cc6600"/>
                </a:solidFill>
                <a:latin typeface="Times New Roman"/>
                <a:ea typeface="幼圆"/>
              </a:rPr>
              <a:t>(</a:t>
            </a:r>
            <a:r>
              <a:rPr b="1" lang="zh-CN" sz="4400" spc="-1" strike="noStrike">
                <a:solidFill>
                  <a:srgbClr val="cc6600"/>
                </a:solidFill>
                <a:latin typeface="Times New Roman"/>
                <a:ea typeface="幼圆"/>
              </a:rPr>
              <a:t>雄心勃勃</a:t>
            </a:r>
            <a:r>
              <a:rPr b="1" lang="en-US" sz="4400" spc="-1" strike="noStrike">
                <a:solidFill>
                  <a:srgbClr val="cc6600"/>
                </a:solidFill>
                <a:latin typeface="Times New Roman"/>
                <a:ea typeface="幼圆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228600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  <a:ea typeface="幼圆"/>
              </a:rPr>
              <a:t>②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幼圆"/>
              </a:rPr>
              <a:t>秦日盛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  <a:ea typeface="幼圆"/>
              </a:rPr>
              <a:t>(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幼圆"/>
              </a:rPr>
              <a:t>所向披靡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  <a:ea typeface="幼圆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312408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Times New Roman"/>
                <a:ea typeface="幼圆"/>
              </a:rPr>
              <a:t>③</a:t>
            </a:r>
            <a:r>
              <a:rPr b="1" lang="zh-CN" sz="4400" spc="-1" strike="noStrike">
                <a:solidFill>
                  <a:srgbClr val="cc6600"/>
                </a:solidFill>
                <a:latin typeface="Times New Roman"/>
                <a:ea typeface="幼圆"/>
              </a:rPr>
              <a:t>秦统一</a:t>
            </a:r>
            <a:r>
              <a:rPr b="1" lang="en-US" sz="4400" spc="-1" strike="noStrike">
                <a:solidFill>
                  <a:srgbClr val="cc6600"/>
                </a:solidFill>
                <a:latin typeface="Times New Roman"/>
                <a:ea typeface="幼圆"/>
              </a:rPr>
              <a:t>(</a:t>
            </a:r>
            <a:r>
              <a:rPr b="1" lang="zh-CN" sz="4400" spc="-1" strike="noStrike">
                <a:solidFill>
                  <a:srgbClr val="cc6600"/>
                </a:solidFill>
                <a:latin typeface="Times New Roman"/>
                <a:ea typeface="幼圆"/>
              </a:rPr>
              <a:t>势如破竹</a:t>
            </a:r>
            <a:r>
              <a:rPr b="1" lang="en-US" sz="4400" spc="-1" strike="noStrike">
                <a:solidFill>
                  <a:srgbClr val="cc6600"/>
                </a:solidFill>
                <a:latin typeface="Times New Roman"/>
                <a:ea typeface="幼圆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388620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  <a:ea typeface="幼圆"/>
              </a:rPr>
              <a:t>④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幼圆"/>
              </a:rPr>
              <a:t>秦灭亡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  <a:ea typeface="幼圆"/>
              </a:rPr>
              <a:t>(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幼圆"/>
              </a:rPr>
              <a:t>一败涂地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  <a:ea typeface="幼圆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62720" y="1676520"/>
            <a:ext cx="75960" cy="2895480"/>
          </a:xfrm>
          <a:custGeom>
            <a:avLst/>
            <a:gdLst>
              <a:gd name="textAreaLeft" fmla="*/ 0 w 75960"/>
              <a:gd name="textAreaRight" fmla="*/ 53280 w 75960"/>
              <a:gd name="textAreaTop" fmla="*/ 120600 h 2895480"/>
              <a:gd name="textAreaBottom" fmla="*/ 277488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solidFill>
            <a:srgbClr val="ff99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38680" y="312408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cc00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2666880"/>
            <a:ext cx="312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幼圆"/>
                <a:ea typeface="幼圆"/>
              </a:rPr>
              <a:t>⑤</a:t>
            </a:r>
            <a:r>
              <a:rPr b="1" lang="zh-CN" sz="4800" spc="-1" strike="noStrike">
                <a:solidFill>
                  <a:srgbClr val="cc0000"/>
                </a:solidFill>
                <a:latin typeface="幼圆"/>
                <a:ea typeface="幼圆"/>
              </a:rPr>
              <a:t>秦教训</a:t>
            </a:r>
            <a:r>
              <a:rPr b="1" lang="en-US" sz="4800" spc="-1" strike="noStrike">
                <a:solidFill>
                  <a:srgbClr val="cc0000"/>
                </a:solidFill>
                <a:latin typeface="幼圆"/>
                <a:ea typeface="幼圆"/>
              </a:rPr>
              <a:t>(</a:t>
            </a:r>
            <a:r>
              <a:rPr b="1" lang="zh-CN" sz="4800" spc="-1" strike="noStrike">
                <a:solidFill>
                  <a:srgbClr val="cc0000"/>
                </a:solidFill>
                <a:latin typeface="幼圆"/>
                <a:ea typeface="幼圆"/>
              </a:rPr>
              <a:t>不施仁政</a:t>
            </a:r>
            <a:r>
              <a:rPr b="1" lang="en-US" sz="4800" spc="-1" strike="noStrike">
                <a:solidFill>
                  <a:srgbClr val="cc0000"/>
                </a:solidFill>
                <a:latin typeface="幼圆"/>
                <a:ea typeface="幼圆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76212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（叙事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48520" y="76212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（议论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90720" y="4648320"/>
            <a:ext cx="236196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3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论据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248520" y="4343400"/>
            <a:ext cx="1143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论点</a:t>
            </a:r>
            <a:endParaRPr b="0" lang="en-US" sz="2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4" name=""/>
          <p:cNvSpPr txBox="1"/>
          <p:nvPr/>
        </p:nvSpPr>
        <p:spPr>
          <a:xfrm rot="21111000">
            <a:off x="3352320" y="4952880"/>
            <a:ext cx="5486400" cy="16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仁义不施而攻守之势异也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blinds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-304920" y="2895480"/>
            <a:ext cx="3124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 </a:t>
            </a:r>
            <a:r>
              <a:rPr b="1" lang="zh-CN" sz="4000" spc="-1" strike="noStrike">
                <a:solidFill>
                  <a:srgbClr val="003399"/>
                </a:solidFill>
                <a:latin typeface="Times New Roman"/>
                <a:ea typeface="隶书"/>
              </a:rPr>
              <a:t>《过秦论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imes New Roman"/>
                <a:ea typeface="隶书"/>
              </a:rPr>
              <a:t>   </a:t>
            </a:r>
            <a:r>
              <a:rPr b="1" lang="zh-CN" sz="4000" spc="-1" strike="noStrike">
                <a:solidFill>
                  <a:srgbClr val="003399"/>
                </a:solidFill>
                <a:latin typeface="Times New Roman"/>
                <a:ea typeface="隶书"/>
              </a:rPr>
              <a:t>内容结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95480" y="2438280"/>
            <a:ext cx="3124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一、兴亡过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(1-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95480" y="48006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二、分析原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4479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隶书"/>
                <a:ea typeface="隶书"/>
              </a:rPr>
              <a:t>兴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43600" y="35812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隶书"/>
              </a:rPr>
              <a:t>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81680" y="609480"/>
            <a:ext cx="2057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崛起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发展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极盛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2743200"/>
            <a:ext cx="75960" cy="2209680"/>
          </a:xfrm>
          <a:custGeom>
            <a:avLst/>
            <a:gdLst>
              <a:gd name="textAreaLeft" fmla="*/ 22320 w 75960"/>
              <a:gd name="textAreaRight" fmla="*/ 76320 w 75960"/>
              <a:gd name="textAreaTop" fmla="*/ 91800 h 2209680"/>
              <a:gd name="textAreaBottom" fmla="*/ 21178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91320" y="1828800"/>
            <a:ext cx="75960" cy="1981080"/>
          </a:xfrm>
          <a:custGeom>
            <a:avLst/>
            <a:gdLst>
              <a:gd name="textAreaLeft" fmla="*/ 22320 w 75960"/>
              <a:gd name="textAreaRight" fmla="*/ 76320 w 75960"/>
              <a:gd name="textAreaTop" fmla="*/ 82440 h 1981080"/>
              <a:gd name="textAreaBottom" fmla="*/ 189864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05720" y="990720"/>
            <a:ext cx="75960" cy="1447560"/>
          </a:xfrm>
          <a:custGeom>
            <a:avLst/>
            <a:gdLst>
              <a:gd name="textAreaLeft" fmla="*/ 22320 w 75960"/>
              <a:gd name="textAreaRight" fmla="*/ 76320 w 75960"/>
              <a:gd name="textAreaTop" fmla="*/ 60120 h 1447560"/>
              <a:gd name="textAreaBottom" fmla="*/ 138744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35812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隶书"/>
              </a:rPr>
              <a:t>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72200" y="2286000"/>
            <a:ext cx="152280" cy="1066680"/>
          </a:xfrm>
          <a:prstGeom prst="downArrow">
            <a:avLst>
              <a:gd name="adj1" fmla="val 50000"/>
              <a:gd name="adj2" fmla="val 175118"/>
            </a:avLst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8381880" y="838080"/>
            <a:ext cx="152640" cy="152640"/>
          </a:xfrm>
          <a:custGeom>
            <a:avLst/>
            <a:gdLst>
              <a:gd name="textAreaLeft" fmla="*/ 9360 w 152640"/>
              <a:gd name="textAreaRight" fmla="*/ 143280 w 152640"/>
              <a:gd name="textAreaTop" fmla="*/ 9360 h 152640"/>
              <a:gd name="textAreaBottom" fmla="*/ 1432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3756"/>
                </a:moveTo>
                <a:lnTo>
                  <a:pt x="17844" y="10800"/>
                </a:lnTo>
                <a:lnTo>
                  <a:pt x="3756" y="17844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81880" y="1600200"/>
            <a:ext cx="152640" cy="152280"/>
          </a:xfrm>
          <a:custGeom>
            <a:avLst/>
            <a:gdLst>
              <a:gd name="textAreaLeft" fmla="*/ 9360 w 152640"/>
              <a:gd name="textAreaRight" fmla="*/ 143280 w 152640"/>
              <a:gd name="textAreaTop" fmla="*/ 9360 h 152280"/>
              <a:gd name="textAreaBottom" fmla="*/ 142920 h 152280"/>
            </a:gdLst>
            <a:ahLst/>
            <a:rect l="textAreaLeft" t="textAreaTop" r="textAreaRight" b="textAreaBottom"/>
            <a:pathLst>
              <a:path w="21651" h="21600">
                <a:moveTo>
                  <a:pt x="0" y="0"/>
                </a:moveTo>
                <a:lnTo>
                  <a:pt x="21651" y="0"/>
                </a:lnTo>
                <a:lnTo>
                  <a:pt x="21651" y="21600"/>
                </a:lnTo>
                <a:lnTo>
                  <a:pt x="0" y="21600"/>
                </a:lnTo>
                <a:close/>
              </a:path>
              <a:path fill="lightenLess" w="21651" h="21600">
                <a:moveTo>
                  <a:pt x="0" y="0"/>
                </a:moveTo>
                <a:lnTo>
                  <a:pt x="21651" y="0"/>
                </a:lnTo>
                <a:lnTo>
                  <a:pt x="20301" y="1350"/>
                </a:lnTo>
                <a:lnTo>
                  <a:pt x="1350" y="1350"/>
                </a:lnTo>
                <a:close/>
              </a:path>
              <a:path fill="darken" w="21651" h="21600">
                <a:moveTo>
                  <a:pt x="21651" y="0"/>
                </a:moveTo>
                <a:lnTo>
                  <a:pt x="21651" y="21600"/>
                </a:lnTo>
                <a:lnTo>
                  <a:pt x="20301" y="20250"/>
                </a:lnTo>
                <a:lnTo>
                  <a:pt x="20301" y="1350"/>
                </a:lnTo>
                <a:close/>
              </a:path>
              <a:path fill="darkenLess" w="21651" h="21600">
                <a:moveTo>
                  <a:pt x="2165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301" y="20250"/>
                </a:lnTo>
                <a:close/>
              </a:path>
              <a:path fill="lighten" w="2165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51" h="21600">
                <a:moveTo>
                  <a:pt x="3782" y="3756"/>
                </a:moveTo>
                <a:lnTo>
                  <a:pt x="17869" y="10800"/>
                </a:lnTo>
                <a:lnTo>
                  <a:pt x="3782" y="17844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1880" y="2286000"/>
            <a:ext cx="152640" cy="152280"/>
          </a:xfrm>
          <a:custGeom>
            <a:avLst/>
            <a:gdLst>
              <a:gd name="textAreaLeft" fmla="*/ 9360 w 152640"/>
              <a:gd name="textAreaRight" fmla="*/ 143280 w 152640"/>
              <a:gd name="textAreaTop" fmla="*/ 9360 h 152280"/>
              <a:gd name="textAreaBottom" fmla="*/ 142920 h 152280"/>
            </a:gdLst>
            <a:ahLst/>
            <a:rect l="textAreaLeft" t="textAreaTop" r="textAreaRight" b="textAreaBottom"/>
            <a:pathLst>
              <a:path w="21651" h="21600">
                <a:moveTo>
                  <a:pt x="0" y="0"/>
                </a:moveTo>
                <a:lnTo>
                  <a:pt x="21651" y="0"/>
                </a:lnTo>
                <a:lnTo>
                  <a:pt x="21651" y="21600"/>
                </a:lnTo>
                <a:lnTo>
                  <a:pt x="0" y="21600"/>
                </a:lnTo>
                <a:close/>
              </a:path>
              <a:path fill="lightenLess" w="21651" h="21600">
                <a:moveTo>
                  <a:pt x="0" y="0"/>
                </a:moveTo>
                <a:lnTo>
                  <a:pt x="21651" y="0"/>
                </a:lnTo>
                <a:lnTo>
                  <a:pt x="20301" y="1350"/>
                </a:lnTo>
                <a:lnTo>
                  <a:pt x="1350" y="1350"/>
                </a:lnTo>
                <a:close/>
              </a:path>
              <a:path fill="darken" w="21651" h="21600">
                <a:moveTo>
                  <a:pt x="21651" y="0"/>
                </a:moveTo>
                <a:lnTo>
                  <a:pt x="21651" y="21600"/>
                </a:lnTo>
                <a:lnTo>
                  <a:pt x="20301" y="20250"/>
                </a:lnTo>
                <a:lnTo>
                  <a:pt x="20301" y="1350"/>
                </a:lnTo>
                <a:close/>
              </a:path>
              <a:path fill="darkenLess" w="21651" h="21600">
                <a:moveTo>
                  <a:pt x="2165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301" y="20250"/>
                </a:lnTo>
                <a:close/>
              </a:path>
              <a:path fill="lighten" w="2165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51" h="21600">
                <a:moveTo>
                  <a:pt x="3782" y="3756"/>
                </a:moveTo>
                <a:lnTo>
                  <a:pt x="17869" y="10800"/>
                </a:lnTo>
                <a:lnTo>
                  <a:pt x="3782" y="17844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162920" y="3886200"/>
            <a:ext cx="152280" cy="152280"/>
          </a:xfrm>
          <a:custGeom>
            <a:avLst/>
            <a:gdLst>
              <a:gd name="textAreaLeft" fmla="*/ 9360 w 152280"/>
              <a:gd name="textAreaRight" fmla="*/ 142920 w 152280"/>
              <a:gd name="textAreaTop" fmla="*/ 9360 h 152280"/>
              <a:gd name="textAreaBottom" fmla="*/ 1429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3756"/>
                </a:moveTo>
                <a:lnTo>
                  <a:pt x="17844" y="10800"/>
                </a:lnTo>
                <a:lnTo>
                  <a:pt x="3756" y="17844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5029200"/>
            <a:ext cx="152280" cy="152280"/>
          </a:xfrm>
          <a:custGeom>
            <a:avLst/>
            <a:gdLst>
              <a:gd name="textAreaLeft" fmla="*/ 9360 w 152280"/>
              <a:gd name="textAreaRight" fmla="*/ 142920 w 152280"/>
              <a:gd name="textAreaTop" fmla="*/ 9360 h 152280"/>
              <a:gd name="textAreaBottom" fmla="*/ 1429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3756"/>
                </a:moveTo>
                <a:lnTo>
                  <a:pt x="17844" y="10800"/>
                </a:lnTo>
                <a:lnTo>
                  <a:pt x="3756" y="17844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152424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贾谊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5486400" cy="5105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西汉杰出的政论家、文学家，学识渊博，年青时就负有才名，年仅二十岁，就被召为博士，后因提议改革政治，遭权贵嫉妒、毁谤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后贬为长沙王太傅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抑郁而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贾生才调世无伦，哭泣情怀吊屈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梁王堕马寻常事，何用哀伤付一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　　　　　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毛泽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D0301021" descr=""/>
          <p:cNvPicPr/>
          <p:nvPr/>
        </p:nvPicPr>
        <p:blipFill>
          <a:blip r:embed="rId1"/>
          <a:stretch/>
        </p:blipFill>
        <p:spPr>
          <a:xfrm>
            <a:off x="6019920" y="990720"/>
            <a:ext cx="27432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04920" y="990720"/>
            <a:ext cx="83055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隶书"/>
                <a:ea typeface="隶书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301680"/>
          </a:xfrm>
          <a:custGeom>
            <a:avLst/>
            <a:gdLst/>
            <a:ahLst/>
            <a:rect l="l" t="t" r="r" b="b"/>
            <a:pathLst>
              <a:path w="5760" h="380">
                <a:moveTo>
                  <a:pt x="5411" y="136"/>
                </a:moveTo>
                <a:lnTo>
                  <a:pt x="5410" y="160"/>
                </a:lnTo>
                <a:lnTo>
                  <a:pt x="5411" y="181"/>
                </a:lnTo>
                <a:lnTo>
                  <a:pt x="5416" y="201"/>
                </a:lnTo>
                <a:lnTo>
                  <a:pt x="5425" y="217"/>
                </a:lnTo>
                <a:lnTo>
                  <a:pt x="5438" y="231"/>
                </a:lnTo>
                <a:lnTo>
                  <a:pt x="5454" y="243"/>
                </a:lnTo>
                <a:lnTo>
                  <a:pt x="5473" y="251"/>
                </a:lnTo>
                <a:lnTo>
                  <a:pt x="5495" y="256"/>
                </a:lnTo>
                <a:lnTo>
                  <a:pt x="5515" y="254"/>
                </a:lnTo>
                <a:lnTo>
                  <a:pt x="5533" y="246"/>
                </a:lnTo>
                <a:lnTo>
                  <a:pt x="5548" y="236"/>
                </a:lnTo>
                <a:lnTo>
                  <a:pt x="5561" y="222"/>
                </a:lnTo>
                <a:lnTo>
                  <a:pt x="5569" y="205"/>
                </a:lnTo>
                <a:lnTo>
                  <a:pt x="5572" y="186"/>
                </a:lnTo>
                <a:lnTo>
                  <a:pt x="5571" y="167"/>
                </a:lnTo>
                <a:lnTo>
                  <a:pt x="5563" y="147"/>
                </a:lnTo>
                <a:lnTo>
                  <a:pt x="5553" y="137"/>
                </a:lnTo>
                <a:lnTo>
                  <a:pt x="5544" y="129"/>
                </a:lnTo>
                <a:lnTo>
                  <a:pt x="5534" y="125"/>
                </a:lnTo>
                <a:lnTo>
                  <a:pt x="5523" y="123"/>
                </a:lnTo>
                <a:lnTo>
                  <a:pt x="5514" y="123"/>
                </a:lnTo>
                <a:lnTo>
                  <a:pt x="5503" y="126"/>
                </a:lnTo>
                <a:lnTo>
                  <a:pt x="5493" y="133"/>
                </a:lnTo>
                <a:lnTo>
                  <a:pt x="5484" y="142"/>
                </a:lnTo>
                <a:lnTo>
                  <a:pt x="5479" y="150"/>
                </a:lnTo>
                <a:lnTo>
                  <a:pt x="5477" y="160"/>
                </a:lnTo>
                <a:lnTo>
                  <a:pt x="5477" y="168"/>
                </a:lnTo>
                <a:lnTo>
                  <a:pt x="5477" y="175"/>
                </a:lnTo>
                <a:lnTo>
                  <a:pt x="5479" y="183"/>
                </a:lnTo>
                <a:lnTo>
                  <a:pt x="5482" y="191"/>
                </a:lnTo>
                <a:lnTo>
                  <a:pt x="5485" y="199"/>
                </a:lnTo>
                <a:lnTo>
                  <a:pt x="5487" y="207"/>
                </a:lnTo>
                <a:lnTo>
                  <a:pt x="5493" y="213"/>
                </a:lnTo>
                <a:lnTo>
                  <a:pt x="5498" y="215"/>
                </a:lnTo>
                <a:lnTo>
                  <a:pt x="5501" y="213"/>
                </a:lnTo>
                <a:lnTo>
                  <a:pt x="5504" y="210"/>
                </a:lnTo>
                <a:lnTo>
                  <a:pt x="5506" y="207"/>
                </a:lnTo>
                <a:lnTo>
                  <a:pt x="5506" y="202"/>
                </a:lnTo>
                <a:lnTo>
                  <a:pt x="5501" y="199"/>
                </a:lnTo>
                <a:lnTo>
                  <a:pt x="5496" y="197"/>
                </a:lnTo>
                <a:lnTo>
                  <a:pt x="5488" y="180"/>
                </a:lnTo>
                <a:lnTo>
                  <a:pt x="5487" y="163"/>
                </a:lnTo>
                <a:lnTo>
                  <a:pt x="5492" y="149"/>
                </a:lnTo>
                <a:lnTo>
                  <a:pt x="5500" y="139"/>
                </a:lnTo>
                <a:lnTo>
                  <a:pt x="5512" y="134"/>
                </a:lnTo>
                <a:lnTo>
                  <a:pt x="5526" y="134"/>
                </a:lnTo>
                <a:lnTo>
                  <a:pt x="5541" y="139"/>
                </a:lnTo>
                <a:lnTo>
                  <a:pt x="5555" y="154"/>
                </a:lnTo>
                <a:lnTo>
                  <a:pt x="5560" y="165"/>
                </a:lnTo>
                <a:lnTo>
                  <a:pt x="5561" y="176"/>
                </a:lnTo>
                <a:lnTo>
                  <a:pt x="5563" y="188"/>
                </a:lnTo>
                <a:lnTo>
                  <a:pt x="5561" y="197"/>
                </a:lnTo>
                <a:lnTo>
                  <a:pt x="5558" y="207"/>
                </a:lnTo>
                <a:lnTo>
                  <a:pt x="5553" y="217"/>
                </a:lnTo>
                <a:lnTo>
                  <a:pt x="5547" y="223"/>
                </a:lnTo>
                <a:lnTo>
                  <a:pt x="5539" y="230"/>
                </a:lnTo>
                <a:lnTo>
                  <a:pt x="5531" y="236"/>
                </a:lnTo>
                <a:lnTo>
                  <a:pt x="5522" y="239"/>
                </a:lnTo>
                <a:lnTo>
                  <a:pt x="5512" y="243"/>
                </a:lnTo>
                <a:lnTo>
                  <a:pt x="5501" y="244"/>
                </a:lnTo>
                <a:lnTo>
                  <a:pt x="5490" y="244"/>
                </a:lnTo>
                <a:lnTo>
                  <a:pt x="5479" y="243"/>
                </a:lnTo>
                <a:lnTo>
                  <a:pt x="5468" y="239"/>
                </a:lnTo>
                <a:lnTo>
                  <a:pt x="5459" y="235"/>
                </a:lnTo>
                <a:lnTo>
                  <a:pt x="5444" y="225"/>
                </a:lnTo>
                <a:lnTo>
                  <a:pt x="5435" y="215"/>
                </a:lnTo>
                <a:lnTo>
                  <a:pt x="5427" y="202"/>
                </a:lnTo>
                <a:lnTo>
                  <a:pt x="5422" y="188"/>
                </a:lnTo>
                <a:lnTo>
                  <a:pt x="5419" y="173"/>
                </a:lnTo>
                <a:lnTo>
                  <a:pt x="5419" y="157"/>
                </a:lnTo>
                <a:lnTo>
                  <a:pt x="5421" y="142"/>
                </a:lnTo>
                <a:lnTo>
                  <a:pt x="5424" y="126"/>
                </a:lnTo>
                <a:lnTo>
                  <a:pt x="5425" y="123"/>
                </a:lnTo>
                <a:lnTo>
                  <a:pt x="5429" y="118"/>
                </a:lnTo>
                <a:lnTo>
                  <a:pt x="5427" y="118"/>
                </a:lnTo>
                <a:lnTo>
                  <a:pt x="5432" y="113"/>
                </a:lnTo>
                <a:lnTo>
                  <a:pt x="5438" y="105"/>
                </a:lnTo>
                <a:lnTo>
                  <a:pt x="5447" y="99"/>
                </a:lnTo>
                <a:lnTo>
                  <a:pt x="5460" y="91"/>
                </a:lnTo>
                <a:lnTo>
                  <a:pt x="5476" y="84"/>
                </a:lnTo>
                <a:lnTo>
                  <a:pt x="5495" y="78"/>
                </a:lnTo>
                <a:lnTo>
                  <a:pt x="5518" y="74"/>
                </a:lnTo>
                <a:lnTo>
                  <a:pt x="5545" y="74"/>
                </a:lnTo>
                <a:lnTo>
                  <a:pt x="5564" y="76"/>
                </a:lnTo>
                <a:lnTo>
                  <a:pt x="5582" y="82"/>
                </a:lnTo>
                <a:lnTo>
                  <a:pt x="5599" y="91"/>
                </a:lnTo>
                <a:lnTo>
                  <a:pt x="5616" y="102"/>
                </a:lnTo>
                <a:lnTo>
                  <a:pt x="5634" y="115"/>
                </a:lnTo>
                <a:lnTo>
                  <a:pt x="5650" y="129"/>
                </a:lnTo>
                <a:lnTo>
                  <a:pt x="5665" y="146"/>
                </a:lnTo>
                <a:lnTo>
                  <a:pt x="5679" y="162"/>
                </a:lnTo>
                <a:lnTo>
                  <a:pt x="5692" y="180"/>
                </a:lnTo>
                <a:lnTo>
                  <a:pt x="5705" y="196"/>
                </a:lnTo>
                <a:lnTo>
                  <a:pt x="5716" y="212"/>
                </a:lnTo>
                <a:lnTo>
                  <a:pt x="5725" y="228"/>
                </a:lnTo>
                <a:lnTo>
                  <a:pt x="5733" y="241"/>
                </a:lnTo>
                <a:lnTo>
                  <a:pt x="5739" y="252"/>
                </a:lnTo>
                <a:lnTo>
                  <a:pt x="5744" y="262"/>
                </a:lnTo>
                <a:lnTo>
                  <a:pt x="5746" y="270"/>
                </a:lnTo>
                <a:lnTo>
                  <a:pt x="5749" y="275"/>
                </a:lnTo>
                <a:lnTo>
                  <a:pt x="5752" y="283"/>
                </a:lnTo>
                <a:lnTo>
                  <a:pt x="5755" y="291"/>
                </a:lnTo>
                <a:lnTo>
                  <a:pt x="5758" y="299"/>
                </a:lnTo>
                <a:lnTo>
                  <a:pt x="5760" y="307"/>
                </a:lnTo>
                <a:lnTo>
                  <a:pt x="5760" y="317"/>
                </a:lnTo>
                <a:lnTo>
                  <a:pt x="5758" y="327"/>
                </a:lnTo>
                <a:lnTo>
                  <a:pt x="5754" y="335"/>
                </a:lnTo>
                <a:lnTo>
                  <a:pt x="5746" y="345"/>
                </a:lnTo>
                <a:lnTo>
                  <a:pt x="5736" y="353"/>
                </a:lnTo>
                <a:lnTo>
                  <a:pt x="5721" y="361"/>
                </a:lnTo>
                <a:lnTo>
                  <a:pt x="5700" y="367"/>
                </a:lnTo>
                <a:lnTo>
                  <a:pt x="5675" y="372"/>
                </a:lnTo>
                <a:lnTo>
                  <a:pt x="5643" y="377"/>
                </a:lnTo>
                <a:lnTo>
                  <a:pt x="5607" y="378"/>
                </a:lnTo>
                <a:lnTo>
                  <a:pt x="5561" y="380"/>
                </a:lnTo>
                <a:lnTo>
                  <a:pt x="5533" y="380"/>
                </a:lnTo>
                <a:lnTo>
                  <a:pt x="5493" y="380"/>
                </a:lnTo>
                <a:lnTo>
                  <a:pt x="5444" y="380"/>
                </a:lnTo>
                <a:lnTo>
                  <a:pt x="5386" y="380"/>
                </a:lnTo>
                <a:lnTo>
                  <a:pt x="5318" y="380"/>
                </a:lnTo>
                <a:lnTo>
                  <a:pt x="5242" y="380"/>
                </a:lnTo>
                <a:lnTo>
                  <a:pt x="5160" y="380"/>
                </a:lnTo>
                <a:lnTo>
                  <a:pt x="5072" y="380"/>
                </a:lnTo>
                <a:lnTo>
                  <a:pt x="4977" y="380"/>
                </a:lnTo>
                <a:lnTo>
                  <a:pt x="4878" y="380"/>
                </a:lnTo>
                <a:lnTo>
                  <a:pt x="4773" y="380"/>
                </a:lnTo>
                <a:lnTo>
                  <a:pt x="4666" y="380"/>
                </a:lnTo>
                <a:lnTo>
                  <a:pt x="4557" y="380"/>
                </a:lnTo>
                <a:lnTo>
                  <a:pt x="4445" y="380"/>
                </a:lnTo>
                <a:lnTo>
                  <a:pt x="4331" y="380"/>
                </a:lnTo>
                <a:lnTo>
                  <a:pt x="4218" y="380"/>
                </a:lnTo>
                <a:lnTo>
                  <a:pt x="4103" y="380"/>
                </a:lnTo>
                <a:lnTo>
                  <a:pt x="3989" y="380"/>
                </a:lnTo>
                <a:lnTo>
                  <a:pt x="3878" y="380"/>
                </a:lnTo>
                <a:lnTo>
                  <a:pt x="3768" y="380"/>
                </a:lnTo>
                <a:lnTo>
                  <a:pt x="3661" y="380"/>
                </a:lnTo>
                <a:lnTo>
                  <a:pt x="3558" y="380"/>
                </a:lnTo>
                <a:lnTo>
                  <a:pt x="3460" y="380"/>
                </a:lnTo>
                <a:lnTo>
                  <a:pt x="3367" y="380"/>
                </a:lnTo>
                <a:lnTo>
                  <a:pt x="3279" y="380"/>
                </a:lnTo>
                <a:lnTo>
                  <a:pt x="3198" y="380"/>
                </a:lnTo>
                <a:lnTo>
                  <a:pt x="3124" y="380"/>
                </a:lnTo>
                <a:lnTo>
                  <a:pt x="3058" y="380"/>
                </a:lnTo>
                <a:lnTo>
                  <a:pt x="3001" y="380"/>
                </a:lnTo>
                <a:lnTo>
                  <a:pt x="2953" y="380"/>
                </a:lnTo>
                <a:lnTo>
                  <a:pt x="2916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2" y="380"/>
                </a:lnTo>
                <a:lnTo>
                  <a:pt x="2862" y="380"/>
                </a:lnTo>
                <a:lnTo>
                  <a:pt x="2829" y="380"/>
                </a:lnTo>
                <a:lnTo>
                  <a:pt x="2784" y="380"/>
                </a:lnTo>
                <a:lnTo>
                  <a:pt x="2728" y="380"/>
                </a:lnTo>
                <a:lnTo>
                  <a:pt x="2663" y="380"/>
                </a:lnTo>
                <a:lnTo>
                  <a:pt x="2587" y="380"/>
                </a:lnTo>
                <a:lnTo>
                  <a:pt x="2505" y="380"/>
                </a:lnTo>
                <a:lnTo>
                  <a:pt x="2414" y="380"/>
                </a:lnTo>
                <a:lnTo>
                  <a:pt x="2317" y="380"/>
                </a:lnTo>
                <a:lnTo>
                  <a:pt x="2215" y="380"/>
                </a:lnTo>
                <a:lnTo>
                  <a:pt x="2106" y="380"/>
                </a:lnTo>
                <a:lnTo>
                  <a:pt x="1994" y="380"/>
                </a:lnTo>
                <a:lnTo>
                  <a:pt x="1878" y="380"/>
                </a:lnTo>
                <a:lnTo>
                  <a:pt x="1760" y="380"/>
                </a:lnTo>
                <a:lnTo>
                  <a:pt x="1640" y="380"/>
                </a:lnTo>
                <a:lnTo>
                  <a:pt x="1520" y="380"/>
                </a:lnTo>
                <a:lnTo>
                  <a:pt x="1400" y="380"/>
                </a:lnTo>
                <a:lnTo>
                  <a:pt x="1280" y="380"/>
                </a:lnTo>
                <a:lnTo>
                  <a:pt x="1163" y="380"/>
                </a:lnTo>
                <a:lnTo>
                  <a:pt x="1048" y="380"/>
                </a:lnTo>
                <a:lnTo>
                  <a:pt x="938" y="380"/>
                </a:lnTo>
                <a:lnTo>
                  <a:pt x="830" y="380"/>
                </a:lnTo>
                <a:lnTo>
                  <a:pt x="728" y="380"/>
                </a:lnTo>
                <a:lnTo>
                  <a:pt x="631" y="380"/>
                </a:lnTo>
                <a:lnTo>
                  <a:pt x="543" y="380"/>
                </a:lnTo>
                <a:lnTo>
                  <a:pt x="461" y="380"/>
                </a:lnTo>
                <a:lnTo>
                  <a:pt x="388" y="380"/>
                </a:lnTo>
                <a:lnTo>
                  <a:pt x="324" y="380"/>
                </a:lnTo>
                <a:lnTo>
                  <a:pt x="270" y="380"/>
                </a:lnTo>
                <a:lnTo>
                  <a:pt x="229" y="380"/>
                </a:lnTo>
                <a:lnTo>
                  <a:pt x="197" y="380"/>
                </a:lnTo>
                <a:lnTo>
                  <a:pt x="153" y="378"/>
                </a:lnTo>
                <a:lnTo>
                  <a:pt x="115" y="377"/>
                </a:lnTo>
                <a:lnTo>
                  <a:pt x="84" y="372"/>
                </a:lnTo>
                <a:lnTo>
                  <a:pt x="58" y="367"/>
                </a:lnTo>
                <a:lnTo>
                  <a:pt x="38" y="361"/>
                </a:lnTo>
                <a:lnTo>
                  <a:pt x="22" y="353"/>
                </a:lnTo>
                <a:lnTo>
                  <a:pt x="11" y="345"/>
                </a:lnTo>
                <a:lnTo>
                  <a:pt x="5" y="335"/>
                </a:lnTo>
                <a:lnTo>
                  <a:pt x="2" y="327"/>
                </a:lnTo>
                <a:lnTo>
                  <a:pt x="0" y="317"/>
                </a:lnTo>
                <a:lnTo>
                  <a:pt x="0" y="307"/>
                </a:lnTo>
                <a:lnTo>
                  <a:pt x="2" y="299"/>
                </a:lnTo>
                <a:lnTo>
                  <a:pt x="3" y="291"/>
                </a:lnTo>
                <a:lnTo>
                  <a:pt x="6" y="283"/>
                </a:lnTo>
                <a:lnTo>
                  <a:pt x="9" y="275"/>
                </a:lnTo>
                <a:lnTo>
                  <a:pt x="11" y="270"/>
                </a:lnTo>
                <a:lnTo>
                  <a:pt x="14" y="262"/>
                </a:lnTo>
                <a:lnTo>
                  <a:pt x="19" y="252"/>
                </a:lnTo>
                <a:lnTo>
                  <a:pt x="25" y="241"/>
                </a:lnTo>
                <a:lnTo>
                  <a:pt x="33" y="228"/>
                </a:lnTo>
                <a:lnTo>
                  <a:pt x="43" y="212"/>
                </a:lnTo>
                <a:lnTo>
                  <a:pt x="54" y="196"/>
                </a:lnTo>
                <a:lnTo>
                  <a:pt x="66" y="180"/>
                </a:lnTo>
                <a:lnTo>
                  <a:pt x="79" y="162"/>
                </a:lnTo>
                <a:lnTo>
                  <a:pt x="93" y="146"/>
                </a:lnTo>
                <a:lnTo>
                  <a:pt x="109" y="131"/>
                </a:lnTo>
                <a:lnTo>
                  <a:pt x="125" y="115"/>
                </a:lnTo>
                <a:lnTo>
                  <a:pt x="142" y="102"/>
                </a:lnTo>
                <a:lnTo>
                  <a:pt x="159" y="92"/>
                </a:lnTo>
                <a:lnTo>
                  <a:pt x="177" y="82"/>
                </a:lnTo>
                <a:lnTo>
                  <a:pt x="196" y="78"/>
                </a:lnTo>
                <a:lnTo>
                  <a:pt x="213" y="74"/>
                </a:lnTo>
                <a:lnTo>
                  <a:pt x="242" y="76"/>
                </a:lnTo>
                <a:lnTo>
                  <a:pt x="264" y="79"/>
                </a:lnTo>
                <a:lnTo>
                  <a:pt x="283" y="84"/>
                </a:lnTo>
                <a:lnTo>
                  <a:pt x="298" y="91"/>
                </a:lnTo>
                <a:lnTo>
                  <a:pt x="311" y="99"/>
                </a:lnTo>
                <a:lnTo>
                  <a:pt x="320" y="107"/>
                </a:lnTo>
                <a:lnTo>
                  <a:pt x="327" y="113"/>
                </a:lnTo>
                <a:lnTo>
                  <a:pt x="331" y="118"/>
                </a:lnTo>
                <a:lnTo>
                  <a:pt x="330" y="120"/>
                </a:lnTo>
                <a:lnTo>
                  <a:pt x="333" y="125"/>
                </a:lnTo>
                <a:lnTo>
                  <a:pt x="335" y="128"/>
                </a:lnTo>
                <a:lnTo>
                  <a:pt x="338" y="142"/>
                </a:lnTo>
                <a:lnTo>
                  <a:pt x="339" y="159"/>
                </a:lnTo>
                <a:lnTo>
                  <a:pt x="339" y="173"/>
                </a:lnTo>
                <a:lnTo>
                  <a:pt x="336" y="189"/>
                </a:lnTo>
                <a:lnTo>
                  <a:pt x="331" y="202"/>
                </a:lnTo>
                <a:lnTo>
                  <a:pt x="325" y="215"/>
                </a:lnTo>
                <a:lnTo>
                  <a:pt x="314" y="226"/>
                </a:lnTo>
                <a:lnTo>
                  <a:pt x="301" y="235"/>
                </a:lnTo>
                <a:lnTo>
                  <a:pt x="290" y="239"/>
                </a:lnTo>
                <a:lnTo>
                  <a:pt x="279" y="243"/>
                </a:lnTo>
                <a:lnTo>
                  <a:pt x="268" y="244"/>
                </a:lnTo>
                <a:lnTo>
                  <a:pt x="259" y="244"/>
                </a:lnTo>
                <a:lnTo>
                  <a:pt x="248" y="244"/>
                </a:lnTo>
                <a:lnTo>
                  <a:pt x="238" y="241"/>
                </a:lnTo>
                <a:lnTo>
                  <a:pt x="229" y="236"/>
                </a:lnTo>
                <a:lnTo>
                  <a:pt x="219" y="231"/>
                </a:lnTo>
                <a:lnTo>
                  <a:pt x="213" y="225"/>
                </a:lnTo>
                <a:lnTo>
                  <a:pt x="207" y="217"/>
                </a:lnTo>
                <a:lnTo>
                  <a:pt x="202" y="207"/>
                </a:lnTo>
                <a:lnTo>
                  <a:pt x="199" y="199"/>
                </a:lnTo>
                <a:lnTo>
                  <a:pt x="197" y="188"/>
                </a:lnTo>
                <a:lnTo>
                  <a:pt x="197" y="176"/>
                </a:lnTo>
                <a:lnTo>
                  <a:pt x="200" y="165"/>
                </a:lnTo>
                <a:lnTo>
                  <a:pt x="205" y="154"/>
                </a:lnTo>
                <a:lnTo>
                  <a:pt x="219" y="141"/>
                </a:lnTo>
                <a:lnTo>
                  <a:pt x="234" y="134"/>
                </a:lnTo>
                <a:lnTo>
                  <a:pt x="248" y="134"/>
                </a:lnTo>
                <a:lnTo>
                  <a:pt x="259" y="141"/>
                </a:lnTo>
                <a:lnTo>
                  <a:pt x="268" y="150"/>
                </a:lnTo>
                <a:lnTo>
                  <a:pt x="272" y="163"/>
                </a:lnTo>
                <a:lnTo>
                  <a:pt x="270" y="180"/>
                </a:lnTo>
                <a:lnTo>
                  <a:pt x="262" y="197"/>
                </a:lnTo>
                <a:lnTo>
                  <a:pt x="257" y="199"/>
                </a:lnTo>
                <a:lnTo>
                  <a:pt x="254" y="202"/>
                </a:lnTo>
                <a:lnTo>
                  <a:pt x="253" y="207"/>
                </a:lnTo>
                <a:lnTo>
                  <a:pt x="254" y="210"/>
                </a:lnTo>
                <a:lnTo>
                  <a:pt x="257" y="213"/>
                </a:lnTo>
                <a:lnTo>
                  <a:pt x="260" y="215"/>
                </a:lnTo>
                <a:lnTo>
                  <a:pt x="265" y="213"/>
                </a:lnTo>
                <a:lnTo>
                  <a:pt x="272" y="207"/>
                </a:lnTo>
                <a:lnTo>
                  <a:pt x="273" y="199"/>
                </a:lnTo>
                <a:lnTo>
                  <a:pt x="276" y="191"/>
                </a:lnTo>
                <a:lnTo>
                  <a:pt x="279" y="183"/>
                </a:lnTo>
                <a:lnTo>
                  <a:pt x="281" y="175"/>
                </a:lnTo>
                <a:lnTo>
                  <a:pt x="281" y="168"/>
                </a:lnTo>
                <a:lnTo>
                  <a:pt x="281" y="160"/>
                </a:lnTo>
                <a:lnTo>
                  <a:pt x="279" y="152"/>
                </a:lnTo>
                <a:lnTo>
                  <a:pt x="275" y="142"/>
                </a:lnTo>
                <a:lnTo>
                  <a:pt x="265" y="133"/>
                </a:lnTo>
                <a:lnTo>
                  <a:pt x="256" y="128"/>
                </a:lnTo>
                <a:lnTo>
                  <a:pt x="246" y="125"/>
                </a:lnTo>
                <a:lnTo>
                  <a:pt x="235" y="125"/>
                </a:lnTo>
                <a:lnTo>
                  <a:pt x="226" y="126"/>
                </a:lnTo>
                <a:lnTo>
                  <a:pt x="216" y="131"/>
                </a:lnTo>
                <a:lnTo>
                  <a:pt x="207" y="137"/>
                </a:lnTo>
                <a:lnTo>
                  <a:pt x="197" y="147"/>
                </a:lnTo>
                <a:lnTo>
                  <a:pt x="189" y="168"/>
                </a:lnTo>
                <a:lnTo>
                  <a:pt x="188" y="188"/>
                </a:lnTo>
                <a:lnTo>
                  <a:pt x="191" y="205"/>
                </a:lnTo>
                <a:lnTo>
                  <a:pt x="199" y="222"/>
                </a:lnTo>
                <a:lnTo>
                  <a:pt x="210" y="236"/>
                </a:lnTo>
                <a:lnTo>
                  <a:pt x="226" y="246"/>
                </a:lnTo>
                <a:lnTo>
                  <a:pt x="245" y="254"/>
                </a:lnTo>
                <a:lnTo>
                  <a:pt x="265" y="256"/>
                </a:lnTo>
                <a:lnTo>
                  <a:pt x="287" y="251"/>
                </a:lnTo>
                <a:lnTo>
                  <a:pt x="306" y="243"/>
                </a:lnTo>
                <a:lnTo>
                  <a:pt x="322" y="231"/>
                </a:lnTo>
                <a:lnTo>
                  <a:pt x="335" y="218"/>
                </a:lnTo>
                <a:lnTo>
                  <a:pt x="343" y="201"/>
                </a:lnTo>
                <a:lnTo>
                  <a:pt x="349" y="183"/>
                </a:lnTo>
                <a:lnTo>
                  <a:pt x="350" y="160"/>
                </a:lnTo>
                <a:lnTo>
                  <a:pt x="349" y="136"/>
                </a:lnTo>
                <a:lnTo>
                  <a:pt x="347" y="131"/>
                </a:lnTo>
                <a:lnTo>
                  <a:pt x="346" y="126"/>
                </a:lnTo>
                <a:lnTo>
                  <a:pt x="344" y="121"/>
                </a:lnTo>
                <a:lnTo>
                  <a:pt x="343" y="116"/>
                </a:lnTo>
                <a:lnTo>
                  <a:pt x="349" y="112"/>
                </a:lnTo>
                <a:lnTo>
                  <a:pt x="355" y="107"/>
                </a:lnTo>
                <a:lnTo>
                  <a:pt x="363" y="102"/>
                </a:lnTo>
                <a:lnTo>
                  <a:pt x="371" y="97"/>
                </a:lnTo>
                <a:lnTo>
                  <a:pt x="379" y="92"/>
                </a:lnTo>
                <a:lnTo>
                  <a:pt x="387" y="89"/>
                </a:lnTo>
                <a:lnTo>
                  <a:pt x="396" y="86"/>
                </a:lnTo>
                <a:lnTo>
                  <a:pt x="404" y="82"/>
                </a:lnTo>
                <a:lnTo>
                  <a:pt x="414" y="79"/>
                </a:lnTo>
                <a:lnTo>
                  <a:pt x="423" y="78"/>
                </a:lnTo>
                <a:lnTo>
                  <a:pt x="433" y="76"/>
                </a:lnTo>
                <a:lnTo>
                  <a:pt x="442" y="74"/>
                </a:lnTo>
                <a:lnTo>
                  <a:pt x="451" y="73"/>
                </a:lnTo>
                <a:lnTo>
                  <a:pt x="463" y="71"/>
                </a:lnTo>
                <a:lnTo>
                  <a:pt x="472" y="71"/>
                </a:lnTo>
                <a:lnTo>
                  <a:pt x="481" y="71"/>
                </a:lnTo>
                <a:lnTo>
                  <a:pt x="497" y="73"/>
                </a:lnTo>
                <a:lnTo>
                  <a:pt x="511" y="74"/>
                </a:lnTo>
                <a:lnTo>
                  <a:pt x="526" y="76"/>
                </a:lnTo>
                <a:lnTo>
                  <a:pt x="541" y="79"/>
                </a:lnTo>
                <a:lnTo>
                  <a:pt x="554" y="84"/>
                </a:lnTo>
                <a:lnTo>
                  <a:pt x="568" y="87"/>
                </a:lnTo>
                <a:lnTo>
                  <a:pt x="581" y="92"/>
                </a:lnTo>
                <a:lnTo>
                  <a:pt x="594" y="97"/>
                </a:lnTo>
                <a:lnTo>
                  <a:pt x="581" y="104"/>
                </a:lnTo>
                <a:lnTo>
                  <a:pt x="570" y="113"/>
                </a:lnTo>
                <a:lnTo>
                  <a:pt x="560" y="121"/>
                </a:lnTo>
                <a:lnTo>
                  <a:pt x="552" y="133"/>
                </a:lnTo>
                <a:lnTo>
                  <a:pt x="545" y="142"/>
                </a:lnTo>
                <a:lnTo>
                  <a:pt x="540" y="154"/>
                </a:lnTo>
                <a:lnTo>
                  <a:pt x="537" y="165"/>
                </a:lnTo>
                <a:lnTo>
                  <a:pt x="537" y="178"/>
                </a:lnTo>
                <a:lnTo>
                  <a:pt x="537" y="189"/>
                </a:lnTo>
                <a:lnTo>
                  <a:pt x="540" y="201"/>
                </a:lnTo>
                <a:lnTo>
                  <a:pt x="545" y="212"/>
                </a:lnTo>
                <a:lnTo>
                  <a:pt x="551" y="223"/>
                </a:lnTo>
                <a:lnTo>
                  <a:pt x="560" y="233"/>
                </a:lnTo>
                <a:lnTo>
                  <a:pt x="570" y="243"/>
                </a:lnTo>
                <a:lnTo>
                  <a:pt x="581" y="252"/>
                </a:lnTo>
                <a:lnTo>
                  <a:pt x="594" y="260"/>
                </a:lnTo>
                <a:lnTo>
                  <a:pt x="608" y="268"/>
                </a:lnTo>
                <a:lnTo>
                  <a:pt x="622" y="275"/>
                </a:lnTo>
                <a:lnTo>
                  <a:pt x="639" y="281"/>
                </a:lnTo>
                <a:lnTo>
                  <a:pt x="657" y="286"/>
                </a:lnTo>
                <a:lnTo>
                  <a:pt x="674" y="290"/>
                </a:lnTo>
                <a:lnTo>
                  <a:pt x="693" y="293"/>
                </a:lnTo>
                <a:lnTo>
                  <a:pt x="713" y="294"/>
                </a:lnTo>
                <a:lnTo>
                  <a:pt x="734" y="296"/>
                </a:lnTo>
                <a:lnTo>
                  <a:pt x="755" y="294"/>
                </a:lnTo>
                <a:lnTo>
                  <a:pt x="778" y="293"/>
                </a:lnTo>
                <a:lnTo>
                  <a:pt x="803" y="290"/>
                </a:lnTo>
                <a:lnTo>
                  <a:pt x="830" y="285"/>
                </a:lnTo>
                <a:lnTo>
                  <a:pt x="859" y="278"/>
                </a:lnTo>
                <a:lnTo>
                  <a:pt x="889" y="270"/>
                </a:lnTo>
                <a:lnTo>
                  <a:pt x="920" y="262"/>
                </a:lnTo>
                <a:lnTo>
                  <a:pt x="952" y="254"/>
                </a:lnTo>
                <a:lnTo>
                  <a:pt x="985" y="244"/>
                </a:lnTo>
                <a:lnTo>
                  <a:pt x="1018" y="233"/>
                </a:lnTo>
                <a:lnTo>
                  <a:pt x="1053" y="222"/>
                </a:lnTo>
                <a:lnTo>
                  <a:pt x="1088" y="210"/>
                </a:lnTo>
                <a:lnTo>
                  <a:pt x="1122" y="199"/>
                </a:lnTo>
                <a:lnTo>
                  <a:pt x="1155" y="186"/>
                </a:lnTo>
                <a:lnTo>
                  <a:pt x="1190" y="173"/>
                </a:lnTo>
                <a:lnTo>
                  <a:pt x="1225" y="162"/>
                </a:lnTo>
                <a:lnTo>
                  <a:pt x="1258" y="149"/>
                </a:lnTo>
                <a:lnTo>
                  <a:pt x="1291" y="136"/>
                </a:lnTo>
                <a:lnTo>
                  <a:pt x="1323" y="125"/>
                </a:lnTo>
                <a:lnTo>
                  <a:pt x="1353" y="112"/>
                </a:lnTo>
                <a:lnTo>
                  <a:pt x="1381" y="100"/>
                </a:lnTo>
                <a:lnTo>
                  <a:pt x="1410" y="89"/>
                </a:lnTo>
                <a:lnTo>
                  <a:pt x="1435" y="79"/>
                </a:lnTo>
                <a:lnTo>
                  <a:pt x="1459" y="70"/>
                </a:lnTo>
                <a:lnTo>
                  <a:pt x="1481" y="60"/>
                </a:lnTo>
                <a:lnTo>
                  <a:pt x="1501" y="52"/>
                </a:lnTo>
                <a:lnTo>
                  <a:pt x="1517" y="45"/>
                </a:lnTo>
                <a:lnTo>
                  <a:pt x="1531" y="39"/>
                </a:lnTo>
                <a:lnTo>
                  <a:pt x="1544" y="34"/>
                </a:lnTo>
                <a:lnTo>
                  <a:pt x="1552" y="31"/>
                </a:lnTo>
                <a:lnTo>
                  <a:pt x="1558" y="29"/>
                </a:lnTo>
                <a:lnTo>
                  <a:pt x="1560" y="27"/>
                </a:lnTo>
                <a:lnTo>
                  <a:pt x="1567" y="26"/>
                </a:lnTo>
                <a:lnTo>
                  <a:pt x="1577" y="23"/>
                </a:lnTo>
                <a:lnTo>
                  <a:pt x="1586" y="21"/>
                </a:lnTo>
                <a:lnTo>
                  <a:pt x="1596" y="19"/>
                </a:lnTo>
                <a:lnTo>
                  <a:pt x="1605" y="18"/>
                </a:lnTo>
                <a:lnTo>
                  <a:pt x="1616" y="16"/>
                </a:lnTo>
                <a:lnTo>
                  <a:pt x="1624" y="15"/>
                </a:lnTo>
                <a:lnTo>
                  <a:pt x="1634" y="13"/>
                </a:lnTo>
                <a:lnTo>
                  <a:pt x="1645" y="13"/>
                </a:lnTo>
                <a:lnTo>
                  <a:pt x="1656" y="11"/>
                </a:lnTo>
                <a:lnTo>
                  <a:pt x="1665" y="13"/>
                </a:lnTo>
                <a:lnTo>
                  <a:pt x="1676" y="15"/>
                </a:lnTo>
                <a:lnTo>
                  <a:pt x="1687" y="16"/>
                </a:lnTo>
                <a:lnTo>
                  <a:pt x="1697" y="19"/>
                </a:lnTo>
                <a:lnTo>
                  <a:pt x="1708" y="24"/>
                </a:lnTo>
                <a:lnTo>
                  <a:pt x="1717" y="27"/>
                </a:lnTo>
                <a:lnTo>
                  <a:pt x="1727" y="34"/>
                </a:lnTo>
                <a:lnTo>
                  <a:pt x="1735" y="39"/>
                </a:lnTo>
                <a:lnTo>
                  <a:pt x="1744" y="45"/>
                </a:lnTo>
                <a:lnTo>
                  <a:pt x="1752" y="52"/>
                </a:lnTo>
                <a:lnTo>
                  <a:pt x="1760" y="60"/>
                </a:lnTo>
                <a:lnTo>
                  <a:pt x="1768" y="66"/>
                </a:lnTo>
                <a:lnTo>
                  <a:pt x="1774" y="74"/>
                </a:lnTo>
                <a:lnTo>
                  <a:pt x="1781" y="82"/>
                </a:lnTo>
                <a:lnTo>
                  <a:pt x="1785" y="73"/>
                </a:lnTo>
                <a:lnTo>
                  <a:pt x="1793" y="63"/>
                </a:lnTo>
                <a:lnTo>
                  <a:pt x="1803" y="55"/>
                </a:lnTo>
                <a:lnTo>
                  <a:pt x="1814" y="47"/>
                </a:lnTo>
                <a:lnTo>
                  <a:pt x="1828" y="42"/>
                </a:lnTo>
                <a:lnTo>
                  <a:pt x="1842" y="37"/>
                </a:lnTo>
                <a:lnTo>
                  <a:pt x="1858" y="34"/>
                </a:lnTo>
                <a:lnTo>
                  <a:pt x="1875" y="32"/>
                </a:lnTo>
                <a:lnTo>
                  <a:pt x="1889" y="34"/>
                </a:lnTo>
                <a:lnTo>
                  <a:pt x="1904" y="36"/>
                </a:lnTo>
                <a:lnTo>
                  <a:pt x="1918" y="39"/>
                </a:lnTo>
                <a:lnTo>
                  <a:pt x="1929" y="44"/>
                </a:lnTo>
                <a:lnTo>
                  <a:pt x="1940" y="50"/>
                </a:lnTo>
                <a:lnTo>
                  <a:pt x="1951" y="57"/>
                </a:lnTo>
                <a:lnTo>
                  <a:pt x="1959" y="65"/>
                </a:lnTo>
                <a:lnTo>
                  <a:pt x="1965" y="73"/>
                </a:lnTo>
                <a:lnTo>
                  <a:pt x="1948" y="81"/>
                </a:lnTo>
                <a:lnTo>
                  <a:pt x="1931" y="91"/>
                </a:lnTo>
                <a:lnTo>
                  <a:pt x="1916" y="100"/>
                </a:lnTo>
                <a:lnTo>
                  <a:pt x="1902" y="110"/>
                </a:lnTo>
                <a:lnTo>
                  <a:pt x="1893" y="123"/>
                </a:lnTo>
                <a:lnTo>
                  <a:pt x="1885" y="134"/>
                </a:lnTo>
                <a:lnTo>
                  <a:pt x="1878" y="147"/>
                </a:lnTo>
                <a:lnTo>
                  <a:pt x="1877" y="160"/>
                </a:lnTo>
                <a:lnTo>
                  <a:pt x="1878" y="170"/>
                </a:lnTo>
                <a:lnTo>
                  <a:pt x="1880" y="178"/>
                </a:lnTo>
                <a:lnTo>
                  <a:pt x="1885" y="188"/>
                </a:lnTo>
                <a:lnTo>
                  <a:pt x="1889" y="196"/>
                </a:lnTo>
                <a:lnTo>
                  <a:pt x="1897" y="205"/>
                </a:lnTo>
                <a:lnTo>
                  <a:pt x="1905" y="213"/>
                </a:lnTo>
                <a:lnTo>
                  <a:pt x="1915" y="220"/>
                </a:lnTo>
                <a:lnTo>
                  <a:pt x="1926" y="228"/>
                </a:lnTo>
                <a:lnTo>
                  <a:pt x="1937" y="235"/>
                </a:lnTo>
                <a:lnTo>
                  <a:pt x="1949" y="239"/>
                </a:lnTo>
                <a:lnTo>
                  <a:pt x="1964" y="244"/>
                </a:lnTo>
                <a:lnTo>
                  <a:pt x="1978" y="249"/>
                </a:lnTo>
                <a:lnTo>
                  <a:pt x="1992" y="252"/>
                </a:lnTo>
                <a:lnTo>
                  <a:pt x="2008" y="254"/>
                </a:lnTo>
                <a:lnTo>
                  <a:pt x="2025" y="256"/>
                </a:lnTo>
                <a:lnTo>
                  <a:pt x="2041" y="257"/>
                </a:lnTo>
                <a:lnTo>
                  <a:pt x="2058" y="256"/>
                </a:lnTo>
                <a:lnTo>
                  <a:pt x="2074" y="254"/>
                </a:lnTo>
                <a:lnTo>
                  <a:pt x="2092" y="252"/>
                </a:lnTo>
                <a:lnTo>
                  <a:pt x="2106" y="249"/>
                </a:lnTo>
                <a:lnTo>
                  <a:pt x="2122" y="244"/>
                </a:lnTo>
                <a:lnTo>
                  <a:pt x="2136" y="239"/>
                </a:lnTo>
                <a:lnTo>
                  <a:pt x="2148" y="235"/>
                </a:lnTo>
                <a:lnTo>
                  <a:pt x="2161" y="228"/>
                </a:lnTo>
                <a:lnTo>
                  <a:pt x="2172" y="220"/>
                </a:lnTo>
                <a:lnTo>
                  <a:pt x="2182" y="213"/>
                </a:lnTo>
                <a:lnTo>
                  <a:pt x="2189" y="205"/>
                </a:lnTo>
                <a:lnTo>
                  <a:pt x="2197" y="196"/>
                </a:lnTo>
                <a:lnTo>
                  <a:pt x="2202" y="188"/>
                </a:lnTo>
                <a:lnTo>
                  <a:pt x="2205" y="178"/>
                </a:lnTo>
                <a:lnTo>
                  <a:pt x="2207" y="170"/>
                </a:lnTo>
                <a:lnTo>
                  <a:pt x="2205" y="160"/>
                </a:lnTo>
                <a:lnTo>
                  <a:pt x="2204" y="149"/>
                </a:lnTo>
                <a:lnTo>
                  <a:pt x="2199" y="139"/>
                </a:lnTo>
                <a:lnTo>
                  <a:pt x="2193" y="129"/>
                </a:lnTo>
                <a:lnTo>
                  <a:pt x="2186" y="120"/>
                </a:lnTo>
                <a:lnTo>
                  <a:pt x="2177" y="112"/>
                </a:lnTo>
                <a:lnTo>
                  <a:pt x="2167" y="102"/>
                </a:lnTo>
                <a:lnTo>
                  <a:pt x="2156" y="94"/>
                </a:lnTo>
                <a:lnTo>
                  <a:pt x="2145" y="86"/>
                </a:lnTo>
                <a:lnTo>
                  <a:pt x="2155" y="76"/>
                </a:lnTo>
                <a:lnTo>
                  <a:pt x="2164" y="68"/>
                </a:lnTo>
                <a:lnTo>
                  <a:pt x="2175" y="60"/>
                </a:lnTo>
                <a:lnTo>
                  <a:pt x="2185" y="52"/>
                </a:lnTo>
                <a:lnTo>
                  <a:pt x="2197" y="45"/>
                </a:lnTo>
                <a:lnTo>
                  <a:pt x="2208" y="39"/>
                </a:lnTo>
                <a:lnTo>
                  <a:pt x="2221" y="32"/>
                </a:lnTo>
                <a:lnTo>
                  <a:pt x="2234" y="27"/>
                </a:lnTo>
                <a:lnTo>
                  <a:pt x="2246" y="23"/>
                </a:lnTo>
                <a:lnTo>
                  <a:pt x="2260" y="18"/>
                </a:lnTo>
                <a:lnTo>
                  <a:pt x="2275" y="15"/>
                </a:lnTo>
                <a:lnTo>
                  <a:pt x="2289" y="11"/>
                </a:lnTo>
                <a:lnTo>
                  <a:pt x="2301" y="10"/>
                </a:lnTo>
                <a:lnTo>
                  <a:pt x="2317" y="8"/>
                </a:lnTo>
                <a:lnTo>
                  <a:pt x="2331" y="6"/>
                </a:lnTo>
                <a:lnTo>
                  <a:pt x="2347" y="6"/>
                </a:lnTo>
                <a:lnTo>
                  <a:pt x="2361" y="6"/>
                </a:lnTo>
                <a:lnTo>
                  <a:pt x="2376" y="8"/>
                </a:lnTo>
                <a:lnTo>
                  <a:pt x="2388" y="8"/>
                </a:lnTo>
                <a:lnTo>
                  <a:pt x="2402" y="11"/>
                </a:lnTo>
                <a:lnTo>
                  <a:pt x="2415" y="13"/>
                </a:lnTo>
                <a:lnTo>
                  <a:pt x="2429" y="16"/>
                </a:lnTo>
                <a:lnTo>
                  <a:pt x="2442" y="21"/>
                </a:lnTo>
                <a:lnTo>
                  <a:pt x="2455" y="24"/>
                </a:lnTo>
                <a:lnTo>
                  <a:pt x="2466" y="29"/>
                </a:lnTo>
                <a:lnTo>
                  <a:pt x="2478" y="34"/>
                </a:lnTo>
                <a:lnTo>
                  <a:pt x="2489" y="40"/>
                </a:lnTo>
                <a:lnTo>
                  <a:pt x="2500" y="45"/>
                </a:lnTo>
                <a:lnTo>
                  <a:pt x="2510" y="52"/>
                </a:lnTo>
                <a:lnTo>
                  <a:pt x="2521" y="58"/>
                </a:lnTo>
                <a:lnTo>
                  <a:pt x="2530" y="66"/>
                </a:lnTo>
                <a:lnTo>
                  <a:pt x="2540" y="73"/>
                </a:lnTo>
                <a:lnTo>
                  <a:pt x="2535" y="82"/>
                </a:lnTo>
                <a:lnTo>
                  <a:pt x="2530" y="94"/>
                </a:lnTo>
                <a:lnTo>
                  <a:pt x="2526" y="104"/>
                </a:lnTo>
                <a:lnTo>
                  <a:pt x="2522" y="115"/>
                </a:lnTo>
                <a:lnTo>
                  <a:pt x="2521" y="128"/>
                </a:lnTo>
                <a:lnTo>
                  <a:pt x="2518" y="139"/>
                </a:lnTo>
                <a:lnTo>
                  <a:pt x="2518" y="150"/>
                </a:lnTo>
                <a:lnTo>
                  <a:pt x="2516" y="162"/>
                </a:lnTo>
                <a:lnTo>
                  <a:pt x="2518" y="180"/>
                </a:lnTo>
                <a:lnTo>
                  <a:pt x="2521" y="196"/>
                </a:lnTo>
                <a:lnTo>
                  <a:pt x="2524" y="212"/>
                </a:lnTo>
                <a:lnTo>
                  <a:pt x="2530" y="226"/>
                </a:lnTo>
                <a:lnTo>
                  <a:pt x="2538" y="239"/>
                </a:lnTo>
                <a:lnTo>
                  <a:pt x="2548" y="251"/>
                </a:lnTo>
                <a:lnTo>
                  <a:pt x="2557" y="262"/>
                </a:lnTo>
                <a:lnTo>
                  <a:pt x="2568" y="272"/>
                </a:lnTo>
                <a:lnTo>
                  <a:pt x="2581" y="280"/>
                </a:lnTo>
                <a:lnTo>
                  <a:pt x="2593" y="285"/>
                </a:lnTo>
                <a:lnTo>
                  <a:pt x="2608" y="290"/>
                </a:lnTo>
                <a:lnTo>
                  <a:pt x="2623" y="293"/>
                </a:lnTo>
                <a:lnTo>
                  <a:pt x="2638" y="293"/>
                </a:lnTo>
                <a:lnTo>
                  <a:pt x="2655" y="293"/>
                </a:lnTo>
                <a:lnTo>
                  <a:pt x="2671" y="290"/>
                </a:lnTo>
                <a:lnTo>
                  <a:pt x="2687" y="283"/>
                </a:lnTo>
                <a:lnTo>
                  <a:pt x="2699" y="278"/>
                </a:lnTo>
                <a:lnTo>
                  <a:pt x="2710" y="273"/>
                </a:lnTo>
                <a:lnTo>
                  <a:pt x="2721" y="265"/>
                </a:lnTo>
                <a:lnTo>
                  <a:pt x="2729" y="259"/>
                </a:lnTo>
                <a:lnTo>
                  <a:pt x="2739" y="249"/>
                </a:lnTo>
                <a:lnTo>
                  <a:pt x="2745" y="241"/>
                </a:lnTo>
                <a:lnTo>
                  <a:pt x="2751" y="231"/>
                </a:lnTo>
                <a:lnTo>
                  <a:pt x="2756" y="220"/>
                </a:lnTo>
                <a:lnTo>
                  <a:pt x="2759" y="210"/>
                </a:lnTo>
                <a:lnTo>
                  <a:pt x="2761" y="199"/>
                </a:lnTo>
                <a:lnTo>
                  <a:pt x="2761" y="188"/>
                </a:lnTo>
                <a:lnTo>
                  <a:pt x="2761" y="176"/>
                </a:lnTo>
                <a:lnTo>
                  <a:pt x="2758" y="165"/>
                </a:lnTo>
                <a:lnTo>
                  <a:pt x="2753" y="154"/>
                </a:lnTo>
                <a:lnTo>
                  <a:pt x="2747" y="142"/>
                </a:lnTo>
                <a:lnTo>
                  <a:pt x="2737" y="131"/>
                </a:lnTo>
                <a:lnTo>
                  <a:pt x="2729" y="123"/>
                </a:lnTo>
                <a:lnTo>
                  <a:pt x="2721" y="116"/>
                </a:lnTo>
                <a:lnTo>
                  <a:pt x="2713" y="112"/>
                </a:lnTo>
                <a:lnTo>
                  <a:pt x="2704" y="107"/>
                </a:lnTo>
                <a:lnTo>
                  <a:pt x="2695" y="104"/>
                </a:lnTo>
                <a:lnTo>
                  <a:pt x="2685" y="102"/>
                </a:lnTo>
                <a:lnTo>
                  <a:pt x="2676" y="100"/>
                </a:lnTo>
                <a:lnTo>
                  <a:pt x="2666" y="102"/>
                </a:lnTo>
                <a:lnTo>
                  <a:pt x="2657" y="102"/>
                </a:lnTo>
                <a:lnTo>
                  <a:pt x="2647" y="105"/>
                </a:lnTo>
                <a:lnTo>
                  <a:pt x="2639" y="108"/>
                </a:lnTo>
                <a:lnTo>
                  <a:pt x="2630" y="113"/>
                </a:lnTo>
                <a:lnTo>
                  <a:pt x="2623" y="120"/>
                </a:lnTo>
                <a:lnTo>
                  <a:pt x="2616" y="126"/>
                </a:lnTo>
                <a:lnTo>
                  <a:pt x="2609" y="136"/>
                </a:lnTo>
                <a:lnTo>
                  <a:pt x="2605" y="146"/>
                </a:lnTo>
                <a:lnTo>
                  <a:pt x="2601" y="155"/>
                </a:lnTo>
                <a:lnTo>
                  <a:pt x="2600" y="165"/>
                </a:lnTo>
                <a:lnTo>
                  <a:pt x="2598" y="173"/>
                </a:lnTo>
                <a:lnTo>
                  <a:pt x="2598" y="183"/>
                </a:lnTo>
                <a:lnTo>
                  <a:pt x="2600" y="191"/>
                </a:lnTo>
                <a:lnTo>
                  <a:pt x="2601" y="199"/>
                </a:lnTo>
                <a:lnTo>
                  <a:pt x="2605" y="205"/>
                </a:lnTo>
                <a:lnTo>
                  <a:pt x="2608" y="210"/>
                </a:lnTo>
                <a:lnTo>
                  <a:pt x="2614" y="218"/>
                </a:lnTo>
                <a:lnTo>
                  <a:pt x="2620" y="220"/>
                </a:lnTo>
                <a:lnTo>
                  <a:pt x="2625" y="218"/>
                </a:lnTo>
                <a:lnTo>
                  <a:pt x="2630" y="213"/>
                </a:lnTo>
                <a:lnTo>
                  <a:pt x="2630" y="209"/>
                </a:lnTo>
                <a:lnTo>
                  <a:pt x="2630" y="202"/>
                </a:lnTo>
                <a:lnTo>
                  <a:pt x="2625" y="199"/>
                </a:lnTo>
                <a:lnTo>
                  <a:pt x="2617" y="201"/>
                </a:lnTo>
                <a:lnTo>
                  <a:pt x="2614" y="196"/>
                </a:lnTo>
                <a:lnTo>
                  <a:pt x="2612" y="191"/>
                </a:lnTo>
                <a:lnTo>
                  <a:pt x="2611" y="173"/>
                </a:lnTo>
                <a:lnTo>
                  <a:pt x="2612" y="157"/>
                </a:lnTo>
                <a:lnTo>
                  <a:pt x="2617" y="142"/>
                </a:lnTo>
                <a:lnTo>
                  <a:pt x="2625" y="131"/>
                </a:lnTo>
                <a:lnTo>
                  <a:pt x="2636" y="121"/>
                </a:lnTo>
                <a:lnTo>
                  <a:pt x="2649" y="115"/>
                </a:lnTo>
                <a:lnTo>
                  <a:pt x="2665" y="112"/>
                </a:lnTo>
                <a:lnTo>
                  <a:pt x="2682" y="112"/>
                </a:lnTo>
                <a:lnTo>
                  <a:pt x="2695" y="115"/>
                </a:lnTo>
                <a:lnTo>
                  <a:pt x="2704" y="120"/>
                </a:lnTo>
                <a:lnTo>
                  <a:pt x="2713" y="125"/>
                </a:lnTo>
                <a:lnTo>
                  <a:pt x="2723" y="131"/>
                </a:lnTo>
                <a:lnTo>
                  <a:pt x="2731" y="139"/>
                </a:lnTo>
                <a:lnTo>
                  <a:pt x="2737" y="147"/>
                </a:lnTo>
                <a:lnTo>
                  <a:pt x="2742" y="155"/>
                </a:lnTo>
                <a:lnTo>
                  <a:pt x="2747" y="165"/>
                </a:lnTo>
                <a:lnTo>
                  <a:pt x="2750" y="175"/>
                </a:lnTo>
                <a:lnTo>
                  <a:pt x="2751" y="186"/>
                </a:lnTo>
                <a:lnTo>
                  <a:pt x="2751" y="196"/>
                </a:lnTo>
                <a:lnTo>
                  <a:pt x="2750" y="207"/>
                </a:lnTo>
                <a:lnTo>
                  <a:pt x="2747" y="217"/>
                </a:lnTo>
                <a:lnTo>
                  <a:pt x="2742" y="228"/>
                </a:lnTo>
                <a:lnTo>
                  <a:pt x="2737" y="238"/>
                </a:lnTo>
                <a:lnTo>
                  <a:pt x="2729" y="247"/>
                </a:lnTo>
                <a:lnTo>
                  <a:pt x="2715" y="259"/>
                </a:lnTo>
                <a:lnTo>
                  <a:pt x="2699" y="268"/>
                </a:lnTo>
                <a:lnTo>
                  <a:pt x="2683" y="275"/>
                </a:lnTo>
                <a:lnTo>
                  <a:pt x="2668" y="280"/>
                </a:lnTo>
                <a:lnTo>
                  <a:pt x="2652" y="283"/>
                </a:lnTo>
                <a:lnTo>
                  <a:pt x="2636" y="283"/>
                </a:lnTo>
                <a:lnTo>
                  <a:pt x="2620" y="281"/>
                </a:lnTo>
                <a:lnTo>
                  <a:pt x="2606" y="278"/>
                </a:lnTo>
                <a:lnTo>
                  <a:pt x="2592" y="273"/>
                </a:lnTo>
                <a:lnTo>
                  <a:pt x="2578" y="265"/>
                </a:lnTo>
                <a:lnTo>
                  <a:pt x="2565" y="257"/>
                </a:lnTo>
                <a:lnTo>
                  <a:pt x="2554" y="246"/>
                </a:lnTo>
                <a:lnTo>
                  <a:pt x="2545" y="231"/>
                </a:lnTo>
                <a:lnTo>
                  <a:pt x="2537" y="217"/>
                </a:lnTo>
                <a:lnTo>
                  <a:pt x="2530" y="199"/>
                </a:lnTo>
                <a:lnTo>
                  <a:pt x="2527" y="181"/>
                </a:lnTo>
                <a:lnTo>
                  <a:pt x="2526" y="170"/>
                </a:lnTo>
                <a:lnTo>
                  <a:pt x="2527" y="157"/>
                </a:lnTo>
                <a:lnTo>
                  <a:pt x="2527" y="144"/>
                </a:lnTo>
                <a:lnTo>
                  <a:pt x="2530" y="129"/>
                </a:lnTo>
                <a:lnTo>
                  <a:pt x="2534" y="115"/>
                </a:lnTo>
                <a:lnTo>
                  <a:pt x="2537" y="102"/>
                </a:lnTo>
                <a:lnTo>
                  <a:pt x="2541" y="89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56" y="73"/>
                </a:lnTo>
                <a:lnTo>
                  <a:pt x="2564" y="65"/>
                </a:lnTo>
                <a:lnTo>
                  <a:pt x="2571" y="57"/>
                </a:lnTo>
                <a:lnTo>
                  <a:pt x="2579" y="49"/>
                </a:lnTo>
                <a:lnTo>
                  <a:pt x="2589" y="42"/>
                </a:lnTo>
                <a:lnTo>
                  <a:pt x="2598" y="36"/>
                </a:lnTo>
                <a:lnTo>
                  <a:pt x="2608" y="29"/>
                </a:lnTo>
                <a:lnTo>
                  <a:pt x="2617" y="23"/>
                </a:lnTo>
                <a:lnTo>
                  <a:pt x="2628" y="18"/>
                </a:lnTo>
                <a:lnTo>
                  <a:pt x="2639" y="13"/>
                </a:lnTo>
                <a:lnTo>
                  <a:pt x="2649" y="10"/>
                </a:lnTo>
                <a:lnTo>
                  <a:pt x="2660" y="6"/>
                </a:lnTo>
                <a:lnTo>
                  <a:pt x="2672" y="3"/>
                </a:lnTo>
                <a:lnTo>
                  <a:pt x="2683" y="2"/>
                </a:lnTo>
                <a:lnTo>
                  <a:pt x="2695" y="0"/>
                </a:lnTo>
                <a:lnTo>
                  <a:pt x="2707" y="0"/>
                </a:lnTo>
                <a:lnTo>
                  <a:pt x="2728" y="3"/>
                </a:lnTo>
                <a:lnTo>
                  <a:pt x="2747" y="6"/>
                </a:lnTo>
                <a:lnTo>
                  <a:pt x="2766" y="13"/>
                </a:lnTo>
                <a:lnTo>
                  <a:pt x="2781" y="21"/>
                </a:lnTo>
                <a:lnTo>
                  <a:pt x="2796" y="31"/>
                </a:lnTo>
                <a:lnTo>
                  <a:pt x="2808" y="42"/>
                </a:lnTo>
                <a:lnTo>
                  <a:pt x="2819" y="53"/>
                </a:lnTo>
                <a:lnTo>
                  <a:pt x="2830" y="66"/>
                </a:lnTo>
                <a:lnTo>
                  <a:pt x="2840" y="79"/>
                </a:lnTo>
                <a:lnTo>
                  <a:pt x="2848" y="94"/>
                </a:lnTo>
                <a:lnTo>
                  <a:pt x="2854" y="108"/>
                </a:lnTo>
                <a:lnTo>
                  <a:pt x="2860" y="121"/>
                </a:lnTo>
                <a:lnTo>
                  <a:pt x="2867" y="136"/>
                </a:lnTo>
                <a:lnTo>
                  <a:pt x="2871" y="150"/>
                </a:lnTo>
                <a:lnTo>
                  <a:pt x="2876" y="163"/>
                </a:lnTo>
                <a:lnTo>
                  <a:pt x="2879" y="176"/>
                </a:lnTo>
                <a:lnTo>
                  <a:pt x="2884" y="163"/>
                </a:lnTo>
                <a:lnTo>
                  <a:pt x="2887" y="150"/>
                </a:lnTo>
                <a:lnTo>
                  <a:pt x="2890" y="136"/>
                </a:lnTo>
                <a:lnTo>
                  <a:pt x="2895" y="121"/>
                </a:lnTo>
                <a:lnTo>
                  <a:pt x="2900" y="108"/>
                </a:lnTo>
                <a:lnTo>
                  <a:pt x="2906" y="94"/>
                </a:lnTo>
                <a:lnTo>
                  <a:pt x="2914" y="79"/>
                </a:lnTo>
                <a:lnTo>
                  <a:pt x="2922" y="66"/>
                </a:lnTo>
                <a:lnTo>
                  <a:pt x="2931" y="53"/>
                </a:lnTo>
                <a:lnTo>
                  <a:pt x="2942" y="42"/>
                </a:lnTo>
                <a:lnTo>
                  <a:pt x="2955" y="31"/>
                </a:lnTo>
                <a:lnTo>
                  <a:pt x="2971" y="21"/>
                </a:lnTo>
                <a:lnTo>
                  <a:pt x="2988" y="13"/>
                </a:lnTo>
                <a:lnTo>
                  <a:pt x="3007" y="6"/>
                </a:lnTo>
                <a:lnTo>
                  <a:pt x="3028" y="2"/>
                </a:lnTo>
                <a:lnTo>
                  <a:pt x="3053" y="0"/>
                </a:lnTo>
                <a:lnTo>
                  <a:pt x="3064" y="0"/>
                </a:lnTo>
                <a:lnTo>
                  <a:pt x="3077" y="2"/>
                </a:lnTo>
                <a:lnTo>
                  <a:pt x="3088" y="3"/>
                </a:lnTo>
                <a:lnTo>
                  <a:pt x="3099" y="5"/>
                </a:lnTo>
                <a:lnTo>
                  <a:pt x="3110" y="8"/>
                </a:lnTo>
                <a:lnTo>
                  <a:pt x="3121" y="13"/>
                </a:lnTo>
                <a:lnTo>
                  <a:pt x="3130" y="18"/>
                </a:lnTo>
                <a:lnTo>
                  <a:pt x="3141" y="23"/>
                </a:lnTo>
                <a:lnTo>
                  <a:pt x="3151" y="29"/>
                </a:lnTo>
                <a:lnTo>
                  <a:pt x="3160" y="34"/>
                </a:lnTo>
                <a:lnTo>
                  <a:pt x="3170" y="42"/>
                </a:lnTo>
                <a:lnTo>
                  <a:pt x="3179" y="49"/>
                </a:lnTo>
                <a:lnTo>
                  <a:pt x="3187" y="57"/>
                </a:lnTo>
                <a:lnTo>
                  <a:pt x="3195" y="65"/>
                </a:lnTo>
                <a:lnTo>
                  <a:pt x="3203" y="73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2" y="81"/>
                </a:lnTo>
                <a:lnTo>
                  <a:pt x="3217" y="89"/>
                </a:lnTo>
                <a:lnTo>
                  <a:pt x="3222" y="100"/>
                </a:lnTo>
                <a:lnTo>
                  <a:pt x="3226" y="115"/>
                </a:lnTo>
                <a:lnTo>
                  <a:pt x="3230" y="128"/>
                </a:lnTo>
                <a:lnTo>
                  <a:pt x="3231" y="142"/>
                </a:lnTo>
                <a:lnTo>
                  <a:pt x="3231" y="157"/>
                </a:lnTo>
                <a:lnTo>
                  <a:pt x="3233" y="170"/>
                </a:lnTo>
                <a:lnTo>
                  <a:pt x="3231" y="181"/>
                </a:lnTo>
                <a:lnTo>
                  <a:pt x="3228" y="199"/>
                </a:lnTo>
                <a:lnTo>
                  <a:pt x="3222" y="217"/>
                </a:lnTo>
                <a:lnTo>
                  <a:pt x="3214" y="231"/>
                </a:lnTo>
                <a:lnTo>
                  <a:pt x="3204" y="246"/>
                </a:lnTo>
                <a:lnTo>
                  <a:pt x="3193" y="257"/>
                </a:lnTo>
                <a:lnTo>
                  <a:pt x="3181" y="265"/>
                </a:lnTo>
                <a:lnTo>
                  <a:pt x="3167" y="273"/>
                </a:lnTo>
                <a:lnTo>
                  <a:pt x="3152" y="278"/>
                </a:lnTo>
                <a:lnTo>
                  <a:pt x="3138" y="281"/>
                </a:lnTo>
                <a:lnTo>
                  <a:pt x="3122" y="283"/>
                </a:lnTo>
                <a:lnTo>
                  <a:pt x="3107" y="283"/>
                </a:lnTo>
                <a:lnTo>
                  <a:pt x="3091" y="280"/>
                </a:lnTo>
                <a:lnTo>
                  <a:pt x="3075" y="275"/>
                </a:lnTo>
                <a:lnTo>
                  <a:pt x="3059" y="268"/>
                </a:lnTo>
                <a:lnTo>
                  <a:pt x="3043" y="259"/>
                </a:lnTo>
                <a:lnTo>
                  <a:pt x="3029" y="247"/>
                </a:lnTo>
                <a:lnTo>
                  <a:pt x="3021" y="238"/>
                </a:lnTo>
                <a:lnTo>
                  <a:pt x="3017" y="228"/>
                </a:lnTo>
                <a:lnTo>
                  <a:pt x="3012" y="217"/>
                </a:lnTo>
                <a:lnTo>
                  <a:pt x="3009" y="207"/>
                </a:lnTo>
                <a:lnTo>
                  <a:pt x="3007" y="196"/>
                </a:lnTo>
                <a:lnTo>
                  <a:pt x="3007" y="186"/>
                </a:lnTo>
                <a:lnTo>
                  <a:pt x="3009" y="175"/>
                </a:lnTo>
                <a:lnTo>
                  <a:pt x="3012" y="165"/>
                </a:lnTo>
                <a:lnTo>
                  <a:pt x="3017" y="155"/>
                </a:lnTo>
                <a:lnTo>
                  <a:pt x="3021" y="147"/>
                </a:lnTo>
                <a:lnTo>
                  <a:pt x="3028" y="139"/>
                </a:lnTo>
                <a:lnTo>
                  <a:pt x="3035" y="131"/>
                </a:lnTo>
                <a:lnTo>
                  <a:pt x="3045" y="125"/>
                </a:lnTo>
                <a:lnTo>
                  <a:pt x="3054" y="120"/>
                </a:lnTo>
                <a:lnTo>
                  <a:pt x="3064" y="115"/>
                </a:lnTo>
                <a:lnTo>
                  <a:pt x="3077" y="112"/>
                </a:lnTo>
                <a:lnTo>
                  <a:pt x="3094" y="112"/>
                </a:lnTo>
                <a:lnTo>
                  <a:pt x="3110" y="115"/>
                </a:lnTo>
                <a:lnTo>
                  <a:pt x="3122" y="121"/>
                </a:lnTo>
                <a:lnTo>
                  <a:pt x="3133" y="131"/>
                </a:lnTo>
                <a:lnTo>
                  <a:pt x="3141" y="142"/>
                </a:lnTo>
                <a:lnTo>
                  <a:pt x="3146" y="157"/>
                </a:lnTo>
                <a:lnTo>
                  <a:pt x="3148" y="173"/>
                </a:lnTo>
                <a:lnTo>
                  <a:pt x="3146" y="191"/>
                </a:lnTo>
                <a:lnTo>
                  <a:pt x="3144" y="196"/>
                </a:lnTo>
                <a:lnTo>
                  <a:pt x="3141" y="201"/>
                </a:lnTo>
                <a:lnTo>
                  <a:pt x="3133" y="199"/>
                </a:lnTo>
                <a:lnTo>
                  <a:pt x="3129" y="202"/>
                </a:lnTo>
                <a:lnTo>
                  <a:pt x="3129" y="209"/>
                </a:lnTo>
                <a:lnTo>
                  <a:pt x="3130" y="213"/>
                </a:lnTo>
                <a:lnTo>
                  <a:pt x="3133" y="218"/>
                </a:lnTo>
                <a:lnTo>
                  <a:pt x="3138" y="220"/>
                </a:lnTo>
                <a:lnTo>
                  <a:pt x="3144" y="218"/>
                </a:lnTo>
                <a:lnTo>
                  <a:pt x="3151" y="210"/>
                </a:lnTo>
                <a:lnTo>
                  <a:pt x="3154" y="205"/>
                </a:lnTo>
                <a:lnTo>
                  <a:pt x="3157" y="199"/>
                </a:lnTo>
                <a:lnTo>
                  <a:pt x="3159" y="191"/>
                </a:lnTo>
                <a:lnTo>
                  <a:pt x="3160" y="183"/>
                </a:lnTo>
                <a:lnTo>
                  <a:pt x="3160" y="173"/>
                </a:lnTo>
                <a:lnTo>
                  <a:pt x="3159" y="165"/>
                </a:lnTo>
                <a:lnTo>
                  <a:pt x="3157" y="155"/>
                </a:lnTo>
                <a:lnTo>
                  <a:pt x="3154" y="146"/>
                </a:lnTo>
                <a:lnTo>
                  <a:pt x="3149" y="136"/>
                </a:lnTo>
                <a:lnTo>
                  <a:pt x="3143" y="126"/>
                </a:lnTo>
                <a:lnTo>
                  <a:pt x="3135" y="120"/>
                </a:lnTo>
                <a:lnTo>
                  <a:pt x="3129" y="113"/>
                </a:lnTo>
                <a:lnTo>
                  <a:pt x="3119" y="108"/>
                </a:lnTo>
                <a:lnTo>
                  <a:pt x="3111" y="105"/>
                </a:lnTo>
                <a:lnTo>
                  <a:pt x="3102" y="102"/>
                </a:lnTo>
                <a:lnTo>
                  <a:pt x="3092" y="102"/>
                </a:lnTo>
                <a:lnTo>
                  <a:pt x="3083" y="100"/>
                </a:lnTo>
                <a:lnTo>
                  <a:pt x="3073" y="102"/>
                </a:lnTo>
                <a:lnTo>
                  <a:pt x="3064" y="104"/>
                </a:lnTo>
                <a:lnTo>
                  <a:pt x="3054" y="107"/>
                </a:lnTo>
                <a:lnTo>
                  <a:pt x="3045" y="112"/>
                </a:lnTo>
                <a:lnTo>
                  <a:pt x="3037" y="116"/>
                </a:lnTo>
                <a:lnTo>
                  <a:pt x="3029" y="123"/>
                </a:lnTo>
                <a:lnTo>
                  <a:pt x="3021" y="131"/>
                </a:lnTo>
                <a:lnTo>
                  <a:pt x="3012" y="142"/>
                </a:lnTo>
                <a:lnTo>
                  <a:pt x="3005" y="154"/>
                </a:lnTo>
                <a:lnTo>
                  <a:pt x="3001" y="165"/>
                </a:lnTo>
                <a:lnTo>
                  <a:pt x="2998" y="176"/>
                </a:lnTo>
                <a:lnTo>
                  <a:pt x="2998" y="188"/>
                </a:lnTo>
                <a:lnTo>
                  <a:pt x="2998" y="199"/>
                </a:lnTo>
                <a:lnTo>
                  <a:pt x="2999" y="210"/>
                </a:lnTo>
                <a:lnTo>
                  <a:pt x="3002" y="220"/>
                </a:lnTo>
                <a:lnTo>
                  <a:pt x="3007" y="231"/>
                </a:lnTo>
                <a:lnTo>
                  <a:pt x="3013" y="241"/>
                </a:lnTo>
                <a:lnTo>
                  <a:pt x="3020" y="249"/>
                </a:lnTo>
                <a:lnTo>
                  <a:pt x="3029" y="259"/>
                </a:lnTo>
                <a:lnTo>
                  <a:pt x="3037" y="265"/>
                </a:lnTo>
                <a:lnTo>
                  <a:pt x="3048" y="273"/>
                </a:lnTo>
                <a:lnTo>
                  <a:pt x="3059" y="278"/>
                </a:lnTo>
                <a:lnTo>
                  <a:pt x="3072" y="283"/>
                </a:lnTo>
                <a:lnTo>
                  <a:pt x="3088" y="290"/>
                </a:lnTo>
                <a:lnTo>
                  <a:pt x="3103" y="293"/>
                </a:lnTo>
                <a:lnTo>
                  <a:pt x="3121" y="293"/>
                </a:lnTo>
                <a:lnTo>
                  <a:pt x="3135" y="293"/>
                </a:lnTo>
                <a:lnTo>
                  <a:pt x="3151" y="290"/>
                </a:lnTo>
                <a:lnTo>
                  <a:pt x="3165" y="285"/>
                </a:lnTo>
                <a:lnTo>
                  <a:pt x="3178" y="280"/>
                </a:lnTo>
                <a:lnTo>
                  <a:pt x="3190" y="272"/>
                </a:lnTo>
                <a:lnTo>
                  <a:pt x="3201" y="262"/>
                </a:lnTo>
                <a:lnTo>
                  <a:pt x="3211" y="251"/>
                </a:lnTo>
                <a:lnTo>
                  <a:pt x="3220" y="239"/>
                </a:lnTo>
                <a:lnTo>
                  <a:pt x="3228" y="226"/>
                </a:lnTo>
                <a:lnTo>
                  <a:pt x="3234" y="212"/>
                </a:lnTo>
                <a:lnTo>
                  <a:pt x="3238" y="196"/>
                </a:lnTo>
                <a:lnTo>
                  <a:pt x="3241" y="180"/>
                </a:lnTo>
                <a:lnTo>
                  <a:pt x="3242" y="162"/>
                </a:lnTo>
                <a:lnTo>
                  <a:pt x="3241" y="150"/>
                </a:lnTo>
                <a:lnTo>
                  <a:pt x="3241" y="139"/>
                </a:lnTo>
                <a:lnTo>
                  <a:pt x="3238" y="128"/>
                </a:lnTo>
                <a:lnTo>
                  <a:pt x="3236" y="115"/>
                </a:lnTo>
                <a:lnTo>
                  <a:pt x="3233" y="104"/>
                </a:lnTo>
                <a:lnTo>
                  <a:pt x="3228" y="94"/>
                </a:lnTo>
                <a:lnTo>
                  <a:pt x="3225" y="82"/>
                </a:lnTo>
                <a:lnTo>
                  <a:pt x="3220" y="73"/>
                </a:lnTo>
                <a:lnTo>
                  <a:pt x="3228" y="66"/>
                </a:lnTo>
                <a:lnTo>
                  <a:pt x="3238" y="58"/>
                </a:lnTo>
                <a:lnTo>
                  <a:pt x="3249" y="52"/>
                </a:lnTo>
                <a:lnTo>
                  <a:pt x="3258" y="45"/>
                </a:lnTo>
                <a:lnTo>
                  <a:pt x="3269" y="39"/>
                </a:lnTo>
                <a:lnTo>
                  <a:pt x="3282" y="34"/>
                </a:lnTo>
                <a:lnTo>
                  <a:pt x="3293" y="29"/>
                </a:lnTo>
                <a:lnTo>
                  <a:pt x="3305" y="24"/>
                </a:lnTo>
                <a:lnTo>
                  <a:pt x="3318" y="19"/>
                </a:lnTo>
                <a:lnTo>
                  <a:pt x="3331" y="16"/>
                </a:lnTo>
                <a:lnTo>
                  <a:pt x="3343" y="13"/>
                </a:lnTo>
                <a:lnTo>
                  <a:pt x="3356" y="11"/>
                </a:lnTo>
                <a:lnTo>
                  <a:pt x="3370" y="8"/>
                </a:lnTo>
                <a:lnTo>
                  <a:pt x="3384" y="6"/>
                </a:lnTo>
                <a:lnTo>
                  <a:pt x="3399" y="6"/>
                </a:lnTo>
                <a:lnTo>
                  <a:pt x="3413" y="6"/>
                </a:lnTo>
                <a:lnTo>
                  <a:pt x="3427" y="6"/>
                </a:lnTo>
                <a:lnTo>
                  <a:pt x="3443" y="8"/>
                </a:lnTo>
                <a:lnTo>
                  <a:pt x="3455" y="10"/>
                </a:lnTo>
                <a:lnTo>
                  <a:pt x="3470" y="11"/>
                </a:lnTo>
                <a:lnTo>
                  <a:pt x="3484" y="15"/>
                </a:lnTo>
                <a:lnTo>
                  <a:pt x="3498" y="18"/>
                </a:lnTo>
                <a:lnTo>
                  <a:pt x="3512" y="23"/>
                </a:lnTo>
                <a:lnTo>
                  <a:pt x="3525" y="27"/>
                </a:lnTo>
                <a:lnTo>
                  <a:pt x="3537" y="32"/>
                </a:lnTo>
                <a:lnTo>
                  <a:pt x="3550" y="39"/>
                </a:lnTo>
                <a:lnTo>
                  <a:pt x="3561" y="45"/>
                </a:lnTo>
                <a:lnTo>
                  <a:pt x="3574" y="52"/>
                </a:lnTo>
                <a:lnTo>
                  <a:pt x="3585" y="60"/>
                </a:lnTo>
                <a:lnTo>
                  <a:pt x="3594" y="68"/>
                </a:lnTo>
                <a:lnTo>
                  <a:pt x="3605" y="76"/>
                </a:lnTo>
                <a:lnTo>
                  <a:pt x="3615" y="86"/>
                </a:lnTo>
                <a:lnTo>
                  <a:pt x="3602" y="94"/>
                </a:lnTo>
                <a:lnTo>
                  <a:pt x="3591" y="102"/>
                </a:lnTo>
                <a:lnTo>
                  <a:pt x="3582" y="110"/>
                </a:lnTo>
                <a:lnTo>
                  <a:pt x="3574" y="120"/>
                </a:lnTo>
                <a:lnTo>
                  <a:pt x="3566" y="129"/>
                </a:lnTo>
                <a:lnTo>
                  <a:pt x="3560" y="139"/>
                </a:lnTo>
                <a:lnTo>
                  <a:pt x="3556" y="149"/>
                </a:lnTo>
                <a:lnTo>
                  <a:pt x="3553" y="159"/>
                </a:lnTo>
                <a:lnTo>
                  <a:pt x="3552" y="168"/>
                </a:lnTo>
                <a:lnTo>
                  <a:pt x="3553" y="178"/>
                </a:lnTo>
                <a:lnTo>
                  <a:pt x="3556" y="188"/>
                </a:lnTo>
                <a:lnTo>
                  <a:pt x="3563" y="196"/>
                </a:lnTo>
                <a:lnTo>
                  <a:pt x="3569" y="204"/>
                </a:lnTo>
                <a:lnTo>
                  <a:pt x="3577" y="212"/>
                </a:lnTo>
                <a:lnTo>
                  <a:pt x="3586" y="220"/>
                </a:lnTo>
                <a:lnTo>
                  <a:pt x="3597" y="226"/>
                </a:lnTo>
                <a:lnTo>
                  <a:pt x="3610" y="233"/>
                </a:lnTo>
                <a:lnTo>
                  <a:pt x="3623" y="239"/>
                </a:lnTo>
                <a:lnTo>
                  <a:pt x="3637" y="244"/>
                </a:lnTo>
                <a:lnTo>
                  <a:pt x="3653" y="249"/>
                </a:lnTo>
                <a:lnTo>
                  <a:pt x="3668" y="252"/>
                </a:lnTo>
                <a:lnTo>
                  <a:pt x="3684" y="254"/>
                </a:lnTo>
                <a:lnTo>
                  <a:pt x="3700" y="256"/>
                </a:lnTo>
                <a:lnTo>
                  <a:pt x="3717" y="257"/>
                </a:lnTo>
                <a:lnTo>
                  <a:pt x="3733" y="256"/>
                </a:lnTo>
                <a:lnTo>
                  <a:pt x="3751" y="254"/>
                </a:lnTo>
                <a:lnTo>
                  <a:pt x="3766" y="252"/>
                </a:lnTo>
                <a:lnTo>
                  <a:pt x="3781" y="249"/>
                </a:lnTo>
                <a:lnTo>
                  <a:pt x="3795" y="244"/>
                </a:lnTo>
                <a:lnTo>
                  <a:pt x="3809" y="239"/>
                </a:lnTo>
                <a:lnTo>
                  <a:pt x="3822" y="233"/>
                </a:lnTo>
                <a:lnTo>
                  <a:pt x="3833" y="226"/>
                </a:lnTo>
                <a:lnTo>
                  <a:pt x="3844" y="220"/>
                </a:lnTo>
                <a:lnTo>
                  <a:pt x="3853" y="212"/>
                </a:lnTo>
                <a:lnTo>
                  <a:pt x="3861" y="204"/>
                </a:lnTo>
                <a:lnTo>
                  <a:pt x="3869" y="196"/>
                </a:lnTo>
                <a:lnTo>
                  <a:pt x="3874" y="188"/>
                </a:lnTo>
                <a:lnTo>
                  <a:pt x="3878" y="178"/>
                </a:lnTo>
                <a:lnTo>
                  <a:pt x="3880" y="168"/>
                </a:lnTo>
                <a:lnTo>
                  <a:pt x="3882" y="159"/>
                </a:lnTo>
                <a:lnTo>
                  <a:pt x="3880" y="146"/>
                </a:lnTo>
                <a:lnTo>
                  <a:pt x="3874" y="134"/>
                </a:lnTo>
                <a:lnTo>
                  <a:pt x="3866" y="121"/>
                </a:lnTo>
                <a:lnTo>
                  <a:pt x="3856" y="110"/>
                </a:lnTo>
                <a:lnTo>
                  <a:pt x="3842" y="100"/>
                </a:lnTo>
                <a:lnTo>
                  <a:pt x="3828" y="91"/>
                </a:lnTo>
                <a:lnTo>
                  <a:pt x="3811" y="81"/>
                </a:lnTo>
                <a:lnTo>
                  <a:pt x="3793" y="73"/>
                </a:lnTo>
                <a:lnTo>
                  <a:pt x="3799" y="65"/>
                </a:lnTo>
                <a:lnTo>
                  <a:pt x="3807" y="57"/>
                </a:lnTo>
                <a:lnTo>
                  <a:pt x="3818" y="49"/>
                </a:lnTo>
                <a:lnTo>
                  <a:pt x="3829" y="44"/>
                </a:lnTo>
                <a:lnTo>
                  <a:pt x="3841" y="39"/>
                </a:lnTo>
                <a:lnTo>
                  <a:pt x="3855" y="36"/>
                </a:lnTo>
                <a:lnTo>
                  <a:pt x="3869" y="32"/>
                </a:lnTo>
                <a:lnTo>
                  <a:pt x="3883" y="32"/>
                </a:lnTo>
                <a:lnTo>
                  <a:pt x="3901" y="32"/>
                </a:lnTo>
                <a:lnTo>
                  <a:pt x="3916" y="36"/>
                </a:lnTo>
                <a:lnTo>
                  <a:pt x="3931" y="40"/>
                </a:lnTo>
                <a:lnTo>
                  <a:pt x="3945" y="47"/>
                </a:lnTo>
                <a:lnTo>
                  <a:pt x="3956" y="55"/>
                </a:lnTo>
                <a:lnTo>
                  <a:pt x="3965" y="63"/>
                </a:lnTo>
                <a:lnTo>
                  <a:pt x="3973" y="71"/>
                </a:lnTo>
                <a:lnTo>
                  <a:pt x="3978" y="81"/>
                </a:lnTo>
                <a:lnTo>
                  <a:pt x="3984" y="73"/>
                </a:lnTo>
                <a:lnTo>
                  <a:pt x="3990" y="66"/>
                </a:lnTo>
                <a:lnTo>
                  <a:pt x="3998" y="58"/>
                </a:lnTo>
                <a:lnTo>
                  <a:pt x="4006" y="52"/>
                </a:lnTo>
                <a:lnTo>
                  <a:pt x="4014" y="45"/>
                </a:lnTo>
                <a:lnTo>
                  <a:pt x="4024" y="39"/>
                </a:lnTo>
                <a:lnTo>
                  <a:pt x="4033" y="34"/>
                </a:lnTo>
                <a:lnTo>
                  <a:pt x="4043" y="27"/>
                </a:lnTo>
                <a:lnTo>
                  <a:pt x="4052" y="24"/>
                </a:lnTo>
                <a:lnTo>
                  <a:pt x="4062" y="19"/>
                </a:lnTo>
                <a:lnTo>
                  <a:pt x="4073" y="16"/>
                </a:lnTo>
                <a:lnTo>
                  <a:pt x="4082" y="15"/>
                </a:lnTo>
                <a:lnTo>
                  <a:pt x="4093" y="13"/>
                </a:lnTo>
                <a:lnTo>
                  <a:pt x="4104" y="11"/>
                </a:lnTo>
                <a:lnTo>
                  <a:pt x="4114" y="11"/>
                </a:lnTo>
                <a:lnTo>
                  <a:pt x="4125" y="13"/>
                </a:lnTo>
                <a:lnTo>
                  <a:pt x="4134" y="15"/>
                </a:lnTo>
                <a:lnTo>
                  <a:pt x="4144" y="15"/>
                </a:lnTo>
                <a:lnTo>
                  <a:pt x="4153" y="16"/>
                </a:lnTo>
                <a:lnTo>
                  <a:pt x="4163" y="19"/>
                </a:lnTo>
                <a:lnTo>
                  <a:pt x="4172" y="21"/>
                </a:lnTo>
                <a:lnTo>
                  <a:pt x="4183" y="23"/>
                </a:lnTo>
                <a:lnTo>
                  <a:pt x="4191" y="26"/>
                </a:lnTo>
                <a:lnTo>
                  <a:pt x="4200" y="27"/>
                </a:lnTo>
                <a:lnTo>
                  <a:pt x="4202" y="29"/>
                </a:lnTo>
                <a:lnTo>
                  <a:pt x="4207" y="31"/>
                </a:lnTo>
                <a:lnTo>
                  <a:pt x="4216" y="34"/>
                </a:lnTo>
                <a:lnTo>
                  <a:pt x="4227" y="39"/>
                </a:lnTo>
                <a:lnTo>
                  <a:pt x="4241" y="45"/>
                </a:lnTo>
                <a:lnTo>
                  <a:pt x="4259" y="52"/>
                </a:lnTo>
                <a:lnTo>
                  <a:pt x="4278" y="60"/>
                </a:lnTo>
                <a:lnTo>
                  <a:pt x="4300" y="70"/>
                </a:lnTo>
                <a:lnTo>
                  <a:pt x="4324" y="79"/>
                </a:lnTo>
                <a:lnTo>
                  <a:pt x="4349" y="89"/>
                </a:lnTo>
                <a:lnTo>
                  <a:pt x="4377" y="100"/>
                </a:lnTo>
                <a:lnTo>
                  <a:pt x="4406" y="112"/>
                </a:lnTo>
                <a:lnTo>
                  <a:pt x="4437" y="123"/>
                </a:lnTo>
                <a:lnTo>
                  <a:pt x="4469" y="136"/>
                </a:lnTo>
                <a:lnTo>
                  <a:pt x="4500" y="149"/>
                </a:lnTo>
                <a:lnTo>
                  <a:pt x="4533" y="160"/>
                </a:lnTo>
                <a:lnTo>
                  <a:pt x="4568" y="173"/>
                </a:lnTo>
                <a:lnTo>
                  <a:pt x="4601" y="186"/>
                </a:lnTo>
                <a:lnTo>
                  <a:pt x="4636" y="197"/>
                </a:lnTo>
                <a:lnTo>
                  <a:pt x="4671" y="210"/>
                </a:lnTo>
                <a:lnTo>
                  <a:pt x="4706" y="222"/>
                </a:lnTo>
                <a:lnTo>
                  <a:pt x="4740" y="233"/>
                </a:lnTo>
                <a:lnTo>
                  <a:pt x="4773" y="243"/>
                </a:lnTo>
                <a:lnTo>
                  <a:pt x="4807" y="252"/>
                </a:lnTo>
                <a:lnTo>
                  <a:pt x="4838" y="262"/>
                </a:lnTo>
                <a:lnTo>
                  <a:pt x="4870" y="270"/>
                </a:lnTo>
                <a:lnTo>
                  <a:pt x="4900" y="277"/>
                </a:lnTo>
                <a:lnTo>
                  <a:pt x="4928" y="283"/>
                </a:lnTo>
                <a:lnTo>
                  <a:pt x="4955" y="288"/>
                </a:lnTo>
                <a:lnTo>
                  <a:pt x="4980" y="291"/>
                </a:lnTo>
                <a:lnTo>
                  <a:pt x="5004" y="294"/>
                </a:lnTo>
                <a:lnTo>
                  <a:pt x="5024" y="294"/>
                </a:lnTo>
                <a:lnTo>
                  <a:pt x="5045" y="294"/>
                </a:lnTo>
                <a:lnTo>
                  <a:pt x="5065" y="293"/>
                </a:lnTo>
                <a:lnTo>
                  <a:pt x="5084" y="290"/>
                </a:lnTo>
                <a:lnTo>
                  <a:pt x="5102" y="286"/>
                </a:lnTo>
                <a:lnTo>
                  <a:pt x="5119" y="281"/>
                </a:lnTo>
                <a:lnTo>
                  <a:pt x="5136" y="275"/>
                </a:lnTo>
                <a:lnTo>
                  <a:pt x="5151" y="268"/>
                </a:lnTo>
                <a:lnTo>
                  <a:pt x="5165" y="260"/>
                </a:lnTo>
                <a:lnTo>
                  <a:pt x="5178" y="252"/>
                </a:lnTo>
                <a:lnTo>
                  <a:pt x="5190" y="243"/>
                </a:lnTo>
                <a:lnTo>
                  <a:pt x="5200" y="233"/>
                </a:lnTo>
                <a:lnTo>
                  <a:pt x="5208" y="223"/>
                </a:lnTo>
                <a:lnTo>
                  <a:pt x="5214" y="212"/>
                </a:lnTo>
                <a:lnTo>
                  <a:pt x="5219" y="201"/>
                </a:lnTo>
                <a:lnTo>
                  <a:pt x="5222" y="189"/>
                </a:lnTo>
                <a:lnTo>
                  <a:pt x="5223" y="176"/>
                </a:lnTo>
                <a:lnTo>
                  <a:pt x="5222" y="165"/>
                </a:lnTo>
                <a:lnTo>
                  <a:pt x="5219" y="154"/>
                </a:lnTo>
                <a:lnTo>
                  <a:pt x="5214" y="142"/>
                </a:lnTo>
                <a:lnTo>
                  <a:pt x="5208" y="131"/>
                </a:lnTo>
                <a:lnTo>
                  <a:pt x="5198" y="121"/>
                </a:lnTo>
                <a:lnTo>
                  <a:pt x="5189" y="112"/>
                </a:lnTo>
                <a:lnTo>
                  <a:pt x="5178" y="104"/>
                </a:lnTo>
                <a:lnTo>
                  <a:pt x="5165" y="97"/>
                </a:lnTo>
                <a:lnTo>
                  <a:pt x="5178" y="92"/>
                </a:lnTo>
                <a:lnTo>
                  <a:pt x="5190" y="87"/>
                </a:lnTo>
                <a:lnTo>
                  <a:pt x="5204" y="84"/>
                </a:lnTo>
                <a:lnTo>
                  <a:pt x="5219" y="79"/>
                </a:lnTo>
                <a:lnTo>
                  <a:pt x="5233" y="76"/>
                </a:lnTo>
                <a:lnTo>
                  <a:pt x="5247" y="74"/>
                </a:lnTo>
                <a:lnTo>
                  <a:pt x="5263" y="73"/>
                </a:lnTo>
                <a:lnTo>
                  <a:pt x="5277" y="71"/>
                </a:lnTo>
                <a:lnTo>
                  <a:pt x="5288" y="71"/>
                </a:lnTo>
                <a:lnTo>
                  <a:pt x="5297" y="71"/>
                </a:lnTo>
                <a:lnTo>
                  <a:pt x="5307" y="73"/>
                </a:lnTo>
                <a:lnTo>
                  <a:pt x="5316" y="74"/>
                </a:lnTo>
                <a:lnTo>
                  <a:pt x="5326" y="76"/>
                </a:lnTo>
                <a:lnTo>
                  <a:pt x="5335" y="78"/>
                </a:lnTo>
                <a:lnTo>
                  <a:pt x="5345" y="79"/>
                </a:lnTo>
                <a:lnTo>
                  <a:pt x="5354" y="82"/>
                </a:lnTo>
                <a:lnTo>
                  <a:pt x="5364" y="86"/>
                </a:lnTo>
                <a:lnTo>
                  <a:pt x="5372" y="89"/>
                </a:lnTo>
                <a:lnTo>
                  <a:pt x="5380" y="92"/>
                </a:lnTo>
                <a:lnTo>
                  <a:pt x="5387" y="97"/>
                </a:lnTo>
                <a:lnTo>
                  <a:pt x="5395" y="100"/>
                </a:lnTo>
                <a:lnTo>
                  <a:pt x="5403" y="105"/>
                </a:lnTo>
                <a:lnTo>
                  <a:pt x="5410" y="110"/>
                </a:lnTo>
                <a:lnTo>
                  <a:pt x="5416" y="115"/>
                </a:lnTo>
                <a:lnTo>
                  <a:pt x="5414" y="121"/>
                </a:lnTo>
                <a:lnTo>
                  <a:pt x="5413" y="126"/>
                </a:lnTo>
                <a:lnTo>
                  <a:pt x="5411" y="131"/>
                </a:lnTo>
                <a:lnTo>
                  <a:pt x="5411" y="136"/>
                </a:lnTo>
                <a:close/>
              </a:path>
            </a:pathLst>
          </a:cu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301680"/>
          </a:xfrm>
          <a:custGeom>
            <a:avLst/>
            <a:gdLst/>
            <a:ahLst/>
            <a:rect l="l" t="t" r="r" b="b"/>
            <a:pathLst>
              <a:path w="5760" h="380">
                <a:moveTo>
                  <a:pt x="5411" y="136"/>
                </a:moveTo>
                <a:lnTo>
                  <a:pt x="5411" y="136"/>
                </a:lnTo>
                <a:lnTo>
                  <a:pt x="5410" y="160"/>
                </a:lnTo>
                <a:lnTo>
                  <a:pt x="5411" y="181"/>
                </a:lnTo>
                <a:lnTo>
                  <a:pt x="5416" y="201"/>
                </a:lnTo>
                <a:lnTo>
                  <a:pt x="5425" y="217"/>
                </a:lnTo>
                <a:lnTo>
                  <a:pt x="5438" y="231"/>
                </a:lnTo>
                <a:lnTo>
                  <a:pt x="5454" y="243"/>
                </a:lnTo>
                <a:lnTo>
                  <a:pt x="5473" y="251"/>
                </a:lnTo>
                <a:lnTo>
                  <a:pt x="5495" y="256"/>
                </a:lnTo>
                <a:lnTo>
                  <a:pt x="5495" y="256"/>
                </a:lnTo>
                <a:lnTo>
                  <a:pt x="5515" y="254"/>
                </a:lnTo>
                <a:lnTo>
                  <a:pt x="5533" y="246"/>
                </a:lnTo>
                <a:lnTo>
                  <a:pt x="5548" y="236"/>
                </a:lnTo>
                <a:lnTo>
                  <a:pt x="5561" y="222"/>
                </a:lnTo>
                <a:lnTo>
                  <a:pt x="5569" y="205"/>
                </a:lnTo>
                <a:lnTo>
                  <a:pt x="5572" y="186"/>
                </a:lnTo>
                <a:lnTo>
                  <a:pt x="5571" y="167"/>
                </a:lnTo>
                <a:lnTo>
                  <a:pt x="5563" y="147"/>
                </a:lnTo>
                <a:lnTo>
                  <a:pt x="5563" y="147"/>
                </a:lnTo>
                <a:lnTo>
                  <a:pt x="5553" y="137"/>
                </a:lnTo>
                <a:lnTo>
                  <a:pt x="5544" y="129"/>
                </a:lnTo>
                <a:lnTo>
                  <a:pt x="5534" y="125"/>
                </a:lnTo>
                <a:lnTo>
                  <a:pt x="5523" y="123"/>
                </a:lnTo>
                <a:lnTo>
                  <a:pt x="5514" y="123"/>
                </a:lnTo>
                <a:lnTo>
                  <a:pt x="5503" y="126"/>
                </a:lnTo>
                <a:lnTo>
                  <a:pt x="5493" y="133"/>
                </a:lnTo>
                <a:lnTo>
                  <a:pt x="5484" y="142"/>
                </a:lnTo>
                <a:lnTo>
                  <a:pt x="5484" y="142"/>
                </a:lnTo>
                <a:lnTo>
                  <a:pt x="5479" y="150"/>
                </a:lnTo>
                <a:lnTo>
                  <a:pt x="5477" y="160"/>
                </a:lnTo>
                <a:lnTo>
                  <a:pt x="5477" y="168"/>
                </a:lnTo>
                <a:lnTo>
                  <a:pt x="5477" y="175"/>
                </a:lnTo>
                <a:lnTo>
                  <a:pt x="5479" y="183"/>
                </a:lnTo>
                <a:lnTo>
                  <a:pt x="5482" y="191"/>
                </a:lnTo>
                <a:lnTo>
                  <a:pt x="5485" y="199"/>
                </a:lnTo>
                <a:lnTo>
                  <a:pt x="5487" y="207"/>
                </a:lnTo>
                <a:lnTo>
                  <a:pt x="5487" y="207"/>
                </a:lnTo>
                <a:lnTo>
                  <a:pt x="5493" y="213"/>
                </a:lnTo>
                <a:lnTo>
                  <a:pt x="5498" y="215"/>
                </a:lnTo>
                <a:lnTo>
                  <a:pt x="5501" y="213"/>
                </a:lnTo>
                <a:lnTo>
                  <a:pt x="5504" y="210"/>
                </a:lnTo>
                <a:lnTo>
                  <a:pt x="5506" y="207"/>
                </a:lnTo>
                <a:lnTo>
                  <a:pt x="5506" y="202"/>
                </a:lnTo>
                <a:lnTo>
                  <a:pt x="5501" y="199"/>
                </a:lnTo>
                <a:lnTo>
                  <a:pt x="5496" y="197"/>
                </a:lnTo>
                <a:lnTo>
                  <a:pt x="5496" y="197"/>
                </a:lnTo>
                <a:lnTo>
                  <a:pt x="5488" y="180"/>
                </a:lnTo>
                <a:lnTo>
                  <a:pt x="5487" y="163"/>
                </a:lnTo>
                <a:lnTo>
                  <a:pt x="5492" y="149"/>
                </a:lnTo>
                <a:lnTo>
                  <a:pt x="5500" y="139"/>
                </a:lnTo>
                <a:lnTo>
                  <a:pt x="5512" y="134"/>
                </a:lnTo>
                <a:lnTo>
                  <a:pt x="5526" y="134"/>
                </a:lnTo>
                <a:lnTo>
                  <a:pt x="5541" y="139"/>
                </a:lnTo>
                <a:lnTo>
                  <a:pt x="5555" y="154"/>
                </a:lnTo>
                <a:lnTo>
                  <a:pt x="5555" y="154"/>
                </a:lnTo>
                <a:lnTo>
                  <a:pt x="5560" y="165"/>
                </a:lnTo>
                <a:lnTo>
                  <a:pt x="5561" y="176"/>
                </a:lnTo>
                <a:lnTo>
                  <a:pt x="5563" y="188"/>
                </a:lnTo>
                <a:lnTo>
                  <a:pt x="5561" y="197"/>
                </a:lnTo>
                <a:lnTo>
                  <a:pt x="5558" y="207"/>
                </a:lnTo>
                <a:lnTo>
                  <a:pt x="5553" y="217"/>
                </a:lnTo>
                <a:lnTo>
                  <a:pt x="5547" y="223"/>
                </a:lnTo>
                <a:lnTo>
                  <a:pt x="5539" y="230"/>
                </a:lnTo>
                <a:lnTo>
                  <a:pt x="5531" y="236"/>
                </a:lnTo>
                <a:lnTo>
                  <a:pt x="5522" y="239"/>
                </a:lnTo>
                <a:lnTo>
                  <a:pt x="5512" y="243"/>
                </a:lnTo>
                <a:lnTo>
                  <a:pt x="5501" y="244"/>
                </a:lnTo>
                <a:lnTo>
                  <a:pt x="5490" y="244"/>
                </a:lnTo>
                <a:lnTo>
                  <a:pt x="5479" y="243"/>
                </a:lnTo>
                <a:lnTo>
                  <a:pt x="5468" y="239"/>
                </a:lnTo>
                <a:lnTo>
                  <a:pt x="5459" y="235"/>
                </a:lnTo>
                <a:lnTo>
                  <a:pt x="5459" y="235"/>
                </a:lnTo>
                <a:lnTo>
                  <a:pt x="5444" y="225"/>
                </a:lnTo>
                <a:lnTo>
                  <a:pt x="5435" y="215"/>
                </a:lnTo>
                <a:lnTo>
                  <a:pt x="5427" y="202"/>
                </a:lnTo>
                <a:lnTo>
                  <a:pt x="5422" y="188"/>
                </a:lnTo>
                <a:lnTo>
                  <a:pt x="5419" y="173"/>
                </a:lnTo>
                <a:lnTo>
                  <a:pt x="5419" y="157"/>
                </a:lnTo>
                <a:lnTo>
                  <a:pt x="5421" y="142"/>
                </a:lnTo>
                <a:lnTo>
                  <a:pt x="5424" y="126"/>
                </a:lnTo>
                <a:lnTo>
                  <a:pt x="5425" y="123"/>
                </a:lnTo>
                <a:lnTo>
                  <a:pt x="5429" y="118"/>
                </a:lnTo>
                <a:lnTo>
                  <a:pt x="5427" y="118"/>
                </a:lnTo>
                <a:lnTo>
                  <a:pt x="5427" y="118"/>
                </a:lnTo>
                <a:lnTo>
                  <a:pt x="5432" y="113"/>
                </a:lnTo>
                <a:lnTo>
                  <a:pt x="5438" y="105"/>
                </a:lnTo>
                <a:lnTo>
                  <a:pt x="5447" y="99"/>
                </a:lnTo>
                <a:lnTo>
                  <a:pt x="5460" y="91"/>
                </a:lnTo>
                <a:lnTo>
                  <a:pt x="5476" y="84"/>
                </a:lnTo>
                <a:lnTo>
                  <a:pt x="5495" y="78"/>
                </a:lnTo>
                <a:lnTo>
                  <a:pt x="5518" y="74"/>
                </a:lnTo>
                <a:lnTo>
                  <a:pt x="5545" y="74"/>
                </a:lnTo>
                <a:lnTo>
                  <a:pt x="5545" y="74"/>
                </a:lnTo>
                <a:lnTo>
                  <a:pt x="5564" y="76"/>
                </a:lnTo>
                <a:lnTo>
                  <a:pt x="5582" y="82"/>
                </a:lnTo>
                <a:lnTo>
                  <a:pt x="5599" y="91"/>
                </a:lnTo>
                <a:lnTo>
                  <a:pt x="5616" y="102"/>
                </a:lnTo>
                <a:lnTo>
                  <a:pt x="5634" y="115"/>
                </a:lnTo>
                <a:lnTo>
                  <a:pt x="5650" y="129"/>
                </a:lnTo>
                <a:lnTo>
                  <a:pt x="5665" y="146"/>
                </a:lnTo>
                <a:lnTo>
                  <a:pt x="5679" y="162"/>
                </a:lnTo>
                <a:lnTo>
                  <a:pt x="5692" y="180"/>
                </a:lnTo>
                <a:lnTo>
                  <a:pt x="5705" y="196"/>
                </a:lnTo>
                <a:lnTo>
                  <a:pt x="5716" y="212"/>
                </a:lnTo>
                <a:lnTo>
                  <a:pt x="5725" y="228"/>
                </a:lnTo>
                <a:lnTo>
                  <a:pt x="5733" y="241"/>
                </a:lnTo>
                <a:lnTo>
                  <a:pt x="5739" y="252"/>
                </a:lnTo>
                <a:lnTo>
                  <a:pt x="5744" y="262"/>
                </a:lnTo>
                <a:lnTo>
                  <a:pt x="5746" y="270"/>
                </a:lnTo>
                <a:lnTo>
                  <a:pt x="5746" y="270"/>
                </a:lnTo>
                <a:lnTo>
                  <a:pt x="5749" y="275"/>
                </a:lnTo>
                <a:lnTo>
                  <a:pt x="5752" y="283"/>
                </a:lnTo>
                <a:lnTo>
                  <a:pt x="5755" y="291"/>
                </a:lnTo>
                <a:lnTo>
                  <a:pt x="5758" y="299"/>
                </a:lnTo>
                <a:lnTo>
                  <a:pt x="5760" y="307"/>
                </a:lnTo>
                <a:lnTo>
                  <a:pt x="5760" y="317"/>
                </a:lnTo>
                <a:lnTo>
                  <a:pt x="5758" y="327"/>
                </a:lnTo>
                <a:lnTo>
                  <a:pt x="5754" y="335"/>
                </a:lnTo>
                <a:lnTo>
                  <a:pt x="5746" y="345"/>
                </a:lnTo>
                <a:lnTo>
                  <a:pt x="5736" y="353"/>
                </a:lnTo>
                <a:lnTo>
                  <a:pt x="5721" y="361"/>
                </a:lnTo>
                <a:lnTo>
                  <a:pt x="5700" y="367"/>
                </a:lnTo>
                <a:lnTo>
                  <a:pt x="5675" y="372"/>
                </a:lnTo>
                <a:lnTo>
                  <a:pt x="5643" y="377"/>
                </a:lnTo>
                <a:lnTo>
                  <a:pt x="5607" y="378"/>
                </a:lnTo>
                <a:lnTo>
                  <a:pt x="5561" y="380"/>
                </a:lnTo>
                <a:lnTo>
                  <a:pt x="5561" y="380"/>
                </a:lnTo>
                <a:lnTo>
                  <a:pt x="5533" y="380"/>
                </a:lnTo>
                <a:lnTo>
                  <a:pt x="5493" y="380"/>
                </a:lnTo>
                <a:lnTo>
                  <a:pt x="5444" y="380"/>
                </a:lnTo>
                <a:lnTo>
                  <a:pt x="5386" y="380"/>
                </a:lnTo>
                <a:lnTo>
                  <a:pt x="5318" y="380"/>
                </a:lnTo>
                <a:lnTo>
                  <a:pt x="5242" y="380"/>
                </a:lnTo>
                <a:lnTo>
                  <a:pt x="5160" y="380"/>
                </a:lnTo>
                <a:lnTo>
                  <a:pt x="5072" y="380"/>
                </a:lnTo>
                <a:lnTo>
                  <a:pt x="4977" y="380"/>
                </a:lnTo>
                <a:lnTo>
                  <a:pt x="4878" y="380"/>
                </a:lnTo>
                <a:lnTo>
                  <a:pt x="4773" y="380"/>
                </a:lnTo>
                <a:lnTo>
                  <a:pt x="4666" y="380"/>
                </a:lnTo>
                <a:lnTo>
                  <a:pt x="4557" y="380"/>
                </a:lnTo>
                <a:lnTo>
                  <a:pt x="4445" y="380"/>
                </a:lnTo>
                <a:lnTo>
                  <a:pt x="4331" y="380"/>
                </a:lnTo>
                <a:lnTo>
                  <a:pt x="4218" y="380"/>
                </a:lnTo>
                <a:lnTo>
                  <a:pt x="4103" y="380"/>
                </a:lnTo>
                <a:lnTo>
                  <a:pt x="3989" y="380"/>
                </a:lnTo>
                <a:lnTo>
                  <a:pt x="3878" y="380"/>
                </a:lnTo>
                <a:lnTo>
                  <a:pt x="3768" y="380"/>
                </a:lnTo>
                <a:lnTo>
                  <a:pt x="3661" y="380"/>
                </a:lnTo>
                <a:lnTo>
                  <a:pt x="3558" y="380"/>
                </a:lnTo>
                <a:lnTo>
                  <a:pt x="3460" y="380"/>
                </a:lnTo>
                <a:lnTo>
                  <a:pt x="3367" y="380"/>
                </a:lnTo>
                <a:lnTo>
                  <a:pt x="3279" y="380"/>
                </a:lnTo>
                <a:lnTo>
                  <a:pt x="3198" y="380"/>
                </a:lnTo>
                <a:lnTo>
                  <a:pt x="3124" y="380"/>
                </a:lnTo>
                <a:lnTo>
                  <a:pt x="3058" y="380"/>
                </a:lnTo>
                <a:lnTo>
                  <a:pt x="3001" y="380"/>
                </a:lnTo>
                <a:lnTo>
                  <a:pt x="2953" y="380"/>
                </a:lnTo>
                <a:lnTo>
                  <a:pt x="2916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2" y="380"/>
                </a:lnTo>
                <a:lnTo>
                  <a:pt x="2862" y="380"/>
                </a:lnTo>
                <a:lnTo>
                  <a:pt x="2829" y="380"/>
                </a:lnTo>
                <a:lnTo>
                  <a:pt x="2784" y="380"/>
                </a:lnTo>
                <a:lnTo>
                  <a:pt x="2728" y="380"/>
                </a:lnTo>
                <a:lnTo>
                  <a:pt x="2663" y="380"/>
                </a:lnTo>
                <a:lnTo>
                  <a:pt x="2587" y="380"/>
                </a:lnTo>
                <a:lnTo>
                  <a:pt x="2505" y="380"/>
                </a:lnTo>
                <a:lnTo>
                  <a:pt x="2414" y="380"/>
                </a:lnTo>
                <a:lnTo>
                  <a:pt x="2317" y="380"/>
                </a:lnTo>
                <a:lnTo>
                  <a:pt x="2215" y="380"/>
                </a:lnTo>
                <a:lnTo>
                  <a:pt x="2106" y="380"/>
                </a:lnTo>
                <a:lnTo>
                  <a:pt x="1994" y="380"/>
                </a:lnTo>
                <a:lnTo>
                  <a:pt x="1878" y="380"/>
                </a:lnTo>
                <a:lnTo>
                  <a:pt x="1760" y="380"/>
                </a:lnTo>
                <a:lnTo>
                  <a:pt x="1640" y="380"/>
                </a:lnTo>
                <a:lnTo>
                  <a:pt x="1520" y="380"/>
                </a:lnTo>
                <a:lnTo>
                  <a:pt x="1400" y="380"/>
                </a:lnTo>
                <a:lnTo>
                  <a:pt x="1280" y="380"/>
                </a:lnTo>
                <a:lnTo>
                  <a:pt x="1163" y="380"/>
                </a:lnTo>
                <a:lnTo>
                  <a:pt x="1048" y="380"/>
                </a:lnTo>
                <a:lnTo>
                  <a:pt x="938" y="380"/>
                </a:lnTo>
                <a:lnTo>
                  <a:pt x="830" y="380"/>
                </a:lnTo>
                <a:lnTo>
                  <a:pt x="728" y="380"/>
                </a:lnTo>
                <a:lnTo>
                  <a:pt x="631" y="380"/>
                </a:lnTo>
                <a:lnTo>
                  <a:pt x="543" y="380"/>
                </a:lnTo>
                <a:lnTo>
                  <a:pt x="461" y="380"/>
                </a:lnTo>
                <a:lnTo>
                  <a:pt x="388" y="380"/>
                </a:lnTo>
                <a:lnTo>
                  <a:pt x="324" y="380"/>
                </a:lnTo>
                <a:lnTo>
                  <a:pt x="270" y="380"/>
                </a:lnTo>
                <a:lnTo>
                  <a:pt x="229" y="380"/>
                </a:lnTo>
                <a:lnTo>
                  <a:pt x="197" y="380"/>
                </a:lnTo>
                <a:lnTo>
                  <a:pt x="197" y="380"/>
                </a:lnTo>
                <a:lnTo>
                  <a:pt x="153" y="378"/>
                </a:lnTo>
                <a:lnTo>
                  <a:pt x="115" y="377"/>
                </a:lnTo>
                <a:lnTo>
                  <a:pt x="84" y="372"/>
                </a:lnTo>
                <a:lnTo>
                  <a:pt x="58" y="367"/>
                </a:lnTo>
                <a:lnTo>
                  <a:pt x="38" y="361"/>
                </a:lnTo>
                <a:lnTo>
                  <a:pt x="22" y="353"/>
                </a:lnTo>
                <a:lnTo>
                  <a:pt x="11" y="345"/>
                </a:lnTo>
                <a:lnTo>
                  <a:pt x="5" y="335"/>
                </a:lnTo>
                <a:lnTo>
                  <a:pt x="2" y="327"/>
                </a:lnTo>
                <a:lnTo>
                  <a:pt x="0" y="317"/>
                </a:lnTo>
                <a:lnTo>
                  <a:pt x="0" y="307"/>
                </a:lnTo>
                <a:lnTo>
                  <a:pt x="2" y="299"/>
                </a:lnTo>
                <a:lnTo>
                  <a:pt x="3" y="291"/>
                </a:lnTo>
                <a:lnTo>
                  <a:pt x="6" y="283"/>
                </a:lnTo>
                <a:lnTo>
                  <a:pt x="9" y="275"/>
                </a:lnTo>
                <a:lnTo>
                  <a:pt x="11" y="270"/>
                </a:lnTo>
                <a:lnTo>
                  <a:pt x="11" y="270"/>
                </a:lnTo>
                <a:lnTo>
                  <a:pt x="14" y="262"/>
                </a:lnTo>
                <a:lnTo>
                  <a:pt x="19" y="252"/>
                </a:lnTo>
                <a:lnTo>
                  <a:pt x="25" y="241"/>
                </a:lnTo>
                <a:lnTo>
                  <a:pt x="33" y="228"/>
                </a:lnTo>
                <a:lnTo>
                  <a:pt x="43" y="212"/>
                </a:lnTo>
                <a:lnTo>
                  <a:pt x="54" y="196"/>
                </a:lnTo>
                <a:lnTo>
                  <a:pt x="66" y="180"/>
                </a:lnTo>
                <a:lnTo>
                  <a:pt x="79" y="162"/>
                </a:lnTo>
                <a:lnTo>
                  <a:pt x="93" y="146"/>
                </a:lnTo>
                <a:lnTo>
                  <a:pt x="109" y="131"/>
                </a:lnTo>
                <a:lnTo>
                  <a:pt x="125" y="115"/>
                </a:lnTo>
                <a:lnTo>
                  <a:pt x="142" y="102"/>
                </a:lnTo>
                <a:lnTo>
                  <a:pt x="159" y="92"/>
                </a:lnTo>
                <a:lnTo>
                  <a:pt x="177" y="82"/>
                </a:lnTo>
                <a:lnTo>
                  <a:pt x="196" y="78"/>
                </a:lnTo>
                <a:lnTo>
                  <a:pt x="213" y="74"/>
                </a:lnTo>
                <a:lnTo>
                  <a:pt x="213" y="74"/>
                </a:lnTo>
                <a:lnTo>
                  <a:pt x="242" y="76"/>
                </a:lnTo>
                <a:lnTo>
                  <a:pt x="264" y="79"/>
                </a:lnTo>
                <a:lnTo>
                  <a:pt x="283" y="84"/>
                </a:lnTo>
                <a:lnTo>
                  <a:pt x="298" y="91"/>
                </a:lnTo>
                <a:lnTo>
                  <a:pt x="311" y="99"/>
                </a:lnTo>
                <a:lnTo>
                  <a:pt x="320" y="107"/>
                </a:lnTo>
                <a:lnTo>
                  <a:pt x="327" y="113"/>
                </a:lnTo>
                <a:lnTo>
                  <a:pt x="331" y="118"/>
                </a:lnTo>
                <a:lnTo>
                  <a:pt x="330" y="120"/>
                </a:lnTo>
                <a:lnTo>
                  <a:pt x="333" y="125"/>
                </a:lnTo>
                <a:lnTo>
                  <a:pt x="335" y="128"/>
                </a:lnTo>
                <a:lnTo>
                  <a:pt x="335" y="128"/>
                </a:lnTo>
                <a:lnTo>
                  <a:pt x="338" y="142"/>
                </a:lnTo>
                <a:lnTo>
                  <a:pt x="339" y="159"/>
                </a:lnTo>
                <a:lnTo>
                  <a:pt x="339" y="173"/>
                </a:lnTo>
                <a:lnTo>
                  <a:pt x="336" y="189"/>
                </a:lnTo>
                <a:lnTo>
                  <a:pt x="331" y="202"/>
                </a:lnTo>
                <a:lnTo>
                  <a:pt x="325" y="215"/>
                </a:lnTo>
                <a:lnTo>
                  <a:pt x="314" y="226"/>
                </a:lnTo>
                <a:lnTo>
                  <a:pt x="301" y="235"/>
                </a:lnTo>
                <a:lnTo>
                  <a:pt x="301" y="235"/>
                </a:lnTo>
                <a:lnTo>
                  <a:pt x="290" y="239"/>
                </a:lnTo>
                <a:lnTo>
                  <a:pt x="279" y="243"/>
                </a:lnTo>
                <a:lnTo>
                  <a:pt x="268" y="244"/>
                </a:lnTo>
                <a:lnTo>
                  <a:pt x="259" y="244"/>
                </a:lnTo>
                <a:lnTo>
                  <a:pt x="248" y="244"/>
                </a:lnTo>
                <a:lnTo>
                  <a:pt x="238" y="241"/>
                </a:lnTo>
                <a:lnTo>
                  <a:pt x="229" y="236"/>
                </a:lnTo>
                <a:lnTo>
                  <a:pt x="219" y="231"/>
                </a:lnTo>
                <a:lnTo>
                  <a:pt x="213" y="225"/>
                </a:lnTo>
                <a:lnTo>
                  <a:pt x="207" y="217"/>
                </a:lnTo>
                <a:lnTo>
                  <a:pt x="202" y="207"/>
                </a:lnTo>
                <a:lnTo>
                  <a:pt x="199" y="199"/>
                </a:lnTo>
                <a:lnTo>
                  <a:pt x="197" y="188"/>
                </a:lnTo>
                <a:lnTo>
                  <a:pt x="197" y="176"/>
                </a:lnTo>
                <a:lnTo>
                  <a:pt x="200" y="165"/>
                </a:lnTo>
                <a:lnTo>
                  <a:pt x="205" y="154"/>
                </a:lnTo>
                <a:lnTo>
                  <a:pt x="205" y="154"/>
                </a:lnTo>
                <a:lnTo>
                  <a:pt x="219" y="141"/>
                </a:lnTo>
                <a:lnTo>
                  <a:pt x="234" y="134"/>
                </a:lnTo>
                <a:lnTo>
                  <a:pt x="248" y="134"/>
                </a:lnTo>
                <a:lnTo>
                  <a:pt x="259" y="141"/>
                </a:lnTo>
                <a:lnTo>
                  <a:pt x="268" y="150"/>
                </a:lnTo>
                <a:lnTo>
                  <a:pt x="272" y="163"/>
                </a:lnTo>
                <a:lnTo>
                  <a:pt x="270" y="180"/>
                </a:lnTo>
                <a:lnTo>
                  <a:pt x="262" y="197"/>
                </a:lnTo>
                <a:lnTo>
                  <a:pt x="262" y="197"/>
                </a:lnTo>
                <a:lnTo>
                  <a:pt x="257" y="199"/>
                </a:lnTo>
                <a:lnTo>
                  <a:pt x="254" y="202"/>
                </a:lnTo>
                <a:lnTo>
                  <a:pt x="253" y="207"/>
                </a:lnTo>
                <a:lnTo>
                  <a:pt x="254" y="210"/>
                </a:lnTo>
                <a:lnTo>
                  <a:pt x="257" y="213"/>
                </a:lnTo>
                <a:lnTo>
                  <a:pt x="260" y="215"/>
                </a:lnTo>
                <a:lnTo>
                  <a:pt x="265" y="213"/>
                </a:lnTo>
                <a:lnTo>
                  <a:pt x="272" y="207"/>
                </a:lnTo>
                <a:lnTo>
                  <a:pt x="272" y="207"/>
                </a:lnTo>
                <a:lnTo>
                  <a:pt x="273" y="199"/>
                </a:lnTo>
                <a:lnTo>
                  <a:pt x="276" y="191"/>
                </a:lnTo>
                <a:lnTo>
                  <a:pt x="279" y="183"/>
                </a:lnTo>
                <a:lnTo>
                  <a:pt x="281" y="175"/>
                </a:lnTo>
                <a:lnTo>
                  <a:pt x="281" y="168"/>
                </a:lnTo>
                <a:lnTo>
                  <a:pt x="281" y="160"/>
                </a:lnTo>
                <a:lnTo>
                  <a:pt x="279" y="152"/>
                </a:lnTo>
                <a:lnTo>
                  <a:pt x="275" y="142"/>
                </a:lnTo>
                <a:lnTo>
                  <a:pt x="275" y="142"/>
                </a:lnTo>
                <a:lnTo>
                  <a:pt x="265" y="133"/>
                </a:lnTo>
                <a:lnTo>
                  <a:pt x="256" y="128"/>
                </a:lnTo>
                <a:lnTo>
                  <a:pt x="246" y="125"/>
                </a:lnTo>
                <a:lnTo>
                  <a:pt x="235" y="125"/>
                </a:lnTo>
                <a:lnTo>
                  <a:pt x="226" y="126"/>
                </a:lnTo>
                <a:lnTo>
                  <a:pt x="216" y="131"/>
                </a:lnTo>
                <a:lnTo>
                  <a:pt x="207" y="137"/>
                </a:lnTo>
                <a:lnTo>
                  <a:pt x="197" y="147"/>
                </a:lnTo>
                <a:lnTo>
                  <a:pt x="197" y="147"/>
                </a:lnTo>
                <a:lnTo>
                  <a:pt x="189" y="168"/>
                </a:lnTo>
                <a:lnTo>
                  <a:pt x="188" y="188"/>
                </a:lnTo>
                <a:lnTo>
                  <a:pt x="191" y="205"/>
                </a:lnTo>
                <a:lnTo>
                  <a:pt x="199" y="222"/>
                </a:lnTo>
                <a:lnTo>
                  <a:pt x="210" y="236"/>
                </a:lnTo>
                <a:lnTo>
                  <a:pt x="226" y="246"/>
                </a:lnTo>
                <a:lnTo>
                  <a:pt x="245" y="254"/>
                </a:lnTo>
                <a:lnTo>
                  <a:pt x="265" y="256"/>
                </a:lnTo>
                <a:lnTo>
                  <a:pt x="265" y="256"/>
                </a:lnTo>
                <a:lnTo>
                  <a:pt x="287" y="251"/>
                </a:lnTo>
                <a:lnTo>
                  <a:pt x="306" y="243"/>
                </a:lnTo>
                <a:lnTo>
                  <a:pt x="322" y="231"/>
                </a:lnTo>
                <a:lnTo>
                  <a:pt x="335" y="218"/>
                </a:lnTo>
                <a:lnTo>
                  <a:pt x="343" y="201"/>
                </a:lnTo>
                <a:lnTo>
                  <a:pt x="349" y="183"/>
                </a:lnTo>
                <a:lnTo>
                  <a:pt x="350" y="160"/>
                </a:lnTo>
                <a:lnTo>
                  <a:pt x="349" y="136"/>
                </a:lnTo>
                <a:lnTo>
                  <a:pt x="349" y="136"/>
                </a:lnTo>
                <a:lnTo>
                  <a:pt x="347" y="131"/>
                </a:lnTo>
                <a:lnTo>
                  <a:pt x="346" y="126"/>
                </a:lnTo>
                <a:lnTo>
                  <a:pt x="344" y="121"/>
                </a:lnTo>
                <a:lnTo>
                  <a:pt x="343" y="116"/>
                </a:lnTo>
                <a:lnTo>
                  <a:pt x="343" y="116"/>
                </a:lnTo>
                <a:lnTo>
                  <a:pt x="349" y="112"/>
                </a:lnTo>
                <a:lnTo>
                  <a:pt x="355" y="107"/>
                </a:lnTo>
                <a:lnTo>
                  <a:pt x="363" y="102"/>
                </a:lnTo>
                <a:lnTo>
                  <a:pt x="371" y="97"/>
                </a:lnTo>
                <a:lnTo>
                  <a:pt x="379" y="92"/>
                </a:lnTo>
                <a:lnTo>
                  <a:pt x="387" y="89"/>
                </a:lnTo>
                <a:lnTo>
                  <a:pt x="396" y="86"/>
                </a:lnTo>
                <a:lnTo>
                  <a:pt x="404" y="82"/>
                </a:lnTo>
                <a:lnTo>
                  <a:pt x="414" y="79"/>
                </a:lnTo>
                <a:lnTo>
                  <a:pt x="423" y="78"/>
                </a:lnTo>
                <a:lnTo>
                  <a:pt x="433" y="76"/>
                </a:lnTo>
                <a:lnTo>
                  <a:pt x="442" y="74"/>
                </a:lnTo>
                <a:lnTo>
                  <a:pt x="451" y="73"/>
                </a:lnTo>
                <a:lnTo>
                  <a:pt x="463" y="71"/>
                </a:lnTo>
                <a:lnTo>
                  <a:pt x="472" y="71"/>
                </a:lnTo>
                <a:lnTo>
                  <a:pt x="481" y="71"/>
                </a:lnTo>
                <a:lnTo>
                  <a:pt x="481" y="71"/>
                </a:lnTo>
                <a:lnTo>
                  <a:pt x="497" y="73"/>
                </a:lnTo>
                <a:lnTo>
                  <a:pt x="511" y="74"/>
                </a:lnTo>
                <a:lnTo>
                  <a:pt x="526" y="76"/>
                </a:lnTo>
                <a:lnTo>
                  <a:pt x="541" y="79"/>
                </a:lnTo>
                <a:lnTo>
                  <a:pt x="554" y="84"/>
                </a:lnTo>
                <a:lnTo>
                  <a:pt x="568" y="87"/>
                </a:lnTo>
                <a:lnTo>
                  <a:pt x="581" y="92"/>
                </a:lnTo>
                <a:lnTo>
                  <a:pt x="594" y="97"/>
                </a:lnTo>
                <a:lnTo>
                  <a:pt x="594" y="97"/>
                </a:lnTo>
                <a:lnTo>
                  <a:pt x="581" y="104"/>
                </a:lnTo>
                <a:lnTo>
                  <a:pt x="570" y="113"/>
                </a:lnTo>
                <a:lnTo>
                  <a:pt x="560" y="121"/>
                </a:lnTo>
                <a:lnTo>
                  <a:pt x="552" y="133"/>
                </a:lnTo>
                <a:lnTo>
                  <a:pt x="545" y="142"/>
                </a:lnTo>
                <a:lnTo>
                  <a:pt x="540" y="154"/>
                </a:lnTo>
                <a:lnTo>
                  <a:pt x="537" y="165"/>
                </a:lnTo>
                <a:lnTo>
                  <a:pt x="537" y="178"/>
                </a:lnTo>
                <a:lnTo>
                  <a:pt x="537" y="178"/>
                </a:lnTo>
                <a:lnTo>
                  <a:pt x="537" y="189"/>
                </a:lnTo>
                <a:lnTo>
                  <a:pt x="540" y="201"/>
                </a:lnTo>
                <a:lnTo>
                  <a:pt x="545" y="212"/>
                </a:lnTo>
                <a:lnTo>
                  <a:pt x="551" y="223"/>
                </a:lnTo>
                <a:lnTo>
                  <a:pt x="560" y="233"/>
                </a:lnTo>
                <a:lnTo>
                  <a:pt x="570" y="243"/>
                </a:lnTo>
                <a:lnTo>
                  <a:pt x="581" y="252"/>
                </a:lnTo>
                <a:lnTo>
                  <a:pt x="594" y="260"/>
                </a:lnTo>
                <a:lnTo>
                  <a:pt x="608" y="268"/>
                </a:lnTo>
                <a:lnTo>
                  <a:pt x="622" y="275"/>
                </a:lnTo>
                <a:lnTo>
                  <a:pt x="639" y="281"/>
                </a:lnTo>
                <a:lnTo>
                  <a:pt x="657" y="286"/>
                </a:lnTo>
                <a:lnTo>
                  <a:pt x="674" y="290"/>
                </a:lnTo>
                <a:lnTo>
                  <a:pt x="693" y="293"/>
                </a:lnTo>
                <a:lnTo>
                  <a:pt x="713" y="294"/>
                </a:lnTo>
                <a:lnTo>
                  <a:pt x="734" y="296"/>
                </a:lnTo>
                <a:lnTo>
                  <a:pt x="734" y="296"/>
                </a:lnTo>
                <a:lnTo>
                  <a:pt x="755" y="294"/>
                </a:lnTo>
                <a:lnTo>
                  <a:pt x="778" y="293"/>
                </a:lnTo>
                <a:lnTo>
                  <a:pt x="803" y="290"/>
                </a:lnTo>
                <a:lnTo>
                  <a:pt x="830" y="285"/>
                </a:lnTo>
                <a:lnTo>
                  <a:pt x="859" y="278"/>
                </a:lnTo>
                <a:lnTo>
                  <a:pt x="889" y="270"/>
                </a:lnTo>
                <a:lnTo>
                  <a:pt x="920" y="262"/>
                </a:lnTo>
                <a:lnTo>
                  <a:pt x="952" y="254"/>
                </a:lnTo>
                <a:lnTo>
                  <a:pt x="985" y="244"/>
                </a:lnTo>
                <a:lnTo>
                  <a:pt x="1018" y="233"/>
                </a:lnTo>
                <a:lnTo>
                  <a:pt x="1053" y="222"/>
                </a:lnTo>
                <a:lnTo>
                  <a:pt x="1088" y="210"/>
                </a:lnTo>
                <a:lnTo>
                  <a:pt x="1122" y="199"/>
                </a:lnTo>
                <a:lnTo>
                  <a:pt x="1155" y="186"/>
                </a:lnTo>
                <a:lnTo>
                  <a:pt x="1190" y="173"/>
                </a:lnTo>
                <a:lnTo>
                  <a:pt x="1225" y="162"/>
                </a:lnTo>
                <a:lnTo>
                  <a:pt x="1258" y="149"/>
                </a:lnTo>
                <a:lnTo>
                  <a:pt x="1291" y="136"/>
                </a:lnTo>
                <a:lnTo>
                  <a:pt x="1323" y="125"/>
                </a:lnTo>
                <a:lnTo>
                  <a:pt x="1353" y="112"/>
                </a:lnTo>
                <a:lnTo>
                  <a:pt x="1381" y="100"/>
                </a:lnTo>
                <a:lnTo>
                  <a:pt x="1410" y="89"/>
                </a:lnTo>
                <a:lnTo>
                  <a:pt x="1435" y="79"/>
                </a:lnTo>
                <a:lnTo>
                  <a:pt x="1459" y="70"/>
                </a:lnTo>
                <a:lnTo>
                  <a:pt x="1481" y="60"/>
                </a:lnTo>
                <a:lnTo>
                  <a:pt x="1501" y="52"/>
                </a:lnTo>
                <a:lnTo>
                  <a:pt x="1517" y="45"/>
                </a:lnTo>
                <a:lnTo>
                  <a:pt x="1531" y="39"/>
                </a:lnTo>
                <a:lnTo>
                  <a:pt x="1544" y="34"/>
                </a:lnTo>
                <a:lnTo>
                  <a:pt x="1552" y="31"/>
                </a:lnTo>
                <a:lnTo>
                  <a:pt x="1558" y="29"/>
                </a:lnTo>
                <a:lnTo>
                  <a:pt x="1560" y="27"/>
                </a:lnTo>
                <a:lnTo>
                  <a:pt x="1560" y="27"/>
                </a:lnTo>
                <a:lnTo>
                  <a:pt x="1567" y="26"/>
                </a:lnTo>
                <a:lnTo>
                  <a:pt x="1577" y="23"/>
                </a:lnTo>
                <a:lnTo>
                  <a:pt x="1586" y="21"/>
                </a:lnTo>
                <a:lnTo>
                  <a:pt x="1596" y="19"/>
                </a:lnTo>
                <a:lnTo>
                  <a:pt x="1605" y="18"/>
                </a:lnTo>
                <a:lnTo>
                  <a:pt x="1616" y="16"/>
                </a:lnTo>
                <a:lnTo>
                  <a:pt x="1624" y="15"/>
                </a:lnTo>
                <a:lnTo>
                  <a:pt x="1634" y="13"/>
                </a:lnTo>
                <a:lnTo>
                  <a:pt x="1634" y="13"/>
                </a:lnTo>
                <a:lnTo>
                  <a:pt x="1645" y="13"/>
                </a:lnTo>
                <a:lnTo>
                  <a:pt x="1656" y="11"/>
                </a:lnTo>
                <a:lnTo>
                  <a:pt x="1665" y="13"/>
                </a:lnTo>
                <a:lnTo>
                  <a:pt x="1676" y="15"/>
                </a:lnTo>
                <a:lnTo>
                  <a:pt x="1687" y="16"/>
                </a:lnTo>
                <a:lnTo>
                  <a:pt x="1697" y="19"/>
                </a:lnTo>
                <a:lnTo>
                  <a:pt x="1708" y="24"/>
                </a:lnTo>
                <a:lnTo>
                  <a:pt x="1717" y="27"/>
                </a:lnTo>
                <a:lnTo>
                  <a:pt x="1727" y="34"/>
                </a:lnTo>
                <a:lnTo>
                  <a:pt x="1735" y="39"/>
                </a:lnTo>
                <a:lnTo>
                  <a:pt x="1744" y="45"/>
                </a:lnTo>
                <a:lnTo>
                  <a:pt x="1752" y="52"/>
                </a:lnTo>
                <a:lnTo>
                  <a:pt x="1760" y="60"/>
                </a:lnTo>
                <a:lnTo>
                  <a:pt x="1768" y="66"/>
                </a:lnTo>
                <a:lnTo>
                  <a:pt x="1774" y="74"/>
                </a:lnTo>
                <a:lnTo>
                  <a:pt x="1781" y="82"/>
                </a:lnTo>
                <a:lnTo>
                  <a:pt x="1781" y="82"/>
                </a:lnTo>
                <a:lnTo>
                  <a:pt x="1785" y="73"/>
                </a:lnTo>
                <a:lnTo>
                  <a:pt x="1793" y="63"/>
                </a:lnTo>
                <a:lnTo>
                  <a:pt x="1803" y="55"/>
                </a:lnTo>
                <a:lnTo>
                  <a:pt x="1814" y="47"/>
                </a:lnTo>
                <a:lnTo>
                  <a:pt x="1828" y="42"/>
                </a:lnTo>
                <a:lnTo>
                  <a:pt x="1842" y="37"/>
                </a:lnTo>
                <a:lnTo>
                  <a:pt x="1858" y="34"/>
                </a:lnTo>
                <a:lnTo>
                  <a:pt x="1875" y="32"/>
                </a:lnTo>
                <a:lnTo>
                  <a:pt x="1875" y="32"/>
                </a:lnTo>
                <a:lnTo>
                  <a:pt x="1889" y="34"/>
                </a:lnTo>
                <a:lnTo>
                  <a:pt x="1904" y="36"/>
                </a:lnTo>
                <a:lnTo>
                  <a:pt x="1918" y="39"/>
                </a:lnTo>
                <a:lnTo>
                  <a:pt x="1929" y="44"/>
                </a:lnTo>
                <a:lnTo>
                  <a:pt x="1940" y="50"/>
                </a:lnTo>
                <a:lnTo>
                  <a:pt x="1951" y="57"/>
                </a:lnTo>
                <a:lnTo>
                  <a:pt x="1959" y="65"/>
                </a:lnTo>
                <a:lnTo>
                  <a:pt x="1965" y="73"/>
                </a:lnTo>
                <a:lnTo>
                  <a:pt x="1965" y="73"/>
                </a:lnTo>
                <a:lnTo>
                  <a:pt x="1948" y="81"/>
                </a:lnTo>
                <a:lnTo>
                  <a:pt x="1931" y="91"/>
                </a:lnTo>
                <a:lnTo>
                  <a:pt x="1916" y="100"/>
                </a:lnTo>
                <a:lnTo>
                  <a:pt x="1902" y="110"/>
                </a:lnTo>
                <a:lnTo>
                  <a:pt x="1893" y="123"/>
                </a:lnTo>
                <a:lnTo>
                  <a:pt x="1885" y="134"/>
                </a:lnTo>
                <a:lnTo>
                  <a:pt x="1878" y="147"/>
                </a:lnTo>
                <a:lnTo>
                  <a:pt x="1877" y="160"/>
                </a:lnTo>
                <a:lnTo>
                  <a:pt x="1877" y="160"/>
                </a:lnTo>
                <a:lnTo>
                  <a:pt x="1878" y="170"/>
                </a:lnTo>
                <a:lnTo>
                  <a:pt x="1880" y="178"/>
                </a:lnTo>
                <a:lnTo>
                  <a:pt x="1885" y="188"/>
                </a:lnTo>
                <a:lnTo>
                  <a:pt x="1889" y="196"/>
                </a:lnTo>
                <a:lnTo>
                  <a:pt x="1897" y="205"/>
                </a:lnTo>
                <a:lnTo>
                  <a:pt x="1905" y="213"/>
                </a:lnTo>
                <a:lnTo>
                  <a:pt x="1915" y="220"/>
                </a:lnTo>
                <a:lnTo>
                  <a:pt x="1926" y="228"/>
                </a:lnTo>
                <a:lnTo>
                  <a:pt x="1937" y="235"/>
                </a:lnTo>
                <a:lnTo>
                  <a:pt x="1949" y="239"/>
                </a:lnTo>
                <a:lnTo>
                  <a:pt x="1964" y="244"/>
                </a:lnTo>
                <a:lnTo>
                  <a:pt x="1978" y="249"/>
                </a:lnTo>
                <a:lnTo>
                  <a:pt x="1992" y="252"/>
                </a:lnTo>
                <a:lnTo>
                  <a:pt x="2008" y="254"/>
                </a:lnTo>
                <a:lnTo>
                  <a:pt x="2025" y="256"/>
                </a:lnTo>
                <a:lnTo>
                  <a:pt x="2041" y="257"/>
                </a:lnTo>
                <a:lnTo>
                  <a:pt x="2041" y="257"/>
                </a:lnTo>
                <a:lnTo>
                  <a:pt x="2058" y="256"/>
                </a:lnTo>
                <a:lnTo>
                  <a:pt x="2074" y="254"/>
                </a:lnTo>
                <a:lnTo>
                  <a:pt x="2092" y="252"/>
                </a:lnTo>
                <a:lnTo>
                  <a:pt x="2106" y="249"/>
                </a:lnTo>
                <a:lnTo>
                  <a:pt x="2122" y="244"/>
                </a:lnTo>
                <a:lnTo>
                  <a:pt x="2136" y="239"/>
                </a:lnTo>
                <a:lnTo>
                  <a:pt x="2148" y="235"/>
                </a:lnTo>
                <a:lnTo>
                  <a:pt x="2161" y="228"/>
                </a:lnTo>
                <a:lnTo>
                  <a:pt x="2172" y="220"/>
                </a:lnTo>
                <a:lnTo>
                  <a:pt x="2182" y="213"/>
                </a:lnTo>
                <a:lnTo>
                  <a:pt x="2189" y="205"/>
                </a:lnTo>
                <a:lnTo>
                  <a:pt x="2197" y="196"/>
                </a:lnTo>
                <a:lnTo>
                  <a:pt x="2202" y="188"/>
                </a:lnTo>
                <a:lnTo>
                  <a:pt x="2205" y="178"/>
                </a:lnTo>
                <a:lnTo>
                  <a:pt x="2207" y="170"/>
                </a:lnTo>
                <a:lnTo>
                  <a:pt x="2205" y="160"/>
                </a:lnTo>
                <a:lnTo>
                  <a:pt x="2205" y="160"/>
                </a:lnTo>
                <a:lnTo>
                  <a:pt x="2204" y="149"/>
                </a:lnTo>
                <a:lnTo>
                  <a:pt x="2199" y="139"/>
                </a:lnTo>
                <a:lnTo>
                  <a:pt x="2193" y="129"/>
                </a:lnTo>
                <a:lnTo>
                  <a:pt x="2186" y="120"/>
                </a:lnTo>
                <a:lnTo>
                  <a:pt x="2177" y="112"/>
                </a:lnTo>
                <a:lnTo>
                  <a:pt x="2167" y="102"/>
                </a:lnTo>
                <a:lnTo>
                  <a:pt x="2156" y="94"/>
                </a:lnTo>
                <a:lnTo>
                  <a:pt x="2145" y="86"/>
                </a:lnTo>
                <a:lnTo>
                  <a:pt x="2145" y="86"/>
                </a:lnTo>
                <a:lnTo>
                  <a:pt x="2155" y="76"/>
                </a:lnTo>
                <a:lnTo>
                  <a:pt x="2164" y="68"/>
                </a:lnTo>
                <a:lnTo>
                  <a:pt x="2175" y="60"/>
                </a:lnTo>
                <a:lnTo>
                  <a:pt x="2185" y="52"/>
                </a:lnTo>
                <a:lnTo>
                  <a:pt x="2197" y="45"/>
                </a:lnTo>
                <a:lnTo>
                  <a:pt x="2208" y="39"/>
                </a:lnTo>
                <a:lnTo>
                  <a:pt x="2221" y="32"/>
                </a:lnTo>
                <a:lnTo>
                  <a:pt x="2234" y="27"/>
                </a:lnTo>
                <a:lnTo>
                  <a:pt x="2246" y="23"/>
                </a:lnTo>
                <a:lnTo>
                  <a:pt x="2260" y="18"/>
                </a:lnTo>
                <a:lnTo>
                  <a:pt x="2275" y="15"/>
                </a:lnTo>
                <a:lnTo>
                  <a:pt x="2289" y="11"/>
                </a:lnTo>
                <a:lnTo>
                  <a:pt x="2301" y="10"/>
                </a:lnTo>
                <a:lnTo>
                  <a:pt x="2317" y="8"/>
                </a:lnTo>
                <a:lnTo>
                  <a:pt x="2331" y="6"/>
                </a:lnTo>
                <a:lnTo>
                  <a:pt x="2347" y="6"/>
                </a:lnTo>
                <a:lnTo>
                  <a:pt x="2347" y="6"/>
                </a:lnTo>
                <a:lnTo>
                  <a:pt x="2361" y="6"/>
                </a:lnTo>
                <a:lnTo>
                  <a:pt x="2376" y="8"/>
                </a:lnTo>
                <a:lnTo>
                  <a:pt x="2388" y="8"/>
                </a:lnTo>
                <a:lnTo>
                  <a:pt x="2402" y="11"/>
                </a:lnTo>
                <a:lnTo>
                  <a:pt x="2415" y="13"/>
                </a:lnTo>
                <a:lnTo>
                  <a:pt x="2429" y="16"/>
                </a:lnTo>
                <a:lnTo>
                  <a:pt x="2442" y="21"/>
                </a:lnTo>
                <a:lnTo>
                  <a:pt x="2455" y="24"/>
                </a:lnTo>
                <a:lnTo>
                  <a:pt x="2466" y="29"/>
                </a:lnTo>
                <a:lnTo>
                  <a:pt x="2478" y="34"/>
                </a:lnTo>
                <a:lnTo>
                  <a:pt x="2489" y="40"/>
                </a:lnTo>
                <a:lnTo>
                  <a:pt x="2500" y="45"/>
                </a:lnTo>
                <a:lnTo>
                  <a:pt x="2510" y="52"/>
                </a:lnTo>
                <a:lnTo>
                  <a:pt x="2521" y="58"/>
                </a:lnTo>
                <a:lnTo>
                  <a:pt x="2530" y="66"/>
                </a:lnTo>
                <a:lnTo>
                  <a:pt x="2540" y="73"/>
                </a:lnTo>
                <a:lnTo>
                  <a:pt x="2540" y="73"/>
                </a:lnTo>
                <a:lnTo>
                  <a:pt x="2535" y="82"/>
                </a:lnTo>
                <a:lnTo>
                  <a:pt x="2530" y="94"/>
                </a:lnTo>
                <a:lnTo>
                  <a:pt x="2526" y="104"/>
                </a:lnTo>
                <a:lnTo>
                  <a:pt x="2522" y="115"/>
                </a:lnTo>
                <a:lnTo>
                  <a:pt x="2521" y="128"/>
                </a:lnTo>
                <a:lnTo>
                  <a:pt x="2518" y="139"/>
                </a:lnTo>
                <a:lnTo>
                  <a:pt x="2518" y="150"/>
                </a:lnTo>
                <a:lnTo>
                  <a:pt x="2516" y="162"/>
                </a:lnTo>
                <a:lnTo>
                  <a:pt x="2516" y="162"/>
                </a:lnTo>
                <a:lnTo>
                  <a:pt x="2518" y="180"/>
                </a:lnTo>
                <a:lnTo>
                  <a:pt x="2521" y="196"/>
                </a:lnTo>
                <a:lnTo>
                  <a:pt x="2524" y="212"/>
                </a:lnTo>
                <a:lnTo>
                  <a:pt x="2530" y="226"/>
                </a:lnTo>
                <a:lnTo>
                  <a:pt x="2538" y="239"/>
                </a:lnTo>
                <a:lnTo>
                  <a:pt x="2548" y="251"/>
                </a:lnTo>
                <a:lnTo>
                  <a:pt x="2557" y="262"/>
                </a:lnTo>
                <a:lnTo>
                  <a:pt x="2568" y="272"/>
                </a:lnTo>
                <a:lnTo>
                  <a:pt x="2581" y="280"/>
                </a:lnTo>
                <a:lnTo>
                  <a:pt x="2593" y="285"/>
                </a:lnTo>
                <a:lnTo>
                  <a:pt x="2608" y="290"/>
                </a:lnTo>
                <a:lnTo>
                  <a:pt x="2623" y="293"/>
                </a:lnTo>
                <a:lnTo>
                  <a:pt x="2638" y="293"/>
                </a:lnTo>
                <a:lnTo>
                  <a:pt x="2655" y="293"/>
                </a:lnTo>
                <a:lnTo>
                  <a:pt x="2671" y="290"/>
                </a:lnTo>
                <a:lnTo>
                  <a:pt x="2687" y="283"/>
                </a:lnTo>
                <a:lnTo>
                  <a:pt x="2687" y="283"/>
                </a:lnTo>
                <a:lnTo>
                  <a:pt x="2699" y="278"/>
                </a:lnTo>
                <a:lnTo>
                  <a:pt x="2710" y="273"/>
                </a:lnTo>
                <a:lnTo>
                  <a:pt x="2721" y="265"/>
                </a:lnTo>
                <a:lnTo>
                  <a:pt x="2729" y="259"/>
                </a:lnTo>
                <a:lnTo>
                  <a:pt x="2739" y="249"/>
                </a:lnTo>
                <a:lnTo>
                  <a:pt x="2745" y="241"/>
                </a:lnTo>
                <a:lnTo>
                  <a:pt x="2751" y="231"/>
                </a:lnTo>
                <a:lnTo>
                  <a:pt x="2756" y="220"/>
                </a:lnTo>
                <a:lnTo>
                  <a:pt x="2759" y="210"/>
                </a:lnTo>
                <a:lnTo>
                  <a:pt x="2761" y="199"/>
                </a:lnTo>
                <a:lnTo>
                  <a:pt x="2761" y="188"/>
                </a:lnTo>
                <a:lnTo>
                  <a:pt x="2761" y="176"/>
                </a:lnTo>
                <a:lnTo>
                  <a:pt x="2758" y="165"/>
                </a:lnTo>
                <a:lnTo>
                  <a:pt x="2753" y="154"/>
                </a:lnTo>
                <a:lnTo>
                  <a:pt x="2747" y="142"/>
                </a:lnTo>
                <a:lnTo>
                  <a:pt x="2737" y="131"/>
                </a:lnTo>
                <a:lnTo>
                  <a:pt x="2737" y="131"/>
                </a:lnTo>
                <a:lnTo>
                  <a:pt x="2729" y="123"/>
                </a:lnTo>
                <a:lnTo>
                  <a:pt x="2721" y="116"/>
                </a:lnTo>
                <a:lnTo>
                  <a:pt x="2713" y="112"/>
                </a:lnTo>
                <a:lnTo>
                  <a:pt x="2704" y="107"/>
                </a:lnTo>
                <a:lnTo>
                  <a:pt x="2695" y="104"/>
                </a:lnTo>
                <a:lnTo>
                  <a:pt x="2685" y="102"/>
                </a:lnTo>
                <a:lnTo>
                  <a:pt x="2676" y="100"/>
                </a:lnTo>
                <a:lnTo>
                  <a:pt x="2666" y="102"/>
                </a:lnTo>
                <a:lnTo>
                  <a:pt x="2657" y="102"/>
                </a:lnTo>
                <a:lnTo>
                  <a:pt x="2647" y="105"/>
                </a:lnTo>
                <a:lnTo>
                  <a:pt x="2639" y="108"/>
                </a:lnTo>
                <a:lnTo>
                  <a:pt x="2630" y="113"/>
                </a:lnTo>
                <a:lnTo>
                  <a:pt x="2623" y="120"/>
                </a:lnTo>
                <a:lnTo>
                  <a:pt x="2616" y="126"/>
                </a:lnTo>
                <a:lnTo>
                  <a:pt x="2609" y="136"/>
                </a:lnTo>
                <a:lnTo>
                  <a:pt x="2605" y="146"/>
                </a:lnTo>
                <a:lnTo>
                  <a:pt x="2605" y="146"/>
                </a:lnTo>
                <a:lnTo>
                  <a:pt x="2601" y="155"/>
                </a:lnTo>
                <a:lnTo>
                  <a:pt x="2600" y="165"/>
                </a:lnTo>
                <a:lnTo>
                  <a:pt x="2598" y="173"/>
                </a:lnTo>
                <a:lnTo>
                  <a:pt x="2598" y="183"/>
                </a:lnTo>
                <a:lnTo>
                  <a:pt x="2600" y="191"/>
                </a:lnTo>
                <a:lnTo>
                  <a:pt x="2601" y="199"/>
                </a:lnTo>
                <a:lnTo>
                  <a:pt x="2605" y="205"/>
                </a:lnTo>
                <a:lnTo>
                  <a:pt x="2608" y="210"/>
                </a:lnTo>
                <a:lnTo>
                  <a:pt x="2608" y="210"/>
                </a:lnTo>
                <a:lnTo>
                  <a:pt x="2614" y="218"/>
                </a:lnTo>
                <a:lnTo>
                  <a:pt x="2620" y="220"/>
                </a:lnTo>
                <a:lnTo>
                  <a:pt x="2625" y="218"/>
                </a:lnTo>
                <a:lnTo>
                  <a:pt x="2630" y="213"/>
                </a:lnTo>
                <a:lnTo>
                  <a:pt x="2630" y="209"/>
                </a:lnTo>
                <a:lnTo>
                  <a:pt x="2630" y="202"/>
                </a:lnTo>
                <a:lnTo>
                  <a:pt x="2625" y="199"/>
                </a:lnTo>
                <a:lnTo>
                  <a:pt x="2617" y="201"/>
                </a:lnTo>
                <a:lnTo>
                  <a:pt x="2614" y="196"/>
                </a:lnTo>
                <a:lnTo>
                  <a:pt x="2612" y="191"/>
                </a:lnTo>
                <a:lnTo>
                  <a:pt x="2612" y="191"/>
                </a:lnTo>
                <a:lnTo>
                  <a:pt x="2611" y="173"/>
                </a:lnTo>
                <a:lnTo>
                  <a:pt x="2612" y="157"/>
                </a:lnTo>
                <a:lnTo>
                  <a:pt x="2617" y="142"/>
                </a:lnTo>
                <a:lnTo>
                  <a:pt x="2625" y="131"/>
                </a:lnTo>
                <a:lnTo>
                  <a:pt x="2636" y="121"/>
                </a:lnTo>
                <a:lnTo>
                  <a:pt x="2649" y="115"/>
                </a:lnTo>
                <a:lnTo>
                  <a:pt x="2665" y="112"/>
                </a:lnTo>
                <a:lnTo>
                  <a:pt x="2682" y="112"/>
                </a:lnTo>
                <a:lnTo>
                  <a:pt x="2682" y="112"/>
                </a:lnTo>
                <a:lnTo>
                  <a:pt x="2695" y="115"/>
                </a:lnTo>
                <a:lnTo>
                  <a:pt x="2704" y="120"/>
                </a:lnTo>
                <a:lnTo>
                  <a:pt x="2713" y="125"/>
                </a:lnTo>
                <a:lnTo>
                  <a:pt x="2723" y="131"/>
                </a:lnTo>
                <a:lnTo>
                  <a:pt x="2731" y="139"/>
                </a:lnTo>
                <a:lnTo>
                  <a:pt x="2737" y="147"/>
                </a:lnTo>
                <a:lnTo>
                  <a:pt x="2742" y="155"/>
                </a:lnTo>
                <a:lnTo>
                  <a:pt x="2747" y="165"/>
                </a:lnTo>
                <a:lnTo>
                  <a:pt x="2750" y="175"/>
                </a:lnTo>
                <a:lnTo>
                  <a:pt x="2751" y="186"/>
                </a:lnTo>
                <a:lnTo>
                  <a:pt x="2751" y="196"/>
                </a:lnTo>
                <a:lnTo>
                  <a:pt x="2750" y="207"/>
                </a:lnTo>
                <a:lnTo>
                  <a:pt x="2747" y="217"/>
                </a:lnTo>
                <a:lnTo>
                  <a:pt x="2742" y="228"/>
                </a:lnTo>
                <a:lnTo>
                  <a:pt x="2737" y="238"/>
                </a:lnTo>
                <a:lnTo>
                  <a:pt x="2729" y="247"/>
                </a:lnTo>
                <a:lnTo>
                  <a:pt x="2729" y="247"/>
                </a:lnTo>
                <a:lnTo>
                  <a:pt x="2715" y="259"/>
                </a:lnTo>
                <a:lnTo>
                  <a:pt x="2699" y="268"/>
                </a:lnTo>
                <a:lnTo>
                  <a:pt x="2683" y="275"/>
                </a:lnTo>
                <a:lnTo>
                  <a:pt x="2668" y="280"/>
                </a:lnTo>
                <a:lnTo>
                  <a:pt x="2652" y="283"/>
                </a:lnTo>
                <a:lnTo>
                  <a:pt x="2636" y="283"/>
                </a:lnTo>
                <a:lnTo>
                  <a:pt x="2620" y="281"/>
                </a:lnTo>
                <a:lnTo>
                  <a:pt x="2606" y="278"/>
                </a:lnTo>
                <a:lnTo>
                  <a:pt x="2592" y="273"/>
                </a:lnTo>
                <a:lnTo>
                  <a:pt x="2578" y="265"/>
                </a:lnTo>
                <a:lnTo>
                  <a:pt x="2565" y="257"/>
                </a:lnTo>
                <a:lnTo>
                  <a:pt x="2554" y="246"/>
                </a:lnTo>
                <a:lnTo>
                  <a:pt x="2545" y="231"/>
                </a:lnTo>
                <a:lnTo>
                  <a:pt x="2537" y="217"/>
                </a:lnTo>
                <a:lnTo>
                  <a:pt x="2530" y="199"/>
                </a:lnTo>
                <a:lnTo>
                  <a:pt x="2527" y="181"/>
                </a:lnTo>
                <a:lnTo>
                  <a:pt x="2527" y="181"/>
                </a:lnTo>
                <a:lnTo>
                  <a:pt x="2526" y="170"/>
                </a:lnTo>
                <a:lnTo>
                  <a:pt x="2527" y="157"/>
                </a:lnTo>
                <a:lnTo>
                  <a:pt x="2527" y="144"/>
                </a:lnTo>
                <a:lnTo>
                  <a:pt x="2530" y="129"/>
                </a:lnTo>
                <a:lnTo>
                  <a:pt x="2534" y="115"/>
                </a:lnTo>
                <a:lnTo>
                  <a:pt x="2537" y="102"/>
                </a:lnTo>
                <a:lnTo>
                  <a:pt x="2541" y="89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56" y="73"/>
                </a:lnTo>
                <a:lnTo>
                  <a:pt x="2564" y="65"/>
                </a:lnTo>
                <a:lnTo>
                  <a:pt x="2571" y="57"/>
                </a:lnTo>
                <a:lnTo>
                  <a:pt x="2579" y="49"/>
                </a:lnTo>
                <a:lnTo>
                  <a:pt x="2589" y="42"/>
                </a:lnTo>
                <a:lnTo>
                  <a:pt x="2598" y="36"/>
                </a:lnTo>
                <a:lnTo>
                  <a:pt x="2608" y="29"/>
                </a:lnTo>
                <a:lnTo>
                  <a:pt x="2617" y="23"/>
                </a:lnTo>
                <a:lnTo>
                  <a:pt x="2628" y="18"/>
                </a:lnTo>
                <a:lnTo>
                  <a:pt x="2639" y="13"/>
                </a:lnTo>
                <a:lnTo>
                  <a:pt x="2649" y="10"/>
                </a:lnTo>
                <a:lnTo>
                  <a:pt x="2660" y="6"/>
                </a:lnTo>
                <a:lnTo>
                  <a:pt x="2672" y="3"/>
                </a:lnTo>
                <a:lnTo>
                  <a:pt x="2683" y="2"/>
                </a:lnTo>
                <a:lnTo>
                  <a:pt x="2695" y="0"/>
                </a:lnTo>
                <a:lnTo>
                  <a:pt x="2707" y="0"/>
                </a:lnTo>
                <a:lnTo>
                  <a:pt x="2707" y="0"/>
                </a:lnTo>
                <a:lnTo>
                  <a:pt x="2728" y="3"/>
                </a:lnTo>
                <a:lnTo>
                  <a:pt x="2747" y="6"/>
                </a:lnTo>
                <a:lnTo>
                  <a:pt x="2766" y="13"/>
                </a:lnTo>
                <a:lnTo>
                  <a:pt x="2781" y="21"/>
                </a:lnTo>
                <a:lnTo>
                  <a:pt x="2796" y="31"/>
                </a:lnTo>
                <a:lnTo>
                  <a:pt x="2808" y="42"/>
                </a:lnTo>
                <a:lnTo>
                  <a:pt x="2819" y="53"/>
                </a:lnTo>
                <a:lnTo>
                  <a:pt x="2830" y="66"/>
                </a:lnTo>
                <a:lnTo>
                  <a:pt x="2840" y="79"/>
                </a:lnTo>
                <a:lnTo>
                  <a:pt x="2848" y="94"/>
                </a:lnTo>
                <a:lnTo>
                  <a:pt x="2854" y="108"/>
                </a:lnTo>
                <a:lnTo>
                  <a:pt x="2860" y="121"/>
                </a:lnTo>
                <a:lnTo>
                  <a:pt x="2867" y="136"/>
                </a:lnTo>
                <a:lnTo>
                  <a:pt x="2871" y="150"/>
                </a:lnTo>
                <a:lnTo>
                  <a:pt x="2876" y="163"/>
                </a:lnTo>
                <a:lnTo>
                  <a:pt x="2879" y="176"/>
                </a:lnTo>
                <a:lnTo>
                  <a:pt x="2879" y="176"/>
                </a:lnTo>
                <a:lnTo>
                  <a:pt x="2884" y="163"/>
                </a:lnTo>
                <a:lnTo>
                  <a:pt x="2887" y="150"/>
                </a:lnTo>
                <a:lnTo>
                  <a:pt x="2890" y="136"/>
                </a:lnTo>
                <a:lnTo>
                  <a:pt x="2895" y="121"/>
                </a:lnTo>
                <a:lnTo>
                  <a:pt x="2900" y="108"/>
                </a:lnTo>
                <a:lnTo>
                  <a:pt x="2906" y="94"/>
                </a:lnTo>
                <a:lnTo>
                  <a:pt x="2914" y="79"/>
                </a:lnTo>
                <a:lnTo>
                  <a:pt x="2922" y="66"/>
                </a:lnTo>
                <a:lnTo>
                  <a:pt x="2931" y="53"/>
                </a:lnTo>
                <a:lnTo>
                  <a:pt x="2942" y="42"/>
                </a:lnTo>
                <a:lnTo>
                  <a:pt x="2955" y="31"/>
                </a:lnTo>
                <a:lnTo>
                  <a:pt x="2971" y="21"/>
                </a:lnTo>
                <a:lnTo>
                  <a:pt x="2988" y="13"/>
                </a:lnTo>
                <a:lnTo>
                  <a:pt x="3007" y="6"/>
                </a:lnTo>
                <a:lnTo>
                  <a:pt x="3028" y="2"/>
                </a:lnTo>
                <a:lnTo>
                  <a:pt x="3053" y="0"/>
                </a:lnTo>
                <a:lnTo>
                  <a:pt x="3053" y="0"/>
                </a:lnTo>
                <a:lnTo>
                  <a:pt x="3064" y="0"/>
                </a:lnTo>
                <a:lnTo>
                  <a:pt x="3077" y="2"/>
                </a:lnTo>
                <a:lnTo>
                  <a:pt x="3088" y="3"/>
                </a:lnTo>
                <a:lnTo>
                  <a:pt x="3099" y="5"/>
                </a:lnTo>
                <a:lnTo>
                  <a:pt x="3110" y="8"/>
                </a:lnTo>
                <a:lnTo>
                  <a:pt x="3121" y="13"/>
                </a:lnTo>
                <a:lnTo>
                  <a:pt x="3130" y="18"/>
                </a:lnTo>
                <a:lnTo>
                  <a:pt x="3141" y="23"/>
                </a:lnTo>
                <a:lnTo>
                  <a:pt x="3151" y="29"/>
                </a:lnTo>
                <a:lnTo>
                  <a:pt x="3160" y="34"/>
                </a:lnTo>
                <a:lnTo>
                  <a:pt x="3170" y="42"/>
                </a:lnTo>
                <a:lnTo>
                  <a:pt x="3179" y="49"/>
                </a:lnTo>
                <a:lnTo>
                  <a:pt x="3187" y="57"/>
                </a:lnTo>
                <a:lnTo>
                  <a:pt x="3195" y="65"/>
                </a:lnTo>
                <a:lnTo>
                  <a:pt x="3203" y="73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2" y="81"/>
                </a:lnTo>
                <a:lnTo>
                  <a:pt x="3212" y="81"/>
                </a:lnTo>
                <a:lnTo>
                  <a:pt x="3217" y="89"/>
                </a:lnTo>
                <a:lnTo>
                  <a:pt x="3222" y="100"/>
                </a:lnTo>
                <a:lnTo>
                  <a:pt x="3226" y="115"/>
                </a:lnTo>
                <a:lnTo>
                  <a:pt x="3230" y="128"/>
                </a:lnTo>
                <a:lnTo>
                  <a:pt x="3231" y="142"/>
                </a:lnTo>
                <a:lnTo>
                  <a:pt x="3231" y="157"/>
                </a:lnTo>
                <a:lnTo>
                  <a:pt x="3233" y="170"/>
                </a:lnTo>
                <a:lnTo>
                  <a:pt x="3231" y="181"/>
                </a:lnTo>
                <a:lnTo>
                  <a:pt x="3231" y="181"/>
                </a:lnTo>
                <a:lnTo>
                  <a:pt x="3228" y="199"/>
                </a:lnTo>
                <a:lnTo>
                  <a:pt x="3222" y="217"/>
                </a:lnTo>
                <a:lnTo>
                  <a:pt x="3214" y="231"/>
                </a:lnTo>
                <a:lnTo>
                  <a:pt x="3204" y="246"/>
                </a:lnTo>
                <a:lnTo>
                  <a:pt x="3193" y="257"/>
                </a:lnTo>
                <a:lnTo>
                  <a:pt x="3181" y="265"/>
                </a:lnTo>
                <a:lnTo>
                  <a:pt x="3167" y="273"/>
                </a:lnTo>
                <a:lnTo>
                  <a:pt x="3152" y="278"/>
                </a:lnTo>
                <a:lnTo>
                  <a:pt x="3138" y="281"/>
                </a:lnTo>
                <a:lnTo>
                  <a:pt x="3122" y="283"/>
                </a:lnTo>
                <a:lnTo>
                  <a:pt x="3107" y="283"/>
                </a:lnTo>
                <a:lnTo>
                  <a:pt x="3091" y="280"/>
                </a:lnTo>
                <a:lnTo>
                  <a:pt x="3075" y="275"/>
                </a:lnTo>
                <a:lnTo>
                  <a:pt x="3059" y="268"/>
                </a:lnTo>
                <a:lnTo>
                  <a:pt x="3043" y="259"/>
                </a:lnTo>
                <a:lnTo>
                  <a:pt x="3029" y="247"/>
                </a:lnTo>
                <a:lnTo>
                  <a:pt x="3029" y="247"/>
                </a:lnTo>
                <a:lnTo>
                  <a:pt x="3021" y="238"/>
                </a:lnTo>
                <a:lnTo>
                  <a:pt x="3017" y="228"/>
                </a:lnTo>
                <a:lnTo>
                  <a:pt x="3012" y="217"/>
                </a:lnTo>
                <a:lnTo>
                  <a:pt x="3009" y="207"/>
                </a:lnTo>
                <a:lnTo>
                  <a:pt x="3007" y="196"/>
                </a:lnTo>
                <a:lnTo>
                  <a:pt x="3007" y="186"/>
                </a:lnTo>
                <a:lnTo>
                  <a:pt x="3009" y="175"/>
                </a:lnTo>
                <a:lnTo>
                  <a:pt x="3012" y="165"/>
                </a:lnTo>
                <a:lnTo>
                  <a:pt x="3017" y="155"/>
                </a:lnTo>
                <a:lnTo>
                  <a:pt x="3021" y="147"/>
                </a:lnTo>
                <a:lnTo>
                  <a:pt x="3028" y="139"/>
                </a:lnTo>
                <a:lnTo>
                  <a:pt x="3035" y="131"/>
                </a:lnTo>
                <a:lnTo>
                  <a:pt x="3045" y="125"/>
                </a:lnTo>
                <a:lnTo>
                  <a:pt x="3054" y="120"/>
                </a:lnTo>
                <a:lnTo>
                  <a:pt x="3064" y="115"/>
                </a:lnTo>
                <a:lnTo>
                  <a:pt x="3077" y="112"/>
                </a:lnTo>
                <a:lnTo>
                  <a:pt x="3077" y="112"/>
                </a:lnTo>
                <a:lnTo>
                  <a:pt x="3094" y="112"/>
                </a:lnTo>
                <a:lnTo>
                  <a:pt x="3110" y="115"/>
                </a:lnTo>
                <a:lnTo>
                  <a:pt x="3122" y="121"/>
                </a:lnTo>
                <a:lnTo>
                  <a:pt x="3133" y="131"/>
                </a:lnTo>
                <a:lnTo>
                  <a:pt x="3141" y="142"/>
                </a:lnTo>
                <a:lnTo>
                  <a:pt x="3146" y="157"/>
                </a:lnTo>
                <a:lnTo>
                  <a:pt x="3148" y="173"/>
                </a:lnTo>
                <a:lnTo>
                  <a:pt x="3146" y="191"/>
                </a:lnTo>
                <a:lnTo>
                  <a:pt x="3144" y="196"/>
                </a:lnTo>
                <a:lnTo>
                  <a:pt x="3141" y="201"/>
                </a:lnTo>
                <a:lnTo>
                  <a:pt x="3141" y="201"/>
                </a:lnTo>
                <a:lnTo>
                  <a:pt x="3133" y="199"/>
                </a:lnTo>
                <a:lnTo>
                  <a:pt x="3129" y="202"/>
                </a:lnTo>
                <a:lnTo>
                  <a:pt x="3129" y="209"/>
                </a:lnTo>
                <a:lnTo>
                  <a:pt x="3130" y="213"/>
                </a:lnTo>
                <a:lnTo>
                  <a:pt x="3133" y="218"/>
                </a:lnTo>
                <a:lnTo>
                  <a:pt x="3138" y="220"/>
                </a:lnTo>
                <a:lnTo>
                  <a:pt x="3144" y="218"/>
                </a:lnTo>
                <a:lnTo>
                  <a:pt x="3151" y="210"/>
                </a:lnTo>
                <a:lnTo>
                  <a:pt x="3151" y="210"/>
                </a:lnTo>
                <a:lnTo>
                  <a:pt x="3154" y="205"/>
                </a:lnTo>
                <a:lnTo>
                  <a:pt x="3157" y="199"/>
                </a:lnTo>
                <a:lnTo>
                  <a:pt x="3159" y="191"/>
                </a:lnTo>
                <a:lnTo>
                  <a:pt x="3160" y="183"/>
                </a:lnTo>
                <a:lnTo>
                  <a:pt x="3160" y="173"/>
                </a:lnTo>
                <a:lnTo>
                  <a:pt x="3159" y="165"/>
                </a:lnTo>
                <a:lnTo>
                  <a:pt x="3157" y="155"/>
                </a:lnTo>
                <a:lnTo>
                  <a:pt x="3154" y="146"/>
                </a:lnTo>
                <a:lnTo>
                  <a:pt x="3154" y="146"/>
                </a:lnTo>
                <a:lnTo>
                  <a:pt x="3149" y="136"/>
                </a:lnTo>
                <a:lnTo>
                  <a:pt x="3143" y="126"/>
                </a:lnTo>
                <a:lnTo>
                  <a:pt x="3135" y="120"/>
                </a:lnTo>
                <a:lnTo>
                  <a:pt x="3129" y="113"/>
                </a:lnTo>
                <a:lnTo>
                  <a:pt x="3119" y="108"/>
                </a:lnTo>
                <a:lnTo>
                  <a:pt x="3111" y="105"/>
                </a:lnTo>
                <a:lnTo>
                  <a:pt x="3102" y="102"/>
                </a:lnTo>
                <a:lnTo>
                  <a:pt x="3092" y="102"/>
                </a:lnTo>
                <a:lnTo>
                  <a:pt x="3083" y="100"/>
                </a:lnTo>
                <a:lnTo>
                  <a:pt x="3073" y="102"/>
                </a:lnTo>
                <a:lnTo>
                  <a:pt x="3064" y="104"/>
                </a:lnTo>
                <a:lnTo>
                  <a:pt x="3054" y="107"/>
                </a:lnTo>
                <a:lnTo>
                  <a:pt x="3045" y="112"/>
                </a:lnTo>
                <a:lnTo>
                  <a:pt x="3037" y="116"/>
                </a:lnTo>
                <a:lnTo>
                  <a:pt x="3029" y="123"/>
                </a:lnTo>
                <a:lnTo>
                  <a:pt x="3021" y="131"/>
                </a:lnTo>
                <a:lnTo>
                  <a:pt x="3021" y="131"/>
                </a:lnTo>
                <a:lnTo>
                  <a:pt x="3012" y="142"/>
                </a:lnTo>
                <a:lnTo>
                  <a:pt x="3005" y="154"/>
                </a:lnTo>
                <a:lnTo>
                  <a:pt x="3001" y="165"/>
                </a:lnTo>
                <a:lnTo>
                  <a:pt x="2998" y="176"/>
                </a:lnTo>
                <a:lnTo>
                  <a:pt x="2998" y="188"/>
                </a:lnTo>
                <a:lnTo>
                  <a:pt x="2998" y="199"/>
                </a:lnTo>
                <a:lnTo>
                  <a:pt x="2999" y="210"/>
                </a:lnTo>
                <a:lnTo>
                  <a:pt x="3002" y="220"/>
                </a:lnTo>
                <a:lnTo>
                  <a:pt x="3007" y="231"/>
                </a:lnTo>
                <a:lnTo>
                  <a:pt x="3013" y="241"/>
                </a:lnTo>
                <a:lnTo>
                  <a:pt x="3020" y="249"/>
                </a:lnTo>
                <a:lnTo>
                  <a:pt x="3029" y="259"/>
                </a:lnTo>
                <a:lnTo>
                  <a:pt x="3037" y="265"/>
                </a:lnTo>
                <a:lnTo>
                  <a:pt x="3048" y="273"/>
                </a:lnTo>
                <a:lnTo>
                  <a:pt x="3059" y="278"/>
                </a:lnTo>
                <a:lnTo>
                  <a:pt x="3072" y="283"/>
                </a:lnTo>
                <a:lnTo>
                  <a:pt x="3072" y="283"/>
                </a:lnTo>
                <a:lnTo>
                  <a:pt x="3088" y="290"/>
                </a:lnTo>
                <a:lnTo>
                  <a:pt x="3103" y="293"/>
                </a:lnTo>
                <a:lnTo>
                  <a:pt x="3121" y="293"/>
                </a:lnTo>
                <a:lnTo>
                  <a:pt x="3135" y="293"/>
                </a:lnTo>
                <a:lnTo>
                  <a:pt x="3151" y="290"/>
                </a:lnTo>
                <a:lnTo>
                  <a:pt x="3165" y="285"/>
                </a:lnTo>
                <a:lnTo>
                  <a:pt x="3178" y="280"/>
                </a:lnTo>
                <a:lnTo>
                  <a:pt x="3190" y="272"/>
                </a:lnTo>
                <a:lnTo>
                  <a:pt x="3201" y="262"/>
                </a:lnTo>
                <a:lnTo>
                  <a:pt x="3211" y="251"/>
                </a:lnTo>
                <a:lnTo>
                  <a:pt x="3220" y="239"/>
                </a:lnTo>
                <a:lnTo>
                  <a:pt x="3228" y="226"/>
                </a:lnTo>
                <a:lnTo>
                  <a:pt x="3234" y="212"/>
                </a:lnTo>
                <a:lnTo>
                  <a:pt x="3238" y="196"/>
                </a:lnTo>
                <a:lnTo>
                  <a:pt x="3241" y="180"/>
                </a:lnTo>
                <a:lnTo>
                  <a:pt x="3242" y="162"/>
                </a:lnTo>
                <a:lnTo>
                  <a:pt x="3242" y="162"/>
                </a:lnTo>
                <a:lnTo>
                  <a:pt x="3241" y="150"/>
                </a:lnTo>
                <a:lnTo>
                  <a:pt x="3241" y="139"/>
                </a:lnTo>
                <a:lnTo>
                  <a:pt x="3238" y="128"/>
                </a:lnTo>
                <a:lnTo>
                  <a:pt x="3236" y="115"/>
                </a:lnTo>
                <a:lnTo>
                  <a:pt x="3233" y="104"/>
                </a:lnTo>
                <a:lnTo>
                  <a:pt x="3228" y="94"/>
                </a:lnTo>
                <a:lnTo>
                  <a:pt x="3225" y="82"/>
                </a:lnTo>
                <a:lnTo>
                  <a:pt x="3220" y="73"/>
                </a:lnTo>
                <a:lnTo>
                  <a:pt x="3220" y="73"/>
                </a:lnTo>
                <a:lnTo>
                  <a:pt x="3228" y="66"/>
                </a:lnTo>
                <a:lnTo>
                  <a:pt x="3238" y="58"/>
                </a:lnTo>
                <a:lnTo>
                  <a:pt x="3249" y="52"/>
                </a:lnTo>
                <a:lnTo>
                  <a:pt x="3258" y="45"/>
                </a:lnTo>
                <a:lnTo>
                  <a:pt x="3269" y="39"/>
                </a:lnTo>
                <a:lnTo>
                  <a:pt x="3282" y="34"/>
                </a:lnTo>
                <a:lnTo>
                  <a:pt x="3293" y="29"/>
                </a:lnTo>
                <a:lnTo>
                  <a:pt x="3305" y="24"/>
                </a:lnTo>
                <a:lnTo>
                  <a:pt x="3318" y="19"/>
                </a:lnTo>
                <a:lnTo>
                  <a:pt x="3331" y="16"/>
                </a:lnTo>
                <a:lnTo>
                  <a:pt x="3343" y="13"/>
                </a:lnTo>
                <a:lnTo>
                  <a:pt x="3356" y="11"/>
                </a:lnTo>
                <a:lnTo>
                  <a:pt x="3370" y="8"/>
                </a:lnTo>
                <a:lnTo>
                  <a:pt x="3384" y="6"/>
                </a:lnTo>
                <a:lnTo>
                  <a:pt x="3399" y="6"/>
                </a:lnTo>
                <a:lnTo>
                  <a:pt x="3413" y="6"/>
                </a:lnTo>
                <a:lnTo>
                  <a:pt x="3413" y="6"/>
                </a:lnTo>
                <a:lnTo>
                  <a:pt x="3427" y="6"/>
                </a:lnTo>
                <a:lnTo>
                  <a:pt x="3443" y="8"/>
                </a:lnTo>
                <a:lnTo>
                  <a:pt x="3455" y="10"/>
                </a:lnTo>
                <a:lnTo>
                  <a:pt x="3470" y="11"/>
                </a:lnTo>
                <a:lnTo>
                  <a:pt x="3484" y="15"/>
                </a:lnTo>
                <a:lnTo>
                  <a:pt x="3498" y="18"/>
                </a:lnTo>
                <a:lnTo>
                  <a:pt x="3512" y="23"/>
                </a:lnTo>
                <a:lnTo>
                  <a:pt x="3525" y="27"/>
                </a:lnTo>
                <a:lnTo>
                  <a:pt x="3537" y="32"/>
                </a:lnTo>
                <a:lnTo>
                  <a:pt x="3550" y="39"/>
                </a:lnTo>
                <a:lnTo>
                  <a:pt x="3561" y="45"/>
                </a:lnTo>
                <a:lnTo>
                  <a:pt x="3574" y="52"/>
                </a:lnTo>
                <a:lnTo>
                  <a:pt x="3585" y="60"/>
                </a:lnTo>
                <a:lnTo>
                  <a:pt x="3594" y="68"/>
                </a:lnTo>
                <a:lnTo>
                  <a:pt x="3605" y="76"/>
                </a:lnTo>
                <a:lnTo>
                  <a:pt x="3615" y="86"/>
                </a:lnTo>
                <a:lnTo>
                  <a:pt x="3615" y="86"/>
                </a:lnTo>
                <a:lnTo>
                  <a:pt x="3602" y="94"/>
                </a:lnTo>
                <a:lnTo>
                  <a:pt x="3591" y="102"/>
                </a:lnTo>
                <a:lnTo>
                  <a:pt x="3582" y="110"/>
                </a:lnTo>
                <a:lnTo>
                  <a:pt x="3574" y="120"/>
                </a:lnTo>
                <a:lnTo>
                  <a:pt x="3566" y="129"/>
                </a:lnTo>
                <a:lnTo>
                  <a:pt x="3560" y="139"/>
                </a:lnTo>
                <a:lnTo>
                  <a:pt x="3556" y="149"/>
                </a:lnTo>
                <a:lnTo>
                  <a:pt x="3553" y="159"/>
                </a:lnTo>
                <a:lnTo>
                  <a:pt x="3553" y="159"/>
                </a:lnTo>
                <a:lnTo>
                  <a:pt x="3552" y="168"/>
                </a:lnTo>
                <a:lnTo>
                  <a:pt x="3553" y="178"/>
                </a:lnTo>
                <a:lnTo>
                  <a:pt x="3556" y="188"/>
                </a:lnTo>
                <a:lnTo>
                  <a:pt x="3563" y="196"/>
                </a:lnTo>
                <a:lnTo>
                  <a:pt x="3569" y="204"/>
                </a:lnTo>
                <a:lnTo>
                  <a:pt x="3577" y="212"/>
                </a:lnTo>
                <a:lnTo>
                  <a:pt x="3586" y="220"/>
                </a:lnTo>
                <a:lnTo>
                  <a:pt x="3597" y="226"/>
                </a:lnTo>
                <a:lnTo>
                  <a:pt x="3610" y="233"/>
                </a:lnTo>
                <a:lnTo>
                  <a:pt x="3623" y="239"/>
                </a:lnTo>
                <a:lnTo>
                  <a:pt x="3637" y="244"/>
                </a:lnTo>
                <a:lnTo>
                  <a:pt x="3653" y="249"/>
                </a:lnTo>
                <a:lnTo>
                  <a:pt x="3668" y="252"/>
                </a:lnTo>
                <a:lnTo>
                  <a:pt x="3684" y="254"/>
                </a:lnTo>
                <a:lnTo>
                  <a:pt x="3700" y="256"/>
                </a:lnTo>
                <a:lnTo>
                  <a:pt x="3717" y="257"/>
                </a:lnTo>
                <a:lnTo>
                  <a:pt x="3717" y="257"/>
                </a:lnTo>
                <a:lnTo>
                  <a:pt x="3733" y="256"/>
                </a:lnTo>
                <a:lnTo>
                  <a:pt x="3751" y="254"/>
                </a:lnTo>
                <a:lnTo>
                  <a:pt x="3766" y="252"/>
                </a:lnTo>
                <a:lnTo>
                  <a:pt x="3781" y="249"/>
                </a:lnTo>
                <a:lnTo>
                  <a:pt x="3795" y="244"/>
                </a:lnTo>
                <a:lnTo>
                  <a:pt x="3809" y="239"/>
                </a:lnTo>
                <a:lnTo>
                  <a:pt x="3822" y="233"/>
                </a:lnTo>
                <a:lnTo>
                  <a:pt x="3833" y="226"/>
                </a:lnTo>
                <a:lnTo>
                  <a:pt x="3844" y="220"/>
                </a:lnTo>
                <a:lnTo>
                  <a:pt x="3853" y="212"/>
                </a:lnTo>
                <a:lnTo>
                  <a:pt x="3861" y="204"/>
                </a:lnTo>
                <a:lnTo>
                  <a:pt x="3869" y="196"/>
                </a:lnTo>
                <a:lnTo>
                  <a:pt x="3874" y="188"/>
                </a:lnTo>
                <a:lnTo>
                  <a:pt x="3878" y="178"/>
                </a:lnTo>
                <a:lnTo>
                  <a:pt x="3880" y="168"/>
                </a:lnTo>
                <a:lnTo>
                  <a:pt x="3882" y="159"/>
                </a:lnTo>
                <a:lnTo>
                  <a:pt x="3882" y="159"/>
                </a:lnTo>
                <a:lnTo>
                  <a:pt x="3880" y="146"/>
                </a:lnTo>
                <a:lnTo>
                  <a:pt x="3874" y="134"/>
                </a:lnTo>
                <a:lnTo>
                  <a:pt x="3866" y="121"/>
                </a:lnTo>
                <a:lnTo>
                  <a:pt x="3856" y="110"/>
                </a:lnTo>
                <a:lnTo>
                  <a:pt x="3842" y="100"/>
                </a:lnTo>
                <a:lnTo>
                  <a:pt x="3828" y="91"/>
                </a:lnTo>
                <a:lnTo>
                  <a:pt x="3811" y="81"/>
                </a:lnTo>
                <a:lnTo>
                  <a:pt x="3793" y="73"/>
                </a:lnTo>
                <a:lnTo>
                  <a:pt x="3793" y="73"/>
                </a:lnTo>
                <a:lnTo>
                  <a:pt x="3799" y="65"/>
                </a:lnTo>
                <a:lnTo>
                  <a:pt x="3807" y="57"/>
                </a:lnTo>
                <a:lnTo>
                  <a:pt x="3818" y="49"/>
                </a:lnTo>
                <a:lnTo>
                  <a:pt x="3829" y="44"/>
                </a:lnTo>
                <a:lnTo>
                  <a:pt x="3841" y="39"/>
                </a:lnTo>
                <a:lnTo>
                  <a:pt x="3855" y="36"/>
                </a:lnTo>
                <a:lnTo>
                  <a:pt x="3869" y="32"/>
                </a:lnTo>
                <a:lnTo>
                  <a:pt x="3883" y="32"/>
                </a:lnTo>
                <a:lnTo>
                  <a:pt x="3883" y="32"/>
                </a:lnTo>
                <a:lnTo>
                  <a:pt x="3901" y="32"/>
                </a:lnTo>
                <a:lnTo>
                  <a:pt x="3916" y="36"/>
                </a:lnTo>
                <a:lnTo>
                  <a:pt x="3931" y="40"/>
                </a:lnTo>
                <a:lnTo>
                  <a:pt x="3945" y="47"/>
                </a:lnTo>
                <a:lnTo>
                  <a:pt x="3956" y="55"/>
                </a:lnTo>
                <a:lnTo>
                  <a:pt x="3965" y="63"/>
                </a:lnTo>
                <a:lnTo>
                  <a:pt x="3973" y="71"/>
                </a:lnTo>
                <a:lnTo>
                  <a:pt x="3978" y="81"/>
                </a:lnTo>
                <a:lnTo>
                  <a:pt x="3978" y="81"/>
                </a:lnTo>
                <a:lnTo>
                  <a:pt x="3984" y="73"/>
                </a:lnTo>
                <a:lnTo>
                  <a:pt x="3990" y="66"/>
                </a:lnTo>
                <a:lnTo>
                  <a:pt x="3998" y="58"/>
                </a:lnTo>
                <a:lnTo>
                  <a:pt x="4006" y="52"/>
                </a:lnTo>
                <a:lnTo>
                  <a:pt x="4014" y="45"/>
                </a:lnTo>
                <a:lnTo>
                  <a:pt x="4024" y="39"/>
                </a:lnTo>
                <a:lnTo>
                  <a:pt x="4033" y="34"/>
                </a:lnTo>
                <a:lnTo>
                  <a:pt x="4043" y="27"/>
                </a:lnTo>
                <a:lnTo>
                  <a:pt x="4052" y="24"/>
                </a:lnTo>
                <a:lnTo>
                  <a:pt x="4062" y="19"/>
                </a:lnTo>
                <a:lnTo>
                  <a:pt x="4073" y="16"/>
                </a:lnTo>
                <a:lnTo>
                  <a:pt x="4082" y="15"/>
                </a:lnTo>
                <a:lnTo>
                  <a:pt x="4093" y="13"/>
                </a:lnTo>
                <a:lnTo>
                  <a:pt x="4104" y="11"/>
                </a:lnTo>
                <a:lnTo>
                  <a:pt x="4114" y="11"/>
                </a:lnTo>
                <a:lnTo>
                  <a:pt x="4125" y="13"/>
                </a:lnTo>
                <a:lnTo>
                  <a:pt x="4125" y="13"/>
                </a:lnTo>
                <a:lnTo>
                  <a:pt x="4134" y="15"/>
                </a:lnTo>
                <a:lnTo>
                  <a:pt x="4144" y="15"/>
                </a:lnTo>
                <a:lnTo>
                  <a:pt x="4153" y="16"/>
                </a:lnTo>
                <a:lnTo>
                  <a:pt x="4163" y="19"/>
                </a:lnTo>
                <a:lnTo>
                  <a:pt x="4172" y="21"/>
                </a:lnTo>
                <a:lnTo>
                  <a:pt x="4183" y="23"/>
                </a:lnTo>
                <a:lnTo>
                  <a:pt x="4191" y="26"/>
                </a:lnTo>
                <a:lnTo>
                  <a:pt x="4200" y="27"/>
                </a:lnTo>
                <a:lnTo>
                  <a:pt x="4200" y="27"/>
                </a:lnTo>
                <a:lnTo>
                  <a:pt x="4202" y="29"/>
                </a:lnTo>
                <a:lnTo>
                  <a:pt x="4207" y="31"/>
                </a:lnTo>
                <a:lnTo>
                  <a:pt x="4216" y="34"/>
                </a:lnTo>
                <a:lnTo>
                  <a:pt x="4227" y="39"/>
                </a:lnTo>
                <a:lnTo>
                  <a:pt x="4241" y="45"/>
                </a:lnTo>
                <a:lnTo>
                  <a:pt x="4259" y="52"/>
                </a:lnTo>
                <a:lnTo>
                  <a:pt x="4278" y="60"/>
                </a:lnTo>
                <a:lnTo>
                  <a:pt x="4300" y="70"/>
                </a:lnTo>
                <a:lnTo>
                  <a:pt x="4324" y="79"/>
                </a:lnTo>
                <a:lnTo>
                  <a:pt x="4349" y="89"/>
                </a:lnTo>
                <a:lnTo>
                  <a:pt x="4377" y="100"/>
                </a:lnTo>
                <a:lnTo>
                  <a:pt x="4406" y="112"/>
                </a:lnTo>
                <a:lnTo>
                  <a:pt x="4437" y="123"/>
                </a:lnTo>
                <a:lnTo>
                  <a:pt x="4469" y="136"/>
                </a:lnTo>
                <a:lnTo>
                  <a:pt x="4500" y="149"/>
                </a:lnTo>
                <a:lnTo>
                  <a:pt x="4533" y="160"/>
                </a:lnTo>
                <a:lnTo>
                  <a:pt x="4568" y="173"/>
                </a:lnTo>
                <a:lnTo>
                  <a:pt x="4601" y="186"/>
                </a:lnTo>
                <a:lnTo>
                  <a:pt x="4636" y="197"/>
                </a:lnTo>
                <a:lnTo>
                  <a:pt x="4671" y="210"/>
                </a:lnTo>
                <a:lnTo>
                  <a:pt x="4706" y="222"/>
                </a:lnTo>
                <a:lnTo>
                  <a:pt x="4740" y="233"/>
                </a:lnTo>
                <a:lnTo>
                  <a:pt x="4773" y="243"/>
                </a:lnTo>
                <a:lnTo>
                  <a:pt x="4807" y="252"/>
                </a:lnTo>
                <a:lnTo>
                  <a:pt x="4838" y="262"/>
                </a:lnTo>
                <a:lnTo>
                  <a:pt x="4870" y="270"/>
                </a:lnTo>
                <a:lnTo>
                  <a:pt x="4900" y="277"/>
                </a:lnTo>
                <a:lnTo>
                  <a:pt x="4928" y="283"/>
                </a:lnTo>
                <a:lnTo>
                  <a:pt x="4955" y="288"/>
                </a:lnTo>
                <a:lnTo>
                  <a:pt x="4980" y="291"/>
                </a:lnTo>
                <a:lnTo>
                  <a:pt x="5004" y="294"/>
                </a:lnTo>
                <a:lnTo>
                  <a:pt x="5024" y="294"/>
                </a:lnTo>
                <a:lnTo>
                  <a:pt x="5024" y="294"/>
                </a:lnTo>
                <a:lnTo>
                  <a:pt x="5045" y="294"/>
                </a:lnTo>
                <a:lnTo>
                  <a:pt x="5065" y="293"/>
                </a:lnTo>
                <a:lnTo>
                  <a:pt x="5084" y="290"/>
                </a:lnTo>
                <a:lnTo>
                  <a:pt x="5102" y="286"/>
                </a:lnTo>
                <a:lnTo>
                  <a:pt x="5119" y="281"/>
                </a:lnTo>
                <a:lnTo>
                  <a:pt x="5136" y="275"/>
                </a:lnTo>
                <a:lnTo>
                  <a:pt x="5151" y="268"/>
                </a:lnTo>
                <a:lnTo>
                  <a:pt x="5165" y="260"/>
                </a:lnTo>
                <a:lnTo>
                  <a:pt x="5178" y="252"/>
                </a:lnTo>
                <a:lnTo>
                  <a:pt x="5190" y="243"/>
                </a:lnTo>
                <a:lnTo>
                  <a:pt x="5200" y="233"/>
                </a:lnTo>
                <a:lnTo>
                  <a:pt x="5208" y="223"/>
                </a:lnTo>
                <a:lnTo>
                  <a:pt x="5214" y="212"/>
                </a:lnTo>
                <a:lnTo>
                  <a:pt x="5219" y="201"/>
                </a:lnTo>
                <a:lnTo>
                  <a:pt x="5222" y="189"/>
                </a:lnTo>
                <a:lnTo>
                  <a:pt x="5223" y="176"/>
                </a:lnTo>
                <a:lnTo>
                  <a:pt x="5223" y="176"/>
                </a:lnTo>
                <a:lnTo>
                  <a:pt x="5222" y="165"/>
                </a:lnTo>
                <a:lnTo>
                  <a:pt x="5219" y="154"/>
                </a:lnTo>
                <a:lnTo>
                  <a:pt x="5214" y="142"/>
                </a:lnTo>
                <a:lnTo>
                  <a:pt x="5208" y="131"/>
                </a:lnTo>
                <a:lnTo>
                  <a:pt x="5198" y="121"/>
                </a:lnTo>
                <a:lnTo>
                  <a:pt x="5189" y="112"/>
                </a:lnTo>
                <a:lnTo>
                  <a:pt x="5178" y="104"/>
                </a:lnTo>
                <a:lnTo>
                  <a:pt x="5165" y="97"/>
                </a:lnTo>
                <a:lnTo>
                  <a:pt x="5165" y="97"/>
                </a:lnTo>
                <a:lnTo>
                  <a:pt x="5178" y="92"/>
                </a:lnTo>
                <a:lnTo>
                  <a:pt x="5190" y="87"/>
                </a:lnTo>
                <a:lnTo>
                  <a:pt x="5204" y="84"/>
                </a:lnTo>
                <a:lnTo>
                  <a:pt x="5219" y="79"/>
                </a:lnTo>
                <a:lnTo>
                  <a:pt x="5233" y="76"/>
                </a:lnTo>
                <a:lnTo>
                  <a:pt x="5247" y="74"/>
                </a:lnTo>
                <a:lnTo>
                  <a:pt x="5263" y="73"/>
                </a:lnTo>
                <a:lnTo>
                  <a:pt x="5277" y="71"/>
                </a:lnTo>
                <a:lnTo>
                  <a:pt x="5277" y="71"/>
                </a:lnTo>
                <a:lnTo>
                  <a:pt x="5288" y="71"/>
                </a:lnTo>
                <a:lnTo>
                  <a:pt x="5297" y="71"/>
                </a:lnTo>
                <a:lnTo>
                  <a:pt x="5307" y="73"/>
                </a:lnTo>
                <a:lnTo>
                  <a:pt x="5316" y="74"/>
                </a:lnTo>
                <a:lnTo>
                  <a:pt x="5326" y="76"/>
                </a:lnTo>
                <a:lnTo>
                  <a:pt x="5335" y="78"/>
                </a:lnTo>
                <a:lnTo>
                  <a:pt x="5345" y="79"/>
                </a:lnTo>
                <a:lnTo>
                  <a:pt x="5354" y="82"/>
                </a:lnTo>
                <a:lnTo>
                  <a:pt x="5364" y="86"/>
                </a:lnTo>
                <a:lnTo>
                  <a:pt x="5372" y="89"/>
                </a:lnTo>
                <a:lnTo>
                  <a:pt x="5380" y="92"/>
                </a:lnTo>
                <a:lnTo>
                  <a:pt x="5387" y="97"/>
                </a:lnTo>
                <a:lnTo>
                  <a:pt x="5395" y="100"/>
                </a:lnTo>
                <a:lnTo>
                  <a:pt x="5403" y="105"/>
                </a:lnTo>
                <a:lnTo>
                  <a:pt x="5410" y="110"/>
                </a:lnTo>
                <a:lnTo>
                  <a:pt x="5416" y="115"/>
                </a:lnTo>
                <a:lnTo>
                  <a:pt x="5416" y="115"/>
                </a:lnTo>
                <a:lnTo>
                  <a:pt x="5414" y="121"/>
                </a:lnTo>
                <a:lnTo>
                  <a:pt x="5413" y="126"/>
                </a:lnTo>
                <a:lnTo>
                  <a:pt x="5411" y="131"/>
                </a:lnTo>
                <a:lnTo>
                  <a:pt x="5411" y="136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6556320"/>
            <a:ext cx="9144000" cy="301680"/>
          </a:xfrm>
          <a:custGeom>
            <a:avLst/>
            <a:gdLst/>
            <a:ahLst/>
            <a:rect l="l" t="t" r="r" b="b"/>
            <a:pathLst>
              <a:path w="5760" h="380">
                <a:moveTo>
                  <a:pt x="5411" y="244"/>
                </a:moveTo>
                <a:lnTo>
                  <a:pt x="5410" y="220"/>
                </a:lnTo>
                <a:lnTo>
                  <a:pt x="5411" y="199"/>
                </a:lnTo>
                <a:lnTo>
                  <a:pt x="5416" y="179"/>
                </a:lnTo>
                <a:lnTo>
                  <a:pt x="5425" y="162"/>
                </a:lnTo>
                <a:lnTo>
                  <a:pt x="5438" y="149"/>
                </a:lnTo>
                <a:lnTo>
                  <a:pt x="5454" y="137"/>
                </a:lnTo>
                <a:lnTo>
                  <a:pt x="5473" y="129"/>
                </a:lnTo>
                <a:lnTo>
                  <a:pt x="5495" y="124"/>
                </a:lnTo>
                <a:lnTo>
                  <a:pt x="5515" y="126"/>
                </a:lnTo>
                <a:lnTo>
                  <a:pt x="5533" y="134"/>
                </a:lnTo>
                <a:lnTo>
                  <a:pt x="5548" y="144"/>
                </a:lnTo>
                <a:lnTo>
                  <a:pt x="5561" y="158"/>
                </a:lnTo>
                <a:lnTo>
                  <a:pt x="5569" y="175"/>
                </a:lnTo>
                <a:lnTo>
                  <a:pt x="5572" y="194"/>
                </a:lnTo>
                <a:lnTo>
                  <a:pt x="5571" y="213"/>
                </a:lnTo>
                <a:lnTo>
                  <a:pt x="5563" y="233"/>
                </a:lnTo>
                <a:lnTo>
                  <a:pt x="5553" y="243"/>
                </a:lnTo>
                <a:lnTo>
                  <a:pt x="5544" y="251"/>
                </a:lnTo>
                <a:lnTo>
                  <a:pt x="5534" y="255"/>
                </a:lnTo>
                <a:lnTo>
                  <a:pt x="5523" y="257"/>
                </a:lnTo>
                <a:lnTo>
                  <a:pt x="5514" y="257"/>
                </a:lnTo>
                <a:lnTo>
                  <a:pt x="5503" y="254"/>
                </a:lnTo>
                <a:lnTo>
                  <a:pt x="5493" y="247"/>
                </a:lnTo>
                <a:lnTo>
                  <a:pt x="5484" y="238"/>
                </a:lnTo>
                <a:lnTo>
                  <a:pt x="5479" y="230"/>
                </a:lnTo>
                <a:lnTo>
                  <a:pt x="5477" y="220"/>
                </a:lnTo>
                <a:lnTo>
                  <a:pt x="5477" y="212"/>
                </a:lnTo>
                <a:lnTo>
                  <a:pt x="5477" y="205"/>
                </a:lnTo>
                <a:lnTo>
                  <a:pt x="5479" y="197"/>
                </a:lnTo>
                <a:lnTo>
                  <a:pt x="5482" y="189"/>
                </a:lnTo>
                <a:lnTo>
                  <a:pt x="5485" y="181"/>
                </a:lnTo>
                <a:lnTo>
                  <a:pt x="5487" y="173"/>
                </a:lnTo>
                <a:lnTo>
                  <a:pt x="5493" y="167"/>
                </a:lnTo>
                <a:lnTo>
                  <a:pt x="5498" y="165"/>
                </a:lnTo>
                <a:lnTo>
                  <a:pt x="5501" y="167"/>
                </a:lnTo>
                <a:lnTo>
                  <a:pt x="5504" y="170"/>
                </a:lnTo>
                <a:lnTo>
                  <a:pt x="5506" y="173"/>
                </a:lnTo>
                <a:lnTo>
                  <a:pt x="5506" y="178"/>
                </a:lnTo>
                <a:lnTo>
                  <a:pt x="5501" y="181"/>
                </a:lnTo>
                <a:lnTo>
                  <a:pt x="5496" y="183"/>
                </a:lnTo>
                <a:lnTo>
                  <a:pt x="5488" y="200"/>
                </a:lnTo>
                <a:lnTo>
                  <a:pt x="5487" y="217"/>
                </a:lnTo>
                <a:lnTo>
                  <a:pt x="5492" y="231"/>
                </a:lnTo>
                <a:lnTo>
                  <a:pt x="5500" y="241"/>
                </a:lnTo>
                <a:lnTo>
                  <a:pt x="5512" y="246"/>
                </a:lnTo>
                <a:lnTo>
                  <a:pt x="5526" y="246"/>
                </a:lnTo>
                <a:lnTo>
                  <a:pt x="5541" y="241"/>
                </a:lnTo>
                <a:lnTo>
                  <a:pt x="5555" y="226"/>
                </a:lnTo>
                <a:lnTo>
                  <a:pt x="5560" y="215"/>
                </a:lnTo>
                <a:lnTo>
                  <a:pt x="5561" y="204"/>
                </a:lnTo>
                <a:lnTo>
                  <a:pt x="5563" y="192"/>
                </a:lnTo>
                <a:lnTo>
                  <a:pt x="5561" y="183"/>
                </a:lnTo>
                <a:lnTo>
                  <a:pt x="5558" y="173"/>
                </a:lnTo>
                <a:lnTo>
                  <a:pt x="5553" y="163"/>
                </a:lnTo>
                <a:lnTo>
                  <a:pt x="5547" y="157"/>
                </a:lnTo>
                <a:lnTo>
                  <a:pt x="5539" y="150"/>
                </a:lnTo>
                <a:lnTo>
                  <a:pt x="5531" y="144"/>
                </a:lnTo>
                <a:lnTo>
                  <a:pt x="5522" y="141"/>
                </a:lnTo>
                <a:lnTo>
                  <a:pt x="5512" y="137"/>
                </a:lnTo>
                <a:lnTo>
                  <a:pt x="5501" y="136"/>
                </a:lnTo>
                <a:lnTo>
                  <a:pt x="5490" y="136"/>
                </a:lnTo>
                <a:lnTo>
                  <a:pt x="5479" y="137"/>
                </a:lnTo>
                <a:lnTo>
                  <a:pt x="5468" y="141"/>
                </a:lnTo>
                <a:lnTo>
                  <a:pt x="5459" y="145"/>
                </a:lnTo>
                <a:lnTo>
                  <a:pt x="5444" y="155"/>
                </a:lnTo>
                <a:lnTo>
                  <a:pt x="5435" y="165"/>
                </a:lnTo>
                <a:lnTo>
                  <a:pt x="5427" y="178"/>
                </a:lnTo>
                <a:lnTo>
                  <a:pt x="5422" y="192"/>
                </a:lnTo>
                <a:lnTo>
                  <a:pt x="5419" y="207"/>
                </a:lnTo>
                <a:lnTo>
                  <a:pt x="5419" y="221"/>
                </a:lnTo>
                <a:lnTo>
                  <a:pt x="5421" y="238"/>
                </a:lnTo>
                <a:lnTo>
                  <a:pt x="5424" y="254"/>
                </a:lnTo>
                <a:lnTo>
                  <a:pt x="5425" y="257"/>
                </a:lnTo>
                <a:lnTo>
                  <a:pt x="5429" y="262"/>
                </a:lnTo>
                <a:lnTo>
                  <a:pt x="5427" y="262"/>
                </a:lnTo>
                <a:lnTo>
                  <a:pt x="5432" y="267"/>
                </a:lnTo>
                <a:lnTo>
                  <a:pt x="5438" y="275"/>
                </a:lnTo>
                <a:lnTo>
                  <a:pt x="5447" y="281"/>
                </a:lnTo>
                <a:lnTo>
                  <a:pt x="5460" y="289"/>
                </a:lnTo>
                <a:lnTo>
                  <a:pt x="5476" y="296"/>
                </a:lnTo>
                <a:lnTo>
                  <a:pt x="5495" y="301"/>
                </a:lnTo>
                <a:lnTo>
                  <a:pt x="5518" y="306"/>
                </a:lnTo>
                <a:lnTo>
                  <a:pt x="5545" y="306"/>
                </a:lnTo>
                <a:lnTo>
                  <a:pt x="5564" y="304"/>
                </a:lnTo>
                <a:lnTo>
                  <a:pt x="5582" y="298"/>
                </a:lnTo>
                <a:lnTo>
                  <a:pt x="5599" y="289"/>
                </a:lnTo>
                <a:lnTo>
                  <a:pt x="5616" y="278"/>
                </a:lnTo>
                <a:lnTo>
                  <a:pt x="5634" y="265"/>
                </a:lnTo>
                <a:lnTo>
                  <a:pt x="5650" y="251"/>
                </a:lnTo>
                <a:lnTo>
                  <a:pt x="5665" y="234"/>
                </a:lnTo>
                <a:lnTo>
                  <a:pt x="5679" y="218"/>
                </a:lnTo>
                <a:lnTo>
                  <a:pt x="5692" y="200"/>
                </a:lnTo>
                <a:lnTo>
                  <a:pt x="5705" y="184"/>
                </a:lnTo>
                <a:lnTo>
                  <a:pt x="5716" y="168"/>
                </a:lnTo>
                <a:lnTo>
                  <a:pt x="5725" y="152"/>
                </a:lnTo>
                <a:lnTo>
                  <a:pt x="5733" y="139"/>
                </a:lnTo>
                <a:lnTo>
                  <a:pt x="5739" y="128"/>
                </a:lnTo>
                <a:lnTo>
                  <a:pt x="5744" y="118"/>
                </a:lnTo>
                <a:lnTo>
                  <a:pt x="5746" y="110"/>
                </a:lnTo>
                <a:lnTo>
                  <a:pt x="5749" y="105"/>
                </a:lnTo>
                <a:lnTo>
                  <a:pt x="5752" y="97"/>
                </a:lnTo>
                <a:lnTo>
                  <a:pt x="5755" y="89"/>
                </a:lnTo>
                <a:lnTo>
                  <a:pt x="5758" y="81"/>
                </a:lnTo>
                <a:lnTo>
                  <a:pt x="5760" y="73"/>
                </a:lnTo>
                <a:lnTo>
                  <a:pt x="5760" y="63"/>
                </a:lnTo>
                <a:lnTo>
                  <a:pt x="5758" y="53"/>
                </a:lnTo>
                <a:lnTo>
                  <a:pt x="5754" y="44"/>
                </a:lnTo>
                <a:lnTo>
                  <a:pt x="5746" y="35"/>
                </a:lnTo>
                <a:lnTo>
                  <a:pt x="5736" y="27"/>
                </a:lnTo>
                <a:lnTo>
                  <a:pt x="5721" y="19"/>
                </a:lnTo>
                <a:lnTo>
                  <a:pt x="5700" y="13"/>
                </a:lnTo>
                <a:lnTo>
                  <a:pt x="5675" y="8"/>
                </a:lnTo>
                <a:lnTo>
                  <a:pt x="5643" y="3"/>
                </a:lnTo>
                <a:lnTo>
                  <a:pt x="5607" y="2"/>
                </a:lnTo>
                <a:lnTo>
                  <a:pt x="5561" y="0"/>
                </a:lnTo>
                <a:lnTo>
                  <a:pt x="5533" y="0"/>
                </a:lnTo>
                <a:lnTo>
                  <a:pt x="5493" y="0"/>
                </a:lnTo>
                <a:lnTo>
                  <a:pt x="5444" y="0"/>
                </a:lnTo>
                <a:lnTo>
                  <a:pt x="5386" y="0"/>
                </a:lnTo>
                <a:lnTo>
                  <a:pt x="5318" y="0"/>
                </a:lnTo>
                <a:lnTo>
                  <a:pt x="5242" y="0"/>
                </a:lnTo>
                <a:lnTo>
                  <a:pt x="5160" y="0"/>
                </a:lnTo>
                <a:lnTo>
                  <a:pt x="5072" y="0"/>
                </a:lnTo>
                <a:lnTo>
                  <a:pt x="4977" y="0"/>
                </a:lnTo>
                <a:lnTo>
                  <a:pt x="4878" y="0"/>
                </a:lnTo>
                <a:lnTo>
                  <a:pt x="4773" y="0"/>
                </a:lnTo>
                <a:lnTo>
                  <a:pt x="4666" y="0"/>
                </a:lnTo>
                <a:lnTo>
                  <a:pt x="4557" y="0"/>
                </a:lnTo>
                <a:lnTo>
                  <a:pt x="4445" y="0"/>
                </a:lnTo>
                <a:lnTo>
                  <a:pt x="4331" y="0"/>
                </a:lnTo>
                <a:lnTo>
                  <a:pt x="4218" y="0"/>
                </a:lnTo>
                <a:lnTo>
                  <a:pt x="4103" y="0"/>
                </a:lnTo>
                <a:lnTo>
                  <a:pt x="3989" y="0"/>
                </a:lnTo>
                <a:lnTo>
                  <a:pt x="3878" y="0"/>
                </a:lnTo>
                <a:lnTo>
                  <a:pt x="3768" y="0"/>
                </a:lnTo>
                <a:lnTo>
                  <a:pt x="3661" y="0"/>
                </a:lnTo>
                <a:lnTo>
                  <a:pt x="3558" y="0"/>
                </a:lnTo>
                <a:lnTo>
                  <a:pt x="3460" y="0"/>
                </a:lnTo>
                <a:lnTo>
                  <a:pt x="3367" y="0"/>
                </a:lnTo>
                <a:lnTo>
                  <a:pt x="3279" y="0"/>
                </a:lnTo>
                <a:lnTo>
                  <a:pt x="3198" y="0"/>
                </a:lnTo>
                <a:lnTo>
                  <a:pt x="3124" y="0"/>
                </a:lnTo>
                <a:lnTo>
                  <a:pt x="3058" y="0"/>
                </a:lnTo>
                <a:lnTo>
                  <a:pt x="3001" y="0"/>
                </a:lnTo>
                <a:lnTo>
                  <a:pt x="2953" y="0"/>
                </a:lnTo>
                <a:lnTo>
                  <a:pt x="2916" y="0"/>
                </a:lnTo>
                <a:lnTo>
                  <a:pt x="2889" y="0"/>
                </a:lnTo>
                <a:lnTo>
                  <a:pt x="2889" y="0"/>
                </a:lnTo>
                <a:lnTo>
                  <a:pt x="2889" y="0"/>
                </a:lnTo>
                <a:lnTo>
                  <a:pt x="2889" y="0"/>
                </a:lnTo>
                <a:lnTo>
                  <a:pt x="2889" y="0"/>
                </a:lnTo>
                <a:lnTo>
                  <a:pt x="2882" y="0"/>
                </a:lnTo>
                <a:lnTo>
                  <a:pt x="2862" y="0"/>
                </a:lnTo>
                <a:lnTo>
                  <a:pt x="2829" y="0"/>
                </a:lnTo>
                <a:lnTo>
                  <a:pt x="2784" y="0"/>
                </a:lnTo>
                <a:lnTo>
                  <a:pt x="2728" y="0"/>
                </a:lnTo>
                <a:lnTo>
                  <a:pt x="2663" y="0"/>
                </a:lnTo>
                <a:lnTo>
                  <a:pt x="2587" y="0"/>
                </a:lnTo>
                <a:lnTo>
                  <a:pt x="2505" y="0"/>
                </a:lnTo>
                <a:lnTo>
                  <a:pt x="2414" y="0"/>
                </a:lnTo>
                <a:lnTo>
                  <a:pt x="2317" y="0"/>
                </a:lnTo>
                <a:lnTo>
                  <a:pt x="2215" y="0"/>
                </a:lnTo>
                <a:lnTo>
                  <a:pt x="2106" y="0"/>
                </a:lnTo>
                <a:lnTo>
                  <a:pt x="1994" y="0"/>
                </a:lnTo>
                <a:lnTo>
                  <a:pt x="1878" y="0"/>
                </a:lnTo>
                <a:lnTo>
                  <a:pt x="1760" y="0"/>
                </a:lnTo>
                <a:lnTo>
                  <a:pt x="1640" y="0"/>
                </a:lnTo>
                <a:lnTo>
                  <a:pt x="1520" y="0"/>
                </a:lnTo>
                <a:lnTo>
                  <a:pt x="1400" y="0"/>
                </a:lnTo>
                <a:lnTo>
                  <a:pt x="1280" y="0"/>
                </a:lnTo>
                <a:lnTo>
                  <a:pt x="1163" y="0"/>
                </a:lnTo>
                <a:lnTo>
                  <a:pt x="1048" y="0"/>
                </a:lnTo>
                <a:lnTo>
                  <a:pt x="938" y="0"/>
                </a:lnTo>
                <a:lnTo>
                  <a:pt x="830" y="0"/>
                </a:lnTo>
                <a:lnTo>
                  <a:pt x="728" y="0"/>
                </a:lnTo>
                <a:lnTo>
                  <a:pt x="631" y="0"/>
                </a:lnTo>
                <a:lnTo>
                  <a:pt x="543" y="0"/>
                </a:lnTo>
                <a:lnTo>
                  <a:pt x="461" y="0"/>
                </a:lnTo>
                <a:lnTo>
                  <a:pt x="388" y="0"/>
                </a:lnTo>
                <a:lnTo>
                  <a:pt x="324" y="0"/>
                </a:lnTo>
                <a:lnTo>
                  <a:pt x="270" y="0"/>
                </a:lnTo>
                <a:lnTo>
                  <a:pt x="229" y="0"/>
                </a:lnTo>
                <a:lnTo>
                  <a:pt x="197" y="0"/>
                </a:lnTo>
                <a:lnTo>
                  <a:pt x="153" y="2"/>
                </a:lnTo>
                <a:lnTo>
                  <a:pt x="115" y="3"/>
                </a:lnTo>
                <a:lnTo>
                  <a:pt x="84" y="8"/>
                </a:lnTo>
                <a:lnTo>
                  <a:pt x="58" y="13"/>
                </a:lnTo>
                <a:lnTo>
                  <a:pt x="38" y="19"/>
                </a:lnTo>
                <a:lnTo>
                  <a:pt x="22" y="27"/>
                </a:lnTo>
                <a:lnTo>
                  <a:pt x="11" y="35"/>
                </a:lnTo>
                <a:lnTo>
                  <a:pt x="5" y="44"/>
                </a:lnTo>
                <a:lnTo>
                  <a:pt x="2" y="53"/>
                </a:lnTo>
                <a:lnTo>
                  <a:pt x="0" y="63"/>
                </a:lnTo>
                <a:lnTo>
                  <a:pt x="0" y="73"/>
                </a:lnTo>
                <a:lnTo>
                  <a:pt x="2" y="81"/>
                </a:lnTo>
                <a:lnTo>
                  <a:pt x="3" y="89"/>
                </a:lnTo>
                <a:lnTo>
                  <a:pt x="6" y="97"/>
                </a:lnTo>
                <a:lnTo>
                  <a:pt x="9" y="105"/>
                </a:lnTo>
                <a:lnTo>
                  <a:pt x="11" y="110"/>
                </a:lnTo>
                <a:lnTo>
                  <a:pt x="14" y="118"/>
                </a:lnTo>
                <a:lnTo>
                  <a:pt x="19" y="128"/>
                </a:lnTo>
                <a:lnTo>
                  <a:pt x="25" y="139"/>
                </a:lnTo>
                <a:lnTo>
                  <a:pt x="33" y="152"/>
                </a:lnTo>
                <a:lnTo>
                  <a:pt x="43" y="168"/>
                </a:lnTo>
                <a:lnTo>
                  <a:pt x="54" y="184"/>
                </a:lnTo>
                <a:lnTo>
                  <a:pt x="66" y="200"/>
                </a:lnTo>
                <a:lnTo>
                  <a:pt x="79" y="217"/>
                </a:lnTo>
                <a:lnTo>
                  <a:pt x="93" y="234"/>
                </a:lnTo>
                <a:lnTo>
                  <a:pt x="109" y="249"/>
                </a:lnTo>
                <a:lnTo>
                  <a:pt x="125" y="265"/>
                </a:lnTo>
                <a:lnTo>
                  <a:pt x="142" y="278"/>
                </a:lnTo>
                <a:lnTo>
                  <a:pt x="159" y="288"/>
                </a:lnTo>
                <a:lnTo>
                  <a:pt x="177" y="298"/>
                </a:lnTo>
                <a:lnTo>
                  <a:pt x="196" y="302"/>
                </a:lnTo>
                <a:lnTo>
                  <a:pt x="213" y="306"/>
                </a:lnTo>
                <a:lnTo>
                  <a:pt x="242" y="304"/>
                </a:lnTo>
                <a:lnTo>
                  <a:pt x="264" y="301"/>
                </a:lnTo>
                <a:lnTo>
                  <a:pt x="283" y="296"/>
                </a:lnTo>
                <a:lnTo>
                  <a:pt x="298" y="289"/>
                </a:lnTo>
                <a:lnTo>
                  <a:pt x="311" y="281"/>
                </a:lnTo>
                <a:lnTo>
                  <a:pt x="320" y="273"/>
                </a:lnTo>
                <a:lnTo>
                  <a:pt x="327" y="267"/>
                </a:lnTo>
                <a:lnTo>
                  <a:pt x="331" y="262"/>
                </a:lnTo>
                <a:lnTo>
                  <a:pt x="330" y="260"/>
                </a:lnTo>
                <a:lnTo>
                  <a:pt x="333" y="255"/>
                </a:lnTo>
                <a:lnTo>
                  <a:pt x="335" y="252"/>
                </a:lnTo>
                <a:lnTo>
                  <a:pt x="338" y="238"/>
                </a:lnTo>
                <a:lnTo>
                  <a:pt x="339" y="221"/>
                </a:lnTo>
                <a:lnTo>
                  <a:pt x="339" y="207"/>
                </a:lnTo>
                <a:lnTo>
                  <a:pt x="336" y="191"/>
                </a:lnTo>
                <a:lnTo>
                  <a:pt x="331" y="178"/>
                </a:lnTo>
                <a:lnTo>
                  <a:pt x="325" y="165"/>
                </a:lnTo>
                <a:lnTo>
                  <a:pt x="314" y="154"/>
                </a:lnTo>
                <a:lnTo>
                  <a:pt x="301" y="145"/>
                </a:lnTo>
                <a:lnTo>
                  <a:pt x="290" y="141"/>
                </a:lnTo>
                <a:lnTo>
                  <a:pt x="279" y="137"/>
                </a:lnTo>
                <a:lnTo>
                  <a:pt x="268" y="136"/>
                </a:lnTo>
                <a:lnTo>
                  <a:pt x="259" y="136"/>
                </a:lnTo>
                <a:lnTo>
                  <a:pt x="248" y="136"/>
                </a:lnTo>
                <a:lnTo>
                  <a:pt x="238" y="139"/>
                </a:lnTo>
                <a:lnTo>
                  <a:pt x="229" y="144"/>
                </a:lnTo>
                <a:lnTo>
                  <a:pt x="219" y="149"/>
                </a:lnTo>
                <a:lnTo>
                  <a:pt x="213" y="155"/>
                </a:lnTo>
                <a:lnTo>
                  <a:pt x="207" y="163"/>
                </a:lnTo>
                <a:lnTo>
                  <a:pt x="202" y="173"/>
                </a:lnTo>
                <a:lnTo>
                  <a:pt x="199" y="181"/>
                </a:lnTo>
                <a:lnTo>
                  <a:pt x="197" y="192"/>
                </a:lnTo>
                <a:lnTo>
                  <a:pt x="197" y="204"/>
                </a:lnTo>
                <a:lnTo>
                  <a:pt x="200" y="215"/>
                </a:lnTo>
                <a:lnTo>
                  <a:pt x="205" y="226"/>
                </a:lnTo>
                <a:lnTo>
                  <a:pt x="219" y="239"/>
                </a:lnTo>
                <a:lnTo>
                  <a:pt x="234" y="246"/>
                </a:lnTo>
                <a:lnTo>
                  <a:pt x="248" y="246"/>
                </a:lnTo>
                <a:lnTo>
                  <a:pt x="259" y="239"/>
                </a:lnTo>
                <a:lnTo>
                  <a:pt x="268" y="230"/>
                </a:lnTo>
                <a:lnTo>
                  <a:pt x="272" y="217"/>
                </a:lnTo>
                <a:lnTo>
                  <a:pt x="270" y="200"/>
                </a:lnTo>
                <a:lnTo>
                  <a:pt x="262" y="183"/>
                </a:lnTo>
                <a:lnTo>
                  <a:pt x="257" y="181"/>
                </a:lnTo>
                <a:lnTo>
                  <a:pt x="254" y="178"/>
                </a:lnTo>
                <a:lnTo>
                  <a:pt x="253" y="173"/>
                </a:lnTo>
                <a:lnTo>
                  <a:pt x="254" y="170"/>
                </a:lnTo>
                <a:lnTo>
                  <a:pt x="257" y="167"/>
                </a:lnTo>
                <a:lnTo>
                  <a:pt x="260" y="165"/>
                </a:lnTo>
                <a:lnTo>
                  <a:pt x="265" y="167"/>
                </a:lnTo>
                <a:lnTo>
                  <a:pt x="272" y="173"/>
                </a:lnTo>
                <a:lnTo>
                  <a:pt x="273" y="181"/>
                </a:lnTo>
                <a:lnTo>
                  <a:pt x="276" y="189"/>
                </a:lnTo>
                <a:lnTo>
                  <a:pt x="279" y="197"/>
                </a:lnTo>
                <a:lnTo>
                  <a:pt x="281" y="205"/>
                </a:lnTo>
                <a:lnTo>
                  <a:pt x="281" y="212"/>
                </a:lnTo>
                <a:lnTo>
                  <a:pt x="281" y="220"/>
                </a:lnTo>
                <a:lnTo>
                  <a:pt x="279" y="228"/>
                </a:lnTo>
                <a:lnTo>
                  <a:pt x="275" y="238"/>
                </a:lnTo>
                <a:lnTo>
                  <a:pt x="265" y="247"/>
                </a:lnTo>
                <a:lnTo>
                  <a:pt x="256" y="252"/>
                </a:lnTo>
                <a:lnTo>
                  <a:pt x="246" y="255"/>
                </a:lnTo>
                <a:lnTo>
                  <a:pt x="235" y="255"/>
                </a:lnTo>
                <a:lnTo>
                  <a:pt x="226" y="254"/>
                </a:lnTo>
                <a:lnTo>
                  <a:pt x="216" y="249"/>
                </a:lnTo>
                <a:lnTo>
                  <a:pt x="207" y="243"/>
                </a:lnTo>
                <a:lnTo>
                  <a:pt x="197" y="233"/>
                </a:lnTo>
                <a:lnTo>
                  <a:pt x="189" y="212"/>
                </a:lnTo>
                <a:lnTo>
                  <a:pt x="188" y="192"/>
                </a:lnTo>
                <a:lnTo>
                  <a:pt x="191" y="175"/>
                </a:lnTo>
                <a:lnTo>
                  <a:pt x="199" y="158"/>
                </a:lnTo>
                <a:lnTo>
                  <a:pt x="210" y="144"/>
                </a:lnTo>
                <a:lnTo>
                  <a:pt x="226" y="134"/>
                </a:lnTo>
                <a:lnTo>
                  <a:pt x="245" y="126"/>
                </a:lnTo>
                <a:lnTo>
                  <a:pt x="265" y="124"/>
                </a:lnTo>
                <a:lnTo>
                  <a:pt x="287" y="129"/>
                </a:lnTo>
                <a:lnTo>
                  <a:pt x="306" y="137"/>
                </a:lnTo>
                <a:lnTo>
                  <a:pt x="322" y="149"/>
                </a:lnTo>
                <a:lnTo>
                  <a:pt x="335" y="162"/>
                </a:lnTo>
                <a:lnTo>
                  <a:pt x="343" y="179"/>
                </a:lnTo>
                <a:lnTo>
                  <a:pt x="349" y="197"/>
                </a:lnTo>
                <a:lnTo>
                  <a:pt x="350" y="220"/>
                </a:lnTo>
                <a:lnTo>
                  <a:pt x="349" y="244"/>
                </a:lnTo>
                <a:lnTo>
                  <a:pt x="347" y="249"/>
                </a:lnTo>
                <a:lnTo>
                  <a:pt x="346" y="254"/>
                </a:lnTo>
                <a:lnTo>
                  <a:pt x="344" y="259"/>
                </a:lnTo>
                <a:lnTo>
                  <a:pt x="343" y="264"/>
                </a:lnTo>
                <a:lnTo>
                  <a:pt x="349" y="268"/>
                </a:lnTo>
                <a:lnTo>
                  <a:pt x="355" y="273"/>
                </a:lnTo>
                <a:lnTo>
                  <a:pt x="363" y="278"/>
                </a:lnTo>
                <a:lnTo>
                  <a:pt x="371" y="283"/>
                </a:lnTo>
                <a:lnTo>
                  <a:pt x="379" y="288"/>
                </a:lnTo>
                <a:lnTo>
                  <a:pt x="387" y="291"/>
                </a:lnTo>
                <a:lnTo>
                  <a:pt x="396" y="294"/>
                </a:lnTo>
                <a:lnTo>
                  <a:pt x="404" y="298"/>
                </a:lnTo>
                <a:lnTo>
                  <a:pt x="414" y="301"/>
                </a:lnTo>
                <a:lnTo>
                  <a:pt x="423" y="302"/>
                </a:lnTo>
                <a:lnTo>
                  <a:pt x="433" y="304"/>
                </a:lnTo>
                <a:lnTo>
                  <a:pt x="442" y="306"/>
                </a:lnTo>
                <a:lnTo>
                  <a:pt x="451" y="307"/>
                </a:lnTo>
                <a:lnTo>
                  <a:pt x="463" y="309"/>
                </a:lnTo>
                <a:lnTo>
                  <a:pt x="472" y="309"/>
                </a:lnTo>
                <a:lnTo>
                  <a:pt x="481" y="309"/>
                </a:lnTo>
                <a:lnTo>
                  <a:pt x="497" y="307"/>
                </a:lnTo>
                <a:lnTo>
                  <a:pt x="511" y="306"/>
                </a:lnTo>
                <a:lnTo>
                  <a:pt x="526" y="304"/>
                </a:lnTo>
                <a:lnTo>
                  <a:pt x="541" y="301"/>
                </a:lnTo>
                <a:lnTo>
                  <a:pt x="554" y="296"/>
                </a:lnTo>
                <a:lnTo>
                  <a:pt x="568" y="293"/>
                </a:lnTo>
                <a:lnTo>
                  <a:pt x="581" y="288"/>
                </a:lnTo>
                <a:lnTo>
                  <a:pt x="594" y="283"/>
                </a:lnTo>
                <a:lnTo>
                  <a:pt x="581" y="276"/>
                </a:lnTo>
                <a:lnTo>
                  <a:pt x="570" y="267"/>
                </a:lnTo>
                <a:lnTo>
                  <a:pt x="560" y="259"/>
                </a:lnTo>
                <a:lnTo>
                  <a:pt x="552" y="247"/>
                </a:lnTo>
                <a:lnTo>
                  <a:pt x="545" y="238"/>
                </a:lnTo>
                <a:lnTo>
                  <a:pt x="540" y="226"/>
                </a:lnTo>
                <a:lnTo>
                  <a:pt x="537" y="215"/>
                </a:lnTo>
                <a:lnTo>
                  <a:pt x="537" y="202"/>
                </a:lnTo>
                <a:lnTo>
                  <a:pt x="537" y="191"/>
                </a:lnTo>
                <a:lnTo>
                  <a:pt x="540" y="179"/>
                </a:lnTo>
                <a:lnTo>
                  <a:pt x="545" y="168"/>
                </a:lnTo>
                <a:lnTo>
                  <a:pt x="551" y="157"/>
                </a:lnTo>
                <a:lnTo>
                  <a:pt x="560" y="147"/>
                </a:lnTo>
                <a:lnTo>
                  <a:pt x="570" y="137"/>
                </a:lnTo>
                <a:lnTo>
                  <a:pt x="581" y="128"/>
                </a:lnTo>
                <a:lnTo>
                  <a:pt x="594" y="120"/>
                </a:lnTo>
                <a:lnTo>
                  <a:pt x="608" y="112"/>
                </a:lnTo>
                <a:lnTo>
                  <a:pt x="622" y="105"/>
                </a:lnTo>
                <a:lnTo>
                  <a:pt x="639" y="99"/>
                </a:lnTo>
                <a:lnTo>
                  <a:pt x="657" y="94"/>
                </a:lnTo>
                <a:lnTo>
                  <a:pt x="674" y="90"/>
                </a:lnTo>
                <a:lnTo>
                  <a:pt x="693" y="87"/>
                </a:lnTo>
                <a:lnTo>
                  <a:pt x="713" y="86"/>
                </a:lnTo>
                <a:lnTo>
                  <a:pt x="734" y="84"/>
                </a:lnTo>
                <a:lnTo>
                  <a:pt x="755" y="86"/>
                </a:lnTo>
                <a:lnTo>
                  <a:pt x="778" y="87"/>
                </a:lnTo>
                <a:lnTo>
                  <a:pt x="803" y="90"/>
                </a:lnTo>
                <a:lnTo>
                  <a:pt x="830" y="95"/>
                </a:lnTo>
                <a:lnTo>
                  <a:pt x="859" y="102"/>
                </a:lnTo>
                <a:lnTo>
                  <a:pt x="889" y="110"/>
                </a:lnTo>
                <a:lnTo>
                  <a:pt x="920" y="118"/>
                </a:lnTo>
                <a:lnTo>
                  <a:pt x="952" y="126"/>
                </a:lnTo>
                <a:lnTo>
                  <a:pt x="985" y="136"/>
                </a:lnTo>
                <a:lnTo>
                  <a:pt x="1018" y="147"/>
                </a:lnTo>
                <a:lnTo>
                  <a:pt x="1053" y="158"/>
                </a:lnTo>
                <a:lnTo>
                  <a:pt x="1088" y="170"/>
                </a:lnTo>
                <a:lnTo>
                  <a:pt x="1122" y="181"/>
                </a:lnTo>
                <a:lnTo>
                  <a:pt x="1155" y="194"/>
                </a:lnTo>
                <a:lnTo>
                  <a:pt x="1190" y="207"/>
                </a:lnTo>
                <a:lnTo>
                  <a:pt x="1225" y="218"/>
                </a:lnTo>
                <a:lnTo>
                  <a:pt x="1258" y="231"/>
                </a:lnTo>
                <a:lnTo>
                  <a:pt x="1291" y="244"/>
                </a:lnTo>
                <a:lnTo>
                  <a:pt x="1323" y="255"/>
                </a:lnTo>
                <a:lnTo>
                  <a:pt x="1353" y="268"/>
                </a:lnTo>
                <a:lnTo>
                  <a:pt x="1381" y="280"/>
                </a:lnTo>
                <a:lnTo>
                  <a:pt x="1410" y="291"/>
                </a:lnTo>
                <a:lnTo>
                  <a:pt x="1435" y="301"/>
                </a:lnTo>
                <a:lnTo>
                  <a:pt x="1459" y="310"/>
                </a:lnTo>
                <a:lnTo>
                  <a:pt x="1481" y="320"/>
                </a:lnTo>
                <a:lnTo>
                  <a:pt x="1501" y="328"/>
                </a:lnTo>
                <a:lnTo>
                  <a:pt x="1517" y="335"/>
                </a:lnTo>
                <a:lnTo>
                  <a:pt x="1531" y="341"/>
                </a:lnTo>
                <a:lnTo>
                  <a:pt x="1544" y="346"/>
                </a:lnTo>
                <a:lnTo>
                  <a:pt x="1552" y="349"/>
                </a:lnTo>
                <a:lnTo>
                  <a:pt x="1558" y="351"/>
                </a:lnTo>
                <a:lnTo>
                  <a:pt x="1560" y="353"/>
                </a:lnTo>
                <a:lnTo>
                  <a:pt x="1567" y="354"/>
                </a:lnTo>
                <a:lnTo>
                  <a:pt x="1577" y="357"/>
                </a:lnTo>
                <a:lnTo>
                  <a:pt x="1586" y="359"/>
                </a:lnTo>
                <a:lnTo>
                  <a:pt x="1596" y="361"/>
                </a:lnTo>
                <a:lnTo>
                  <a:pt x="1605" y="362"/>
                </a:lnTo>
                <a:lnTo>
                  <a:pt x="1616" y="364"/>
                </a:lnTo>
                <a:lnTo>
                  <a:pt x="1624" y="365"/>
                </a:lnTo>
                <a:lnTo>
                  <a:pt x="1634" y="367"/>
                </a:lnTo>
                <a:lnTo>
                  <a:pt x="1645" y="367"/>
                </a:lnTo>
                <a:lnTo>
                  <a:pt x="1656" y="369"/>
                </a:lnTo>
                <a:lnTo>
                  <a:pt x="1665" y="367"/>
                </a:lnTo>
                <a:lnTo>
                  <a:pt x="1676" y="365"/>
                </a:lnTo>
                <a:lnTo>
                  <a:pt x="1687" y="364"/>
                </a:lnTo>
                <a:lnTo>
                  <a:pt x="1697" y="361"/>
                </a:lnTo>
                <a:lnTo>
                  <a:pt x="1708" y="356"/>
                </a:lnTo>
                <a:lnTo>
                  <a:pt x="1717" y="351"/>
                </a:lnTo>
                <a:lnTo>
                  <a:pt x="1727" y="346"/>
                </a:lnTo>
                <a:lnTo>
                  <a:pt x="1735" y="341"/>
                </a:lnTo>
                <a:lnTo>
                  <a:pt x="1744" y="335"/>
                </a:lnTo>
                <a:lnTo>
                  <a:pt x="1752" y="328"/>
                </a:lnTo>
                <a:lnTo>
                  <a:pt x="1760" y="320"/>
                </a:lnTo>
                <a:lnTo>
                  <a:pt x="1768" y="314"/>
                </a:lnTo>
                <a:lnTo>
                  <a:pt x="1774" y="306"/>
                </a:lnTo>
                <a:lnTo>
                  <a:pt x="1781" y="298"/>
                </a:lnTo>
                <a:lnTo>
                  <a:pt x="1785" y="307"/>
                </a:lnTo>
                <a:lnTo>
                  <a:pt x="1793" y="317"/>
                </a:lnTo>
                <a:lnTo>
                  <a:pt x="1803" y="325"/>
                </a:lnTo>
                <a:lnTo>
                  <a:pt x="1814" y="333"/>
                </a:lnTo>
                <a:lnTo>
                  <a:pt x="1828" y="338"/>
                </a:lnTo>
                <a:lnTo>
                  <a:pt x="1842" y="343"/>
                </a:lnTo>
                <a:lnTo>
                  <a:pt x="1858" y="346"/>
                </a:lnTo>
                <a:lnTo>
                  <a:pt x="1875" y="348"/>
                </a:lnTo>
                <a:lnTo>
                  <a:pt x="1889" y="346"/>
                </a:lnTo>
                <a:lnTo>
                  <a:pt x="1904" y="344"/>
                </a:lnTo>
                <a:lnTo>
                  <a:pt x="1918" y="341"/>
                </a:lnTo>
                <a:lnTo>
                  <a:pt x="1929" y="336"/>
                </a:lnTo>
                <a:lnTo>
                  <a:pt x="1940" y="330"/>
                </a:lnTo>
                <a:lnTo>
                  <a:pt x="1951" y="323"/>
                </a:lnTo>
                <a:lnTo>
                  <a:pt x="1959" y="315"/>
                </a:lnTo>
                <a:lnTo>
                  <a:pt x="1965" y="307"/>
                </a:lnTo>
                <a:lnTo>
                  <a:pt x="1948" y="299"/>
                </a:lnTo>
                <a:lnTo>
                  <a:pt x="1931" y="289"/>
                </a:lnTo>
                <a:lnTo>
                  <a:pt x="1916" y="280"/>
                </a:lnTo>
                <a:lnTo>
                  <a:pt x="1902" y="270"/>
                </a:lnTo>
                <a:lnTo>
                  <a:pt x="1893" y="257"/>
                </a:lnTo>
                <a:lnTo>
                  <a:pt x="1885" y="246"/>
                </a:lnTo>
                <a:lnTo>
                  <a:pt x="1878" y="233"/>
                </a:lnTo>
                <a:lnTo>
                  <a:pt x="1877" y="220"/>
                </a:lnTo>
                <a:lnTo>
                  <a:pt x="1878" y="210"/>
                </a:lnTo>
                <a:lnTo>
                  <a:pt x="1880" y="202"/>
                </a:lnTo>
                <a:lnTo>
                  <a:pt x="1885" y="192"/>
                </a:lnTo>
                <a:lnTo>
                  <a:pt x="1889" y="184"/>
                </a:lnTo>
                <a:lnTo>
                  <a:pt x="1897" y="175"/>
                </a:lnTo>
                <a:lnTo>
                  <a:pt x="1905" y="167"/>
                </a:lnTo>
                <a:lnTo>
                  <a:pt x="1915" y="160"/>
                </a:lnTo>
                <a:lnTo>
                  <a:pt x="1926" y="152"/>
                </a:lnTo>
                <a:lnTo>
                  <a:pt x="1937" y="145"/>
                </a:lnTo>
                <a:lnTo>
                  <a:pt x="1949" y="141"/>
                </a:lnTo>
                <a:lnTo>
                  <a:pt x="1964" y="136"/>
                </a:lnTo>
                <a:lnTo>
                  <a:pt x="1978" y="131"/>
                </a:lnTo>
                <a:lnTo>
                  <a:pt x="1992" y="128"/>
                </a:lnTo>
                <a:lnTo>
                  <a:pt x="2008" y="126"/>
                </a:lnTo>
                <a:lnTo>
                  <a:pt x="2025" y="124"/>
                </a:lnTo>
                <a:lnTo>
                  <a:pt x="2041" y="123"/>
                </a:lnTo>
                <a:lnTo>
                  <a:pt x="2058" y="124"/>
                </a:lnTo>
                <a:lnTo>
                  <a:pt x="2074" y="126"/>
                </a:lnTo>
                <a:lnTo>
                  <a:pt x="2092" y="128"/>
                </a:lnTo>
                <a:lnTo>
                  <a:pt x="2106" y="131"/>
                </a:lnTo>
                <a:lnTo>
                  <a:pt x="2122" y="136"/>
                </a:lnTo>
                <a:lnTo>
                  <a:pt x="2136" y="141"/>
                </a:lnTo>
                <a:lnTo>
                  <a:pt x="2148" y="145"/>
                </a:lnTo>
                <a:lnTo>
                  <a:pt x="2161" y="152"/>
                </a:lnTo>
                <a:lnTo>
                  <a:pt x="2172" y="160"/>
                </a:lnTo>
                <a:lnTo>
                  <a:pt x="2182" y="167"/>
                </a:lnTo>
                <a:lnTo>
                  <a:pt x="2189" y="175"/>
                </a:lnTo>
                <a:lnTo>
                  <a:pt x="2197" y="184"/>
                </a:lnTo>
                <a:lnTo>
                  <a:pt x="2202" y="192"/>
                </a:lnTo>
                <a:lnTo>
                  <a:pt x="2205" y="202"/>
                </a:lnTo>
                <a:lnTo>
                  <a:pt x="2207" y="210"/>
                </a:lnTo>
                <a:lnTo>
                  <a:pt x="2205" y="220"/>
                </a:lnTo>
                <a:lnTo>
                  <a:pt x="2204" y="231"/>
                </a:lnTo>
                <a:lnTo>
                  <a:pt x="2199" y="241"/>
                </a:lnTo>
                <a:lnTo>
                  <a:pt x="2193" y="251"/>
                </a:lnTo>
                <a:lnTo>
                  <a:pt x="2186" y="260"/>
                </a:lnTo>
                <a:lnTo>
                  <a:pt x="2177" y="268"/>
                </a:lnTo>
                <a:lnTo>
                  <a:pt x="2167" y="278"/>
                </a:lnTo>
                <a:lnTo>
                  <a:pt x="2156" y="286"/>
                </a:lnTo>
                <a:lnTo>
                  <a:pt x="2145" y="294"/>
                </a:lnTo>
                <a:lnTo>
                  <a:pt x="2155" y="304"/>
                </a:lnTo>
                <a:lnTo>
                  <a:pt x="2164" y="312"/>
                </a:lnTo>
                <a:lnTo>
                  <a:pt x="2175" y="320"/>
                </a:lnTo>
                <a:lnTo>
                  <a:pt x="2185" y="328"/>
                </a:lnTo>
                <a:lnTo>
                  <a:pt x="2197" y="335"/>
                </a:lnTo>
                <a:lnTo>
                  <a:pt x="2208" y="341"/>
                </a:lnTo>
                <a:lnTo>
                  <a:pt x="2221" y="348"/>
                </a:lnTo>
                <a:lnTo>
                  <a:pt x="2234" y="353"/>
                </a:lnTo>
                <a:lnTo>
                  <a:pt x="2246" y="357"/>
                </a:lnTo>
                <a:lnTo>
                  <a:pt x="2260" y="362"/>
                </a:lnTo>
                <a:lnTo>
                  <a:pt x="2275" y="365"/>
                </a:lnTo>
                <a:lnTo>
                  <a:pt x="2289" y="369"/>
                </a:lnTo>
                <a:lnTo>
                  <a:pt x="2301" y="370"/>
                </a:lnTo>
                <a:lnTo>
                  <a:pt x="2317" y="372"/>
                </a:lnTo>
                <a:lnTo>
                  <a:pt x="2331" y="374"/>
                </a:lnTo>
                <a:lnTo>
                  <a:pt x="2347" y="374"/>
                </a:lnTo>
                <a:lnTo>
                  <a:pt x="2361" y="374"/>
                </a:lnTo>
                <a:lnTo>
                  <a:pt x="2376" y="372"/>
                </a:lnTo>
                <a:lnTo>
                  <a:pt x="2388" y="372"/>
                </a:lnTo>
                <a:lnTo>
                  <a:pt x="2402" y="369"/>
                </a:lnTo>
                <a:lnTo>
                  <a:pt x="2415" y="367"/>
                </a:lnTo>
                <a:lnTo>
                  <a:pt x="2429" y="364"/>
                </a:lnTo>
                <a:lnTo>
                  <a:pt x="2442" y="359"/>
                </a:lnTo>
                <a:lnTo>
                  <a:pt x="2455" y="356"/>
                </a:lnTo>
                <a:lnTo>
                  <a:pt x="2466" y="351"/>
                </a:lnTo>
                <a:lnTo>
                  <a:pt x="2478" y="346"/>
                </a:lnTo>
                <a:lnTo>
                  <a:pt x="2489" y="340"/>
                </a:lnTo>
                <a:lnTo>
                  <a:pt x="2500" y="335"/>
                </a:lnTo>
                <a:lnTo>
                  <a:pt x="2510" y="328"/>
                </a:lnTo>
                <a:lnTo>
                  <a:pt x="2521" y="322"/>
                </a:lnTo>
                <a:lnTo>
                  <a:pt x="2530" y="314"/>
                </a:lnTo>
                <a:lnTo>
                  <a:pt x="2540" y="307"/>
                </a:lnTo>
                <a:lnTo>
                  <a:pt x="2535" y="298"/>
                </a:lnTo>
                <a:lnTo>
                  <a:pt x="2530" y="286"/>
                </a:lnTo>
                <a:lnTo>
                  <a:pt x="2526" y="276"/>
                </a:lnTo>
                <a:lnTo>
                  <a:pt x="2522" y="265"/>
                </a:lnTo>
                <a:lnTo>
                  <a:pt x="2521" y="252"/>
                </a:lnTo>
                <a:lnTo>
                  <a:pt x="2518" y="241"/>
                </a:lnTo>
                <a:lnTo>
                  <a:pt x="2518" y="230"/>
                </a:lnTo>
                <a:lnTo>
                  <a:pt x="2516" y="218"/>
                </a:lnTo>
                <a:lnTo>
                  <a:pt x="2518" y="200"/>
                </a:lnTo>
                <a:lnTo>
                  <a:pt x="2521" y="184"/>
                </a:lnTo>
                <a:lnTo>
                  <a:pt x="2524" y="168"/>
                </a:lnTo>
                <a:lnTo>
                  <a:pt x="2530" y="154"/>
                </a:lnTo>
                <a:lnTo>
                  <a:pt x="2538" y="141"/>
                </a:lnTo>
                <a:lnTo>
                  <a:pt x="2548" y="129"/>
                </a:lnTo>
                <a:lnTo>
                  <a:pt x="2557" y="118"/>
                </a:lnTo>
                <a:lnTo>
                  <a:pt x="2568" y="108"/>
                </a:lnTo>
                <a:lnTo>
                  <a:pt x="2581" y="100"/>
                </a:lnTo>
                <a:lnTo>
                  <a:pt x="2593" y="95"/>
                </a:lnTo>
                <a:lnTo>
                  <a:pt x="2608" y="90"/>
                </a:lnTo>
                <a:lnTo>
                  <a:pt x="2623" y="87"/>
                </a:lnTo>
                <a:lnTo>
                  <a:pt x="2638" y="87"/>
                </a:lnTo>
                <a:lnTo>
                  <a:pt x="2655" y="87"/>
                </a:lnTo>
                <a:lnTo>
                  <a:pt x="2671" y="90"/>
                </a:lnTo>
                <a:lnTo>
                  <a:pt x="2687" y="97"/>
                </a:lnTo>
                <a:lnTo>
                  <a:pt x="2699" y="102"/>
                </a:lnTo>
                <a:lnTo>
                  <a:pt x="2710" y="107"/>
                </a:lnTo>
                <a:lnTo>
                  <a:pt x="2721" y="115"/>
                </a:lnTo>
                <a:lnTo>
                  <a:pt x="2729" y="121"/>
                </a:lnTo>
                <a:lnTo>
                  <a:pt x="2739" y="131"/>
                </a:lnTo>
                <a:lnTo>
                  <a:pt x="2745" y="139"/>
                </a:lnTo>
                <a:lnTo>
                  <a:pt x="2751" y="149"/>
                </a:lnTo>
                <a:lnTo>
                  <a:pt x="2756" y="160"/>
                </a:lnTo>
                <a:lnTo>
                  <a:pt x="2759" y="170"/>
                </a:lnTo>
                <a:lnTo>
                  <a:pt x="2761" y="181"/>
                </a:lnTo>
                <a:lnTo>
                  <a:pt x="2761" y="192"/>
                </a:lnTo>
                <a:lnTo>
                  <a:pt x="2761" y="204"/>
                </a:lnTo>
                <a:lnTo>
                  <a:pt x="2758" y="215"/>
                </a:lnTo>
                <a:lnTo>
                  <a:pt x="2753" y="226"/>
                </a:lnTo>
                <a:lnTo>
                  <a:pt x="2747" y="238"/>
                </a:lnTo>
                <a:lnTo>
                  <a:pt x="2737" y="249"/>
                </a:lnTo>
                <a:lnTo>
                  <a:pt x="2729" y="257"/>
                </a:lnTo>
                <a:lnTo>
                  <a:pt x="2721" y="264"/>
                </a:lnTo>
                <a:lnTo>
                  <a:pt x="2713" y="268"/>
                </a:lnTo>
                <a:lnTo>
                  <a:pt x="2704" y="273"/>
                </a:lnTo>
                <a:lnTo>
                  <a:pt x="2695" y="276"/>
                </a:lnTo>
                <a:lnTo>
                  <a:pt x="2685" y="278"/>
                </a:lnTo>
                <a:lnTo>
                  <a:pt x="2676" y="280"/>
                </a:lnTo>
                <a:lnTo>
                  <a:pt x="2666" y="278"/>
                </a:lnTo>
                <a:lnTo>
                  <a:pt x="2657" y="278"/>
                </a:lnTo>
                <a:lnTo>
                  <a:pt x="2647" y="275"/>
                </a:lnTo>
                <a:lnTo>
                  <a:pt x="2639" y="272"/>
                </a:lnTo>
                <a:lnTo>
                  <a:pt x="2630" y="267"/>
                </a:lnTo>
                <a:lnTo>
                  <a:pt x="2623" y="260"/>
                </a:lnTo>
                <a:lnTo>
                  <a:pt x="2616" y="254"/>
                </a:lnTo>
                <a:lnTo>
                  <a:pt x="2609" y="244"/>
                </a:lnTo>
                <a:lnTo>
                  <a:pt x="2605" y="234"/>
                </a:lnTo>
                <a:lnTo>
                  <a:pt x="2601" y="225"/>
                </a:lnTo>
                <a:lnTo>
                  <a:pt x="2600" y="215"/>
                </a:lnTo>
                <a:lnTo>
                  <a:pt x="2598" y="207"/>
                </a:lnTo>
                <a:lnTo>
                  <a:pt x="2598" y="197"/>
                </a:lnTo>
                <a:lnTo>
                  <a:pt x="2600" y="189"/>
                </a:lnTo>
                <a:lnTo>
                  <a:pt x="2601" y="181"/>
                </a:lnTo>
                <a:lnTo>
                  <a:pt x="2605" y="175"/>
                </a:lnTo>
                <a:lnTo>
                  <a:pt x="2608" y="170"/>
                </a:lnTo>
                <a:lnTo>
                  <a:pt x="2614" y="162"/>
                </a:lnTo>
                <a:lnTo>
                  <a:pt x="2620" y="160"/>
                </a:lnTo>
                <a:lnTo>
                  <a:pt x="2625" y="162"/>
                </a:lnTo>
                <a:lnTo>
                  <a:pt x="2630" y="167"/>
                </a:lnTo>
                <a:lnTo>
                  <a:pt x="2630" y="171"/>
                </a:lnTo>
                <a:lnTo>
                  <a:pt x="2630" y="178"/>
                </a:lnTo>
                <a:lnTo>
                  <a:pt x="2625" y="181"/>
                </a:lnTo>
                <a:lnTo>
                  <a:pt x="2617" y="179"/>
                </a:lnTo>
                <a:lnTo>
                  <a:pt x="2614" y="184"/>
                </a:lnTo>
                <a:lnTo>
                  <a:pt x="2612" y="189"/>
                </a:lnTo>
                <a:lnTo>
                  <a:pt x="2611" y="207"/>
                </a:lnTo>
                <a:lnTo>
                  <a:pt x="2612" y="223"/>
                </a:lnTo>
                <a:lnTo>
                  <a:pt x="2617" y="238"/>
                </a:lnTo>
                <a:lnTo>
                  <a:pt x="2625" y="249"/>
                </a:lnTo>
                <a:lnTo>
                  <a:pt x="2636" y="259"/>
                </a:lnTo>
                <a:lnTo>
                  <a:pt x="2649" y="265"/>
                </a:lnTo>
                <a:lnTo>
                  <a:pt x="2665" y="268"/>
                </a:lnTo>
                <a:lnTo>
                  <a:pt x="2682" y="268"/>
                </a:lnTo>
                <a:lnTo>
                  <a:pt x="2695" y="265"/>
                </a:lnTo>
                <a:lnTo>
                  <a:pt x="2704" y="260"/>
                </a:lnTo>
                <a:lnTo>
                  <a:pt x="2713" y="255"/>
                </a:lnTo>
                <a:lnTo>
                  <a:pt x="2723" y="249"/>
                </a:lnTo>
                <a:lnTo>
                  <a:pt x="2731" y="241"/>
                </a:lnTo>
                <a:lnTo>
                  <a:pt x="2737" y="233"/>
                </a:lnTo>
                <a:lnTo>
                  <a:pt x="2742" y="225"/>
                </a:lnTo>
                <a:lnTo>
                  <a:pt x="2747" y="215"/>
                </a:lnTo>
                <a:lnTo>
                  <a:pt x="2750" y="205"/>
                </a:lnTo>
                <a:lnTo>
                  <a:pt x="2751" y="194"/>
                </a:lnTo>
                <a:lnTo>
                  <a:pt x="2751" y="184"/>
                </a:lnTo>
                <a:lnTo>
                  <a:pt x="2750" y="173"/>
                </a:lnTo>
                <a:lnTo>
                  <a:pt x="2747" y="163"/>
                </a:lnTo>
                <a:lnTo>
                  <a:pt x="2742" y="152"/>
                </a:lnTo>
                <a:lnTo>
                  <a:pt x="2737" y="142"/>
                </a:lnTo>
                <a:lnTo>
                  <a:pt x="2729" y="133"/>
                </a:lnTo>
                <a:lnTo>
                  <a:pt x="2715" y="121"/>
                </a:lnTo>
                <a:lnTo>
                  <a:pt x="2699" y="112"/>
                </a:lnTo>
                <a:lnTo>
                  <a:pt x="2683" y="105"/>
                </a:lnTo>
                <a:lnTo>
                  <a:pt x="2668" y="100"/>
                </a:lnTo>
                <a:lnTo>
                  <a:pt x="2652" y="97"/>
                </a:lnTo>
                <a:lnTo>
                  <a:pt x="2636" y="97"/>
                </a:lnTo>
                <a:lnTo>
                  <a:pt x="2620" y="99"/>
                </a:lnTo>
                <a:lnTo>
                  <a:pt x="2606" y="102"/>
                </a:lnTo>
                <a:lnTo>
                  <a:pt x="2592" y="107"/>
                </a:lnTo>
                <a:lnTo>
                  <a:pt x="2578" y="115"/>
                </a:lnTo>
                <a:lnTo>
                  <a:pt x="2565" y="123"/>
                </a:lnTo>
                <a:lnTo>
                  <a:pt x="2554" y="134"/>
                </a:lnTo>
                <a:lnTo>
                  <a:pt x="2545" y="149"/>
                </a:lnTo>
                <a:lnTo>
                  <a:pt x="2537" y="163"/>
                </a:lnTo>
                <a:lnTo>
                  <a:pt x="2530" y="181"/>
                </a:lnTo>
                <a:lnTo>
                  <a:pt x="2527" y="199"/>
                </a:lnTo>
                <a:lnTo>
                  <a:pt x="2526" y="210"/>
                </a:lnTo>
                <a:lnTo>
                  <a:pt x="2527" y="223"/>
                </a:lnTo>
                <a:lnTo>
                  <a:pt x="2527" y="236"/>
                </a:lnTo>
                <a:lnTo>
                  <a:pt x="2530" y="251"/>
                </a:lnTo>
                <a:lnTo>
                  <a:pt x="2534" y="265"/>
                </a:lnTo>
                <a:lnTo>
                  <a:pt x="2537" y="278"/>
                </a:lnTo>
                <a:lnTo>
                  <a:pt x="2541" y="291"/>
                </a:lnTo>
                <a:lnTo>
                  <a:pt x="2548" y="299"/>
                </a:lnTo>
                <a:lnTo>
                  <a:pt x="2548" y="299"/>
                </a:lnTo>
                <a:lnTo>
                  <a:pt x="2548" y="299"/>
                </a:lnTo>
                <a:lnTo>
                  <a:pt x="2548" y="299"/>
                </a:lnTo>
                <a:lnTo>
                  <a:pt x="2548" y="299"/>
                </a:lnTo>
                <a:lnTo>
                  <a:pt x="2556" y="307"/>
                </a:lnTo>
                <a:lnTo>
                  <a:pt x="2564" y="315"/>
                </a:lnTo>
                <a:lnTo>
                  <a:pt x="2571" y="323"/>
                </a:lnTo>
                <a:lnTo>
                  <a:pt x="2579" y="331"/>
                </a:lnTo>
                <a:lnTo>
                  <a:pt x="2589" y="338"/>
                </a:lnTo>
                <a:lnTo>
                  <a:pt x="2598" y="344"/>
                </a:lnTo>
                <a:lnTo>
                  <a:pt x="2608" y="351"/>
                </a:lnTo>
                <a:lnTo>
                  <a:pt x="2617" y="357"/>
                </a:lnTo>
                <a:lnTo>
                  <a:pt x="2628" y="362"/>
                </a:lnTo>
                <a:lnTo>
                  <a:pt x="2639" y="367"/>
                </a:lnTo>
                <a:lnTo>
                  <a:pt x="2649" y="370"/>
                </a:lnTo>
                <a:lnTo>
                  <a:pt x="2660" y="374"/>
                </a:lnTo>
                <a:lnTo>
                  <a:pt x="2672" y="377"/>
                </a:lnTo>
                <a:lnTo>
                  <a:pt x="2683" y="378"/>
                </a:lnTo>
                <a:lnTo>
                  <a:pt x="2695" y="380"/>
                </a:lnTo>
                <a:lnTo>
                  <a:pt x="2707" y="380"/>
                </a:lnTo>
                <a:lnTo>
                  <a:pt x="2728" y="377"/>
                </a:lnTo>
                <a:lnTo>
                  <a:pt x="2747" y="374"/>
                </a:lnTo>
                <a:lnTo>
                  <a:pt x="2766" y="367"/>
                </a:lnTo>
                <a:lnTo>
                  <a:pt x="2781" y="359"/>
                </a:lnTo>
                <a:lnTo>
                  <a:pt x="2796" y="349"/>
                </a:lnTo>
                <a:lnTo>
                  <a:pt x="2808" y="338"/>
                </a:lnTo>
                <a:lnTo>
                  <a:pt x="2819" y="327"/>
                </a:lnTo>
                <a:lnTo>
                  <a:pt x="2830" y="314"/>
                </a:lnTo>
                <a:lnTo>
                  <a:pt x="2840" y="301"/>
                </a:lnTo>
                <a:lnTo>
                  <a:pt x="2848" y="286"/>
                </a:lnTo>
                <a:lnTo>
                  <a:pt x="2854" y="272"/>
                </a:lnTo>
                <a:lnTo>
                  <a:pt x="2860" y="259"/>
                </a:lnTo>
                <a:lnTo>
                  <a:pt x="2867" y="244"/>
                </a:lnTo>
                <a:lnTo>
                  <a:pt x="2871" y="230"/>
                </a:lnTo>
                <a:lnTo>
                  <a:pt x="2876" y="217"/>
                </a:lnTo>
                <a:lnTo>
                  <a:pt x="2879" y="204"/>
                </a:lnTo>
                <a:lnTo>
                  <a:pt x="2884" y="217"/>
                </a:lnTo>
                <a:lnTo>
                  <a:pt x="2887" y="230"/>
                </a:lnTo>
                <a:lnTo>
                  <a:pt x="2890" y="244"/>
                </a:lnTo>
                <a:lnTo>
                  <a:pt x="2895" y="259"/>
                </a:lnTo>
                <a:lnTo>
                  <a:pt x="2900" y="272"/>
                </a:lnTo>
                <a:lnTo>
                  <a:pt x="2906" y="286"/>
                </a:lnTo>
                <a:lnTo>
                  <a:pt x="2914" y="301"/>
                </a:lnTo>
                <a:lnTo>
                  <a:pt x="2922" y="314"/>
                </a:lnTo>
                <a:lnTo>
                  <a:pt x="2931" y="327"/>
                </a:lnTo>
                <a:lnTo>
                  <a:pt x="2942" y="338"/>
                </a:lnTo>
                <a:lnTo>
                  <a:pt x="2955" y="349"/>
                </a:lnTo>
                <a:lnTo>
                  <a:pt x="2971" y="359"/>
                </a:lnTo>
                <a:lnTo>
                  <a:pt x="2988" y="367"/>
                </a:lnTo>
                <a:lnTo>
                  <a:pt x="3007" y="374"/>
                </a:lnTo>
                <a:lnTo>
                  <a:pt x="3028" y="378"/>
                </a:lnTo>
                <a:lnTo>
                  <a:pt x="3053" y="380"/>
                </a:lnTo>
                <a:lnTo>
                  <a:pt x="3064" y="380"/>
                </a:lnTo>
                <a:lnTo>
                  <a:pt x="3077" y="378"/>
                </a:lnTo>
                <a:lnTo>
                  <a:pt x="3088" y="377"/>
                </a:lnTo>
                <a:lnTo>
                  <a:pt x="3099" y="375"/>
                </a:lnTo>
                <a:lnTo>
                  <a:pt x="3110" y="372"/>
                </a:lnTo>
                <a:lnTo>
                  <a:pt x="3121" y="367"/>
                </a:lnTo>
                <a:lnTo>
                  <a:pt x="3130" y="362"/>
                </a:lnTo>
                <a:lnTo>
                  <a:pt x="3141" y="357"/>
                </a:lnTo>
                <a:lnTo>
                  <a:pt x="3151" y="351"/>
                </a:lnTo>
                <a:lnTo>
                  <a:pt x="3160" y="346"/>
                </a:lnTo>
                <a:lnTo>
                  <a:pt x="3170" y="338"/>
                </a:lnTo>
                <a:lnTo>
                  <a:pt x="3179" y="331"/>
                </a:lnTo>
                <a:lnTo>
                  <a:pt x="3187" y="323"/>
                </a:lnTo>
                <a:lnTo>
                  <a:pt x="3195" y="315"/>
                </a:lnTo>
                <a:lnTo>
                  <a:pt x="3203" y="307"/>
                </a:lnTo>
                <a:lnTo>
                  <a:pt x="3211" y="299"/>
                </a:lnTo>
                <a:lnTo>
                  <a:pt x="3211" y="299"/>
                </a:lnTo>
                <a:lnTo>
                  <a:pt x="3211" y="299"/>
                </a:lnTo>
                <a:lnTo>
                  <a:pt x="3211" y="299"/>
                </a:lnTo>
                <a:lnTo>
                  <a:pt x="3212" y="299"/>
                </a:lnTo>
                <a:lnTo>
                  <a:pt x="3217" y="291"/>
                </a:lnTo>
                <a:lnTo>
                  <a:pt x="3222" y="280"/>
                </a:lnTo>
                <a:lnTo>
                  <a:pt x="3226" y="265"/>
                </a:lnTo>
                <a:lnTo>
                  <a:pt x="3230" y="252"/>
                </a:lnTo>
                <a:lnTo>
                  <a:pt x="3231" y="238"/>
                </a:lnTo>
                <a:lnTo>
                  <a:pt x="3231" y="223"/>
                </a:lnTo>
                <a:lnTo>
                  <a:pt x="3233" y="210"/>
                </a:lnTo>
                <a:lnTo>
                  <a:pt x="3231" y="199"/>
                </a:lnTo>
                <a:lnTo>
                  <a:pt x="3228" y="181"/>
                </a:lnTo>
                <a:lnTo>
                  <a:pt x="3222" y="163"/>
                </a:lnTo>
                <a:lnTo>
                  <a:pt x="3214" y="149"/>
                </a:lnTo>
                <a:lnTo>
                  <a:pt x="3204" y="134"/>
                </a:lnTo>
                <a:lnTo>
                  <a:pt x="3193" y="123"/>
                </a:lnTo>
                <a:lnTo>
                  <a:pt x="3181" y="115"/>
                </a:lnTo>
                <a:lnTo>
                  <a:pt x="3167" y="107"/>
                </a:lnTo>
                <a:lnTo>
                  <a:pt x="3152" y="102"/>
                </a:lnTo>
                <a:lnTo>
                  <a:pt x="3138" y="99"/>
                </a:lnTo>
                <a:lnTo>
                  <a:pt x="3122" y="97"/>
                </a:lnTo>
                <a:lnTo>
                  <a:pt x="3107" y="97"/>
                </a:lnTo>
                <a:lnTo>
                  <a:pt x="3091" y="100"/>
                </a:lnTo>
                <a:lnTo>
                  <a:pt x="3075" y="105"/>
                </a:lnTo>
                <a:lnTo>
                  <a:pt x="3059" y="112"/>
                </a:lnTo>
                <a:lnTo>
                  <a:pt x="3043" y="121"/>
                </a:lnTo>
                <a:lnTo>
                  <a:pt x="3029" y="133"/>
                </a:lnTo>
                <a:lnTo>
                  <a:pt x="3021" y="142"/>
                </a:lnTo>
                <a:lnTo>
                  <a:pt x="3017" y="152"/>
                </a:lnTo>
                <a:lnTo>
                  <a:pt x="3012" y="163"/>
                </a:lnTo>
                <a:lnTo>
                  <a:pt x="3009" y="173"/>
                </a:lnTo>
                <a:lnTo>
                  <a:pt x="3007" y="184"/>
                </a:lnTo>
                <a:lnTo>
                  <a:pt x="3007" y="194"/>
                </a:lnTo>
                <a:lnTo>
                  <a:pt x="3009" y="205"/>
                </a:lnTo>
                <a:lnTo>
                  <a:pt x="3012" y="215"/>
                </a:lnTo>
                <a:lnTo>
                  <a:pt x="3017" y="225"/>
                </a:lnTo>
                <a:lnTo>
                  <a:pt x="3021" y="233"/>
                </a:lnTo>
                <a:lnTo>
                  <a:pt x="3028" y="241"/>
                </a:lnTo>
                <a:lnTo>
                  <a:pt x="3035" y="249"/>
                </a:lnTo>
                <a:lnTo>
                  <a:pt x="3045" y="255"/>
                </a:lnTo>
                <a:lnTo>
                  <a:pt x="3054" y="260"/>
                </a:lnTo>
                <a:lnTo>
                  <a:pt x="3064" y="265"/>
                </a:lnTo>
                <a:lnTo>
                  <a:pt x="3077" y="268"/>
                </a:lnTo>
                <a:lnTo>
                  <a:pt x="3094" y="268"/>
                </a:lnTo>
                <a:lnTo>
                  <a:pt x="3110" y="265"/>
                </a:lnTo>
                <a:lnTo>
                  <a:pt x="3122" y="259"/>
                </a:lnTo>
                <a:lnTo>
                  <a:pt x="3133" y="249"/>
                </a:lnTo>
                <a:lnTo>
                  <a:pt x="3141" y="238"/>
                </a:lnTo>
                <a:lnTo>
                  <a:pt x="3146" y="223"/>
                </a:lnTo>
                <a:lnTo>
                  <a:pt x="3148" y="207"/>
                </a:lnTo>
                <a:lnTo>
                  <a:pt x="3146" y="189"/>
                </a:lnTo>
                <a:lnTo>
                  <a:pt x="3144" y="184"/>
                </a:lnTo>
                <a:lnTo>
                  <a:pt x="3141" y="179"/>
                </a:lnTo>
                <a:lnTo>
                  <a:pt x="3133" y="181"/>
                </a:lnTo>
                <a:lnTo>
                  <a:pt x="3129" y="178"/>
                </a:lnTo>
                <a:lnTo>
                  <a:pt x="3129" y="171"/>
                </a:lnTo>
                <a:lnTo>
                  <a:pt x="3130" y="167"/>
                </a:lnTo>
                <a:lnTo>
                  <a:pt x="3133" y="162"/>
                </a:lnTo>
                <a:lnTo>
                  <a:pt x="3138" y="160"/>
                </a:lnTo>
                <a:lnTo>
                  <a:pt x="3144" y="162"/>
                </a:lnTo>
                <a:lnTo>
                  <a:pt x="3151" y="170"/>
                </a:lnTo>
                <a:lnTo>
                  <a:pt x="3154" y="175"/>
                </a:lnTo>
                <a:lnTo>
                  <a:pt x="3157" y="181"/>
                </a:lnTo>
                <a:lnTo>
                  <a:pt x="3159" y="189"/>
                </a:lnTo>
                <a:lnTo>
                  <a:pt x="3160" y="197"/>
                </a:lnTo>
                <a:lnTo>
                  <a:pt x="3160" y="207"/>
                </a:lnTo>
                <a:lnTo>
                  <a:pt x="3159" y="215"/>
                </a:lnTo>
                <a:lnTo>
                  <a:pt x="3157" y="225"/>
                </a:lnTo>
                <a:lnTo>
                  <a:pt x="3154" y="234"/>
                </a:lnTo>
                <a:lnTo>
                  <a:pt x="3149" y="244"/>
                </a:lnTo>
                <a:lnTo>
                  <a:pt x="3143" y="254"/>
                </a:lnTo>
                <a:lnTo>
                  <a:pt x="3135" y="260"/>
                </a:lnTo>
                <a:lnTo>
                  <a:pt x="3129" y="267"/>
                </a:lnTo>
                <a:lnTo>
                  <a:pt x="3119" y="272"/>
                </a:lnTo>
                <a:lnTo>
                  <a:pt x="3111" y="275"/>
                </a:lnTo>
                <a:lnTo>
                  <a:pt x="3102" y="278"/>
                </a:lnTo>
                <a:lnTo>
                  <a:pt x="3092" y="278"/>
                </a:lnTo>
                <a:lnTo>
                  <a:pt x="3083" y="280"/>
                </a:lnTo>
                <a:lnTo>
                  <a:pt x="3073" y="278"/>
                </a:lnTo>
                <a:lnTo>
                  <a:pt x="3064" y="276"/>
                </a:lnTo>
                <a:lnTo>
                  <a:pt x="3054" y="273"/>
                </a:lnTo>
                <a:lnTo>
                  <a:pt x="3045" y="268"/>
                </a:lnTo>
                <a:lnTo>
                  <a:pt x="3037" y="264"/>
                </a:lnTo>
                <a:lnTo>
                  <a:pt x="3029" y="257"/>
                </a:lnTo>
                <a:lnTo>
                  <a:pt x="3021" y="249"/>
                </a:lnTo>
                <a:lnTo>
                  <a:pt x="3012" y="238"/>
                </a:lnTo>
                <a:lnTo>
                  <a:pt x="3005" y="226"/>
                </a:lnTo>
                <a:lnTo>
                  <a:pt x="3001" y="215"/>
                </a:lnTo>
                <a:lnTo>
                  <a:pt x="2998" y="204"/>
                </a:lnTo>
                <a:lnTo>
                  <a:pt x="2998" y="192"/>
                </a:lnTo>
                <a:lnTo>
                  <a:pt x="2998" y="181"/>
                </a:lnTo>
                <a:lnTo>
                  <a:pt x="2999" y="170"/>
                </a:lnTo>
                <a:lnTo>
                  <a:pt x="3002" y="160"/>
                </a:lnTo>
                <a:lnTo>
                  <a:pt x="3007" y="149"/>
                </a:lnTo>
                <a:lnTo>
                  <a:pt x="3013" y="139"/>
                </a:lnTo>
                <a:lnTo>
                  <a:pt x="3020" y="131"/>
                </a:lnTo>
                <a:lnTo>
                  <a:pt x="3029" y="121"/>
                </a:lnTo>
                <a:lnTo>
                  <a:pt x="3037" y="115"/>
                </a:lnTo>
                <a:lnTo>
                  <a:pt x="3048" y="107"/>
                </a:lnTo>
                <a:lnTo>
                  <a:pt x="3059" y="102"/>
                </a:lnTo>
                <a:lnTo>
                  <a:pt x="3072" y="97"/>
                </a:lnTo>
                <a:lnTo>
                  <a:pt x="3088" y="90"/>
                </a:lnTo>
                <a:lnTo>
                  <a:pt x="3103" y="87"/>
                </a:lnTo>
                <a:lnTo>
                  <a:pt x="3121" y="87"/>
                </a:lnTo>
                <a:lnTo>
                  <a:pt x="3135" y="87"/>
                </a:lnTo>
                <a:lnTo>
                  <a:pt x="3151" y="90"/>
                </a:lnTo>
                <a:lnTo>
                  <a:pt x="3165" y="95"/>
                </a:lnTo>
                <a:lnTo>
                  <a:pt x="3178" y="100"/>
                </a:lnTo>
                <a:lnTo>
                  <a:pt x="3190" y="108"/>
                </a:lnTo>
                <a:lnTo>
                  <a:pt x="3201" y="118"/>
                </a:lnTo>
                <a:lnTo>
                  <a:pt x="3211" y="129"/>
                </a:lnTo>
                <a:lnTo>
                  <a:pt x="3220" y="141"/>
                </a:lnTo>
                <a:lnTo>
                  <a:pt x="3228" y="154"/>
                </a:lnTo>
                <a:lnTo>
                  <a:pt x="3234" y="168"/>
                </a:lnTo>
                <a:lnTo>
                  <a:pt x="3238" y="184"/>
                </a:lnTo>
                <a:lnTo>
                  <a:pt x="3241" y="200"/>
                </a:lnTo>
                <a:lnTo>
                  <a:pt x="3242" y="218"/>
                </a:lnTo>
                <a:lnTo>
                  <a:pt x="3241" y="230"/>
                </a:lnTo>
                <a:lnTo>
                  <a:pt x="3241" y="241"/>
                </a:lnTo>
                <a:lnTo>
                  <a:pt x="3238" y="252"/>
                </a:lnTo>
                <a:lnTo>
                  <a:pt x="3236" y="265"/>
                </a:lnTo>
                <a:lnTo>
                  <a:pt x="3233" y="276"/>
                </a:lnTo>
                <a:lnTo>
                  <a:pt x="3228" y="286"/>
                </a:lnTo>
                <a:lnTo>
                  <a:pt x="3225" y="298"/>
                </a:lnTo>
                <a:lnTo>
                  <a:pt x="3220" y="307"/>
                </a:lnTo>
                <a:lnTo>
                  <a:pt x="3228" y="314"/>
                </a:lnTo>
                <a:lnTo>
                  <a:pt x="3238" y="322"/>
                </a:lnTo>
                <a:lnTo>
                  <a:pt x="3249" y="328"/>
                </a:lnTo>
                <a:lnTo>
                  <a:pt x="3258" y="335"/>
                </a:lnTo>
                <a:lnTo>
                  <a:pt x="3269" y="341"/>
                </a:lnTo>
                <a:lnTo>
                  <a:pt x="3282" y="346"/>
                </a:lnTo>
                <a:lnTo>
                  <a:pt x="3293" y="351"/>
                </a:lnTo>
                <a:lnTo>
                  <a:pt x="3305" y="356"/>
                </a:lnTo>
                <a:lnTo>
                  <a:pt x="3318" y="361"/>
                </a:lnTo>
                <a:lnTo>
                  <a:pt x="3331" y="364"/>
                </a:lnTo>
                <a:lnTo>
                  <a:pt x="3343" y="367"/>
                </a:lnTo>
                <a:lnTo>
                  <a:pt x="3356" y="369"/>
                </a:lnTo>
                <a:lnTo>
                  <a:pt x="3370" y="372"/>
                </a:lnTo>
                <a:lnTo>
                  <a:pt x="3384" y="374"/>
                </a:lnTo>
                <a:lnTo>
                  <a:pt x="3399" y="374"/>
                </a:lnTo>
                <a:lnTo>
                  <a:pt x="3413" y="374"/>
                </a:lnTo>
                <a:lnTo>
                  <a:pt x="3427" y="374"/>
                </a:lnTo>
                <a:lnTo>
                  <a:pt x="3443" y="372"/>
                </a:lnTo>
                <a:lnTo>
                  <a:pt x="3455" y="370"/>
                </a:lnTo>
                <a:lnTo>
                  <a:pt x="3470" y="369"/>
                </a:lnTo>
                <a:lnTo>
                  <a:pt x="3484" y="365"/>
                </a:lnTo>
                <a:lnTo>
                  <a:pt x="3498" y="362"/>
                </a:lnTo>
                <a:lnTo>
                  <a:pt x="3512" y="357"/>
                </a:lnTo>
                <a:lnTo>
                  <a:pt x="3525" y="353"/>
                </a:lnTo>
                <a:lnTo>
                  <a:pt x="3537" y="348"/>
                </a:lnTo>
                <a:lnTo>
                  <a:pt x="3550" y="341"/>
                </a:lnTo>
                <a:lnTo>
                  <a:pt x="3561" y="335"/>
                </a:lnTo>
                <a:lnTo>
                  <a:pt x="3574" y="328"/>
                </a:lnTo>
                <a:lnTo>
                  <a:pt x="3585" y="320"/>
                </a:lnTo>
                <a:lnTo>
                  <a:pt x="3594" y="312"/>
                </a:lnTo>
                <a:lnTo>
                  <a:pt x="3605" y="304"/>
                </a:lnTo>
                <a:lnTo>
                  <a:pt x="3615" y="294"/>
                </a:lnTo>
                <a:lnTo>
                  <a:pt x="3602" y="286"/>
                </a:lnTo>
                <a:lnTo>
                  <a:pt x="3591" y="278"/>
                </a:lnTo>
                <a:lnTo>
                  <a:pt x="3582" y="270"/>
                </a:lnTo>
                <a:lnTo>
                  <a:pt x="3574" y="260"/>
                </a:lnTo>
                <a:lnTo>
                  <a:pt x="3566" y="251"/>
                </a:lnTo>
                <a:lnTo>
                  <a:pt x="3560" y="241"/>
                </a:lnTo>
                <a:lnTo>
                  <a:pt x="3556" y="231"/>
                </a:lnTo>
                <a:lnTo>
                  <a:pt x="3553" y="221"/>
                </a:lnTo>
                <a:lnTo>
                  <a:pt x="3552" y="212"/>
                </a:lnTo>
                <a:lnTo>
                  <a:pt x="3553" y="202"/>
                </a:lnTo>
                <a:lnTo>
                  <a:pt x="3556" y="192"/>
                </a:lnTo>
                <a:lnTo>
                  <a:pt x="3563" y="184"/>
                </a:lnTo>
                <a:lnTo>
                  <a:pt x="3569" y="176"/>
                </a:lnTo>
                <a:lnTo>
                  <a:pt x="3577" y="168"/>
                </a:lnTo>
                <a:lnTo>
                  <a:pt x="3586" y="160"/>
                </a:lnTo>
                <a:lnTo>
                  <a:pt x="3597" y="152"/>
                </a:lnTo>
                <a:lnTo>
                  <a:pt x="3610" y="147"/>
                </a:lnTo>
                <a:lnTo>
                  <a:pt x="3623" y="141"/>
                </a:lnTo>
                <a:lnTo>
                  <a:pt x="3637" y="136"/>
                </a:lnTo>
                <a:lnTo>
                  <a:pt x="3653" y="131"/>
                </a:lnTo>
                <a:lnTo>
                  <a:pt x="3668" y="128"/>
                </a:lnTo>
                <a:lnTo>
                  <a:pt x="3684" y="126"/>
                </a:lnTo>
                <a:lnTo>
                  <a:pt x="3700" y="124"/>
                </a:lnTo>
                <a:lnTo>
                  <a:pt x="3717" y="123"/>
                </a:lnTo>
                <a:lnTo>
                  <a:pt x="3733" y="124"/>
                </a:lnTo>
                <a:lnTo>
                  <a:pt x="3751" y="126"/>
                </a:lnTo>
                <a:lnTo>
                  <a:pt x="3766" y="128"/>
                </a:lnTo>
                <a:lnTo>
                  <a:pt x="3781" y="131"/>
                </a:lnTo>
                <a:lnTo>
                  <a:pt x="3795" y="136"/>
                </a:lnTo>
                <a:lnTo>
                  <a:pt x="3809" y="141"/>
                </a:lnTo>
                <a:lnTo>
                  <a:pt x="3822" y="147"/>
                </a:lnTo>
                <a:lnTo>
                  <a:pt x="3833" y="152"/>
                </a:lnTo>
                <a:lnTo>
                  <a:pt x="3844" y="160"/>
                </a:lnTo>
                <a:lnTo>
                  <a:pt x="3853" y="168"/>
                </a:lnTo>
                <a:lnTo>
                  <a:pt x="3861" y="176"/>
                </a:lnTo>
                <a:lnTo>
                  <a:pt x="3869" y="184"/>
                </a:lnTo>
                <a:lnTo>
                  <a:pt x="3874" y="192"/>
                </a:lnTo>
                <a:lnTo>
                  <a:pt x="3878" y="202"/>
                </a:lnTo>
                <a:lnTo>
                  <a:pt x="3880" y="212"/>
                </a:lnTo>
                <a:lnTo>
                  <a:pt x="3882" y="221"/>
                </a:lnTo>
                <a:lnTo>
                  <a:pt x="3880" y="234"/>
                </a:lnTo>
                <a:lnTo>
                  <a:pt x="3874" y="246"/>
                </a:lnTo>
                <a:lnTo>
                  <a:pt x="3866" y="259"/>
                </a:lnTo>
                <a:lnTo>
                  <a:pt x="3856" y="270"/>
                </a:lnTo>
                <a:lnTo>
                  <a:pt x="3842" y="280"/>
                </a:lnTo>
                <a:lnTo>
                  <a:pt x="3828" y="289"/>
                </a:lnTo>
                <a:lnTo>
                  <a:pt x="3811" y="299"/>
                </a:lnTo>
                <a:lnTo>
                  <a:pt x="3793" y="307"/>
                </a:lnTo>
                <a:lnTo>
                  <a:pt x="3799" y="315"/>
                </a:lnTo>
                <a:lnTo>
                  <a:pt x="3807" y="323"/>
                </a:lnTo>
                <a:lnTo>
                  <a:pt x="3818" y="331"/>
                </a:lnTo>
                <a:lnTo>
                  <a:pt x="3829" y="336"/>
                </a:lnTo>
                <a:lnTo>
                  <a:pt x="3841" y="341"/>
                </a:lnTo>
                <a:lnTo>
                  <a:pt x="3855" y="344"/>
                </a:lnTo>
                <a:lnTo>
                  <a:pt x="3869" y="348"/>
                </a:lnTo>
                <a:lnTo>
                  <a:pt x="3883" y="348"/>
                </a:lnTo>
                <a:lnTo>
                  <a:pt x="3901" y="348"/>
                </a:lnTo>
                <a:lnTo>
                  <a:pt x="3916" y="344"/>
                </a:lnTo>
                <a:lnTo>
                  <a:pt x="3931" y="340"/>
                </a:lnTo>
                <a:lnTo>
                  <a:pt x="3945" y="333"/>
                </a:lnTo>
                <a:lnTo>
                  <a:pt x="3956" y="325"/>
                </a:lnTo>
                <a:lnTo>
                  <a:pt x="3965" y="317"/>
                </a:lnTo>
                <a:lnTo>
                  <a:pt x="3973" y="309"/>
                </a:lnTo>
                <a:lnTo>
                  <a:pt x="3978" y="299"/>
                </a:lnTo>
                <a:lnTo>
                  <a:pt x="3984" y="307"/>
                </a:lnTo>
                <a:lnTo>
                  <a:pt x="3990" y="314"/>
                </a:lnTo>
                <a:lnTo>
                  <a:pt x="3998" y="322"/>
                </a:lnTo>
                <a:lnTo>
                  <a:pt x="4006" y="328"/>
                </a:lnTo>
                <a:lnTo>
                  <a:pt x="4014" y="335"/>
                </a:lnTo>
                <a:lnTo>
                  <a:pt x="4024" y="341"/>
                </a:lnTo>
                <a:lnTo>
                  <a:pt x="4033" y="346"/>
                </a:lnTo>
                <a:lnTo>
                  <a:pt x="4043" y="353"/>
                </a:lnTo>
                <a:lnTo>
                  <a:pt x="4052" y="356"/>
                </a:lnTo>
                <a:lnTo>
                  <a:pt x="4062" y="361"/>
                </a:lnTo>
                <a:lnTo>
                  <a:pt x="4073" y="364"/>
                </a:lnTo>
                <a:lnTo>
                  <a:pt x="4082" y="365"/>
                </a:lnTo>
                <a:lnTo>
                  <a:pt x="4093" y="367"/>
                </a:lnTo>
                <a:lnTo>
                  <a:pt x="4104" y="369"/>
                </a:lnTo>
                <a:lnTo>
                  <a:pt x="4114" y="369"/>
                </a:lnTo>
                <a:lnTo>
                  <a:pt x="4125" y="367"/>
                </a:lnTo>
                <a:lnTo>
                  <a:pt x="4134" y="365"/>
                </a:lnTo>
                <a:lnTo>
                  <a:pt x="4144" y="365"/>
                </a:lnTo>
                <a:lnTo>
                  <a:pt x="4153" y="364"/>
                </a:lnTo>
                <a:lnTo>
                  <a:pt x="4163" y="361"/>
                </a:lnTo>
                <a:lnTo>
                  <a:pt x="4172" y="359"/>
                </a:lnTo>
                <a:lnTo>
                  <a:pt x="4183" y="357"/>
                </a:lnTo>
                <a:lnTo>
                  <a:pt x="4191" y="354"/>
                </a:lnTo>
                <a:lnTo>
                  <a:pt x="4200" y="353"/>
                </a:lnTo>
                <a:lnTo>
                  <a:pt x="4202" y="351"/>
                </a:lnTo>
                <a:lnTo>
                  <a:pt x="4207" y="349"/>
                </a:lnTo>
                <a:lnTo>
                  <a:pt x="4216" y="346"/>
                </a:lnTo>
                <a:lnTo>
                  <a:pt x="4227" y="341"/>
                </a:lnTo>
                <a:lnTo>
                  <a:pt x="4241" y="335"/>
                </a:lnTo>
                <a:lnTo>
                  <a:pt x="4259" y="328"/>
                </a:lnTo>
                <a:lnTo>
                  <a:pt x="4278" y="320"/>
                </a:lnTo>
                <a:lnTo>
                  <a:pt x="4300" y="310"/>
                </a:lnTo>
                <a:lnTo>
                  <a:pt x="4324" y="301"/>
                </a:lnTo>
                <a:lnTo>
                  <a:pt x="4349" y="291"/>
                </a:lnTo>
                <a:lnTo>
                  <a:pt x="4377" y="280"/>
                </a:lnTo>
                <a:lnTo>
                  <a:pt x="4406" y="268"/>
                </a:lnTo>
                <a:lnTo>
                  <a:pt x="4437" y="257"/>
                </a:lnTo>
                <a:lnTo>
                  <a:pt x="4469" y="244"/>
                </a:lnTo>
                <a:lnTo>
                  <a:pt x="4500" y="231"/>
                </a:lnTo>
                <a:lnTo>
                  <a:pt x="4533" y="220"/>
                </a:lnTo>
                <a:lnTo>
                  <a:pt x="4568" y="207"/>
                </a:lnTo>
                <a:lnTo>
                  <a:pt x="4601" y="194"/>
                </a:lnTo>
                <a:lnTo>
                  <a:pt x="4636" y="183"/>
                </a:lnTo>
                <a:lnTo>
                  <a:pt x="4671" y="170"/>
                </a:lnTo>
                <a:lnTo>
                  <a:pt x="4706" y="158"/>
                </a:lnTo>
                <a:lnTo>
                  <a:pt x="4740" y="147"/>
                </a:lnTo>
                <a:lnTo>
                  <a:pt x="4773" y="137"/>
                </a:lnTo>
                <a:lnTo>
                  <a:pt x="4807" y="128"/>
                </a:lnTo>
                <a:lnTo>
                  <a:pt x="4838" y="118"/>
                </a:lnTo>
                <a:lnTo>
                  <a:pt x="4870" y="110"/>
                </a:lnTo>
                <a:lnTo>
                  <a:pt x="4900" y="103"/>
                </a:lnTo>
                <a:lnTo>
                  <a:pt x="4928" y="97"/>
                </a:lnTo>
                <a:lnTo>
                  <a:pt x="4955" y="92"/>
                </a:lnTo>
                <a:lnTo>
                  <a:pt x="4980" y="89"/>
                </a:lnTo>
                <a:lnTo>
                  <a:pt x="5004" y="86"/>
                </a:lnTo>
                <a:lnTo>
                  <a:pt x="5024" y="86"/>
                </a:lnTo>
                <a:lnTo>
                  <a:pt x="5045" y="86"/>
                </a:lnTo>
                <a:lnTo>
                  <a:pt x="5065" y="87"/>
                </a:lnTo>
                <a:lnTo>
                  <a:pt x="5084" y="90"/>
                </a:lnTo>
                <a:lnTo>
                  <a:pt x="5102" y="94"/>
                </a:lnTo>
                <a:lnTo>
                  <a:pt x="5119" y="99"/>
                </a:lnTo>
                <a:lnTo>
                  <a:pt x="5136" y="105"/>
                </a:lnTo>
                <a:lnTo>
                  <a:pt x="5151" y="112"/>
                </a:lnTo>
                <a:lnTo>
                  <a:pt x="5165" y="120"/>
                </a:lnTo>
                <a:lnTo>
                  <a:pt x="5178" y="128"/>
                </a:lnTo>
                <a:lnTo>
                  <a:pt x="5190" y="137"/>
                </a:lnTo>
                <a:lnTo>
                  <a:pt x="5200" y="147"/>
                </a:lnTo>
                <a:lnTo>
                  <a:pt x="5208" y="157"/>
                </a:lnTo>
                <a:lnTo>
                  <a:pt x="5214" y="168"/>
                </a:lnTo>
                <a:lnTo>
                  <a:pt x="5219" y="179"/>
                </a:lnTo>
                <a:lnTo>
                  <a:pt x="5222" y="191"/>
                </a:lnTo>
                <a:lnTo>
                  <a:pt x="5223" y="204"/>
                </a:lnTo>
                <a:lnTo>
                  <a:pt x="5222" y="215"/>
                </a:lnTo>
                <a:lnTo>
                  <a:pt x="5219" y="226"/>
                </a:lnTo>
                <a:lnTo>
                  <a:pt x="5214" y="238"/>
                </a:lnTo>
                <a:lnTo>
                  <a:pt x="5208" y="249"/>
                </a:lnTo>
                <a:lnTo>
                  <a:pt x="5198" y="259"/>
                </a:lnTo>
                <a:lnTo>
                  <a:pt x="5189" y="268"/>
                </a:lnTo>
                <a:lnTo>
                  <a:pt x="5178" y="276"/>
                </a:lnTo>
                <a:lnTo>
                  <a:pt x="5165" y="283"/>
                </a:lnTo>
                <a:lnTo>
                  <a:pt x="5178" y="288"/>
                </a:lnTo>
                <a:lnTo>
                  <a:pt x="5190" y="293"/>
                </a:lnTo>
                <a:lnTo>
                  <a:pt x="5204" y="296"/>
                </a:lnTo>
                <a:lnTo>
                  <a:pt x="5219" y="301"/>
                </a:lnTo>
                <a:lnTo>
                  <a:pt x="5233" y="304"/>
                </a:lnTo>
                <a:lnTo>
                  <a:pt x="5247" y="306"/>
                </a:lnTo>
                <a:lnTo>
                  <a:pt x="5263" y="307"/>
                </a:lnTo>
                <a:lnTo>
                  <a:pt x="5277" y="309"/>
                </a:lnTo>
                <a:lnTo>
                  <a:pt x="5288" y="309"/>
                </a:lnTo>
                <a:lnTo>
                  <a:pt x="5297" y="309"/>
                </a:lnTo>
                <a:lnTo>
                  <a:pt x="5307" y="307"/>
                </a:lnTo>
                <a:lnTo>
                  <a:pt x="5316" y="306"/>
                </a:lnTo>
                <a:lnTo>
                  <a:pt x="5326" y="304"/>
                </a:lnTo>
                <a:lnTo>
                  <a:pt x="5335" y="302"/>
                </a:lnTo>
                <a:lnTo>
                  <a:pt x="5345" y="301"/>
                </a:lnTo>
                <a:lnTo>
                  <a:pt x="5354" y="298"/>
                </a:lnTo>
                <a:lnTo>
                  <a:pt x="5364" y="294"/>
                </a:lnTo>
                <a:lnTo>
                  <a:pt x="5372" y="291"/>
                </a:lnTo>
                <a:lnTo>
                  <a:pt x="5380" y="288"/>
                </a:lnTo>
                <a:lnTo>
                  <a:pt x="5387" y="283"/>
                </a:lnTo>
                <a:lnTo>
                  <a:pt x="5395" y="280"/>
                </a:lnTo>
                <a:lnTo>
                  <a:pt x="5403" y="275"/>
                </a:lnTo>
                <a:lnTo>
                  <a:pt x="5410" y="270"/>
                </a:lnTo>
                <a:lnTo>
                  <a:pt x="5416" y="265"/>
                </a:lnTo>
                <a:lnTo>
                  <a:pt x="5414" y="259"/>
                </a:lnTo>
                <a:lnTo>
                  <a:pt x="5413" y="254"/>
                </a:lnTo>
                <a:lnTo>
                  <a:pt x="5411" y="249"/>
                </a:lnTo>
                <a:lnTo>
                  <a:pt x="5411" y="244"/>
                </a:lnTo>
                <a:close/>
              </a:path>
            </a:pathLst>
          </a:cu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6556320"/>
            <a:ext cx="9144000" cy="301680"/>
          </a:xfrm>
          <a:custGeom>
            <a:avLst/>
            <a:gdLst/>
            <a:ahLst/>
            <a:rect l="l" t="t" r="r" b="b"/>
            <a:pathLst>
              <a:path w="5760" h="380">
                <a:moveTo>
                  <a:pt x="5411" y="244"/>
                </a:moveTo>
                <a:lnTo>
                  <a:pt x="5411" y="244"/>
                </a:lnTo>
                <a:lnTo>
                  <a:pt x="5410" y="220"/>
                </a:lnTo>
                <a:lnTo>
                  <a:pt x="5411" y="199"/>
                </a:lnTo>
                <a:lnTo>
                  <a:pt x="5416" y="179"/>
                </a:lnTo>
                <a:lnTo>
                  <a:pt x="5425" y="162"/>
                </a:lnTo>
                <a:lnTo>
                  <a:pt x="5438" y="149"/>
                </a:lnTo>
                <a:lnTo>
                  <a:pt x="5454" y="137"/>
                </a:lnTo>
                <a:lnTo>
                  <a:pt x="5473" y="129"/>
                </a:lnTo>
                <a:lnTo>
                  <a:pt x="5495" y="124"/>
                </a:lnTo>
                <a:lnTo>
                  <a:pt x="5495" y="124"/>
                </a:lnTo>
                <a:lnTo>
                  <a:pt x="5515" y="126"/>
                </a:lnTo>
                <a:lnTo>
                  <a:pt x="5533" y="134"/>
                </a:lnTo>
                <a:lnTo>
                  <a:pt x="5548" y="144"/>
                </a:lnTo>
                <a:lnTo>
                  <a:pt x="5561" y="158"/>
                </a:lnTo>
                <a:lnTo>
                  <a:pt x="5569" y="175"/>
                </a:lnTo>
                <a:lnTo>
                  <a:pt x="5572" y="194"/>
                </a:lnTo>
                <a:lnTo>
                  <a:pt x="5571" y="213"/>
                </a:lnTo>
                <a:lnTo>
                  <a:pt x="5563" y="233"/>
                </a:lnTo>
                <a:lnTo>
                  <a:pt x="5563" y="233"/>
                </a:lnTo>
                <a:lnTo>
                  <a:pt x="5553" y="243"/>
                </a:lnTo>
                <a:lnTo>
                  <a:pt x="5544" y="251"/>
                </a:lnTo>
                <a:lnTo>
                  <a:pt x="5534" y="255"/>
                </a:lnTo>
                <a:lnTo>
                  <a:pt x="5523" y="257"/>
                </a:lnTo>
                <a:lnTo>
                  <a:pt x="5514" y="257"/>
                </a:lnTo>
                <a:lnTo>
                  <a:pt x="5503" y="254"/>
                </a:lnTo>
                <a:lnTo>
                  <a:pt x="5493" y="247"/>
                </a:lnTo>
                <a:lnTo>
                  <a:pt x="5484" y="238"/>
                </a:lnTo>
                <a:lnTo>
                  <a:pt x="5484" y="238"/>
                </a:lnTo>
                <a:lnTo>
                  <a:pt x="5479" y="230"/>
                </a:lnTo>
                <a:lnTo>
                  <a:pt x="5477" y="220"/>
                </a:lnTo>
                <a:lnTo>
                  <a:pt x="5477" y="212"/>
                </a:lnTo>
                <a:lnTo>
                  <a:pt x="5477" y="205"/>
                </a:lnTo>
                <a:lnTo>
                  <a:pt x="5479" y="197"/>
                </a:lnTo>
                <a:lnTo>
                  <a:pt x="5482" y="189"/>
                </a:lnTo>
                <a:lnTo>
                  <a:pt x="5485" y="181"/>
                </a:lnTo>
                <a:lnTo>
                  <a:pt x="5487" y="173"/>
                </a:lnTo>
                <a:lnTo>
                  <a:pt x="5487" y="173"/>
                </a:lnTo>
                <a:lnTo>
                  <a:pt x="5493" y="167"/>
                </a:lnTo>
                <a:lnTo>
                  <a:pt x="5498" y="165"/>
                </a:lnTo>
                <a:lnTo>
                  <a:pt x="5501" y="167"/>
                </a:lnTo>
                <a:lnTo>
                  <a:pt x="5504" y="170"/>
                </a:lnTo>
                <a:lnTo>
                  <a:pt x="5506" y="173"/>
                </a:lnTo>
                <a:lnTo>
                  <a:pt x="5506" y="178"/>
                </a:lnTo>
                <a:lnTo>
                  <a:pt x="5501" y="181"/>
                </a:lnTo>
                <a:lnTo>
                  <a:pt x="5496" y="183"/>
                </a:lnTo>
                <a:lnTo>
                  <a:pt x="5496" y="183"/>
                </a:lnTo>
                <a:lnTo>
                  <a:pt x="5488" y="200"/>
                </a:lnTo>
                <a:lnTo>
                  <a:pt x="5487" y="217"/>
                </a:lnTo>
                <a:lnTo>
                  <a:pt x="5492" y="231"/>
                </a:lnTo>
                <a:lnTo>
                  <a:pt x="5500" y="241"/>
                </a:lnTo>
                <a:lnTo>
                  <a:pt x="5512" y="246"/>
                </a:lnTo>
                <a:lnTo>
                  <a:pt x="5526" y="246"/>
                </a:lnTo>
                <a:lnTo>
                  <a:pt x="5541" y="241"/>
                </a:lnTo>
                <a:lnTo>
                  <a:pt x="5555" y="226"/>
                </a:lnTo>
                <a:lnTo>
                  <a:pt x="5555" y="226"/>
                </a:lnTo>
                <a:lnTo>
                  <a:pt x="5560" y="215"/>
                </a:lnTo>
                <a:lnTo>
                  <a:pt x="5561" y="204"/>
                </a:lnTo>
                <a:lnTo>
                  <a:pt x="5563" y="192"/>
                </a:lnTo>
                <a:lnTo>
                  <a:pt x="5561" y="183"/>
                </a:lnTo>
                <a:lnTo>
                  <a:pt x="5558" y="173"/>
                </a:lnTo>
                <a:lnTo>
                  <a:pt x="5553" y="163"/>
                </a:lnTo>
                <a:lnTo>
                  <a:pt x="5547" y="157"/>
                </a:lnTo>
                <a:lnTo>
                  <a:pt x="5539" y="150"/>
                </a:lnTo>
                <a:lnTo>
                  <a:pt x="5531" y="144"/>
                </a:lnTo>
                <a:lnTo>
                  <a:pt x="5522" y="141"/>
                </a:lnTo>
                <a:lnTo>
                  <a:pt x="5512" y="137"/>
                </a:lnTo>
                <a:lnTo>
                  <a:pt x="5501" y="136"/>
                </a:lnTo>
                <a:lnTo>
                  <a:pt x="5490" y="136"/>
                </a:lnTo>
                <a:lnTo>
                  <a:pt x="5479" y="137"/>
                </a:lnTo>
                <a:lnTo>
                  <a:pt x="5468" y="141"/>
                </a:lnTo>
                <a:lnTo>
                  <a:pt x="5459" y="145"/>
                </a:lnTo>
                <a:lnTo>
                  <a:pt x="5459" y="145"/>
                </a:lnTo>
                <a:lnTo>
                  <a:pt x="5444" y="155"/>
                </a:lnTo>
                <a:lnTo>
                  <a:pt x="5435" y="165"/>
                </a:lnTo>
                <a:lnTo>
                  <a:pt x="5427" y="178"/>
                </a:lnTo>
                <a:lnTo>
                  <a:pt x="5422" y="192"/>
                </a:lnTo>
                <a:lnTo>
                  <a:pt x="5419" y="207"/>
                </a:lnTo>
                <a:lnTo>
                  <a:pt x="5419" y="221"/>
                </a:lnTo>
                <a:lnTo>
                  <a:pt x="5421" y="238"/>
                </a:lnTo>
                <a:lnTo>
                  <a:pt x="5424" y="254"/>
                </a:lnTo>
                <a:lnTo>
                  <a:pt x="5425" y="257"/>
                </a:lnTo>
                <a:lnTo>
                  <a:pt x="5429" y="262"/>
                </a:lnTo>
                <a:lnTo>
                  <a:pt x="5427" y="262"/>
                </a:lnTo>
                <a:lnTo>
                  <a:pt x="5427" y="262"/>
                </a:lnTo>
                <a:lnTo>
                  <a:pt x="5432" y="267"/>
                </a:lnTo>
                <a:lnTo>
                  <a:pt x="5438" y="275"/>
                </a:lnTo>
                <a:lnTo>
                  <a:pt x="5447" y="281"/>
                </a:lnTo>
                <a:lnTo>
                  <a:pt x="5460" y="289"/>
                </a:lnTo>
                <a:lnTo>
                  <a:pt x="5476" y="296"/>
                </a:lnTo>
                <a:lnTo>
                  <a:pt x="5495" y="301"/>
                </a:lnTo>
                <a:lnTo>
                  <a:pt x="5518" y="306"/>
                </a:lnTo>
                <a:lnTo>
                  <a:pt x="5545" y="306"/>
                </a:lnTo>
                <a:lnTo>
                  <a:pt x="5545" y="306"/>
                </a:lnTo>
                <a:lnTo>
                  <a:pt x="5564" y="304"/>
                </a:lnTo>
                <a:lnTo>
                  <a:pt x="5582" y="298"/>
                </a:lnTo>
                <a:lnTo>
                  <a:pt x="5599" y="289"/>
                </a:lnTo>
                <a:lnTo>
                  <a:pt x="5616" y="278"/>
                </a:lnTo>
                <a:lnTo>
                  <a:pt x="5634" y="265"/>
                </a:lnTo>
                <a:lnTo>
                  <a:pt x="5650" y="251"/>
                </a:lnTo>
                <a:lnTo>
                  <a:pt x="5665" y="234"/>
                </a:lnTo>
                <a:lnTo>
                  <a:pt x="5679" y="218"/>
                </a:lnTo>
                <a:lnTo>
                  <a:pt x="5692" y="200"/>
                </a:lnTo>
                <a:lnTo>
                  <a:pt x="5705" y="184"/>
                </a:lnTo>
                <a:lnTo>
                  <a:pt x="5716" y="168"/>
                </a:lnTo>
                <a:lnTo>
                  <a:pt x="5725" y="152"/>
                </a:lnTo>
                <a:lnTo>
                  <a:pt x="5733" y="139"/>
                </a:lnTo>
                <a:lnTo>
                  <a:pt x="5739" y="128"/>
                </a:lnTo>
                <a:lnTo>
                  <a:pt x="5744" y="118"/>
                </a:lnTo>
                <a:lnTo>
                  <a:pt x="5746" y="110"/>
                </a:lnTo>
                <a:lnTo>
                  <a:pt x="5746" y="110"/>
                </a:lnTo>
                <a:lnTo>
                  <a:pt x="5749" y="105"/>
                </a:lnTo>
                <a:lnTo>
                  <a:pt x="5752" y="97"/>
                </a:lnTo>
                <a:lnTo>
                  <a:pt x="5755" y="89"/>
                </a:lnTo>
                <a:lnTo>
                  <a:pt x="5758" y="81"/>
                </a:lnTo>
                <a:lnTo>
                  <a:pt x="5760" y="73"/>
                </a:lnTo>
                <a:lnTo>
                  <a:pt x="5760" y="63"/>
                </a:lnTo>
                <a:lnTo>
                  <a:pt x="5758" y="53"/>
                </a:lnTo>
                <a:lnTo>
                  <a:pt x="5754" y="44"/>
                </a:lnTo>
                <a:lnTo>
                  <a:pt x="5746" y="35"/>
                </a:lnTo>
                <a:lnTo>
                  <a:pt x="5736" y="27"/>
                </a:lnTo>
                <a:lnTo>
                  <a:pt x="5721" y="19"/>
                </a:lnTo>
                <a:lnTo>
                  <a:pt x="5700" y="13"/>
                </a:lnTo>
                <a:lnTo>
                  <a:pt x="5675" y="8"/>
                </a:lnTo>
                <a:lnTo>
                  <a:pt x="5643" y="3"/>
                </a:lnTo>
                <a:lnTo>
                  <a:pt x="5607" y="2"/>
                </a:lnTo>
                <a:lnTo>
                  <a:pt x="5561" y="0"/>
                </a:lnTo>
                <a:lnTo>
                  <a:pt x="5561" y="0"/>
                </a:lnTo>
                <a:lnTo>
                  <a:pt x="5533" y="0"/>
                </a:lnTo>
                <a:lnTo>
                  <a:pt x="5493" y="0"/>
                </a:lnTo>
                <a:lnTo>
                  <a:pt x="5444" y="0"/>
                </a:lnTo>
                <a:lnTo>
                  <a:pt x="5386" y="0"/>
                </a:lnTo>
                <a:lnTo>
                  <a:pt x="5318" y="0"/>
                </a:lnTo>
                <a:lnTo>
                  <a:pt x="5242" y="0"/>
                </a:lnTo>
                <a:lnTo>
                  <a:pt x="5160" y="0"/>
                </a:lnTo>
                <a:lnTo>
                  <a:pt x="5072" y="0"/>
                </a:lnTo>
                <a:lnTo>
                  <a:pt x="4977" y="0"/>
                </a:lnTo>
                <a:lnTo>
                  <a:pt x="4878" y="0"/>
                </a:lnTo>
                <a:lnTo>
                  <a:pt x="4773" y="0"/>
                </a:lnTo>
                <a:lnTo>
                  <a:pt x="4666" y="0"/>
                </a:lnTo>
                <a:lnTo>
                  <a:pt x="4557" y="0"/>
                </a:lnTo>
                <a:lnTo>
                  <a:pt x="4445" y="0"/>
                </a:lnTo>
                <a:lnTo>
                  <a:pt x="4331" y="0"/>
                </a:lnTo>
                <a:lnTo>
                  <a:pt x="4218" y="0"/>
                </a:lnTo>
                <a:lnTo>
                  <a:pt x="4103" y="0"/>
                </a:lnTo>
                <a:lnTo>
                  <a:pt x="3989" y="0"/>
                </a:lnTo>
                <a:lnTo>
                  <a:pt x="3878" y="0"/>
                </a:lnTo>
                <a:lnTo>
                  <a:pt x="3768" y="0"/>
                </a:lnTo>
                <a:lnTo>
                  <a:pt x="3661" y="0"/>
                </a:lnTo>
                <a:lnTo>
                  <a:pt x="3558" y="0"/>
                </a:lnTo>
                <a:lnTo>
                  <a:pt x="3460" y="0"/>
                </a:lnTo>
                <a:lnTo>
                  <a:pt x="3367" y="0"/>
                </a:lnTo>
                <a:lnTo>
                  <a:pt x="3279" y="0"/>
                </a:lnTo>
                <a:lnTo>
                  <a:pt x="3198" y="0"/>
                </a:lnTo>
                <a:lnTo>
                  <a:pt x="3124" y="0"/>
                </a:lnTo>
                <a:lnTo>
                  <a:pt x="3058" y="0"/>
                </a:lnTo>
                <a:lnTo>
                  <a:pt x="3001" y="0"/>
                </a:lnTo>
                <a:lnTo>
                  <a:pt x="2953" y="0"/>
                </a:lnTo>
                <a:lnTo>
                  <a:pt x="2916" y="0"/>
                </a:lnTo>
                <a:lnTo>
                  <a:pt x="2889" y="0"/>
                </a:lnTo>
                <a:lnTo>
                  <a:pt x="2889" y="0"/>
                </a:lnTo>
                <a:lnTo>
                  <a:pt x="2889" y="0"/>
                </a:lnTo>
                <a:lnTo>
                  <a:pt x="2889" y="0"/>
                </a:lnTo>
                <a:lnTo>
                  <a:pt x="2889" y="0"/>
                </a:lnTo>
                <a:lnTo>
                  <a:pt x="2889" y="0"/>
                </a:lnTo>
                <a:lnTo>
                  <a:pt x="2889" y="0"/>
                </a:lnTo>
                <a:lnTo>
                  <a:pt x="2882" y="0"/>
                </a:lnTo>
                <a:lnTo>
                  <a:pt x="2862" y="0"/>
                </a:lnTo>
                <a:lnTo>
                  <a:pt x="2829" y="0"/>
                </a:lnTo>
                <a:lnTo>
                  <a:pt x="2784" y="0"/>
                </a:lnTo>
                <a:lnTo>
                  <a:pt x="2728" y="0"/>
                </a:lnTo>
                <a:lnTo>
                  <a:pt x="2663" y="0"/>
                </a:lnTo>
                <a:lnTo>
                  <a:pt x="2587" y="0"/>
                </a:lnTo>
                <a:lnTo>
                  <a:pt x="2505" y="0"/>
                </a:lnTo>
                <a:lnTo>
                  <a:pt x="2414" y="0"/>
                </a:lnTo>
                <a:lnTo>
                  <a:pt x="2317" y="0"/>
                </a:lnTo>
                <a:lnTo>
                  <a:pt x="2215" y="0"/>
                </a:lnTo>
                <a:lnTo>
                  <a:pt x="2106" y="0"/>
                </a:lnTo>
                <a:lnTo>
                  <a:pt x="1994" y="0"/>
                </a:lnTo>
                <a:lnTo>
                  <a:pt x="1878" y="0"/>
                </a:lnTo>
                <a:lnTo>
                  <a:pt x="1760" y="0"/>
                </a:lnTo>
                <a:lnTo>
                  <a:pt x="1640" y="0"/>
                </a:lnTo>
                <a:lnTo>
                  <a:pt x="1520" y="0"/>
                </a:lnTo>
                <a:lnTo>
                  <a:pt x="1400" y="0"/>
                </a:lnTo>
                <a:lnTo>
                  <a:pt x="1280" y="0"/>
                </a:lnTo>
                <a:lnTo>
                  <a:pt x="1163" y="0"/>
                </a:lnTo>
                <a:lnTo>
                  <a:pt x="1048" y="0"/>
                </a:lnTo>
                <a:lnTo>
                  <a:pt x="938" y="0"/>
                </a:lnTo>
                <a:lnTo>
                  <a:pt x="830" y="0"/>
                </a:lnTo>
                <a:lnTo>
                  <a:pt x="728" y="0"/>
                </a:lnTo>
                <a:lnTo>
                  <a:pt x="631" y="0"/>
                </a:lnTo>
                <a:lnTo>
                  <a:pt x="543" y="0"/>
                </a:lnTo>
                <a:lnTo>
                  <a:pt x="461" y="0"/>
                </a:lnTo>
                <a:lnTo>
                  <a:pt x="388" y="0"/>
                </a:lnTo>
                <a:lnTo>
                  <a:pt x="324" y="0"/>
                </a:lnTo>
                <a:lnTo>
                  <a:pt x="270" y="0"/>
                </a:lnTo>
                <a:lnTo>
                  <a:pt x="229" y="0"/>
                </a:lnTo>
                <a:lnTo>
                  <a:pt x="197" y="0"/>
                </a:lnTo>
                <a:lnTo>
                  <a:pt x="197" y="0"/>
                </a:lnTo>
                <a:lnTo>
                  <a:pt x="153" y="2"/>
                </a:lnTo>
                <a:lnTo>
                  <a:pt x="115" y="3"/>
                </a:lnTo>
                <a:lnTo>
                  <a:pt x="84" y="8"/>
                </a:lnTo>
                <a:lnTo>
                  <a:pt x="58" y="13"/>
                </a:lnTo>
                <a:lnTo>
                  <a:pt x="38" y="19"/>
                </a:lnTo>
                <a:lnTo>
                  <a:pt x="22" y="27"/>
                </a:lnTo>
                <a:lnTo>
                  <a:pt x="11" y="35"/>
                </a:lnTo>
                <a:lnTo>
                  <a:pt x="5" y="44"/>
                </a:lnTo>
                <a:lnTo>
                  <a:pt x="2" y="53"/>
                </a:lnTo>
                <a:lnTo>
                  <a:pt x="0" y="63"/>
                </a:lnTo>
                <a:lnTo>
                  <a:pt x="0" y="73"/>
                </a:lnTo>
                <a:lnTo>
                  <a:pt x="2" y="81"/>
                </a:lnTo>
                <a:lnTo>
                  <a:pt x="3" y="89"/>
                </a:lnTo>
                <a:lnTo>
                  <a:pt x="6" y="97"/>
                </a:lnTo>
                <a:lnTo>
                  <a:pt x="9" y="105"/>
                </a:lnTo>
                <a:lnTo>
                  <a:pt x="11" y="110"/>
                </a:lnTo>
                <a:lnTo>
                  <a:pt x="11" y="110"/>
                </a:lnTo>
                <a:lnTo>
                  <a:pt x="14" y="118"/>
                </a:lnTo>
                <a:lnTo>
                  <a:pt x="19" y="128"/>
                </a:lnTo>
                <a:lnTo>
                  <a:pt x="25" y="139"/>
                </a:lnTo>
                <a:lnTo>
                  <a:pt x="33" y="152"/>
                </a:lnTo>
                <a:lnTo>
                  <a:pt x="43" y="168"/>
                </a:lnTo>
                <a:lnTo>
                  <a:pt x="54" y="184"/>
                </a:lnTo>
                <a:lnTo>
                  <a:pt x="66" y="200"/>
                </a:lnTo>
                <a:lnTo>
                  <a:pt x="79" y="217"/>
                </a:lnTo>
                <a:lnTo>
                  <a:pt x="93" y="234"/>
                </a:lnTo>
                <a:lnTo>
                  <a:pt x="109" y="249"/>
                </a:lnTo>
                <a:lnTo>
                  <a:pt x="125" y="265"/>
                </a:lnTo>
                <a:lnTo>
                  <a:pt x="142" y="278"/>
                </a:lnTo>
                <a:lnTo>
                  <a:pt x="159" y="288"/>
                </a:lnTo>
                <a:lnTo>
                  <a:pt x="177" y="298"/>
                </a:lnTo>
                <a:lnTo>
                  <a:pt x="196" y="302"/>
                </a:lnTo>
                <a:lnTo>
                  <a:pt x="213" y="306"/>
                </a:lnTo>
                <a:lnTo>
                  <a:pt x="213" y="306"/>
                </a:lnTo>
                <a:lnTo>
                  <a:pt x="242" y="304"/>
                </a:lnTo>
                <a:lnTo>
                  <a:pt x="264" y="301"/>
                </a:lnTo>
                <a:lnTo>
                  <a:pt x="283" y="296"/>
                </a:lnTo>
                <a:lnTo>
                  <a:pt x="298" y="289"/>
                </a:lnTo>
                <a:lnTo>
                  <a:pt x="311" y="281"/>
                </a:lnTo>
                <a:lnTo>
                  <a:pt x="320" y="273"/>
                </a:lnTo>
                <a:lnTo>
                  <a:pt x="327" y="267"/>
                </a:lnTo>
                <a:lnTo>
                  <a:pt x="331" y="262"/>
                </a:lnTo>
                <a:lnTo>
                  <a:pt x="330" y="260"/>
                </a:lnTo>
                <a:lnTo>
                  <a:pt x="333" y="255"/>
                </a:lnTo>
                <a:lnTo>
                  <a:pt x="335" y="252"/>
                </a:lnTo>
                <a:lnTo>
                  <a:pt x="335" y="252"/>
                </a:lnTo>
                <a:lnTo>
                  <a:pt x="338" y="238"/>
                </a:lnTo>
                <a:lnTo>
                  <a:pt x="339" y="221"/>
                </a:lnTo>
                <a:lnTo>
                  <a:pt x="339" y="207"/>
                </a:lnTo>
                <a:lnTo>
                  <a:pt x="336" y="191"/>
                </a:lnTo>
                <a:lnTo>
                  <a:pt x="331" y="178"/>
                </a:lnTo>
                <a:lnTo>
                  <a:pt x="325" y="165"/>
                </a:lnTo>
                <a:lnTo>
                  <a:pt x="314" y="154"/>
                </a:lnTo>
                <a:lnTo>
                  <a:pt x="301" y="145"/>
                </a:lnTo>
                <a:lnTo>
                  <a:pt x="301" y="145"/>
                </a:lnTo>
                <a:lnTo>
                  <a:pt x="290" y="141"/>
                </a:lnTo>
                <a:lnTo>
                  <a:pt x="279" y="137"/>
                </a:lnTo>
                <a:lnTo>
                  <a:pt x="268" y="136"/>
                </a:lnTo>
                <a:lnTo>
                  <a:pt x="259" y="136"/>
                </a:lnTo>
                <a:lnTo>
                  <a:pt x="248" y="136"/>
                </a:lnTo>
                <a:lnTo>
                  <a:pt x="238" y="139"/>
                </a:lnTo>
                <a:lnTo>
                  <a:pt x="229" y="144"/>
                </a:lnTo>
                <a:lnTo>
                  <a:pt x="219" y="149"/>
                </a:lnTo>
                <a:lnTo>
                  <a:pt x="213" y="155"/>
                </a:lnTo>
                <a:lnTo>
                  <a:pt x="207" y="163"/>
                </a:lnTo>
                <a:lnTo>
                  <a:pt x="202" y="173"/>
                </a:lnTo>
                <a:lnTo>
                  <a:pt x="199" y="181"/>
                </a:lnTo>
                <a:lnTo>
                  <a:pt x="197" y="192"/>
                </a:lnTo>
                <a:lnTo>
                  <a:pt x="197" y="204"/>
                </a:lnTo>
                <a:lnTo>
                  <a:pt x="200" y="215"/>
                </a:lnTo>
                <a:lnTo>
                  <a:pt x="205" y="226"/>
                </a:lnTo>
                <a:lnTo>
                  <a:pt x="205" y="226"/>
                </a:lnTo>
                <a:lnTo>
                  <a:pt x="219" y="239"/>
                </a:lnTo>
                <a:lnTo>
                  <a:pt x="234" y="246"/>
                </a:lnTo>
                <a:lnTo>
                  <a:pt x="248" y="246"/>
                </a:lnTo>
                <a:lnTo>
                  <a:pt x="259" y="239"/>
                </a:lnTo>
                <a:lnTo>
                  <a:pt x="268" y="230"/>
                </a:lnTo>
                <a:lnTo>
                  <a:pt x="272" y="217"/>
                </a:lnTo>
                <a:lnTo>
                  <a:pt x="270" y="200"/>
                </a:lnTo>
                <a:lnTo>
                  <a:pt x="262" y="183"/>
                </a:lnTo>
                <a:lnTo>
                  <a:pt x="262" y="183"/>
                </a:lnTo>
                <a:lnTo>
                  <a:pt x="257" y="181"/>
                </a:lnTo>
                <a:lnTo>
                  <a:pt x="254" y="178"/>
                </a:lnTo>
                <a:lnTo>
                  <a:pt x="253" y="173"/>
                </a:lnTo>
                <a:lnTo>
                  <a:pt x="254" y="170"/>
                </a:lnTo>
                <a:lnTo>
                  <a:pt x="257" y="167"/>
                </a:lnTo>
                <a:lnTo>
                  <a:pt x="260" y="165"/>
                </a:lnTo>
                <a:lnTo>
                  <a:pt x="265" y="167"/>
                </a:lnTo>
                <a:lnTo>
                  <a:pt x="272" y="173"/>
                </a:lnTo>
                <a:lnTo>
                  <a:pt x="272" y="173"/>
                </a:lnTo>
                <a:lnTo>
                  <a:pt x="273" y="181"/>
                </a:lnTo>
                <a:lnTo>
                  <a:pt x="276" y="189"/>
                </a:lnTo>
                <a:lnTo>
                  <a:pt x="279" y="197"/>
                </a:lnTo>
                <a:lnTo>
                  <a:pt x="281" y="205"/>
                </a:lnTo>
                <a:lnTo>
                  <a:pt x="281" y="212"/>
                </a:lnTo>
                <a:lnTo>
                  <a:pt x="281" y="220"/>
                </a:lnTo>
                <a:lnTo>
                  <a:pt x="279" y="228"/>
                </a:lnTo>
                <a:lnTo>
                  <a:pt x="275" y="238"/>
                </a:lnTo>
                <a:lnTo>
                  <a:pt x="275" y="238"/>
                </a:lnTo>
                <a:lnTo>
                  <a:pt x="265" y="247"/>
                </a:lnTo>
                <a:lnTo>
                  <a:pt x="256" y="252"/>
                </a:lnTo>
                <a:lnTo>
                  <a:pt x="246" y="255"/>
                </a:lnTo>
                <a:lnTo>
                  <a:pt x="235" y="255"/>
                </a:lnTo>
                <a:lnTo>
                  <a:pt x="226" y="254"/>
                </a:lnTo>
                <a:lnTo>
                  <a:pt x="216" y="249"/>
                </a:lnTo>
                <a:lnTo>
                  <a:pt x="207" y="243"/>
                </a:lnTo>
                <a:lnTo>
                  <a:pt x="197" y="233"/>
                </a:lnTo>
                <a:lnTo>
                  <a:pt x="197" y="233"/>
                </a:lnTo>
                <a:lnTo>
                  <a:pt x="189" y="212"/>
                </a:lnTo>
                <a:lnTo>
                  <a:pt x="188" y="192"/>
                </a:lnTo>
                <a:lnTo>
                  <a:pt x="191" y="175"/>
                </a:lnTo>
                <a:lnTo>
                  <a:pt x="199" y="158"/>
                </a:lnTo>
                <a:lnTo>
                  <a:pt x="210" y="144"/>
                </a:lnTo>
                <a:lnTo>
                  <a:pt x="226" y="134"/>
                </a:lnTo>
                <a:lnTo>
                  <a:pt x="245" y="126"/>
                </a:lnTo>
                <a:lnTo>
                  <a:pt x="265" y="124"/>
                </a:lnTo>
                <a:lnTo>
                  <a:pt x="265" y="124"/>
                </a:lnTo>
                <a:lnTo>
                  <a:pt x="287" y="129"/>
                </a:lnTo>
                <a:lnTo>
                  <a:pt x="306" y="137"/>
                </a:lnTo>
                <a:lnTo>
                  <a:pt x="322" y="149"/>
                </a:lnTo>
                <a:lnTo>
                  <a:pt x="335" y="162"/>
                </a:lnTo>
                <a:lnTo>
                  <a:pt x="343" y="179"/>
                </a:lnTo>
                <a:lnTo>
                  <a:pt x="349" y="197"/>
                </a:lnTo>
                <a:lnTo>
                  <a:pt x="350" y="220"/>
                </a:lnTo>
                <a:lnTo>
                  <a:pt x="349" y="244"/>
                </a:lnTo>
                <a:lnTo>
                  <a:pt x="349" y="244"/>
                </a:lnTo>
                <a:lnTo>
                  <a:pt x="347" y="249"/>
                </a:lnTo>
                <a:lnTo>
                  <a:pt x="346" y="254"/>
                </a:lnTo>
                <a:lnTo>
                  <a:pt x="344" y="259"/>
                </a:lnTo>
                <a:lnTo>
                  <a:pt x="343" y="264"/>
                </a:lnTo>
                <a:lnTo>
                  <a:pt x="343" y="264"/>
                </a:lnTo>
                <a:lnTo>
                  <a:pt x="349" y="268"/>
                </a:lnTo>
                <a:lnTo>
                  <a:pt x="355" y="273"/>
                </a:lnTo>
                <a:lnTo>
                  <a:pt x="363" y="278"/>
                </a:lnTo>
                <a:lnTo>
                  <a:pt x="371" y="283"/>
                </a:lnTo>
                <a:lnTo>
                  <a:pt x="379" y="288"/>
                </a:lnTo>
                <a:lnTo>
                  <a:pt x="387" y="291"/>
                </a:lnTo>
                <a:lnTo>
                  <a:pt x="396" y="294"/>
                </a:lnTo>
                <a:lnTo>
                  <a:pt x="404" y="298"/>
                </a:lnTo>
                <a:lnTo>
                  <a:pt x="414" y="301"/>
                </a:lnTo>
                <a:lnTo>
                  <a:pt x="423" y="302"/>
                </a:lnTo>
                <a:lnTo>
                  <a:pt x="433" y="304"/>
                </a:lnTo>
                <a:lnTo>
                  <a:pt x="442" y="306"/>
                </a:lnTo>
                <a:lnTo>
                  <a:pt x="451" y="307"/>
                </a:lnTo>
                <a:lnTo>
                  <a:pt x="463" y="309"/>
                </a:lnTo>
                <a:lnTo>
                  <a:pt x="472" y="309"/>
                </a:lnTo>
                <a:lnTo>
                  <a:pt x="481" y="309"/>
                </a:lnTo>
                <a:lnTo>
                  <a:pt x="481" y="309"/>
                </a:lnTo>
                <a:lnTo>
                  <a:pt x="497" y="307"/>
                </a:lnTo>
                <a:lnTo>
                  <a:pt x="511" y="306"/>
                </a:lnTo>
                <a:lnTo>
                  <a:pt x="526" y="304"/>
                </a:lnTo>
                <a:lnTo>
                  <a:pt x="541" y="301"/>
                </a:lnTo>
                <a:lnTo>
                  <a:pt x="554" y="296"/>
                </a:lnTo>
                <a:lnTo>
                  <a:pt x="568" y="293"/>
                </a:lnTo>
                <a:lnTo>
                  <a:pt x="581" y="288"/>
                </a:lnTo>
                <a:lnTo>
                  <a:pt x="594" y="283"/>
                </a:lnTo>
                <a:lnTo>
                  <a:pt x="594" y="283"/>
                </a:lnTo>
                <a:lnTo>
                  <a:pt x="581" y="276"/>
                </a:lnTo>
                <a:lnTo>
                  <a:pt x="570" y="267"/>
                </a:lnTo>
                <a:lnTo>
                  <a:pt x="560" y="259"/>
                </a:lnTo>
                <a:lnTo>
                  <a:pt x="552" y="247"/>
                </a:lnTo>
                <a:lnTo>
                  <a:pt x="545" y="238"/>
                </a:lnTo>
                <a:lnTo>
                  <a:pt x="540" y="226"/>
                </a:lnTo>
                <a:lnTo>
                  <a:pt x="537" y="215"/>
                </a:lnTo>
                <a:lnTo>
                  <a:pt x="537" y="202"/>
                </a:lnTo>
                <a:lnTo>
                  <a:pt x="537" y="202"/>
                </a:lnTo>
                <a:lnTo>
                  <a:pt x="537" y="191"/>
                </a:lnTo>
                <a:lnTo>
                  <a:pt x="540" y="179"/>
                </a:lnTo>
                <a:lnTo>
                  <a:pt x="545" y="168"/>
                </a:lnTo>
                <a:lnTo>
                  <a:pt x="551" y="157"/>
                </a:lnTo>
                <a:lnTo>
                  <a:pt x="560" y="147"/>
                </a:lnTo>
                <a:lnTo>
                  <a:pt x="570" y="137"/>
                </a:lnTo>
                <a:lnTo>
                  <a:pt x="581" y="128"/>
                </a:lnTo>
                <a:lnTo>
                  <a:pt x="594" y="120"/>
                </a:lnTo>
                <a:lnTo>
                  <a:pt x="608" y="112"/>
                </a:lnTo>
                <a:lnTo>
                  <a:pt x="622" y="105"/>
                </a:lnTo>
                <a:lnTo>
                  <a:pt x="639" y="99"/>
                </a:lnTo>
                <a:lnTo>
                  <a:pt x="657" y="94"/>
                </a:lnTo>
                <a:lnTo>
                  <a:pt x="674" y="90"/>
                </a:lnTo>
                <a:lnTo>
                  <a:pt x="693" y="87"/>
                </a:lnTo>
                <a:lnTo>
                  <a:pt x="713" y="86"/>
                </a:lnTo>
                <a:lnTo>
                  <a:pt x="734" y="84"/>
                </a:lnTo>
                <a:lnTo>
                  <a:pt x="734" y="84"/>
                </a:lnTo>
                <a:lnTo>
                  <a:pt x="755" y="86"/>
                </a:lnTo>
                <a:lnTo>
                  <a:pt x="778" y="87"/>
                </a:lnTo>
                <a:lnTo>
                  <a:pt x="803" y="90"/>
                </a:lnTo>
                <a:lnTo>
                  <a:pt x="830" y="95"/>
                </a:lnTo>
                <a:lnTo>
                  <a:pt x="859" y="102"/>
                </a:lnTo>
                <a:lnTo>
                  <a:pt x="889" y="110"/>
                </a:lnTo>
                <a:lnTo>
                  <a:pt x="920" y="118"/>
                </a:lnTo>
                <a:lnTo>
                  <a:pt x="952" y="126"/>
                </a:lnTo>
                <a:lnTo>
                  <a:pt x="985" y="136"/>
                </a:lnTo>
                <a:lnTo>
                  <a:pt x="1018" y="147"/>
                </a:lnTo>
                <a:lnTo>
                  <a:pt x="1053" y="158"/>
                </a:lnTo>
                <a:lnTo>
                  <a:pt x="1088" y="170"/>
                </a:lnTo>
                <a:lnTo>
                  <a:pt x="1122" y="181"/>
                </a:lnTo>
                <a:lnTo>
                  <a:pt x="1155" y="194"/>
                </a:lnTo>
                <a:lnTo>
                  <a:pt x="1190" y="207"/>
                </a:lnTo>
                <a:lnTo>
                  <a:pt x="1225" y="218"/>
                </a:lnTo>
                <a:lnTo>
                  <a:pt x="1258" y="231"/>
                </a:lnTo>
                <a:lnTo>
                  <a:pt x="1291" y="244"/>
                </a:lnTo>
                <a:lnTo>
                  <a:pt x="1323" y="255"/>
                </a:lnTo>
                <a:lnTo>
                  <a:pt x="1353" y="268"/>
                </a:lnTo>
                <a:lnTo>
                  <a:pt x="1381" y="280"/>
                </a:lnTo>
                <a:lnTo>
                  <a:pt x="1410" y="291"/>
                </a:lnTo>
                <a:lnTo>
                  <a:pt x="1435" y="301"/>
                </a:lnTo>
                <a:lnTo>
                  <a:pt x="1459" y="310"/>
                </a:lnTo>
                <a:lnTo>
                  <a:pt x="1481" y="320"/>
                </a:lnTo>
                <a:lnTo>
                  <a:pt x="1501" y="328"/>
                </a:lnTo>
                <a:lnTo>
                  <a:pt x="1517" y="335"/>
                </a:lnTo>
                <a:lnTo>
                  <a:pt x="1531" y="341"/>
                </a:lnTo>
                <a:lnTo>
                  <a:pt x="1544" y="346"/>
                </a:lnTo>
                <a:lnTo>
                  <a:pt x="1552" y="349"/>
                </a:lnTo>
                <a:lnTo>
                  <a:pt x="1558" y="351"/>
                </a:lnTo>
                <a:lnTo>
                  <a:pt x="1560" y="353"/>
                </a:lnTo>
                <a:lnTo>
                  <a:pt x="1560" y="353"/>
                </a:lnTo>
                <a:lnTo>
                  <a:pt x="1567" y="354"/>
                </a:lnTo>
                <a:lnTo>
                  <a:pt x="1577" y="357"/>
                </a:lnTo>
                <a:lnTo>
                  <a:pt x="1586" y="359"/>
                </a:lnTo>
                <a:lnTo>
                  <a:pt x="1596" y="361"/>
                </a:lnTo>
                <a:lnTo>
                  <a:pt x="1605" y="362"/>
                </a:lnTo>
                <a:lnTo>
                  <a:pt x="1616" y="364"/>
                </a:lnTo>
                <a:lnTo>
                  <a:pt x="1624" y="365"/>
                </a:lnTo>
                <a:lnTo>
                  <a:pt x="1634" y="367"/>
                </a:lnTo>
                <a:lnTo>
                  <a:pt x="1634" y="367"/>
                </a:lnTo>
                <a:lnTo>
                  <a:pt x="1645" y="367"/>
                </a:lnTo>
                <a:lnTo>
                  <a:pt x="1656" y="369"/>
                </a:lnTo>
                <a:lnTo>
                  <a:pt x="1665" y="367"/>
                </a:lnTo>
                <a:lnTo>
                  <a:pt x="1676" y="365"/>
                </a:lnTo>
                <a:lnTo>
                  <a:pt x="1687" y="364"/>
                </a:lnTo>
                <a:lnTo>
                  <a:pt x="1697" y="361"/>
                </a:lnTo>
                <a:lnTo>
                  <a:pt x="1708" y="356"/>
                </a:lnTo>
                <a:lnTo>
                  <a:pt x="1717" y="351"/>
                </a:lnTo>
                <a:lnTo>
                  <a:pt x="1727" y="346"/>
                </a:lnTo>
                <a:lnTo>
                  <a:pt x="1735" y="341"/>
                </a:lnTo>
                <a:lnTo>
                  <a:pt x="1744" y="335"/>
                </a:lnTo>
                <a:lnTo>
                  <a:pt x="1752" y="328"/>
                </a:lnTo>
                <a:lnTo>
                  <a:pt x="1760" y="320"/>
                </a:lnTo>
                <a:lnTo>
                  <a:pt x="1768" y="314"/>
                </a:lnTo>
                <a:lnTo>
                  <a:pt x="1774" y="306"/>
                </a:lnTo>
                <a:lnTo>
                  <a:pt x="1781" y="298"/>
                </a:lnTo>
                <a:lnTo>
                  <a:pt x="1781" y="298"/>
                </a:lnTo>
                <a:lnTo>
                  <a:pt x="1785" y="307"/>
                </a:lnTo>
                <a:lnTo>
                  <a:pt x="1793" y="317"/>
                </a:lnTo>
                <a:lnTo>
                  <a:pt x="1803" y="325"/>
                </a:lnTo>
                <a:lnTo>
                  <a:pt x="1814" y="333"/>
                </a:lnTo>
                <a:lnTo>
                  <a:pt x="1828" y="338"/>
                </a:lnTo>
                <a:lnTo>
                  <a:pt x="1842" y="343"/>
                </a:lnTo>
                <a:lnTo>
                  <a:pt x="1858" y="346"/>
                </a:lnTo>
                <a:lnTo>
                  <a:pt x="1875" y="348"/>
                </a:lnTo>
                <a:lnTo>
                  <a:pt x="1875" y="348"/>
                </a:lnTo>
                <a:lnTo>
                  <a:pt x="1889" y="346"/>
                </a:lnTo>
                <a:lnTo>
                  <a:pt x="1904" y="344"/>
                </a:lnTo>
                <a:lnTo>
                  <a:pt x="1918" y="341"/>
                </a:lnTo>
                <a:lnTo>
                  <a:pt x="1929" y="336"/>
                </a:lnTo>
                <a:lnTo>
                  <a:pt x="1940" y="330"/>
                </a:lnTo>
                <a:lnTo>
                  <a:pt x="1951" y="323"/>
                </a:lnTo>
                <a:lnTo>
                  <a:pt x="1959" y="315"/>
                </a:lnTo>
                <a:lnTo>
                  <a:pt x="1965" y="307"/>
                </a:lnTo>
                <a:lnTo>
                  <a:pt x="1965" y="307"/>
                </a:lnTo>
                <a:lnTo>
                  <a:pt x="1948" y="299"/>
                </a:lnTo>
                <a:lnTo>
                  <a:pt x="1931" y="289"/>
                </a:lnTo>
                <a:lnTo>
                  <a:pt x="1916" y="280"/>
                </a:lnTo>
                <a:lnTo>
                  <a:pt x="1902" y="270"/>
                </a:lnTo>
                <a:lnTo>
                  <a:pt x="1893" y="257"/>
                </a:lnTo>
                <a:lnTo>
                  <a:pt x="1885" y="246"/>
                </a:lnTo>
                <a:lnTo>
                  <a:pt x="1878" y="233"/>
                </a:lnTo>
                <a:lnTo>
                  <a:pt x="1877" y="220"/>
                </a:lnTo>
                <a:lnTo>
                  <a:pt x="1877" y="220"/>
                </a:lnTo>
                <a:lnTo>
                  <a:pt x="1878" y="210"/>
                </a:lnTo>
                <a:lnTo>
                  <a:pt x="1880" y="202"/>
                </a:lnTo>
                <a:lnTo>
                  <a:pt x="1885" y="192"/>
                </a:lnTo>
                <a:lnTo>
                  <a:pt x="1889" y="184"/>
                </a:lnTo>
                <a:lnTo>
                  <a:pt x="1897" y="175"/>
                </a:lnTo>
                <a:lnTo>
                  <a:pt x="1905" y="167"/>
                </a:lnTo>
                <a:lnTo>
                  <a:pt x="1915" y="160"/>
                </a:lnTo>
                <a:lnTo>
                  <a:pt x="1926" y="152"/>
                </a:lnTo>
                <a:lnTo>
                  <a:pt x="1937" y="145"/>
                </a:lnTo>
                <a:lnTo>
                  <a:pt x="1949" y="141"/>
                </a:lnTo>
                <a:lnTo>
                  <a:pt x="1964" y="136"/>
                </a:lnTo>
                <a:lnTo>
                  <a:pt x="1978" y="131"/>
                </a:lnTo>
                <a:lnTo>
                  <a:pt x="1992" y="128"/>
                </a:lnTo>
                <a:lnTo>
                  <a:pt x="2008" y="126"/>
                </a:lnTo>
                <a:lnTo>
                  <a:pt x="2025" y="124"/>
                </a:lnTo>
                <a:lnTo>
                  <a:pt x="2041" y="123"/>
                </a:lnTo>
                <a:lnTo>
                  <a:pt x="2041" y="123"/>
                </a:lnTo>
                <a:lnTo>
                  <a:pt x="2058" y="124"/>
                </a:lnTo>
                <a:lnTo>
                  <a:pt x="2074" y="126"/>
                </a:lnTo>
                <a:lnTo>
                  <a:pt x="2092" y="128"/>
                </a:lnTo>
                <a:lnTo>
                  <a:pt x="2106" y="131"/>
                </a:lnTo>
                <a:lnTo>
                  <a:pt x="2122" y="136"/>
                </a:lnTo>
                <a:lnTo>
                  <a:pt x="2136" y="141"/>
                </a:lnTo>
                <a:lnTo>
                  <a:pt x="2148" y="145"/>
                </a:lnTo>
                <a:lnTo>
                  <a:pt x="2161" y="152"/>
                </a:lnTo>
                <a:lnTo>
                  <a:pt x="2172" y="160"/>
                </a:lnTo>
                <a:lnTo>
                  <a:pt x="2182" y="167"/>
                </a:lnTo>
                <a:lnTo>
                  <a:pt x="2189" y="175"/>
                </a:lnTo>
                <a:lnTo>
                  <a:pt x="2197" y="184"/>
                </a:lnTo>
                <a:lnTo>
                  <a:pt x="2202" y="192"/>
                </a:lnTo>
                <a:lnTo>
                  <a:pt x="2205" y="202"/>
                </a:lnTo>
                <a:lnTo>
                  <a:pt x="2207" y="210"/>
                </a:lnTo>
                <a:lnTo>
                  <a:pt x="2205" y="220"/>
                </a:lnTo>
                <a:lnTo>
                  <a:pt x="2205" y="220"/>
                </a:lnTo>
                <a:lnTo>
                  <a:pt x="2204" y="231"/>
                </a:lnTo>
                <a:lnTo>
                  <a:pt x="2199" y="241"/>
                </a:lnTo>
                <a:lnTo>
                  <a:pt x="2193" y="251"/>
                </a:lnTo>
                <a:lnTo>
                  <a:pt x="2186" y="260"/>
                </a:lnTo>
                <a:lnTo>
                  <a:pt x="2177" y="268"/>
                </a:lnTo>
                <a:lnTo>
                  <a:pt x="2167" y="278"/>
                </a:lnTo>
                <a:lnTo>
                  <a:pt x="2156" y="286"/>
                </a:lnTo>
                <a:lnTo>
                  <a:pt x="2145" y="294"/>
                </a:lnTo>
                <a:lnTo>
                  <a:pt x="2145" y="294"/>
                </a:lnTo>
                <a:lnTo>
                  <a:pt x="2155" y="304"/>
                </a:lnTo>
                <a:lnTo>
                  <a:pt x="2164" y="312"/>
                </a:lnTo>
                <a:lnTo>
                  <a:pt x="2175" y="320"/>
                </a:lnTo>
                <a:lnTo>
                  <a:pt x="2185" y="328"/>
                </a:lnTo>
                <a:lnTo>
                  <a:pt x="2197" y="335"/>
                </a:lnTo>
                <a:lnTo>
                  <a:pt x="2208" y="341"/>
                </a:lnTo>
                <a:lnTo>
                  <a:pt x="2221" y="348"/>
                </a:lnTo>
                <a:lnTo>
                  <a:pt x="2234" y="353"/>
                </a:lnTo>
                <a:lnTo>
                  <a:pt x="2246" y="357"/>
                </a:lnTo>
                <a:lnTo>
                  <a:pt x="2260" y="362"/>
                </a:lnTo>
                <a:lnTo>
                  <a:pt x="2275" y="365"/>
                </a:lnTo>
                <a:lnTo>
                  <a:pt x="2289" y="369"/>
                </a:lnTo>
                <a:lnTo>
                  <a:pt x="2301" y="370"/>
                </a:lnTo>
                <a:lnTo>
                  <a:pt x="2317" y="372"/>
                </a:lnTo>
                <a:lnTo>
                  <a:pt x="2331" y="374"/>
                </a:lnTo>
                <a:lnTo>
                  <a:pt x="2347" y="374"/>
                </a:lnTo>
                <a:lnTo>
                  <a:pt x="2347" y="374"/>
                </a:lnTo>
                <a:lnTo>
                  <a:pt x="2361" y="374"/>
                </a:lnTo>
                <a:lnTo>
                  <a:pt x="2376" y="372"/>
                </a:lnTo>
                <a:lnTo>
                  <a:pt x="2388" y="372"/>
                </a:lnTo>
                <a:lnTo>
                  <a:pt x="2402" y="369"/>
                </a:lnTo>
                <a:lnTo>
                  <a:pt x="2415" y="367"/>
                </a:lnTo>
                <a:lnTo>
                  <a:pt x="2429" y="364"/>
                </a:lnTo>
                <a:lnTo>
                  <a:pt x="2442" y="359"/>
                </a:lnTo>
                <a:lnTo>
                  <a:pt x="2455" y="356"/>
                </a:lnTo>
                <a:lnTo>
                  <a:pt x="2466" y="351"/>
                </a:lnTo>
                <a:lnTo>
                  <a:pt x="2478" y="346"/>
                </a:lnTo>
                <a:lnTo>
                  <a:pt x="2489" y="340"/>
                </a:lnTo>
                <a:lnTo>
                  <a:pt x="2500" y="335"/>
                </a:lnTo>
                <a:lnTo>
                  <a:pt x="2510" y="328"/>
                </a:lnTo>
                <a:lnTo>
                  <a:pt x="2521" y="322"/>
                </a:lnTo>
                <a:lnTo>
                  <a:pt x="2530" y="314"/>
                </a:lnTo>
                <a:lnTo>
                  <a:pt x="2540" y="307"/>
                </a:lnTo>
                <a:lnTo>
                  <a:pt x="2540" y="307"/>
                </a:lnTo>
                <a:lnTo>
                  <a:pt x="2535" y="298"/>
                </a:lnTo>
                <a:lnTo>
                  <a:pt x="2530" y="286"/>
                </a:lnTo>
                <a:lnTo>
                  <a:pt x="2526" y="276"/>
                </a:lnTo>
                <a:lnTo>
                  <a:pt x="2522" y="265"/>
                </a:lnTo>
                <a:lnTo>
                  <a:pt x="2521" y="252"/>
                </a:lnTo>
                <a:lnTo>
                  <a:pt x="2518" y="241"/>
                </a:lnTo>
                <a:lnTo>
                  <a:pt x="2518" y="230"/>
                </a:lnTo>
                <a:lnTo>
                  <a:pt x="2516" y="218"/>
                </a:lnTo>
                <a:lnTo>
                  <a:pt x="2516" y="218"/>
                </a:lnTo>
                <a:lnTo>
                  <a:pt x="2518" y="200"/>
                </a:lnTo>
                <a:lnTo>
                  <a:pt x="2521" y="184"/>
                </a:lnTo>
                <a:lnTo>
                  <a:pt x="2524" y="168"/>
                </a:lnTo>
                <a:lnTo>
                  <a:pt x="2530" y="154"/>
                </a:lnTo>
                <a:lnTo>
                  <a:pt x="2538" y="141"/>
                </a:lnTo>
                <a:lnTo>
                  <a:pt x="2548" y="129"/>
                </a:lnTo>
                <a:lnTo>
                  <a:pt x="2557" y="118"/>
                </a:lnTo>
                <a:lnTo>
                  <a:pt x="2568" y="108"/>
                </a:lnTo>
                <a:lnTo>
                  <a:pt x="2581" y="100"/>
                </a:lnTo>
                <a:lnTo>
                  <a:pt x="2593" y="95"/>
                </a:lnTo>
                <a:lnTo>
                  <a:pt x="2608" y="90"/>
                </a:lnTo>
                <a:lnTo>
                  <a:pt x="2623" y="87"/>
                </a:lnTo>
                <a:lnTo>
                  <a:pt x="2638" y="87"/>
                </a:lnTo>
                <a:lnTo>
                  <a:pt x="2655" y="87"/>
                </a:lnTo>
                <a:lnTo>
                  <a:pt x="2671" y="90"/>
                </a:lnTo>
                <a:lnTo>
                  <a:pt x="2687" y="97"/>
                </a:lnTo>
                <a:lnTo>
                  <a:pt x="2687" y="97"/>
                </a:lnTo>
                <a:lnTo>
                  <a:pt x="2699" y="102"/>
                </a:lnTo>
                <a:lnTo>
                  <a:pt x="2710" y="107"/>
                </a:lnTo>
                <a:lnTo>
                  <a:pt x="2721" y="115"/>
                </a:lnTo>
                <a:lnTo>
                  <a:pt x="2729" y="121"/>
                </a:lnTo>
                <a:lnTo>
                  <a:pt x="2739" y="131"/>
                </a:lnTo>
                <a:lnTo>
                  <a:pt x="2745" y="139"/>
                </a:lnTo>
                <a:lnTo>
                  <a:pt x="2751" y="149"/>
                </a:lnTo>
                <a:lnTo>
                  <a:pt x="2756" y="160"/>
                </a:lnTo>
                <a:lnTo>
                  <a:pt x="2759" y="170"/>
                </a:lnTo>
                <a:lnTo>
                  <a:pt x="2761" y="181"/>
                </a:lnTo>
                <a:lnTo>
                  <a:pt x="2761" y="192"/>
                </a:lnTo>
                <a:lnTo>
                  <a:pt x="2761" y="204"/>
                </a:lnTo>
                <a:lnTo>
                  <a:pt x="2758" y="215"/>
                </a:lnTo>
                <a:lnTo>
                  <a:pt x="2753" y="226"/>
                </a:lnTo>
                <a:lnTo>
                  <a:pt x="2747" y="238"/>
                </a:lnTo>
                <a:lnTo>
                  <a:pt x="2737" y="249"/>
                </a:lnTo>
                <a:lnTo>
                  <a:pt x="2737" y="249"/>
                </a:lnTo>
                <a:lnTo>
                  <a:pt x="2729" y="257"/>
                </a:lnTo>
                <a:lnTo>
                  <a:pt x="2721" y="264"/>
                </a:lnTo>
                <a:lnTo>
                  <a:pt x="2713" y="268"/>
                </a:lnTo>
                <a:lnTo>
                  <a:pt x="2704" y="273"/>
                </a:lnTo>
                <a:lnTo>
                  <a:pt x="2695" y="276"/>
                </a:lnTo>
                <a:lnTo>
                  <a:pt x="2685" y="278"/>
                </a:lnTo>
                <a:lnTo>
                  <a:pt x="2676" y="280"/>
                </a:lnTo>
                <a:lnTo>
                  <a:pt x="2666" y="278"/>
                </a:lnTo>
                <a:lnTo>
                  <a:pt x="2657" y="278"/>
                </a:lnTo>
                <a:lnTo>
                  <a:pt x="2647" y="275"/>
                </a:lnTo>
                <a:lnTo>
                  <a:pt x="2639" y="272"/>
                </a:lnTo>
                <a:lnTo>
                  <a:pt x="2630" y="267"/>
                </a:lnTo>
                <a:lnTo>
                  <a:pt x="2623" y="260"/>
                </a:lnTo>
                <a:lnTo>
                  <a:pt x="2616" y="254"/>
                </a:lnTo>
                <a:lnTo>
                  <a:pt x="2609" y="244"/>
                </a:lnTo>
                <a:lnTo>
                  <a:pt x="2605" y="234"/>
                </a:lnTo>
                <a:lnTo>
                  <a:pt x="2605" y="234"/>
                </a:lnTo>
                <a:lnTo>
                  <a:pt x="2601" y="225"/>
                </a:lnTo>
                <a:lnTo>
                  <a:pt x="2600" y="215"/>
                </a:lnTo>
                <a:lnTo>
                  <a:pt x="2598" y="207"/>
                </a:lnTo>
                <a:lnTo>
                  <a:pt x="2598" y="197"/>
                </a:lnTo>
                <a:lnTo>
                  <a:pt x="2600" y="189"/>
                </a:lnTo>
                <a:lnTo>
                  <a:pt x="2601" y="181"/>
                </a:lnTo>
                <a:lnTo>
                  <a:pt x="2605" y="175"/>
                </a:lnTo>
                <a:lnTo>
                  <a:pt x="2608" y="170"/>
                </a:lnTo>
                <a:lnTo>
                  <a:pt x="2608" y="170"/>
                </a:lnTo>
                <a:lnTo>
                  <a:pt x="2614" y="162"/>
                </a:lnTo>
                <a:lnTo>
                  <a:pt x="2620" y="160"/>
                </a:lnTo>
                <a:lnTo>
                  <a:pt x="2625" y="162"/>
                </a:lnTo>
                <a:lnTo>
                  <a:pt x="2630" y="167"/>
                </a:lnTo>
                <a:lnTo>
                  <a:pt x="2630" y="171"/>
                </a:lnTo>
                <a:lnTo>
                  <a:pt x="2630" y="178"/>
                </a:lnTo>
                <a:lnTo>
                  <a:pt x="2625" y="181"/>
                </a:lnTo>
                <a:lnTo>
                  <a:pt x="2617" y="179"/>
                </a:lnTo>
                <a:lnTo>
                  <a:pt x="2614" y="184"/>
                </a:lnTo>
                <a:lnTo>
                  <a:pt x="2612" y="189"/>
                </a:lnTo>
                <a:lnTo>
                  <a:pt x="2612" y="189"/>
                </a:lnTo>
                <a:lnTo>
                  <a:pt x="2611" y="207"/>
                </a:lnTo>
                <a:lnTo>
                  <a:pt x="2612" y="223"/>
                </a:lnTo>
                <a:lnTo>
                  <a:pt x="2617" y="238"/>
                </a:lnTo>
                <a:lnTo>
                  <a:pt x="2625" y="249"/>
                </a:lnTo>
                <a:lnTo>
                  <a:pt x="2636" y="259"/>
                </a:lnTo>
                <a:lnTo>
                  <a:pt x="2649" y="265"/>
                </a:lnTo>
                <a:lnTo>
                  <a:pt x="2665" y="268"/>
                </a:lnTo>
                <a:lnTo>
                  <a:pt x="2682" y="268"/>
                </a:lnTo>
                <a:lnTo>
                  <a:pt x="2682" y="268"/>
                </a:lnTo>
                <a:lnTo>
                  <a:pt x="2695" y="265"/>
                </a:lnTo>
                <a:lnTo>
                  <a:pt x="2704" y="260"/>
                </a:lnTo>
                <a:lnTo>
                  <a:pt x="2713" y="255"/>
                </a:lnTo>
                <a:lnTo>
                  <a:pt x="2723" y="249"/>
                </a:lnTo>
                <a:lnTo>
                  <a:pt x="2731" y="241"/>
                </a:lnTo>
                <a:lnTo>
                  <a:pt x="2737" y="233"/>
                </a:lnTo>
                <a:lnTo>
                  <a:pt x="2742" y="225"/>
                </a:lnTo>
                <a:lnTo>
                  <a:pt x="2747" y="215"/>
                </a:lnTo>
                <a:lnTo>
                  <a:pt x="2750" y="205"/>
                </a:lnTo>
                <a:lnTo>
                  <a:pt x="2751" y="194"/>
                </a:lnTo>
                <a:lnTo>
                  <a:pt x="2751" y="184"/>
                </a:lnTo>
                <a:lnTo>
                  <a:pt x="2750" y="173"/>
                </a:lnTo>
                <a:lnTo>
                  <a:pt x="2747" y="163"/>
                </a:lnTo>
                <a:lnTo>
                  <a:pt x="2742" y="152"/>
                </a:lnTo>
                <a:lnTo>
                  <a:pt x="2737" y="142"/>
                </a:lnTo>
                <a:lnTo>
                  <a:pt x="2729" y="133"/>
                </a:lnTo>
                <a:lnTo>
                  <a:pt x="2729" y="133"/>
                </a:lnTo>
                <a:lnTo>
                  <a:pt x="2715" y="121"/>
                </a:lnTo>
                <a:lnTo>
                  <a:pt x="2699" y="112"/>
                </a:lnTo>
                <a:lnTo>
                  <a:pt x="2683" y="105"/>
                </a:lnTo>
                <a:lnTo>
                  <a:pt x="2668" y="100"/>
                </a:lnTo>
                <a:lnTo>
                  <a:pt x="2652" y="97"/>
                </a:lnTo>
                <a:lnTo>
                  <a:pt x="2636" y="97"/>
                </a:lnTo>
                <a:lnTo>
                  <a:pt x="2620" y="99"/>
                </a:lnTo>
                <a:lnTo>
                  <a:pt x="2606" y="102"/>
                </a:lnTo>
                <a:lnTo>
                  <a:pt x="2592" y="107"/>
                </a:lnTo>
                <a:lnTo>
                  <a:pt x="2578" y="115"/>
                </a:lnTo>
                <a:lnTo>
                  <a:pt x="2565" y="123"/>
                </a:lnTo>
                <a:lnTo>
                  <a:pt x="2554" y="134"/>
                </a:lnTo>
                <a:lnTo>
                  <a:pt x="2545" y="149"/>
                </a:lnTo>
                <a:lnTo>
                  <a:pt x="2537" y="163"/>
                </a:lnTo>
                <a:lnTo>
                  <a:pt x="2530" y="181"/>
                </a:lnTo>
                <a:lnTo>
                  <a:pt x="2527" y="199"/>
                </a:lnTo>
                <a:lnTo>
                  <a:pt x="2527" y="199"/>
                </a:lnTo>
                <a:lnTo>
                  <a:pt x="2526" y="210"/>
                </a:lnTo>
                <a:lnTo>
                  <a:pt x="2527" y="223"/>
                </a:lnTo>
                <a:lnTo>
                  <a:pt x="2527" y="236"/>
                </a:lnTo>
                <a:lnTo>
                  <a:pt x="2530" y="251"/>
                </a:lnTo>
                <a:lnTo>
                  <a:pt x="2534" y="265"/>
                </a:lnTo>
                <a:lnTo>
                  <a:pt x="2537" y="278"/>
                </a:lnTo>
                <a:lnTo>
                  <a:pt x="2541" y="291"/>
                </a:lnTo>
                <a:lnTo>
                  <a:pt x="2548" y="299"/>
                </a:lnTo>
                <a:lnTo>
                  <a:pt x="2548" y="299"/>
                </a:lnTo>
                <a:lnTo>
                  <a:pt x="2548" y="299"/>
                </a:lnTo>
                <a:lnTo>
                  <a:pt x="2548" y="299"/>
                </a:lnTo>
                <a:lnTo>
                  <a:pt x="2548" y="299"/>
                </a:lnTo>
                <a:lnTo>
                  <a:pt x="2548" y="299"/>
                </a:lnTo>
                <a:lnTo>
                  <a:pt x="2548" y="299"/>
                </a:lnTo>
                <a:lnTo>
                  <a:pt x="2556" y="307"/>
                </a:lnTo>
                <a:lnTo>
                  <a:pt x="2564" y="315"/>
                </a:lnTo>
                <a:lnTo>
                  <a:pt x="2571" y="323"/>
                </a:lnTo>
                <a:lnTo>
                  <a:pt x="2579" y="331"/>
                </a:lnTo>
                <a:lnTo>
                  <a:pt x="2589" y="338"/>
                </a:lnTo>
                <a:lnTo>
                  <a:pt x="2598" y="344"/>
                </a:lnTo>
                <a:lnTo>
                  <a:pt x="2608" y="351"/>
                </a:lnTo>
                <a:lnTo>
                  <a:pt x="2617" y="357"/>
                </a:lnTo>
                <a:lnTo>
                  <a:pt x="2628" y="362"/>
                </a:lnTo>
                <a:lnTo>
                  <a:pt x="2639" y="367"/>
                </a:lnTo>
                <a:lnTo>
                  <a:pt x="2649" y="370"/>
                </a:lnTo>
                <a:lnTo>
                  <a:pt x="2660" y="374"/>
                </a:lnTo>
                <a:lnTo>
                  <a:pt x="2672" y="377"/>
                </a:lnTo>
                <a:lnTo>
                  <a:pt x="2683" y="378"/>
                </a:lnTo>
                <a:lnTo>
                  <a:pt x="2695" y="380"/>
                </a:lnTo>
                <a:lnTo>
                  <a:pt x="2707" y="380"/>
                </a:lnTo>
                <a:lnTo>
                  <a:pt x="2707" y="380"/>
                </a:lnTo>
                <a:lnTo>
                  <a:pt x="2728" y="377"/>
                </a:lnTo>
                <a:lnTo>
                  <a:pt x="2747" y="374"/>
                </a:lnTo>
                <a:lnTo>
                  <a:pt x="2766" y="367"/>
                </a:lnTo>
                <a:lnTo>
                  <a:pt x="2781" y="359"/>
                </a:lnTo>
                <a:lnTo>
                  <a:pt x="2796" y="349"/>
                </a:lnTo>
                <a:lnTo>
                  <a:pt x="2808" y="338"/>
                </a:lnTo>
                <a:lnTo>
                  <a:pt x="2819" y="327"/>
                </a:lnTo>
                <a:lnTo>
                  <a:pt x="2830" y="314"/>
                </a:lnTo>
                <a:lnTo>
                  <a:pt x="2840" y="301"/>
                </a:lnTo>
                <a:lnTo>
                  <a:pt x="2848" y="286"/>
                </a:lnTo>
                <a:lnTo>
                  <a:pt x="2854" y="272"/>
                </a:lnTo>
                <a:lnTo>
                  <a:pt x="2860" y="259"/>
                </a:lnTo>
                <a:lnTo>
                  <a:pt x="2867" y="244"/>
                </a:lnTo>
                <a:lnTo>
                  <a:pt x="2871" y="230"/>
                </a:lnTo>
                <a:lnTo>
                  <a:pt x="2876" y="217"/>
                </a:lnTo>
                <a:lnTo>
                  <a:pt x="2879" y="204"/>
                </a:lnTo>
                <a:lnTo>
                  <a:pt x="2879" y="204"/>
                </a:lnTo>
                <a:lnTo>
                  <a:pt x="2884" y="217"/>
                </a:lnTo>
                <a:lnTo>
                  <a:pt x="2887" y="230"/>
                </a:lnTo>
                <a:lnTo>
                  <a:pt x="2890" y="244"/>
                </a:lnTo>
                <a:lnTo>
                  <a:pt x="2895" y="259"/>
                </a:lnTo>
                <a:lnTo>
                  <a:pt x="2900" y="272"/>
                </a:lnTo>
                <a:lnTo>
                  <a:pt x="2906" y="286"/>
                </a:lnTo>
                <a:lnTo>
                  <a:pt x="2914" y="301"/>
                </a:lnTo>
                <a:lnTo>
                  <a:pt x="2922" y="314"/>
                </a:lnTo>
                <a:lnTo>
                  <a:pt x="2931" y="327"/>
                </a:lnTo>
                <a:lnTo>
                  <a:pt x="2942" y="338"/>
                </a:lnTo>
                <a:lnTo>
                  <a:pt x="2955" y="349"/>
                </a:lnTo>
                <a:lnTo>
                  <a:pt x="2971" y="359"/>
                </a:lnTo>
                <a:lnTo>
                  <a:pt x="2988" y="367"/>
                </a:lnTo>
                <a:lnTo>
                  <a:pt x="3007" y="374"/>
                </a:lnTo>
                <a:lnTo>
                  <a:pt x="3028" y="378"/>
                </a:lnTo>
                <a:lnTo>
                  <a:pt x="3053" y="380"/>
                </a:lnTo>
                <a:lnTo>
                  <a:pt x="3053" y="380"/>
                </a:lnTo>
                <a:lnTo>
                  <a:pt x="3064" y="380"/>
                </a:lnTo>
                <a:lnTo>
                  <a:pt x="3077" y="378"/>
                </a:lnTo>
                <a:lnTo>
                  <a:pt x="3088" y="377"/>
                </a:lnTo>
                <a:lnTo>
                  <a:pt x="3099" y="375"/>
                </a:lnTo>
                <a:lnTo>
                  <a:pt x="3110" y="372"/>
                </a:lnTo>
                <a:lnTo>
                  <a:pt x="3121" y="367"/>
                </a:lnTo>
                <a:lnTo>
                  <a:pt x="3130" y="362"/>
                </a:lnTo>
                <a:lnTo>
                  <a:pt x="3141" y="357"/>
                </a:lnTo>
                <a:lnTo>
                  <a:pt x="3151" y="351"/>
                </a:lnTo>
                <a:lnTo>
                  <a:pt x="3160" y="346"/>
                </a:lnTo>
                <a:lnTo>
                  <a:pt x="3170" y="338"/>
                </a:lnTo>
                <a:lnTo>
                  <a:pt x="3179" y="331"/>
                </a:lnTo>
                <a:lnTo>
                  <a:pt x="3187" y="323"/>
                </a:lnTo>
                <a:lnTo>
                  <a:pt x="3195" y="315"/>
                </a:lnTo>
                <a:lnTo>
                  <a:pt x="3203" y="307"/>
                </a:lnTo>
                <a:lnTo>
                  <a:pt x="3211" y="299"/>
                </a:lnTo>
                <a:lnTo>
                  <a:pt x="3211" y="299"/>
                </a:lnTo>
                <a:lnTo>
                  <a:pt x="3211" y="299"/>
                </a:lnTo>
                <a:lnTo>
                  <a:pt x="3211" y="299"/>
                </a:lnTo>
                <a:lnTo>
                  <a:pt x="3211" y="299"/>
                </a:lnTo>
                <a:lnTo>
                  <a:pt x="3212" y="299"/>
                </a:lnTo>
                <a:lnTo>
                  <a:pt x="3212" y="299"/>
                </a:lnTo>
                <a:lnTo>
                  <a:pt x="3217" y="291"/>
                </a:lnTo>
                <a:lnTo>
                  <a:pt x="3222" y="280"/>
                </a:lnTo>
                <a:lnTo>
                  <a:pt x="3226" y="265"/>
                </a:lnTo>
                <a:lnTo>
                  <a:pt x="3230" y="252"/>
                </a:lnTo>
                <a:lnTo>
                  <a:pt x="3231" y="238"/>
                </a:lnTo>
                <a:lnTo>
                  <a:pt x="3231" y="223"/>
                </a:lnTo>
                <a:lnTo>
                  <a:pt x="3233" y="210"/>
                </a:lnTo>
                <a:lnTo>
                  <a:pt x="3231" y="199"/>
                </a:lnTo>
                <a:lnTo>
                  <a:pt x="3231" y="199"/>
                </a:lnTo>
                <a:lnTo>
                  <a:pt x="3228" y="181"/>
                </a:lnTo>
                <a:lnTo>
                  <a:pt x="3222" y="163"/>
                </a:lnTo>
                <a:lnTo>
                  <a:pt x="3214" y="149"/>
                </a:lnTo>
                <a:lnTo>
                  <a:pt x="3204" y="134"/>
                </a:lnTo>
                <a:lnTo>
                  <a:pt x="3193" y="123"/>
                </a:lnTo>
                <a:lnTo>
                  <a:pt x="3181" y="115"/>
                </a:lnTo>
                <a:lnTo>
                  <a:pt x="3167" y="107"/>
                </a:lnTo>
                <a:lnTo>
                  <a:pt x="3152" y="102"/>
                </a:lnTo>
                <a:lnTo>
                  <a:pt x="3138" y="99"/>
                </a:lnTo>
                <a:lnTo>
                  <a:pt x="3122" y="97"/>
                </a:lnTo>
                <a:lnTo>
                  <a:pt x="3107" y="97"/>
                </a:lnTo>
                <a:lnTo>
                  <a:pt x="3091" y="100"/>
                </a:lnTo>
                <a:lnTo>
                  <a:pt x="3075" y="105"/>
                </a:lnTo>
                <a:lnTo>
                  <a:pt x="3059" y="112"/>
                </a:lnTo>
                <a:lnTo>
                  <a:pt x="3043" y="121"/>
                </a:lnTo>
                <a:lnTo>
                  <a:pt x="3029" y="133"/>
                </a:lnTo>
                <a:lnTo>
                  <a:pt x="3029" y="133"/>
                </a:lnTo>
                <a:lnTo>
                  <a:pt x="3021" y="142"/>
                </a:lnTo>
                <a:lnTo>
                  <a:pt x="3017" y="152"/>
                </a:lnTo>
                <a:lnTo>
                  <a:pt x="3012" y="163"/>
                </a:lnTo>
                <a:lnTo>
                  <a:pt x="3009" y="173"/>
                </a:lnTo>
                <a:lnTo>
                  <a:pt x="3007" y="184"/>
                </a:lnTo>
                <a:lnTo>
                  <a:pt x="3007" y="194"/>
                </a:lnTo>
                <a:lnTo>
                  <a:pt x="3009" y="205"/>
                </a:lnTo>
                <a:lnTo>
                  <a:pt x="3012" y="215"/>
                </a:lnTo>
                <a:lnTo>
                  <a:pt x="3017" y="225"/>
                </a:lnTo>
                <a:lnTo>
                  <a:pt x="3021" y="233"/>
                </a:lnTo>
                <a:lnTo>
                  <a:pt x="3028" y="241"/>
                </a:lnTo>
                <a:lnTo>
                  <a:pt x="3035" y="249"/>
                </a:lnTo>
                <a:lnTo>
                  <a:pt x="3045" y="255"/>
                </a:lnTo>
                <a:lnTo>
                  <a:pt x="3054" y="260"/>
                </a:lnTo>
                <a:lnTo>
                  <a:pt x="3064" y="265"/>
                </a:lnTo>
                <a:lnTo>
                  <a:pt x="3077" y="268"/>
                </a:lnTo>
                <a:lnTo>
                  <a:pt x="3077" y="268"/>
                </a:lnTo>
                <a:lnTo>
                  <a:pt x="3094" y="268"/>
                </a:lnTo>
                <a:lnTo>
                  <a:pt x="3110" y="265"/>
                </a:lnTo>
                <a:lnTo>
                  <a:pt x="3122" y="259"/>
                </a:lnTo>
                <a:lnTo>
                  <a:pt x="3133" y="249"/>
                </a:lnTo>
                <a:lnTo>
                  <a:pt x="3141" y="238"/>
                </a:lnTo>
                <a:lnTo>
                  <a:pt x="3146" y="223"/>
                </a:lnTo>
                <a:lnTo>
                  <a:pt x="3148" y="207"/>
                </a:lnTo>
                <a:lnTo>
                  <a:pt x="3146" y="189"/>
                </a:lnTo>
                <a:lnTo>
                  <a:pt x="3144" y="184"/>
                </a:lnTo>
                <a:lnTo>
                  <a:pt x="3141" y="179"/>
                </a:lnTo>
                <a:lnTo>
                  <a:pt x="3141" y="179"/>
                </a:lnTo>
                <a:lnTo>
                  <a:pt x="3133" y="181"/>
                </a:lnTo>
                <a:lnTo>
                  <a:pt x="3129" y="178"/>
                </a:lnTo>
                <a:lnTo>
                  <a:pt x="3129" y="171"/>
                </a:lnTo>
                <a:lnTo>
                  <a:pt x="3130" y="167"/>
                </a:lnTo>
                <a:lnTo>
                  <a:pt x="3133" y="162"/>
                </a:lnTo>
                <a:lnTo>
                  <a:pt x="3138" y="160"/>
                </a:lnTo>
                <a:lnTo>
                  <a:pt x="3144" y="162"/>
                </a:lnTo>
                <a:lnTo>
                  <a:pt x="3151" y="170"/>
                </a:lnTo>
                <a:lnTo>
                  <a:pt x="3151" y="170"/>
                </a:lnTo>
                <a:lnTo>
                  <a:pt x="3154" y="175"/>
                </a:lnTo>
                <a:lnTo>
                  <a:pt x="3157" y="181"/>
                </a:lnTo>
                <a:lnTo>
                  <a:pt x="3159" y="189"/>
                </a:lnTo>
                <a:lnTo>
                  <a:pt x="3160" y="197"/>
                </a:lnTo>
                <a:lnTo>
                  <a:pt x="3160" y="207"/>
                </a:lnTo>
                <a:lnTo>
                  <a:pt x="3159" y="215"/>
                </a:lnTo>
                <a:lnTo>
                  <a:pt x="3157" y="225"/>
                </a:lnTo>
                <a:lnTo>
                  <a:pt x="3154" y="234"/>
                </a:lnTo>
                <a:lnTo>
                  <a:pt x="3154" y="234"/>
                </a:lnTo>
                <a:lnTo>
                  <a:pt x="3149" y="244"/>
                </a:lnTo>
                <a:lnTo>
                  <a:pt x="3143" y="254"/>
                </a:lnTo>
                <a:lnTo>
                  <a:pt x="3135" y="260"/>
                </a:lnTo>
                <a:lnTo>
                  <a:pt x="3129" y="267"/>
                </a:lnTo>
                <a:lnTo>
                  <a:pt x="3119" y="272"/>
                </a:lnTo>
                <a:lnTo>
                  <a:pt x="3111" y="275"/>
                </a:lnTo>
                <a:lnTo>
                  <a:pt x="3102" y="278"/>
                </a:lnTo>
                <a:lnTo>
                  <a:pt x="3092" y="278"/>
                </a:lnTo>
                <a:lnTo>
                  <a:pt x="3083" y="280"/>
                </a:lnTo>
                <a:lnTo>
                  <a:pt x="3073" y="278"/>
                </a:lnTo>
                <a:lnTo>
                  <a:pt x="3064" y="276"/>
                </a:lnTo>
                <a:lnTo>
                  <a:pt x="3054" y="273"/>
                </a:lnTo>
                <a:lnTo>
                  <a:pt x="3045" y="268"/>
                </a:lnTo>
                <a:lnTo>
                  <a:pt x="3037" y="264"/>
                </a:lnTo>
                <a:lnTo>
                  <a:pt x="3029" y="257"/>
                </a:lnTo>
                <a:lnTo>
                  <a:pt x="3021" y="249"/>
                </a:lnTo>
                <a:lnTo>
                  <a:pt x="3021" y="249"/>
                </a:lnTo>
                <a:lnTo>
                  <a:pt x="3012" y="238"/>
                </a:lnTo>
                <a:lnTo>
                  <a:pt x="3005" y="226"/>
                </a:lnTo>
                <a:lnTo>
                  <a:pt x="3001" y="215"/>
                </a:lnTo>
                <a:lnTo>
                  <a:pt x="2998" y="204"/>
                </a:lnTo>
                <a:lnTo>
                  <a:pt x="2998" y="192"/>
                </a:lnTo>
                <a:lnTo>
                  <a:pt x="2998" y="181"/>
                </a:lnTo>
                <a:lnTo>
                  <a:pt x="2999" y="170"/>
                </a:lnTo>
                <a:lnTo>
                  <a:pt x="3002" y="160"/>
                </a:lnTo>
                <a:lnTo>
                  <a:pt x="3007" y="149"/>
                </a:lnTo>
                <a:lnTo>
                  <a:pt x="3013" y="139"/>
                </a:lnTo>
                <a:lnTo>
                  <a:pt x="3020" y="131"/>
                </a:lnTo>
                <a:lnTo>
                  <a:pt x="3029" y="121"/>
                </a:lnTo>
                <a:lnTo>
                  <a:pt x="3037" y="115"/>
                </a:lnTo>
                <a:lnTo>
                  <a:pt x="3048" y="107"/>
                </a:lnTo>
                <a:lnTo>
                  <a:pt x="3059" y="102"/>
                </a:lnTo>
                <a:lnTo>
                  <a:pt x="3072" y="97"/>
                </a:lnTo>
                <a:lnTo>
                  <a:pt x="3072" y="97"/>
                </a:lnTo>
                <a:lnTo>
                  <a:pt x="3088" y="90"/>
                </a:lnTo>
                <a:lnTo>
                  <a:pt x="3103" y="87"/>
                </a:lnTo>
                <a:lnTo>
                  <a:pt x="3121" y="87"/>
                </a:lnTo>
                <a:lnTo>
                  <a:pt x="3135" y="87"/>
                </a:lnTo>
                <a:lnTo>
                  <a:pt x="3151" y="90"/>
                </a:lnTo>
                <a:lnTo>
                  <a:pt x="3165" y="95"/>
                </a:lnTo>
                <a:lnTo>
                  <a:pt x="3178" y="100"/>
                </a:lnTo>
                <a:lnTo>
                  <a:pt x="3190" y="108"/>
                </a:lnTo>
                <a:lnTo>
                  <a:pt x="3201" y="118"/>
                </a:lnTo>
                <a:lnTo>
                  <a:pt x="3211" y="129"/>
                </a:lnTo>
                <a:lnTo>
                  <a:pt x="3220" y="141"/>
                </a:lnTo>
                <a:lnTo>
                  <a:pt x="3228" y="154"/>
                </a:lnTo>
                <a:lnTo>
                  <a:pt x="3234" y="168"/>
                </a:lnTo>
                <a:lnTo>
                  <a:pt x="3238" y="184"/>
                </a:lnTo>
                <a:lnTo>
                  <a:pt x="3241" y="200"/>
                </a:lnTo>
                <a:lnTo>
                  <a:pt x="3242" y="218"/>
                </a:lnTo>
                <a:lnTo>
                  <a:pt x="3242" y="218"/>
                </a:lnTo>
                <a:lnTo>
                  <a:pt x="3241" y="230"/>
                </a:lnTo>
                <a:lnTo>
                  <a:pt x="3241" y="241"/>
                </a:lnTo>
                <a:lnTo>
                  <a:pt x="3238" y="252"/>
                </a:lnTo>
                <a:lnTo>
                  <a:pt x="3236" y="265"/>
                </a:lnTo>
                <a:lnTo>
                  <a:pt x="3233" y="276"/>
                </a:lnTo>
                <a:lnTo>
                  <a:pt x="3228" y="286"/>
                </a:lnTo>
                <a:lnTo>
                  <a:pt x="3225" y="298"/>
                </a:lnTo>
                <a:lnTo>
                  <a:pt x="3220" y="307"/>
                </a:lnTo>
                <a:lnTo>
                  <a:pt x="3220" y="307"/>
                </a:lnTo>
                <a:lnTo>
                  <a:pt x="3228" y="314"/>
                </a:lnTo>
                <a:lnTo>
                  <a:pt x="3238" y="322"/>
                </a:lnTo>
                <a:lnTo>
                  <a:pt x="3249" y="328"/>
                </a:lnTo>
                <a:lnTo>
                  <a:pt x="3258" y="335"/>
                </a:lnTo>
                <a:lnTo>
                  <a:pt x="3269" y="341"/>
                </a:lnTo>
                <a:lnTo>
                  <a:pt x="3282" y="346"/>
                </a:lnTo>
                <a:lnTo>
                  <a:pt x="3293" y="351"/>
                </a:lnTo>
                <a:lnTo>
                  <a:pt x="3305" y="356"/>
                </a:lnTo>
                <a:lnTo>
                  <a:pt x="3318" y="361"/>
                </a:lnTo>
                <a:lnTo>
                  <a:pt x="3331" y="364"/>
                </a:lnTo>
                <a:lnTo>
                  <a:pt x="3343" y="367"/>
                </a:lnTo>
                <a:lnTo>
                  <a:pt x="3356" y="369"/>
                </a:lnTo>
                <a:lnTo>
                  <a:pt x="3370" y="372"/>
                </a:lnTo>
                <a:lnTo>
                  <a:pt x="3384" y="374"/>
                </a:lnTo>
                <a:lnTo>
                  <a:pt x="3399" y="374"/>
                </a:lnTo>
                <a:lnTo>
                  <a:pt x="3413" y="374"/>
                </a:lnTo>
                <a:lnTo>
                  <a:pt x="3413" y="374"/>
                </a:lnTo>
                <a:lnTo>
                  <a:pt x="3427" y="374"/>
                </a:lnTo>
                <a:lnTo>
                  <a:pt x="3443" y="372"/>
                </a:lnTo>
                <a:lnTo>
                  <a:pt x="3455" y="370"/>
                </a:lnTo>
                <a:lnTo>
                  <a:pt x="3470" y="369"/>
                </a:lnTo>
                <a:lnTo>
                  <a:pt x="3484" y="365"/>
                </a:lnTo>
                <a:lnTo>
                  <a:pt x="3498" y="362"/>
                </a:lnTo>
                <a:lnTo>
                  <a:pt x="3512" y="357"/>
                </a:lnTo>
                <a:lnTo>
                  <a:pt x="3525" y="353"/>
                </a:lnTo>
                <a:lnTo>
                  <a:pt x="3537" y="348"/>
                </a:lnTo>
                <a:lnTo>
                  <a:pt x="3550" y="341"/>
                </a:lnTo>
                <a:lnTo>
                  <a:pt x="3561" y="335"/>
                </a:lnTo>
                <a:lnTo>
                  <a:pt x="3574" y="328"/>
                </a:lnTo>
                <a:lnTo>
                  <a:pt x="3585" y="320"/>
                </a:lnTo>
                <a:lnTo>
                  <a:pt x="3594" y="312"/>
                </a:lnTo>
                <a:lnTo>
                  <a:pt x="3605" y="304"/>
                </a:lnTo>
                <a:lnTo>
                  <a:pt x="3615" y="294"/>
                </a:lnTo>
                <a:lnTo>
                  <a:pt x="3615" y="294"/>
                </a:lnTo>
                <a:lnTo>
                  <a:pt x="3602" y="286"/>
                </a:lnTo>
                <a:lnTo>
                  <a:pt x="3591" y="278"/>
                </a:lnTo>
                <a:lnTo>
                  <a:pt x="3582" y="270"/>
                </a:lnTo>
                <a:lnTo>
                  <a:pt x="3574" y="260"/>
                </a:lnTo>
                <a:lnTo>
                  <a:pt x="3566" y="251"/>
                </a:lnTo>
                <a:lnTo>
                  <a:pt x="3560" y="241"/>
                </a:lnTo>
                <a:lnTo>
                  <a:pt x="3556" y="231"/>
                </a:lnTo>
                <a:lnTo>
                  <a:pt x="3553" y="221"/>
                </a:lnTo>
                <a:lnTo>
                  <a:pt x="3553" y="221"/>
                </a:lnTo>
                <a:lnTo>
                  <a:pt x="3552" y="212"/>
                </a:lnTo>
                <a:lnTo>
                  <a:pt x="3553" y="202"/>
                </a:lnTo>
                <a:lnTo>
                  <a:pt x="3556" y="192"/>
                </a:lnTo>
                <a:lnTo>
                  <a:pt x="3563" y="184"/>
                </a:lnTo>
                <a:lnTo>
                  <a:pt x="3569" y="176"/>
                </a:lnTo>
                <a:lnTo>
                  <a:pt x="3577" y="168"/>
                </a:lnTo>
                <a:lnTo>
                  <a:pt x="3586" y="160"/>
                </a:lnTo>
                <a:lnTo>
                  <a:pt x="3597" y="152"/>
                </a:lnTo>
                <a:lnTo>
                  <a:pt x="3610" y="147"/>
                </a:lnTo>
                <a:lnTo>
                  <a:pt x="3623" y="141"/>
                </a:lnTo>
                <a:lnTo>
                  <a:pt x="3637" y="136"/>
                </a:lnTo>
                <a:lnTo>
                  <a:pt x="3653" y="131"/>
                </a:lnTo>
                <a:lnTo>
                  <a:pt x="3668" y="128"/>
                </a:lnTo>
                <a:lnTo>
                  <a:pt x="3684" y="126"/>
                </a:lnTo>
                <a:lnTo>
                  <a:pt x="3700" y="124"/>
                </a:lnTo>
                <a:lnTo>
                  <a:pt x="3717" y="123"/>
                </a:lnTo>
                <a:lnTo>
                  <a:pt x="3717" y="123"/>
                </a:lnTo>
                <a:lnTo>
                  <a:pt x="3733" y="124"/>
                </a:lnTo>
                <a:lnTo>
                  <a:pt x="3751" y="126"/>
                </a:lnTo>
                <a:lnTo>
                  <a:pt x="3766" y="128"/>
                </a:lnTo>
                <a:lnTo>
                  <a:pt x="3781" y="131"/>
                </a:lnTo>
                <a:lnTo>
                  <a:pt x="3795" y="136"/>
                </a:lnTo>
                <a:lnTo>
                  <a:pt x="3809" y="141"/>
                </a:lnTo>
                <a:lnTo>
                  <a:pt x="3822" y="147"/>
                </a:lnTo>
                <a:lnTo>
                  <a:pt x="3833" y="152"/>
                </a:lnTo>
                <a:lnTo>
                  <a:pt x="3844" y="160"/>
                </a:lnTo>
                <a:lnTo>
                  <a:pt x="3853" y="168"/>
                </a:lnTo>
                <a:lnTo>
                  <a:pt x="3861" y="176"/>
                </a:lnTo>
                <a:lnTo>
                  <a:pt x="3869" y="184"/>
                </a:lnTo>
                <a:lnTo>
                  <a:pt x="3874" y="192"/>
                </a:lnTo>
                <a:lnTo>
                  <a:pt x="3878" y="202"/>
                </a:lnTo>
                <a:lnTo>
                  <a:pt x="3880" y="212"/>
                </a:lnTo>
                <a:lnTo>
                  <a:pt x="3882" y="221"/>
                </a:lnTo>
                <a:lnTo>
                  <a:pt x="3882" y="221"/>
                </a:lnTo>
                <a:lnTo>
                  <a:pt x="3880" y="234"/>
                </a:lnTo>
                <a:lnTo>
                  <a:pt x="3874" y="246"/>
                </a:lnTo>
                <a:lnTo>
                  <a:pt x="3866" y="259"/>
                </a:lnTo>
                <a:lnTo>
                  <a:pt x="3856" y="270"/>
                </a:lnTo>
                <a:lnTo>
                  <a:pt x="3842" y="280"/>
                </a:lnTo>
                <a:lnTo>
                  <a:pt x="3828" y="289"/>
                </a:lnTo>
                <a:lnTo>
                  <a:pt x="3811" y="299"/>
                </a:lnTo>
                <a:lnTo>
                  <a:pt x="3793" y="307"/>
                </a:lnTo>
                <a:lnTo>
                  <a:pt x="3793" y="307"/>
                </a:lnTo>
                <a:lnTo>
                  <a:pt x="3799" y="315"/>
                </a:lnTo>
                <a:lnTo>
                  <a:pt x="3807" y="323"/>
                </a:lnTo>
                <a:lnTo>
                  <a:pt x="3818" y="331"/>
                </a:lnTo>
                <a:lnTo>
                  <a:pt x="3829" y="336"/>
                </a:lnTo>
                <a:lnTo>
                  <a:pt x="3841" y="341"/>
                </a:lnTo>
                <a:lnTo>
                  <a:pt x="3855" y="344"/>
                </a:lnTo>
                <a:lnTo>
                  <a:pt x="3869" y="348"/>
                </a:lnTo>
                <a:lnTo>
                  <a:pt x="3883" y="348"/>
                </a:lnTo>
                <a:lnTo>
                  <a:pt x="3883" y="348"/>
                </a:lnTo>
                <a:lnTo>
                  <a:pt x="3901" y="348"/>
                </a:lnTo>
                <a:lnTo>
                  <a:pt x="3916" y="344"/>
                </a:lnTo>
                <a:lnTo>
                  <a:pt x="3931" y="340"/>
                </a:lnTo>
                <a:lnTo>
                  <a:pt x="3945" y="333"/>
                </a:lnTo>
                <a:lnTo>
                  <a:pt x="3956" y="325"/>
                </a:lnTo>
                <a:lnTo>
                  <a:pt x="3965" y="317"/>
                </a:lnTo>
                <a:lnTo>
                  <a:pt x="3973" y="309"/>
                </a:lnTo>
                <a:lnTo>
                  <a:pt x="3978" y="299"/>
                </a:lnTo>
                <a:lnTo>
                  <a:pt x="3978" y="299"/>
                </a:lnTo>
                <a:lnTo>
                  <a:pt x="3984" y="307"/>
                </a:lnTo>
                <a:lnTo>
                  <a:pt x="3990" y="314"/>
                </a:lnTo>
                <a:lnTo>
                  <a:pt x="3998" y="322"/>
                </a:lnTo>
                <a:lnTo>
                  <a:pt x="4006" y="328"/>
                </a:lnTo>
                <a:lnTo>
                  <a:pt x="4014" y="335"/>
                </a:lnTo>
                <a:lnTo>
                  <a:pt x="4024" y="341"/>
                </a:lnTo>
                <a:lnTo>
                  <a:pt x="4033" y="346"/>
                </a:lnTo>
                <a:lnTo>
                  <a:pt x="4043" y="353"/>
                </a:lnTo>
                <a:lnTo>
                  <a:pt x="4052" y="356"/>
                </a:lnTo>
                <a:lnTo>
                  <a:pt x="4062" y="361"/>
                </a:lnTo>
                <a:lnTo>
                  <a:pt x="4073" y="364"/>
                </a:lnTo>
                <a:lnTo>
                  <a:pt x="4082" y="365"/>
                </a:lnTo>
                <a:lnTo>
                  <a:pt x="4093" y="367"/>
                </a:lnTo>
                <a:lnTo>
                  <a:pt x="4104" y="369"/>
                </a:lnTo>
                <a:lnTo>
                  <a:pt x="4114" y="369"/>
                </a:lnTo>
                <a:lnTo>
                  <a:pt x="4125" y="367"/>
                </a:lnTo>
                <a:lnTo>
                  <a:pt x="4125" y="367"/>
                </a:lnTo>
                <a:lnTo>
                  <a:pt x="4134" y="365"/>
                </a:lnTo>
                <a:lnTo>
                  <a:pt x="4144" y="365"/>
                </a:lnTo>
                <a:lnTo>
                  <a:pt x="4153" y="364"/>
                </a:lnTo>
                <a:lnTo>
                  <a:pt x="4163" y="361"/>
                </a:lnTo>
                <a:lnTo>
                  <a:pt x="4172" y="359"/>
                </a:lnTo>
                <a:lnTo>
                  <a:pt x="4183" y="357"/>
                </a:lnTo>
                <a:lnTo>
                  <a:pt x="4191" y="354"/>
                </a:lnTo>
                <a:lnTo>
                  <a:pt x="4200" y="353"/>
                </a:lnTo>
                <a:lnTo>
                  <a:pt x="4200" y="353"/>
                </a:lnTo>
                <a:lnTo>
                  <a:pt x="4202" y="351"/>
                </a:lnTo>
                <a:lnTo>
                  <a:pt x="4207" y="349"/>
                </a:lnTo>
                <a:lnTo>
                  <a:pt x="4216" y="346"/>
                </a:lnTo>
                <a:lnTo>
                  <a:pt x="4227" y="341"/>
                </a:lnTo>
                <a:lnTo>
                  <a:pt x="4241" y="335"/>
                </a:lnTo>
                <a:lnTo>
                  <a:pt x="4259" y="328"/>
                </a:lnTo>
                <a:lnTo>
                  <a:pt x="4278" y="320"/>
                </a:lnTo>
                <a:lnTo>
                  <a:pt x="4300" y="310"/>
                </a:lnTo>
                <a:lnTo>
                  <a:pt x="4324" y="301"/>
                </a:lnTo>
                <a:lnTo>
                  <a:pt x="4349" y="291"/>
                </a:lnTo>
                <a:lnTo>
                  <a:pt x="4377" y="280"/>
                </a:lnTo>
                <a:lnTo>
                  <a:pt x="4406" y="268"/>
                </a:lnTo>
                <a:lnTo>
                  <a:pt x="4437" y="257"/>
                </a:lnTo>
                <a:lnTo>
                  <a:pt x="4469" y="244"/>
                </a:lnTo>
                <a:lnTo>
                  <a:pt x="4500" y="231"/>
                </a:lnTo>
                <a:lnTo>
                  <a:pt x="4533" y="220"/>
                </a:lnTo>
                <a:lnTo>
                  <a:pt x="4568" y="207"/>
                </a:lnTo>
                <a:lnTo>
                  <a:pt x="4601" y="194"/>
                </a:lnTo>
                <a:lnTo>
                  <a:pt x="4636" y="183"/>
                </a:lnTo>
                <a:lnTo>
                  <a:pt x="4671" y="170"/>
                </a:lnTo>
                <a:lnTo>
                  <a:pt x="4706" y="158"/>
                </a:lnTo>
                <a:lnTo>
                  <a:pt x="4740" y="147"/>
                </a:lnTo>
                <a:lnTo>
                  <a:pt x="4773" y="137"/>
                </a:lnTo>
                <a:lnTo>
                  <a:pt x="4807" y="128"/>
                </a:lnTo>
                <a:lnTo>
                  <a:pt x="4838" y="118"/>
                </a:lnTo>
                <a:lnTo>
                  <a:pt x="4870" y="110"/>
                </a:lnTo>
                <a:lnTo>
                  <a:pt x="4900" y="103"/>
                </a:lnTo>
                <a:lnTo>
                  <a:pt x="4928" y="97"/>
                </a:lnTo>
                <a:lnTo>
                  <a:pt x="4955" y="92"/>
                </a:lnTo>
                <a:lnTo>
                  <a:pt x="4980" y="89"/>
                </a:lnTo>
                <a:lnTo>
                  <a:pt x="5004" y="86"/>
                </a:lnTo>
                <a:lnTo>
                  <a:pt x="5024" y="86"/>
                </a:lnTo>
                <a:lnTo>
                  <a:pt x="5024" y="86"/>
                </a:lnTo>
                <a:lnTo>
                  <a:pt x="5045" y="86"/>
                </a:lnTo>
                <a:lnTo>
                  <a:pt x="5065" y="87"/>
                </a:lnTo>
                <a:lnTo>
                  <a:pt x="5084" y="90"/>
                </a:lnTo>
                <a:lnTo>
                  <a:pt x="5102" y="94"/>
                </a:lnTo>
                <a:lnTo>
                  <a:pt x="5119" y="99"/>
                </a:lnTo>
                <a:lnTo>
                  <a:pt x="5136" y="105"/>
                </a:lnTo>
                <a:lnTo>
                  <a:pt x="5151" y="112"/>
                </a:lnTo>
                <a:lnTo>
                  <a:pt x="5165" y="120"/>
                </a:lnTo>
                <a:lnTo>
                  <a:pt x="5178" y="128"/>
                </a:lnTo>
                <a:lnTo>
                  <a:pt x="5190" y="137"/>
                </a:lnTo>
                <a:lnTo>
                  <a:pt x="5200" y="147"/>
                </a:lnTo>
                <a:lnTo>
                  <a:pt x="5208" y="157"/>
                </a:lnTo>
                <a:lnTo>
                  <a:pt x="5214" y="168"/>
                </a:lnTo>
                <a:lnTo>
                  <a:pt x="5219" y="179"/>
                </a:lnTo>
                <a:lnTo>
                  <a:pt x="5222" y="191"/>
                </a:lnTo>
                <a:lnTo>
                  <a:pt x="5223" y="204"/>
                </a:lnTo>
                <a:lnTo>
                  <a:pt x="5223" y="204"/>
                </a:lnTo>
                <a:lnTo>
                  <a:pt x="5222" y="215"/>
                </a:lnTo>
                <a:lnTo>
                  <a:pt x="5219" y="226"/>
                </a:lnTo>
                <a:lnTo>
                  <a:pt x="5214" y="238"/>
                </a:lnTo>
                <a:lnTo>
                  <a:pt x="5208" y="249"/>
                </a:lnTo>
                <a:lnTo>
                  <a:pt x="5198" y="259"/>
                </a:lnTo>
                <a:lnTo>
                  <a:pt x="5189" y="268"/>
                </a:lnTo>
                <a:lnTo>
                  <a:pt x="5178" y="276"/>
                </a:lnTo>
                <a:lnTo>
                  <a:pt x="5165" y="283"/>
                </a:lnTo>
                <a:lnTo>
                  <a:pt x="5165" y="283"/>
                </a:lnTo>
                <a:lnTo>
                  <a:pt x="5178" y="288"/>
                </a:lnTo>
                <a:lnTo>
                  <a:pt x="5190" y="293"/>
                </a:lnTo>
                <a:lnTo>
                  <a:pt x="5204" y="296"/>
                </a:lnTo>
                <a:lnTo>
                  <a:pt x="5219" y="301"/>
                </a:lnTo>
                <a:lnTo>
                  <a:pt x="5233" y="304"/>
                </a:lnTo>
                <a:lnTo>
                  <a:pt x="5247" y="306"/>
                </a:lnTo>
                <a:lnTo>
                  <a:pt x="5263" y="307"/>
                </a:lnTo>
                <a:lnTo>
                  <a:pt x="5277" y="309"/>
                </a:lnTo>
                <a:lnTo>
                  <a:pt x="5277" y="309"/>
                </a:lnTo>
                <a:lnTo>
                  <a:pt x="5288" y="309"/>
                </a:lnTo>
                <a:lnTo>
                  <a:pt x="5297" y="309"/>
                </a:lnTo>
                <a:lnTo>
                  <a:pt x="5307" y="307"/>
                </a:lnTo>
                <a:lnTo>
                  <a:pt x="5316" y="306"/>
                </a:lnTo>
                <a:lnTo>
                  <a:pt x="5326" y="304"/>
                </a:lnTo>
                <a:lnTo>
                  <a:pt x="5335" y="302"/>
                </a:lnTo>
                <a:lnTo>
                  <a:pt x="5345" y="301"/>
                </a:lnTo>
                <a:lnTo>
                  <a:pt x="5354" y="298"/>
                </a:lnTo>
                <a:lnTo>
                  <a:pt x="5364" y="294"/>
                </a:lnTo>
                <a:lnTo>
                  <a:pt x="5372" y="291"/>
                </a:lnTo>
                <a:lnTo>
                  <a:pt x="5380" y="288"/>
                </a:lnTo>
                <a:lnTo>
                  <a:pt x="5387" y="283"/>
                </a:lnTo>
                <a:lnTo>
                  <a:pt x="5395" y="280"/>
                </a:lnTo>
                <a:lnTo>
                  <a:pt x="5403" y="275"/>
                </a:lnTo>
                <a:lnTo>
                  <a:pt x="5410" y="270"/>
                </a:lnTo>
                <a:lnTo>
                  <a:pt x="5416" y="265"/>
                </a:lnTo>
                <a:lnTo>
                  <a:pt x="5416" y="265"/>
                </a:lnTo>
                <a:lnTo>
                  <a:pt x="5414" y="259"/>
                </a:lnTo>
                <a:lnTo>
                  <a:pt x="5413" y="254"/>
                </a:lnTo>
                <a:lnTo>
                  <a:pt x="5411" y="249"/>
                </a:lnTo>
                <a:lnTo>
                  <a:pt x="5411" y="24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2400" y="411120"/>
            <a:ext cx="8893080" cy="6024600"/>
          </a:xfrm>
          <a:prstGeom prst="rect">
            <a:avLst/>
          </a:prstGeom>
          <a:noFill/>
          <a:ln w="0">
            <a:solidFill>
              <a:srgbClr val="9900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600" y="353880"/>
            <a:ext cx="9113760" cy="6139080"/>
          </a:xfrm>
          <a:custGeom>
            <a:avLst/>
            <a:gdLst/>
            <a:ahLst/>
            <a:rect l="l" t="t" r="r" b="b"/>
            <a:pathLst>
              <a:path w="5741" h="7735">
                <a:moveTo>
                  <a:pt x="142" y="0"/>
                </a:moveTo>
                <a:lnTo>
                  <a:pt x="5599" y="0"/>
                </a:lnTo>
                <a:lnTo>
                  <a:pt x="5741" y="149"/>
                </a:lnTo>
                <a:lnTo>
                  <a:pt x="5741" y="7584"/>
                </a:lnTo>
                <a:lnTo>
                  <a:pt x="5599" y="7735"/>
                </a:lnTo>
                <a:lnTo>
                  <a:pt x="142" y="7735"/>
                </a:lnTo>
                <a:lnTo>
                  <a:pt x="0" y="7584"/>
                </a:lnTo>
                <a:lnTo>
                  <a:pt x="0" y="149"/>
                </a:lnTo>
                <a:lnTo>
                  <a:pt x="142" y="0"/>
                </a:lnTo>
              </a:path>
            </a:pathLst>
          </a:custGeom>
          <a:noFill/>
          <a:ln w="0">
            <a:solidFill>
              <a:srgbClr val="9900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9360"/>
            <a:ext cx="9144000" cy="6858000"/>
          </a:xfrm>
          <a:prstGeom prst="rect">
            <a:avLst/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8195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ff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>
                <a:solidFill>
                  <a:srgbClr val="9933ff"/>
                </a:solidFill>
                <a:latin typeface="隶书"/>
                <a:ea typeface="隶书"/>
              </a:rPr>
              <a:t>崛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52480" y="1752480"/>
            <a:ext cx="1600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地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17524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隶书"/>
                <a:ea typeface="隶书"/>
              </a:rPr>
              <a:t>据……固</a:t>
            </a:r>
            <a:r>
              <a:rPr b="1" lang="en-US" sz="3200" spc="-1" strike="noStrike">
                <a:solidFill>
                  <a:srgbClr val="9933ff"/>
                </a:solidFill>
                <a:latin typeface="隶书"/>
                <a:ea typeface="隶书"/>
              </a:rPr>
              <a:t>;</a:t>
            </a:r>
            <a:r>
              <a:rPr b="1" lang="zh-CN" sz="3200" spc="-1" strike="noStrike">
                <a:solidFill>
                  <a:srgbClr val="9933ff"/>
                </a:solidFill>
                <a:latin typeface="隶书"/>
                <a:ea typeface="隶书"/>
              </a:rPr>
              <a:t>拥……地</a:t>
            </a:r>
            <a:r>
              <a:rPr b="1" lang="en-US" sz="3200" spc="-1" strike="noStrike">
                <a:solidFill>
                  <a:srgbClr val="9933ff"/>
                </a:solidFill>
                <a:latin typeface="隶书"/>
                <a:ea typeface="隶书"/>
              </a:rPr>
              <a:t>;</a:t>
            </a:r>
            <a:r>
              <a:rPr b="1" lang="zh-CN" sz="3200" spc="-1" strike="noStrike">
                <a:solidFill>
                  <a:srgbClr val="9933ff"/>
                </a:solidFill>
                <a:latin typeface="隶书"/>
                <a:ea typeface="隶书"/>
              </a:rPr>
              <a:t>君臣固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251460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隶书"/>
                <a:ea typeface="隶书"/>
              </a:rPr>
              <a:t>席卷；包举；囊括；并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52480" y="327672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政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32767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隶书"/>
                <a:ea typeface="隶书"/>
              </a:rPr>
              <a:t>内……；外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41148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成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81280" y="41148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隶书"/>
                <a:ea typeface="隶书"/>
              </a:rPr>
              <a:t>拱手而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2133720"/>
            <a:ext cx="75960" cy="2361960"/>
          </a:xfrm>
          <a:custGeom>
            <a:avLst/>
            <a:gdLst>
              <a:gd name="textAreaLeft" fmla="*/ 22320 w 75960"/>
              <a:gd name="textAreaRight" fmla="*/ 76320 w 75960"/>
              <a:gd name="textAreaTop" fmla="*/ 98280 h 2361960"/>
              <a:gd name="textAreaBottom" fmla="*/ 226368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95480" y="44197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52480" y="25146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雄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19520" y="281952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19520" y="205740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350532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previousslide"/>
          </p:cNvPr>
          <p:cNvSpPr/>
          <p:nvPr/>
        </p:nvSpPr>
        <p:spPr>
          <a:xfrm>
            <a:off x="6781680" y="5791320"/>
            <a:ext cx="228600" cy="152280"/>
          </a:xfrm>
          <a:custGeom>
            <a:avLst/>
            <a:gdLst>
              <a:gd name="textAreaLeft" fmla="*/ 9360 w 228600"/>
              <a:gd name="textAreaRight" fmla="*/ 219240 w 228600"/>
              <a:gd name="textAreaTop" fmla="*/ 9360 h 152280"/>
              <a:gd name="textAreaBottom" fmla="*/ 14292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50" y="1350"/>
                </a:lnTo>
                <a:lnTo>
                  <a:pt x="1350" y="135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50" y="20250"/>
                </a:lnTo>
                <a:lnTo>
                  <a:pt x="31050" y="135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1050" y="2025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2400" h="21600">
                <a:moveTo>
                  <a:pt x="9156" y="10800"/>
                </a:moveTo>
                <a:lnTo>
                  <a:pt x="23244" y="3756"/>
                </a:lnTo>
                <a:lnTo>
                  <a:pt x="23244" y="1784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u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J0099176" descr=""/>
          <p:cNvPicPr/>
          <p:nvPr/>
        </p:nvPicPr>
        <p:blipFill>
          <a:blip r:embed="rId2"/>
          <a:stretch/>
        </p:blipFill>
        <p:spPr>
          <a:xfrm>
            <a:off x="0" y="6248520"/>
            <a:ext cx="9144000" cy="3823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22096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隶书"/>
              </a:rPr>
              <a:t>发 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762120"/>
            <a:ext cx="6629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秦：南取、西举、东割、北收—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 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宰割、分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00600" y="121932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2590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86400" y="175248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0200" y="3352680"/>
            <a:ext cx="7162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行楷"/>
                <a:ea typeface="华文行楷"/>
              </a:rPr>
              <a:t>诸侯：才多、地广、师众、惨败—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华文行楷"/>
                <a:ea typeface="华文行楷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华文行楷"/>
                <a:ea typeface="华文行楷"/>
              </a:rPr>
              <a:t>请服，请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3880" y="1295280"/>
            <a:ext cx="76320" cy="2362320"/>
          </a:xfrm>
          <a:custGeom>
            <a:avLst/>
            <a:gdLst>
              <a:gd name="textAreaLeft" fmla="*/ 22320 w 76320"/>
              <a:gd name="textAreaRight" fmla="*/ 76320 w 76320"/>
              <a:gd name="textAreaTop" fmla="*/ 98280 h 2362320"/>
              <a:gd name="textAreaBottom" fmla="*/ 226404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7620120" y="1905120"/>
            <a:ext cx="1143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反衬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77" name=""/>
          <p:cNvSpPr/>
          <p:nvPr/>
        </p:nvSpPr>
        <p:spPr>
          <a:xfrm>
            <a:off x="8534520" y="6019920"/>
            <a:ext cx="75960" cy="75960"/>
          </a:xfrm>
          <a:custGeom>
            <a:avLst/>
            <a:gdLst>
              <a:gd name="textAreaLeft" fmla="*/ 4680 w 75960"/>
              <a:gd name="textAreaRight" fmla="*/ 71280 w 75960"/>
              <a:gd name="textAreaTop" fmla="*/ 4680 h 75960"/>
              <a:gd name="textAreaBottom" fmla="*/ 7128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85800" y="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彩云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" y="1371600"/>
            <a:ext cx="784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289548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极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3880" y="21337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隶书"/>
              </a:rPr>
              <a:t>前期：奋余烈，履至尊，取百越，却匈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52680" y="1295280"/>
            <a:ext cx="4648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304920"/>
            <a:ext cx="830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47920" y="2514600"/>
            <a:ext cx="75960" cy="1676520"/>
          </a:xfrm>
          <a:custGeom>
            <a:avLst/>
            <a:gdLst>
              <a:gd name="textAreaLeft" fmla="*/ 22320 w 75960"/>
              <a:gd name="textAreaRight" fmla="*/ 76320 w 75960"/>
              <a:gd name="textAreaTop" fmla="*/ 69840 h 1676520"/>
              <a:gd name="textAreaBottom" fmla="*/ 160668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47920" y="30481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后期：焚百家，杀豪杰，弱人民，严控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3880" y="39625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隶书"/>
              </a:rPr>
              <a:t>设想：据高城；临深渊；守要害；传万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458200" y="6248520"/>
            <a:ext cx="152280" cy="75960"/>
          </a:xfrm>
          <a:custGeom>
            <a:avLst/>
            <a:gdLst>
              <a:gd name="textAreaLeft" fmla="*/ 4680 w 152280"/>
              <a:gd name="textAreaRight" fmla="*/ 147600 w 152280"/>
              <a:gd name="textAreaTop" fmla="*/ 4680 h 75960"/>
              <a:gd name="textAreaBottom" fmla="*/ 71280 h 759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50" y="1350"/>
                </a:lnTo>
                <a:lnTo>
                  <a:pt x="1350" y="135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50" y="20250"/>
                </a:lnTo>
                <a:lnTo>
                  <a:pt x="41850" y="135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1850" y="2025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3200" h="21600">
                <a:moveTo>
                  <a:pt x="14556" y="10800"/>
                </a:moveTo>
                <a:lnTo>
                  <a:pt x="28644" y="3756"/>
                </a:lnTo>
                <a:lnTo>
                  <a:pt x="28644" y="17844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25146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隶书"/>
              </a:rPr>
              <a:t>灭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47920" y="4572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始皇：余威震于殊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95280" y="281952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Times New Roman"/>
                <a:ea typeface="黑体"/>
              </a:rPr>
              <a:t>陈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219320" y="762120"/>
            <a:ext cx="75960" cy="4190760"/>
          </a:xfrm>
          <a:custGeom>
            <a:avLst/>
            <a:gdLst>
              <a:gd name="textAreaLeft" fmla="*/ 22320 w 75960"/>
              <a:gd name="textAreaRight" fmla="*/ 76320 w 75960"/>
              <a:gd name="textAreaTop" fmla="*/ 174600 h 4190760"/>
              <a:gd name="textAreaBottom" fmla="*/ 4016160 h 419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90920" y="1600200"/>
            <a:ext cx="3124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出身氓隶之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才能不及中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兵力数百疲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武器斩木为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71600" y="4724280"/>
            <a:ext cx="5105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结果：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天下响应，并起亡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90920" y="1905120"/>
            <a:ext cx="75960" cy="2209680"/>
          </a:xfrm>
          <a:custGeom>
            <a:avLst/>
            <a:gdLst>
              <a:gd name="textAreaLeft" fmla="*/ 22320 w 75960"/>
              <a:gd name="textAreaRight" fmla="*/ 76320 w 75960"/>
              <a:gd name="textAreaTop" fmla="*/ 91800 h 2209680"/>
              <a:gd name="textAreaBottom" fmla="*/ 21178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610480" y="6477120"/>
            <a:ext cx="152640" cy="152280"/>
          </a:xfrm>
          <a:custGeom>
            <a:avLst/>
            <a:gdLst>
              <a:gd name="textAreaLeft" fmla="*/ 9360 w 152640"/>
              <a:gd name="textAreaRight" fmla="*/ 143280 w 152640"/>
              <a:gd name="textAreaTop" fmla="*/ 9360 h 152280"/>
              <a:gd name="textAreaBottom" fmla="*/ 142920 h 152280"/>
            </a:gdLst>
            <a:ahLst/>
            <a:rect l="textAreaLeft" t="textAreaTop" r="textAreaRight" b="textAreaBottom"/>
            <a:pathLst>
              <a:path w="21651" h="21600">
                <a:moveTo>
                  <a:pt x="0" y="0"/>
                </a:moveTo>
                <a:lnTo>
                  <a:pt x="21651" y="0"/>
                </a:lnTo>
                <a:lnTo>
                  <a:pt x="21651" y="21600"/>
                </a:lnTo>
                <a:lnTo>
                  <a:pt x="0" y="21600"/>
                </a:lnTo>
                <a:close/>
              </a:path>
              <a:path fill="lightenLess" w="21651" h="21600">
                <a:moveTo>
                  <a:pt x="0" y="0"/>
                </a:moveTo>
                <a:lnTo>
                  <a:pt x="21651" y="0"/>
                </a:lnTo>
                <a:lnTo>
                  <a:pt x="20301" y="1350"/>
                </a:lnTo>
                <a:lnTo>
                  <a:pt x="1350" y="1350"/>
                </a:lnTo>
                <a:close/>
              </a:path>
              <a:path fill="darken" w="21651" h="21600">
                <a:moveTo>
                  <a:pt x="21651" y="0"/>
                </a:moveTo>
                <a:lnTo>
                  <a:pt x="21651" y="21600"/>
                </a:lnTo>
                <a:lnTo>
                  <a:pt x="20301" y="20250"/>
                </a:lnTo>
                <a:lnTo>
                  <a:pt x="20301" y="1350"/>
                </a:lnTo>
                <a:close/>
              </a:path>
              <a:path fill="darkenLess" w="21651" h="21600">
                <a:moveTo>
                  <a:pt x="2165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301" y="20250"/>
                </a:lnTo>
                <a:close/>
              </a:path>
              <a:path fill="lighten" w="2165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51" h="21600">
                <a:moveTo>
                  <a:pt x="3782" y="10800"/>
                </a:moveTo>
                <a:lnTo>
                  <a:pt x="17869" y="3756"/>
                </a:lnTo>
                <a:lnTo>
                  <a:pt x="17869" y="17844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J0099170" descr=""/>
          <p:cNvPicPr/>
          <p:nvPr/>
        </p:nvPicPr>
        <p:blipFill>
          <a:blip r:embed="rId2"/>
          <a:stretch/>
        </p:blipFill>
        <p:spPr>
          <a:xfrm>
            <a:off x="457200" y="5867280"/>
            <a:ext cx="8305920" cy="762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25909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析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23880" y="6094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20574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陈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23880" y="4648320"/>
            <a:ext cx="1752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95280" y="48006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隶书"/>
                <a:ea typeface="隶书"/>
              </a:rPr>
              <a:t>秦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81280" y="19810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3505320"/>
            <a:ext cx="1904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功业相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467480" y="2971800"/>
            <a:ext cx="1447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71600" y="1066680"/>
            <a:ext cx="76320" cy="3962520"/>
          </a:xfrm>
          <a:custGeom>
            <a:avLst/>
            <a:gdLst>
              <a:gd name="textAreaLeft" fmla="*/ 22320 w 76320"/>
              <a:gd name="textAreaRight" fmla="*/ 76320 w 76320"/>
              <a:gd name="textAreaTop" fmla="*/ 164880 h 3962520"/>
              <a:gd name="textAreaBottom" fmla="*/ 3797640 h 396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1752480"/>
            <a:ext cx="76320" cy="990720"/>
          </a:xfrm>
          <a:custGeom>
            <a:avLst/>
            <a:gdLst>
              <a:gd name="textAreaLeft" fmla="*/ 22320 w 76320"/>
              <a:gd name="textAreaRight" fmla="*/ 76320 w 76320"/>
              <a:gd name="textAreaTop" fmla="*/ 41040 h 990720"/>
              <a:gd name="textAreaBottom" fmla="*/ 94968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248520" y="167652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00ff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72200" y="4495680"/>
            <a:ext cx="228600" cy="152640"/>
          </a:xfrm>
          <a:prstGeom prst="rightArrow">
            <a:avLst>
              <a:gd name="adj1" fmla="val 50000"/>
              <a:gd name="adj2" fmla="val 37441"/>
            </a:avLst>
          </a:prstGeom>
          <a:solidFill>
            <a:srgbClr val="9900ff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38280" y="228600"/>
            <a:ext cx="3810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国力，天下非小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地利，崤函自若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38280" y="1600200"/>
            <a:ext cx="4114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地位非尊，武器非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兵力非抗，战术非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95280" y="34290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隶书"/>
                <a:ea typeface="隶书"/>
              </a:rPr>
              <a:t>秦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0" y="3124080"/>
            <a:ext cx="4800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致万乘势，百又余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六合为家，崤函为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4572000"/>
            <a:ext cx="5105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一夫作难，而七庙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身死人手，为天下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09680" y="457200"/>
            <a:ext cx="76320" cy="914400"/>
          </a:xfrm>
          <a:custGeom>
            <a:avLst/>
            <a:gdLst>
              <a:gd name="textAreaLeft" fmla="*/ 22320 w 76320"/>
              <a:gd name="textAreaRight" fmla="*/ 7632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3276720"/>
            <a:ext cx="76320" cy="990360"/>
          </a:xfrm>
          <a:custGeom>
            <a:avLst/>
            <a:gdLst>
              <a:gd name="textAreaLeft" fmla="*/ 22320 w 76320"/>
              <a:gd name="textAreaRight" fmla="*/ 76320 w 76320"/>
              <a:gd name="textAreaTop" fmla="*/ 41040 h 990360"/>
              <a:gd name="textAreaBottom" fmla="*/ 94932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09680" y="4724280"/>
            <a:ext cx="76320" cy="990720"/>
          </a:xfrm>
          <a:custGeom>
            <a:avLst/>
            <a:gdLst>
              <a:gd name="textAreaLeft" fmla="*/ 22320 w 76320"/>
              <a:gd name="textAreaRight" fmla="*/ 76320 w 76320"/>
              <a:gd name="textAreaTop" fmla="*/ 41040 h 990720"/>
              <a:gd name="textAreaBottom" fmla="*/ 94968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72200" y="533520"/>
            <a:ext cx="76320" cy="2209680"/>
          </a:xfrm>
          <a:custGeom>
            <a:avLst/>
            <a:gdLst>
              <a:gd name="textAreaLeft" fmla="*/ 0 w 76320"/>
              <a:gd name="textAreaRight" fmla="*/ 53640 w 76320"/>
              <a:gd name="textAreaTop" fmla="*/ 91800 h 2209680"/>
              <a:gd name="textAreaBottom" fmla="*/ 21178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5880" y="3352680"/>
            <a:ext cx="76320" cy="2286000"/>
          </a:xfrm>
          <a:custGeom>
            <a:avLst/>
            <a:gdLst>
              <a:gd name="textAreaLeft" fmla="*/ 0 w 76320"/>
              <a:gd name="textAreaRight" fmla="*/ 53640 w 76320"/>
              <a:gd name="textAreaTop" fmla="*/ 95040 h 2286000"/>
              <a:gd name="textAreaBottom" fmla="*/ 21909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77120" y="144792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成败异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229600" y="1752480"/>
            <a:ext cx="76320" cy="2895840"/>
          </a:xfrm>
          <a:custGeom>
            <a:avLst/>
            <a:gdLst>
              <a:gd name="textAreaLeft" fmla="*/ 0 w 76320"/>
              <a:gd name="textAreaRight" fmla="*/ 53640 w 76320"/>
              <a:gd name="textAreaTop" fmla="*/ 120600 h 2895840"/>
              <a:gd name="textAreaBottom" fmla="*/ 277524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solidFill>
            <a:srgbClr val="9900ff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 rot="5400000">
            <a:off x="6172200" y="2819520"/>
            <a:ext cx="50292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仁义不施而攻守之势异也</a:t>
            </a:r>
            <a:endParaRPr b="0" i="1" lang="en-US" sz="2400" spc="1" strike="noStrike">
              <a:ln w="12600">
                <a:solidFill>
                  <a:srgbClr val="333399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checker dir="horz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295280" y="2438280"/>
            <a:ext cx="723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Times New Roman"/>
              </a:rPr>
              <a:t>《过秦论》知识点总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829800" y="228600"/>
            <a:ext cx="113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一词多义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990720"/>
            <a:ext cx="2971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追亡逐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北 北收要害之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将军战河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038480" y="914400"/>
            <a:ext cx="4114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名词         败逃的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名词作状语   向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名词           北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2120" y="1905120"/>
            <a:ext cx="75960" cy="60948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920" y="2971800"/>
            <a:ext cx="457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因力乘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因  因遗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虎因喜，计之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90720" y="38862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320040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91120" y="3048120"/>
            <a:ext cx="457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介词       趁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动词       沿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介词       因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5056200"/>
            <a:ext cx="35812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以致天下之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致 致万乘之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而致千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5257800"/>
            <a:ext cx="76320" cy="1600200"/>
          </a:xfrm>
          <a:custGeom>
            <a:avLst/>
            <a:gdLst>
              <a:gd name="textAreaLeft" fmla="*/ 48960 w 76320"/>
              <a:gd name="textAreaRight" fmla="*/ 76320 w 763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67080" y="4800600"/>
            <a:ext cx="3886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动词       招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动词       达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动词        到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1295280"/>
            <a:ext cx="152280" cy="129564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1371600"/>
            <a:ext cx="304560" cy="1371600"/>
          </a:xfrm>
          <a:custGeom>
            <a:avLst/>
            <a:gdLst>
              <a:gd name="textAreaLeft" fmla="*/ 194760 w 304560"/>
              <a:gd name="textAreaRight" fmla="*/ 304920 w 30456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1219320"/>
            <a:ext cx="457200" cy="1295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14400" y="1295280"/>
            <a:ext cx="380880" cy="2362320"/>
          </a:xfrm>
          <a:custGeom>
            <a:avLst/>
            <a:gdLst>
              <a:gd name="textAreaLeft" fmla="*/ 243360 w 380880"/>
              <a:gd name="textAreaRight" fmla="*/ 381240 w 3808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609480"/>
            <a:ext cx="1066680" cy="1067040"/>
          </a:xfrm>
          <a:custGeom>
            <a:avLst/>
            <a:gdLst>
              <a:gd name="textAreaLeft" fmla="*/ 681480 w 1066680"/>
              <a:gd name="textAreaRight" fmla="*/ 1067040 w 10666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0543"/>
                </a:lnTo>
                <a:cubicBezTo>
                  <a:pt x="10800" y="11443"/>
                  <a:pt x="5400" y="12343"/>
                  <a:pt x="0" y="12343"/>
                </a:cubicBezTo>
                <a:cubicBezTo>
                  <a:pt x="5400" y="12343"/>
                  <a:pt x="10800" y="13243"/>
                  <a:pt x="10800" y="1414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0"/>
            <a:ext cx="3657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延及孝文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延 秦人开关延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余人各复延至其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3520" y="30492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95680" y="0"/>
            <a:ext cx="3124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动词      延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动词      引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动词      邀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2286000"/>
            <a:ext cx="32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因遗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振长策而御宇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1320" y="2590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2743200"/>
            <a:ext cx="75960" cy="76212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2362320"/>
            <a:ext cx="32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名词        策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名词        鞭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4191120"/>
            <a:ext cx="3276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会盟而谋弱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弱 弱国入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不若孀妻弱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434340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67080" y="4191120"/>
            <a:ext cx="457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形容词的使动用法  削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形容词            弱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形容词            年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57200" y="609480"/>
            <a:ext cx="815328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古今异义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于是秦人拱手而取西河之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古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黄河以西一带          今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河的西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赢粮而景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古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担负                          今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输赢的“赢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山东豪俊并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古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崤山以冬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即东方     今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指山东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流血漂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古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盾牌                今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使船前进的工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28600" y="228600"/>
            <a:ext cx="853452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词类活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席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卷天下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包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举宇内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囊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括四海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名作状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赢粮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景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从                          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名作状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云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响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应                              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名作状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立法度                              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方位词作状语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外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连衡                                  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方位词作状语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南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取百越之地                      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方位词作状语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斗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诸侯                                  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动词作使动用法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序八洲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朝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同列                  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动词作使动用法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会盟而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弱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秦                      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形容词使动用法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WB02101_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5486400" cy="71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6600"/>
                </a:solidFill>
                <a:latin typeface="Times New Roman"/>
              </a:rPr>
              <a:t>宣室求贤访逐臣，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6600"/>
                </a:solidFill>
                <a:latin typeface="Times New Roman"/>
              </a:rPr>
              <a:t>贾生才调更无论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6600"/>
                </a:solidFill>
                <a:latin typeface="Times New Roman"/>
              </a:rPr>
              <a:t>可怜夜半虚前席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6600"/>
                </a:solidFill>
                <a:latin typeface="Times New Roman"/>
              </a:rPr>
              <a:t>不问苍生问鬼神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Times New Roman"/>
              </a:rPr>
              <a:t>—</a:t>
            </a:r>
            <a:r>
              <a:rPr b="1" lang="en-US" sz="5400" spc="-1" strike="noStrike">
                <a:solidFill>
                  <a:srgbClr val="cc6600"/>
                </a:solidFill>
                <a:latin typeface="Times New Roman"/>
              </a:rPr>
              <a:t>-------</a:t>
            </a:r>
            <a:r>
              <a:rPr b="1" lang="zh-CN" sz="5400" spc="-1" strike="noStrike">
                <a:solidFill>
                  <a:srgbClr val="cc6600"/>
                </a:solidFill>
                <a:latin typeface="Times New Roman"/>
              </a:rPr>
              <a:t>李商隐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Times New Roman"/>
              </a:rPr>
              <a:t>             </a:t>
            </a:r>
            <a:r>
              <a:rPr b="1" lang="zh-CN" sz="5400" spc="-1" strike="noStrike">
                <a:solidFill>
                  <a:srgbClr val="cc6600"/>
                </a:solidFill>
                <a:latin typeface="Times New Roman"/>
              </a:rPr>
              <a:t>《贾生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35mc" descr=""/>
          <p:cNvPicPr/>
          <p:nvPr/>
        </p:nvPicPr>
        <p:blipFill>
          <a:blip r:embed="rId2"/>
          <a:stretch/>
        </p:blipFill>
        <p:spPr>
          <a:xfrm>
            <a:off x="5562720" y="0"/>
            <a:ext cx="35812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191080" y="189360"/>
            <a:ext cx="911520" cy="17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隶书"/>
              </a:rPr>
              <a:t>贾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5000" y="4319640"/>
            <a:ext cx="2221200" cy="2603520"/>
          </a:xfrm>
          <a:custGeom>
            <a:avLst/>
            <a:gdLst/>
            <a:ahLst/>
            <a:rect l="l" t="t" r="r" b="b"/>
            <a:pathLst>
              <a:path w="1399" h="1640">
                <a:moveTo>
                  <a:pt x="0" y="641"/>
                </a:moveTo>
                <a:cubicBezTo>
                  <a:pt x="12" y="593"/>
                  <a:pt x="24" y="556"/>
                  <a:pt x="47" y="512"/>
                </a:cubicBezTo>
                <a:cubicBezTo>
                  <a:pt x="74" y="377"/>
                  <a:pt x="154" y="249"/>
                  <a:pt x="247" y="147"/>
                </a:cubicBezTo>
                <a:cubicBezTo>
                  <a:pt x="273" y="118"/>
                  <a:pt x="292" y="75"/>
                  <a:pt x="329" y="65"/>
                </a:cubicBezTo>
                <a:cubicBezTo>
                  <a:pt x="388" y="50"/>
                  <a:pt x="361" y="58"/>
                  <a:pt x="411" y="41"/>
                </a:cubicBezTo>
                <a:cubicBezTo>
                  <a:pt x="596" y="49"/>
                  <a:pt x="790" y="0"/>
                  <a:pt x="882" y="183"/>
                </a:cubicBezTo>
                <a:cubicBezTo>
                  <a:pt x="938" y="480"/>
                  <a:pt x="892" y="790"/>
                  <a:pt x="858" y="1088"/>
                </a:cubicBezTo>
                <a:cubicBezTo>
                  <a:pt x="879" y="1528"/>
                  <a:pt x="740" y="1640"/>
                  <a:pt x="1058" y="1581"/>
                </a:cubicBezTo>
                <a:cubicBezTo>
                  <a:pt x="1093" y="1560"/>
                  <a:pt x="1136" y="1552"/>
                  <a:pt x="1164" y="1523"/>
                </a:cubicBezTo>
                <a:cubicBezTo>
                  <a:pt x="1190" y="1496"/>
                  <a:pt x="1183" y="1450"/>
                  <a:pt x="1199" y="1417"/>
                </a:cubicBezTo>
                <a:cubicBezTo>
                  <a:pt x="1237" y="1339"/>
                  <a:pt x="1295" y="1269"/>
                  <a:pt x="1340" y="1193"/>
                </a:cubicBezTo>
                <a:cubicBezTo>
                  <a:pt x="1367" y="1148"/>
                  <a:pt x="1362" y="1112"/>
                  <a:pt x="1399" y="1076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51080" y="652320"/>
            <a:ext cx="4986360" cy="5226120"/>
          </a:xfrm>
          <a:custGeom>
            <a:avLst/>
            <a:gdLst/>
            <a:ahLst/>
            <a:rect l="l" t="t" r="r" b="b"/>
            <a:pathLst>
              <a:path w="3141" h="3292">
                <a:moveTo>
                  <a:pt x="113" y="3292"/>
                </a:moveTo>
                <a:cubicBezTo>
                  <a:pt x="105" y="3253"/>
                  <a:pt x="92" y="3214"/>
                  <a:pt x="89" y="3174"/>
                </a:cubicBezTo>
                <a:cubicBezTo>
                  <a:pt x="81" y="3057"/>
                  <a:pt x="66" y="2822"/>
                  <a:pt x="66" y="2822"/>
                </a:cubicBezTo>
                <a:cubicBezTo>
                  <a:pt x="73" y="2446"/>
                  <a:pt x="0" y="2064"/>
                  <a:pt x="254" y="1764"/>
                </a:cubicBezTo>
                <a:cubicBezTo>
                  <a:pt x="287" y="1726"/>
                  <a:pt x="421" y="1599"/>
                  <a:pt x="477" y="1587"/>
                </a:cubicBezTo>
                <a:cubicBezTo>
                  <a:pt x="601" y="1561"/>
                  <a:pt x="853" y="1540"/>
                  <a:pt x="853" y="1540"/>
                </a:cubicBezTo>
                <a:cubicBezTo>
                  <a:pt x="1228" y="1561"/>
                  <a:pt x="1235" y="1474"/>
                  <a:pt x="1382" y="1693"/>
                </a:cubicBezTo>
                <a:cubicBezTo>
                  <a:pt x="1454" y="2190"/>
                  <a:pt x="1394" y="1721"/>
                  <a:pt x="1418" y="2822"/>
                </a:cubicBezTo>
                <a:cubicBezTo>
                  <a:pt x="1420" y="2911"/>
                  <a:pt x="1501" y="3026"/>
                  <a:pt x="1594" y="3045"/>
                </a:cubicBezTo>
                <a:cubicBezTo>
                  <a:pt x="1648" y="3056"/>
                  <a:pt x="1704" y="3053"/>
                  <a:pt x="1759" y="3057"/>
                </a:cubicBezTo>
                <a:cubicBezTo>
                  <a:pt x="2027" y="3042"/>
                  <a:pt x="2272" y="2988"/>
                  <a:pt x="2534" y="2927"/>
                </a:cubicBezTo>
                <a:cubicBezTo>
                  <a:pt x="2686" y="2816"/>
                  <a:pt x="2893" y="2687"/>
                  <a:pt x="3005" y="2528"/>
                </a:cubicBezTo>
                <a:cubicBezTo>
                  <a:pt x="3044" y="2473"/>
                  <a:pt x="3052" y="2403"/>
                  <a:pt x="3075" y="2340"/>
                </a:cubicBezTo>
                <a:cubicBezTo>
                  <a:pt x="3091" y="2222"/>
                  <a:pt x="3141" y="2104"/>
                  <a:pt x="3122" y="1987"/>
                </a:cubicBezTo>
                <a:cubicBezTo>
                  <a:pt x="3056" y="1585"/>
                  <a:pt x="2936" y="1201"/>
                  <a:pt x="2817" y="812"/>
                </a:cubicBezTo>
                <a:cubicBezTo>
                  <a:pt x="2695" y="411"/>
                  <a:pt x="2816" y="788"/>
                  <a:pt x="2581" y="365"/>
                </a:cubicBezTo>
                <a:cubicBezTo>
                  <a:pt x="2549" y="307"/>
                  <a:pt x="2556" y="227"/>
                  <a:pt x="2511" y="177"/>
                </a:cubicBezTo>
                <a:cubicBezTo>
                  <a:pt x="2471" y="133"/>
                  <a:pt x="2401" y="130"/>
                  <a:pt x="2346" y="106"/>
                </a:cubicBezTo>
                <a:cubicBezTo>
                  <a:pt x="2275" y="33"/>
                  <a:pt x="2252" y="32"/>
                  <a:pt x="2158" y="0"/>
                </a:cubicBezTo>
                <a:cubicBezTo>
                  <a:pt x="1828" y="39"/>
                  <a:pt x="1537" y="96"/>
                  <a:pt x="1218" y="189"/>
                </a:cubicBezTo>
                <a:cubicBezTo>
                  <a:pt x="1106" y="281"/>
                  <a:pt x="1025" y="377"/>
                  <a:pt x="959" y="506"/>
                </a:cubicBezTo>
                <a:cubicBezTo>
                  <a:pt x="933" y="672"/>
                  <a:pt x="921" y="832"/>
                  <a:pt x="912" y="1000"/>
                </a:cubicBezTo>
                <a:cubicBezTo>
                  <a:pt x="917" y="1177"/>
                  <a:pt x="895" y="1532"/>
                  <a:pt x="983" y="1728"/>
                </a:cubicBezTo>
                <a:cubicBezTo>
                  <a:pt x="1057" y="1892"/>
                  <a:pt x="1347" y="2236"/>
                  <a:pt x="1500" y="2340"/>
                </a:cubicBezTo>
                <a:cubicBezTo>
                  <a:pt x="1548" y="2373"/>
                  <a:pt x="1610" y="2379"/>
                  <a:pt x="1665" y="2398"/>
                </a:cubicBezTo>
                <a:cubicBezTo>
                  <a:pt x="1780" y="2514"/>
                  <a:pt x="1742" y="2463"/>
                  <a:pt x="1794" y="2540"/>
                </a:cubicBezTo>
                <a:cubicBezTo>
                  <a:pt x="1613" y="2631"/>
                  <a:pt x="1742" y="2580"/>
                  <a:pt x="1418" y="2610"/>
                </a:cubicBezTo>
                <a:cubicBezTo>
                  <a:pt x="1119" y="2637"/>
                  <a:pt x="824" y="2678"/>
                  <a:pt x="524" y="2692"/>
                </a:cubicBezTo>
                <a:cubicBezTo>
                  <a:pt x="481" y="2680"/>
                  <a:pt x="434" y="2679"/>
                  <a:pt x="395" y="2657"/>
                </a:cubicBezTo>
                <a:cubicBezTo>
                  <a:pt x="368" y="2642"/>
                  <a:pt x="346" y="2616"/>
                  <a:pt x="336" y="2587"/>
                </a:cubicBezTo>
                <a:cubicBezTo>
                  <a:pt x="254" y="2350"/>
                  <a:pt x="192" y="2086"/>
                  <a:pt x="160" y="1834"/>
                </a:cubicBezTo>
                <a:cubicBezTo>
                  <a:pt x="148" y="1740"/>
                  <a:pt x="144" y="1646"/>
                  <a:pt x="136" y="1552"/>
                </a:cubicBezTo>
                <a:cubicBezTo>
                  <a:pt x="144" y="1221"/>
                  <a:pt x="71" y="594"/>
                  <a:pt x="442" y="4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ut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afterEffect" fill="hold" presetClass="entr" presetID="14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80880" y="457200"/>
            <a:ext cx="84582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难句译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1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外连衡而斗诸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斗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使动用法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使……争斗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文言中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不及物动词的后边有宾语时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这种不及物动词大都是使动词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这里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在“斗”的后边带有宾语“诸侯”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译文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对外采取连衡的策略来使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其他六国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诸侯相互争斗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2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于是秦人拱手而取西河之外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于是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连词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相当于“因而”  “之”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助词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的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译文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这样一来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秦国就毫不费力地取得了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魏国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黄河以西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的大片土地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380880"/>
            <a:ext cx="868680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3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会盟而谋弱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会盟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聚在一起订立盟约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.“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盟”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动词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订立盟约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文言中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当用“而”把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或动词短语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和名词连接起来时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这种名词就用作动词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弱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使动用法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使……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译文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: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他们便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聚在一起订立盟约来谋划削弱秦国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的势力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4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追亡逐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亡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逃亡的败兵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北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败逃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这里指溃败的军队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这句用了互文的修辞手法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.“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追”和“逐”为互文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,“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亡”和“北”为互文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译文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追逐逃亡的败兵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380880"/>
            <a:ext cx="86868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5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信臣精卒陈利兵而谁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信臣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可靠的大臣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陈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陈列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布置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.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利兵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锐利的兵器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而谁何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即“其谁奈之何”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也就是“那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阵势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有谁敢惹他”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译文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用忠臣的臣子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带领精锐的士兵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陈列着锐利的武器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缉查盘问往来的人们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6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斩木为兵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揭竿为旗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天下云集响应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赢粮而景从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为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当作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.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云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作“集”的状语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应译为“像云一样”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景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像影子一样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译文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: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他们砍伐树木作为武器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举起竹竿作为旗帜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天下人像浮云一样聚集起来响应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他们的号召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),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大家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担着粮食像影子随形那样跟着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他们起来造反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838080"/>
            <a:ext cx="7543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7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锄耰棘矜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非銛于钩戟长铩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于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介词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在形容词之后引出比较对象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相当于“比”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译文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锄头 枪把并不比钩戟长矛更锋利呀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201400" y="3713040"/>
            <a:ext cx="457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307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0"/>
            <a:ext cx="9144000" cy="71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译文：                                                                                                         秦孝公占据殽山，函谷关那样险固的地方（关隘），拥有雍州一带那样辽阔的地方，（秦国的）国君臣子牢固据守来（窥探）周王朝，（象卷席日子那样卷起，象用布包一样）有并吞天下，占领海内，控制全国的意图，吞并八方的野心。在这时，商鞅辅佐秦孝公，在国内建立法律制度，致力于耕种纺织，修造防守进攻的武器，对外实行连横，来使诸侯各国相斗。于是秦国人毫不费力地取得了黄河以西的大片土地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秦孝公死了以后，惠文王、武王、昭襄王继承先辈的旧业，沿袭前人留下的策略，向南占领了汉中，向西攻取了巴蜀一带，向东割取了肥沃的土地，向北收取了险要的城池和地区。各诸侯国惊恐害怕，集会结盟来想方法削弱秦国，不惜珍贵的器物、贵重的宝贝、肥沃富饶的土地，来招纳天下的志士能人，采用合纵的策略缔结盟约，互相援助结为一个整体。在这个时期，齐国有孟尝君，赵国有平原君，楚国有春申君，魏国有信陵君，这四位君子，都既聪明智慧又忠诚守信，既宽厚道又友爱待人，既能尊敬能人，又能器重谋士，共同约为合纵，离散了秦国的连横，聚集了韩、魏、燕、楚、齐、赵、宋、卫、中山的力量。于是六国的谋士，有宁越、徐尚、苏秦、杜赫这一班人替他们谋划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有齐明、周最、陈轸、召滑、楼缓、翟景、苏厉、乐毅这一类人沟通他们的意见；有吴起、孙膑、带佗、倪良、王廖、田忌、廉颇、赵奢这一些人统率他们的军队。他们曾经凭着十倍大的土地，上百万的军队，直逼函谷关去进攻秦国。秦国人敞开关口迎敌，九国的军队，徘徊着不敢前进。秦国没有耕费一支箭，一个箭头，可是天下的各诸侯国已经十分困窘了。于是合纵解散盟约破坏，各国争着割让 土地去贿赔秦国。秦国有充足的力量利用他们的弱点，追逐败逃的军队，使无数尸体横卧，流淌的血可以使盾牌漂浮起来；趁着有利的形势和方便的条件，侵略诸侯各国，分割天下的土地。因而强国请求归服，弱国前来朝拜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传到孝文王、庄襄王，他们在位的时间很短，国家没有大事。到了秦始皇，发扬六代祖先遗留下来的功业，像挥动长鞭赶马那样来驾御天下，吞并了西周、东周，灭掉了诸侯国，登上了尊贵的皇位而统治全中国，用残酷的刑罚来奴役天下的百姓，威势震慑四海。向南方夺取了越族各部落的土地，把它改设为桂林郡和象郡；越族各部落的头领，俯首投降，听众秦国小官吏的摆布。秦始皇就派大将军蒙恬在北方筑起长城守卫边防，击退匈奴七百多里。胡人不敢到南方来牧马，已亡六国的遗民不敢拿起武器仇雪恨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。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3.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判断正误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(1).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《过秦论》的作者是东汉贾谊。过，这里是动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(2).“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外连衡而斗诸侯”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译为“对外取用连横的策略使诸侯自相争斗。”其中“外”与“斗”都是名词活用做状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(3).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《过秦论》的中心论点是全文最后一句“仁义不施而攻守之势异也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.”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(4).“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身死人手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为天下笑者”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句中的“为”表被动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,“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然后以六合为家”句中的“为”是“变为”、“当作”的意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0773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163000" y="304920"/>
            <a:ext cx="5493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134840" y="0"/>
            <a:ext cx="2009160" cy="6959520"/>
          </a:xfrm>
          <a:prstGeom prst="rect">
            <a:avLst/>
          </a:prstGeom>
          <a:solidFill>
            <a:srgbClr val="cccc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黑体"/>
              </a:rPr>
              <a:t>战国时期的战争场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suoxian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5715000" cy="5029200"/>
          </a:xfrm>
          <a:prstGeom prst="rect">
            <a:avLst/>
          </a:prstGeom>
          <a:ln w="0">
            <a:noFill/>
          </a:ln>
        </p:spPr>
      </p:pic>
      <p:pic>
        <p:nvPicPr>
          <p:cNvPr id="60" name="bianex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71800" y="0"/>
            <a:ext cx="3962520" cy="16304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西汉杰出的政论家、文学家，学识渊博，年青时就负有才名，年仅二十岁，就被召为博士，后因提议改革政治，遭权贵嫉妒、毁谤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,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后贬为长沙王太傅。不被重用。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33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岁抑郁而死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jygj1" descr=""/>
          <p:cNvPicPr/>
          <p:nvPr/>
        </p:nvPicPr>
        <p:blipFill>
          <a:blip r:embed="rId2"/>
          <a:stretch/>
        </p:blipFill>
        <p:spPr>
          <a:xfrm>
            <a:off x="2209680" y="3352680"/>
            <a:ext cx="6019920" cy="350532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4754520" y="2846520"/>
            <a:ext cx="7064280" cy="360"/>
            <a:chOff x="4754520" y="2846520"/>
            <a:chExt cx="7064280" cy="360"/>
          </a:xfrm>
        </p:grpSpPr>
        <p:sp>
          <p:nvSpPr>
            <p:cNvPr id="64" name=""/>
            <p:cNvSpPr/>
            <p:nvPr/>
          </p:nvSpPr>
          <p:spPr>
            <a:xfrm>
              <a:off x="4754520" y="2846520"/>
              <a:ext cx="7064280" cy="360"/>
            </a:xfrm>
            <a:prstGeom prst="rect">
              <a:avLst/>
            </a:prstGeom>
            <a:solidFill>
              <a:srgbClr val="df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754520" y="2846520"/>
              <a:ext cx="7064280" cy="360"/>
            </a:xfrm>
            <a:prstGeom prst="rect">
              <a:avLst/>
            </a:prstGeom>
            <a:solidFill>
              <a:srgbClr val="df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086840" y="44956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碑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所著政论文有：《过秦论》《陈政事疏》《论积贮疏》</a:t>
            </a:r>
            <a:r>
              <a:rPr b="1" lang="zh-CN" sz="5400" spc="-1" strike="noStrike">
                <a:solidFill>
                  <a:srgbClr val="ff9900"/>
                </a:solidFill>
                <a:latin typeface="Times New Roman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jygj3" descr=""/>
          <p:cNvPicPr/>
          <p:nvPr/>
        </p:nvPicPr>
        <p:blipFill>
          <a:blip r:embed="rId2"/>
          <a:stretch/>
        </p:blipFill>
        <p:spPr>
          <a:xfrm>
            <a:off x="2286000" y="3200400"/>
            <a:ext cx="6248520" cy="365760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4754520" y="2828880"/>
            <a:ext cx="7064280" cy="360"/>
            <a:chOff x="4754520" y="2828880"/>
            <a:chExt cx="7064280" cy="360"/>
          </a:xfrm>
        </p:grpSpPr>
        <p:sp>
          <p:nvSpPr>
            <p:cNvPr id="70" name=""/>
            <p:cNvSpPr/>
            <p:nvPr/>
          </p:nvSpPr>
          <p:spPr>
            <a:xfrm>
              <a:off x="4754520" y="2828880"/>
              <a:ext cx="7064280" cy="360"/>
            </a:xfrm>
            <a:prstGeom prst="rect">
              <a:avLst/>
            </a:prstGeom>
            <a:solidFill>
              <a:srgbClr val="df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754520" y="2828880"/>
              <a:ext cx="7064280" cy="360"/>
            </a:xfrm>
            <a:prstGeom prst="rect">
              <a:avLst/>
            </a:prstGeom>
            <a:solidFill>
              <a:srgbClr val="df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3099600" y="313524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隶书"/>
              </a:rPr>
              <a:t>贾谊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afterEffect" fill="hold" presetClass="entr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Times New Roman"/>
              </a:rPr>
              <a:t>     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其文议论风发，挥洒自如，气势磅礴，雄辩有力，感染力极强。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jygj2" descr=""/>
          <p:cNvPicPr/>
          <p:nvPr/>
        </p:nvPicPr>
        <p:blipFill>
          <a:blip r:embed="rId2"/>
          <a:stretch/>
        </p:blipFill>
        <p:spPr>
          <a:xfrm>
            <a:off x="990720" y="3048120"/>
            <a:ext cx="6629400" cy="3809880"/>
          </a:xfrm>
          <a:prstGeom prst="rect">
            <a:avLst/>
          </a:prstGeom>
          <a:ln w="0">
            <a:noFill/>
          </a:ln>
        </p:spPr>
      </p:pic>
      <p:grpSp>
        <p:nvGrpSpPr>
          <p:cNvPr id="75" name=""/>
          <p:cNvGrpSpPr/>
          <p:nvPr/>
        </p:nvGrpSpPr>
        <p:grpSpPr>
          <a:xfrm>
            <a:off x="4754520" y="2857680"/>
            <a:ext cx="7064280" cy="360"/>
            <a:chOff x="4754520" y="2857680"/>
            <a:chExt cx="7064280" cy="360"/>
          </a:xfrm>
        </p:grpSpPr>
        <p:sp>
          <p:nvSpPr>
            <p:cNvPr id="76" name=""/>
            <p:cNvSpPr/>
            <p:nvPr/>
          </p:nvSpPr>
          <p:spPr>
            <a:xfrm>
              <a:off x="4754520" y="2857680"/>
              <a:ext cx="7064280" cy="360"/>
            </a:xfrm>
            <a:prstGeom prst="rect">
              <a:avLst/>
            </a:prstGeom>
            <a:solidFill>
              <a:srgbClr val="df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754520" y="2857680"/>
              <a:ext cx="7064280" cy="360"/>
            </a:xfrm>
            <a:prstGeom prst="rect">
              <a:avLst/>
            </a:prstGeom>
            <a:solidFill>
              <a:srgbClr val="df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1728000" y="283068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隶书"/>
              </a:rPr>
              <a:t>贾谊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afterEffect" fill="hold" presetClass="entr" presetID="23" presetSubtype="52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350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写作背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贾谊生活在西汉初年，此前历春秋战国、七雄争霸而秦统一天下，到楚汉相争，汉朝建立，五百年战乱破坏，因而西汉初期，社会经济凋敝，人口减少。为此，贾谊极力主张施行“仁政”以“安民”，民安方得维持汉王朝统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6T02:43:13Z</dcterms:created>
  <dc:creator>SX</dc:creator>
  <dc:description/>
  <dc:language>en-US</dc:language>
  <cp:lastModifiedBy>user</cp:lastModifiedBy>
  <dcterms:modified xsi:type="dcterms:W3CDTF">2015-08-07T00:41:22Z</dcterms:modified>
  <cp:revision>9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